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C1B7-9C54-4F29-83CB-96B06F4AB6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916-37C8-41BD-9089-91138CF5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4385-40D2-4AFE-B828-62B355F9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A2A-07A2-4A7C-BE16-FA4CBB21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6EE-0940-4B21-A933-2CF7EB3C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4B3-3D2C-47CA-B38F-919F11CF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1CB-2348-4D1E-8A14-9F69EDD7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1CF-E30B-43CA-B005-9A44F89F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FA5-704E-43CF-B84C-0E30FAB6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0A6-8510-4E19-82C5-5632BE3F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810-7DEB-480E-AD5F-9921BFC7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DB5-1F38-4A2F-804D-FCB39963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5E0-6201-48E7-89F4-F4F6C0AB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6C10-9AFD-4E66-934C-15A52AA4D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ULTRAVIOLET</a:t>
            </a:r>
            <a:br>
              <a:rPr sz="5400"/>
            </a:b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ET THERE BE 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INVISIBLE)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5790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mSun"/>
              </a:rPr>
              <a:t>A Presentation Brought To You By R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ballantyne09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V’s Effects on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Minor effects on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Ey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Vitami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mature cataract"/>
          <p:cNvPicPr/>
          <p:nvPr/>
        </p:nvPicPr>
        <p:blipFill>
          <a:blip r:embed="rId1"/>
          <a:stretch/>
        </p:blipFill>
        <p:spPr>
          <a:xfrm>
            <a:off x="457200" y="1768320"/>
            <a:ext cx="40957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E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ltraviolet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between 400-100 nm on the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UV part of spectrum divided int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Produced by high temperature continuous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uv sun"/>
          <p:cNvPicPr/>
          <p:nvPr/>
        </p:nvPicPr>
        <p:blipFill>
          <a:blip r:embed="rId1"/>
          <a:stretch/>
        </p:blipFill>
        <p:spPr>
          <a:xfrm>
            <a:off x="533520" y="1905120"/>
            <a:ext cx="3771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ltraviolet: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Johann Wilhelm Ritter (18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Silver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Melloni and Becquerel (18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20’s: Balloon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46: Rocket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62: Orbiting Solar Observatory (N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First Extreme Data Col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78: International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92: Extreme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Ozone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0-3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UV-A, UV-B, UV-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elescopes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ozn_layr"/>
          <p:cNvPicPr/>
          <p:nvPr/>
        </p:nvPicPr>
        <p:blipFill>
          <a:blip r:embed="rId1"/>
          <a:stretch/>
        </p:blipFill>
        <p:spPr>
          <a:xfrm>
            <a:off x="5257800" y="1828800"/>
            <a:ext cx="35528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Practical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escent L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t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rals (G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lith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In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j0315447"/>
          <p:cNvPicPr/>
          <p:nvPr/>
        </p:nvPicPr>
        <p:blipFill>
          <a:blip r:embed="rId1"/>
          <a:stretch/>
        </p:blipFill>
        <p:spPr>
          <a:xfrm>
            <a:off x="5181480" y="203364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V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telescope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Diagram of H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telescope diagram"/>
          <p:cNvPicPr/>
          <p:nvPr/>
        </p:nvPicPr>
        <p:blipFill>
          <a:blip r:embed="rId1"/>
          <a:stretch/>
        </p:blipFill>
        <p:spPr>
          <a:xfrm>
            <a:off x="457200" y="2327400"/>
            <a:ext cx="82296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pectrorev_small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young supernova"/>
          <p:cNvPicPr/>
          <p:nvPr/>
        </p:nvPicPr>
        <p:blipFill>
          <a:blip r:embed="rId1"/>
          <a:stretch/>
        </p:blipFill>
        <p:spPr>
          <a:xfrm>
            <a:off x="1000080" y="34308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2:54:19Z</dcterms:created>
  <dc:creator>Elliott Okantey</dc:creator>
  <dc:description/>
  <dc:language>en-US</dc:language>
  <cp:lastModifiedBy>RomaK</cp:lastModifiedBy>
  <dcterms:modified xsi:type="dcterms:W3CDTF">2015-09-03T12:38:56Z</dcterms:modified>
  <cp:revision>12</cp:revision>
  <dc:subject/>
  <dc:title>Ultraviolet Radiation</dc:title>
</cp:coreProperties>
</file>