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B8D4-ADBA-4AD1-905A-A401413BEB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RE BE (INVISIBLE)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Brought To You By R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’s Effects on Human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or effects o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400-100 nm on the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part of spectrum divided into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high temperature continuous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: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 Wilhelm Ritter (18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loni and Becquerel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0’s: Balloon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6: Rocke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2: Orbiting Solar Observatory (N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treme Data Col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8: International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 Extreme Ultraviolet Explor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zon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3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-A, UV-B, UV-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scope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escent L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(GF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In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H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069-799C-45DA-AF11-4A15A46E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AAF-ECD3-4A18-A1DA-D6E0D507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FE9-92DF-4227-B940-63A3BA7A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05C-A4B4-4DAD-9FFF-383DD0FE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EAC-E325-4488-8D50-5546EF5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C8CD-692D-4C34-BAC0-2194ED58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E8D-9795-40C0-9241-5C4BD3D2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6B1A-DDAC-44DF-91CD-11D05707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D8A-1710-46A9-8413-5D611017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36B-8596-4C25-8DB8-0E146947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91B-5D98-48DF-84CD-C56945D2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02E-124D-4F89-A73A-CD4809D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70BD-7128-4BF2-91E1-7052A8157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stellar"/>
              </a:rPr>
              <a:t>ULTRAVIOLET</a:t>
            </a:r>
            <a:br>
              <a:rPr sz="5400"/>
            </a:b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ET THERE BE </a:t>
            </a:r>
            <a:r>
              <a:rPr b="0" lang="en-US" sz="1800" spc="-1" strike="noStrike">
                <a:solidFill>
                  <a:srgbClr val="ffffff"/>
                </a:solidFill>
                <a:latin typeface="Century Schoolbook"/>
              </a:rPr>
              <a:t>(INVISIBLE)</a:t>
            </a: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7909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mSun"/>
              </a:rPr>
              <a:t>A Presentation Brought To You By R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ballantyne09"/>
          <p:cNvPicPr/>
          <p:nvPr/>
        </p:nvPicPr>
        <p:blipFill>
          <a:blip r:embed="rId1"/>
          <a:stretch/>
        </p:blipFill>
        <p:spPr>
          <a:xfrm>
            <a:off x="1828800" y="1523880"/>
            <a:ext cx="55627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V’s Effects on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Minor effects on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Ey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mature cataract"/>
          <p:cNvPicPr/>
          <p:nvPr/>
        </p:nvPicPr>
        <p:blipFill>
          <a:blip r:embed="rId1"/>
          <a:stretch/>
        </p:blipFill>
        <p:spPr>
          <a:xfrm>
            <a:off x="457200" y="1768320"/>
            <a:ext cx="40957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stellar"/>
              </a:rPr>
              <a:t>Ultraviolet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between 400-100 nm on the spect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UV part of spectrum divided into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Produced by high temperature continuous p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v sun"/>
          <p:cNvPicPr/>
          <p:nvPr/>
        </p:nvPicPr>
        <p:blipFill>
          <a:blip r:embed="rId1"/>
          <a:stretch/>
        </p:blipFill>
        <p:spPr>
          <a:xfrm>
            <a:off x="533520" y="1905120"/>
            <a:ext cx="3771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ltraviolet: The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Johann Wilhelm Ritter (18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Silver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Melloni and Becquerel (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20’s: Ballo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46: Rocket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62: Orbiting Solar Observatory (N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First Extreme Data Coll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78: International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992: Extreme Ultraviol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The Ozone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Strat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10-3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UV-A, UV-B, UV-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stel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stellar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elescopes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ozn_layr"/>
          <p:cNvPicPr/>
          <p:nvPr/>
        </p:nvPicPr>
        <p:blipFill>
          <a:blip r:embed="rId1"/>
          <a:stretch/>
        </p:blipFill>
        <p:spPr>
          <a:xfrm>
            <a:off x="5257800" y="1828800"/>
            <a:ext cx="35528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Practical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orescent L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als (G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otolith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j0315447"/>
          <p:cNvPicPr/>
          <p:nvPr/>
        </p:nvPicPr>
        <p:blipFill>
          <a:blip r:embed="rId1"/>
          <a:stretch/>
        </p:blipFill>
        <p:spPr>
          <a:xfrm>
            <a:off x="5181480" y="203364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UV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ince the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pkins UV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telescope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stellar"/>
              </a:rPr>
              <a:t>Diagram of H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telescope diagram"/>
          <p:cNvPicPr/>
          <p:nvPr/>
        </p:nvPicPr>
        <p:blipFill>
          <a:blip r:embed="rId1"/>
          <a:stretch/>
        </p:blipFill>
        <p:spPr>
          <a:xfrm>
            <a:off x="457200" y="2327400"/>
            <a:ext cx="822960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spectrorev_small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young supernova"/>
          <p:cNvPicPr/>
          <p:nvPr/>
        </p:nvPicPr>
        <p:blipFill>
          <a:blip r:embed="rId1"/>
          <a:stretch/>
        </p:blipFill>
        <p:spPr>
          <a:xfrm>
            <a:off x="1000080" y="343080"/>
            <a:ext cx="7143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2:54:19Z</dcterms:created>
  <dc:creator>Elliott Okantey</dc:creator>
  <dc:description/>
  <dc:language>en-US</dc:language>
  <cp:lastModifiedBy>RomaK</cp:lastModifiedBy>
  <dcterms:modified xsi:type="dcterms:W3CDTF">2015-09-03T12:38:56Z</dcterms:modified>
  <cp:revision>12</cp:revision>
  <dc:subject/>
  <dc:title>Ultraviolet Radiation</dc:title>
</cp:coreProperties>
</file>