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DAFF-918A-4ECE-9742-98156888C5F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7 Environmen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ypes of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Y7 Environmental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roject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EL 2007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e need to mo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N E R G 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 we get this energy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O O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QUESTION?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do we need to move?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 N E R G 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ere do we get this energy from?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 O O D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happen witho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act 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ould happen without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 fact ….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OTHING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ETIC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 &amp; LIGHT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KINETIC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LECTRICAL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OUND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HEAT &amp; LIGHT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NERGY IN ACTION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RE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IN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TORED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RAVITATIONAL POTENTIAL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HEMICAL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TRAIN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UCLEAR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BD57-345C-4082-933C-DE02AFBBE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6E11-0778-47FE-A05F-8FE98C8E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140B-BA62-469D-89A9-26481F836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2534-CBAB-4B1D-9B8E-4C350B1F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D75D-ED41-4C20-86B6-530F10F68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D532-B7E6-425E-87D9-55CCE151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4BEC-3E0B-4E52-9BD7-FA754E23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6E78-CF5C-4362-9150-73A4F6B8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122E-C3DE-4337-98B9-016A5C7A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7937-5693-4EC1-8A8B-65C8B776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6F4B-B0DB-430D-9FB9-7796C20D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280F-D4C3-477C-BBD5-E28B1CD0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C026-900D-4A6D-80EA-642EE1D8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C5E1-9C75-4436-AB03-074EB60D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1CB1-6D3C-4033-B12B-146EE8AA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DB4F-4576-48F2-82F3-50BEEA70B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C1E8-7303-4B84-B471-8277B809C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41AB7-D0F7-453D-BC66-A1EC7F7BB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52E88-64CA-4577-9B9D-F80D004D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59AE1-D2AA-4593-B9DA-DDC700FF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C3F9A-2E34-43D8-AF8C-C2542AC4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C28BD-457D-4AFB-932B-DC3FC53A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92BF-E8D8-41B1-92FB-39ACD3F6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D93B1-20D6-40BC-BE5A-0DB41E26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6D3D4-2984-4CFB-8466-D5E6F74B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7CD4A-E65A-48AF-8F31-5C9BA39F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919DA-69CB-4A8E-B5E4-A3627F43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DF628-0BBB-45E0-96D1-BCCA71A8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BFF1D-6F65-4582-A9BD-7A8852C7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7BBC0-E7D6-4CE2-8D5A-5FA47C8F8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1FF0-1BCE-4420-AD0D-821E036D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5D85-BC57-46A7-B94A-10921ACB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0F5D-7B6C-41BF-B637-26B11BE0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6CB2-EAD6-4A6C-8E2E-88E264A7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6642-E390-4992-8849-BBCA3622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C6BA-30E0-45AE-8C7F-A0AE5C91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B63E-03BE-4C6D-B8B4-8B6423D05FD6}" type="slidenum">
              <a:rPr b="0" lang="en-GB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3047-998A-4892-99FB-E57C430200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218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20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222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26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27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36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7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8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9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0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1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2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3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4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5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6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7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8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9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A83A-5D8E-4B0F-90EE-AA256DAC515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Black"/>
              </a:rPr>
              <a:t>Types of Energy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7 Environment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rojec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GEL 2007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0" name="Picture 5" descr="fireworks_1"/>
          <p:cNvPicPr/>
          <p:nvPr/>
        </p:nvPicPr>
        <p:blipFill>
          <a:blip r:embed="rId1"/>
          <a:stretch/>
        </p:blipFill>
        <p:spPr>
          <a:xfrm>
            <a:off x="8101080" y="5815080"/>
            <a:ext cx="1042920" cy="1042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fireworks_1"/>
          <p:cNvPicPr/>
          <p:nvPr/>
        </p:nvPicPr>
        <p:blipFill>
          <a:blip r:embed="rId2"/>
          <a:stretch/>
        </p:blipFill>
        <p:spPr>
          <a:xfrm>
            <a:off x="468360" y="0"/>
            <a:ext cx="181764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5"/>
          <p:cNvSpPr/>
          <p:nvPr/>
        </p:nvSpPr>
        <p:spPr>
          <a:xfrm>
            <a:off x="539640" y="2492280"/>
            <a:ext cx="2016360" cy="158436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Black"/>
              </a:rPr>
              <a:t>QUESTION?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-360" y="1628280"/>
            <a:ext cx="84582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What do we need to move?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971640" y="2708280"/>
            <a:ext cx="1384200" cy="117468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6"/>
          <p:cNvSpPr/>
          <p:nvPr/>
        </p:nvSpPr>
        <p:spPr>
          <a:xfrm>
            <a:off x="3132000" y="2708280"/>
            <a:ext cx="60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99"/>
                </a:solidFill>
                <a:latin typeface="Ravie"/>
              </a:rPr>
              <a:t>E N E R G Y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07" name="Picture 7" descr=""/>
          <p:cNvPicPr/>
          <p:nvPr/>
        </p:nvPicPr>
        <p:blipFill>
          <a:blip r:embed="rId2"/>
          <a:stretch/>
        </p:blipFill>
        <p:spPr>
          <a:xfrm>
            <a:off x="6907320" y="3429000"/>
            <a:ext cx="2236680" cy="309564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8"/>
          <p:cNvSpPr/>
          <p:nvPr/>
        </p:nvSpPr>
        <p:spPr>
          <a:xfrm>
            <a:off x="0" y="4292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Where do we get this energy from?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Text Box 9"/>
          <p:cNvSpPr/>
          <p:nvPr/>
        </p:nvSpPr>
        <p:spPr>
          <a:xfrm>
            <a:off x="324000" y="5445000"/>
            <a:ext cx="67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99"/>
                </a:solidFill>
                <a:latin typeface="Ravie"/>
              </a:rPr>
              <a:t>        </a:t>
            </a:r>
            <a:r>
              <a:rPr b="0" lang="en-GB" sz="6000" spc="-1" strike="noStrike">
                <a:solidFill>
                  <a:srgbClr val="ff3399"/>
                </a:solidFill>
                <a:latin typeface="Ravie"/>
              </a:rPr>
              <a:t>F O O D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4.44444E-006 L -0.01267 -0.00162 E">
                                      <p:cBhvr>
                                        <p:cTn id="57" dur="2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4"/>
          <p:cNvSpPr/>
          <p:nvPr/>
        </p:nvSpPr>
        <p:spPr>
          <a:xfrm>
            <a:off x="2050920" y="1989000"/>
            <a:ext cx="475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4800" spc="-1" strike="noStrike">
                <a:solidFill>
                  <a:srgbClr val="ffcc00"/>
                </a:solidFill>
                <a:latin typeface="Wide Latin"/>
              </a:rPr>
              <a:t>would happen without</a:t>
            </a:r>
            <a:r>
              <a:rPr b="0" lang="en-GB" sz="1800" spc="-1" strike="noStrike">
                <a:solidFill>
                  <a:srgbClr val="ffcc00"/>
                </a:solidFill>
                <a:latin typeface="That Darn Cat!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0" y="0"/>
            <a:ext cx="62276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LHF Action Movie"/>
              </a:rPr>
              <a:t>In fact …..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LHF Action Movie"/>
              </a:rPr>
              <a:t>                 </a:t>
            </a:r>
            <a:r>
              <a:rPr b="0" lang="en-GB" sz="4800" spc="-1" strike="noStrike">
                <a:solidFill>
                  <a:srgbClr val="ffffff"/>
                </a:solidFill>
                <a:latin typeface="LHF Action Movie"/>
              </a:rPr>
              <a:t>NOTHING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2519280" y="4724280"/>
            <a:ext cx="66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MidnightSnack BB"/>
              </a:rPr>
              <a:t>ENERGY</a:t>
            </a:r>
            <a:endParaRPr b="0" lang="en-US" sz="9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3" name="j009727.wav" descr=""/>
          <p:cNvPicPr/>
          <p:nvPr/>
        </p:nvPicPr>
        <p:blipFill>
          <a:blip r:embed="rId1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2132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Line 5"/>
          <p:cNvSpPr/>
          <p:nvPr/>
        </p:nvSpPr>
        <p:spPr>
          <a:xfrm flipV="1">
            <a:off x="0" y="3357720"/>
            <a:ext cx="9539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468360" y="2708280"/>
            <a:ext cx="396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KINETIC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4716360" y="2781360"/>
            <a:ext cx="442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ELECTRICAL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8" name="Text Box 8"/>
          <p:cNvSpPr/>
          <p:nvPr/>
        </p:nvSpPr>
        <p:spPr>
          <a:xfrm>
            <a:off x="250920" y="6308640"/>
            <a:ext cx="442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SOUND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9" name="Text Box 9"/>
          <p:cNvSpPr/>
          <p:nvPr/>
        </p:nvSpPr>
        <p:spPr>
          <a:xfrm>
            <a:off x="4643280" y="6308640"/>
            <a:ext cx="475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HEAT &amp; LIGHT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20" name="Picture 10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2449440" cy="17208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5940360" y="476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2" descr=""/>
          <p:cNvPicPr/>
          <p:nvPr/>
        </p:nvPicPr>
        <p:blipFill>
          <a:blip r:embed="rId3"/>
          <a:stretch/>
        </p:blipFill>
        <p:spPr>
          <a:xfrm>
            <a:off x="1403280" y="3860640"/>
            <a:ext cx="1833480" cy="18338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3" descr=""/>
          <p:cNvPicPr/>
          <p:nvPr/>
        </p:nvPicPr>
        <p:blipFill>
          <a:blip r:embed="rId4"/>
          <a:stretch/>
        </p:blipFill>
        <p:spPr>
          <a:xfrm>
            <a:off x="6156360" y="3860640"/>
            <a:ext cx="1422360" cy="1951200"/>
          </a:xfrm>
          <a:prstGeom prst="rect">
            <a:avLst/>
          </a:prstGeom>
          <a:ln w="0">
            <a:noFill/>
          </a:ln>
        </p:spPr>
      </p:pic>
      <p:sp>
        <p:nvSpPr>
          <p:cNvPr id="424" name="Text Box 14"/>
          <p:cNvSpPr/>
          <p:nvPr/>
        </p:nvSpPr>
        <p:spPr>
          <a:xfrm>
            <a:off x="0" y="0"/>
            <a:ext cx="38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ENERGY IN ACTION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6" name="Line 5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0" y="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STORED ENERGY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>
            <a:off x="0" y="2421000"/>
            <a:ext cx="450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GRAVITATIONAL POTENTIAL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9" name="Text Box 9"/>
          <p:cNvSpPr/>
          <p:nvPr/>
        </p:nvSpPr>
        <p:spPr>
          <a:xfrm>
            <a:off x="4572000" y="292428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CHEMICAL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0" name="Text Box 10"/>
          <p:cNvSpPr/>
          <p:nvPr/>
        </p:nvSpPr>
        <p:spPr>
          <a:xfrm>
            <a:off x="324000" y="6308640"/>
            <a:ext cx="39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STRAIN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Text Box 11"/>
          <p:cNvSpPr/>
          <p:nvPr/>
        </p:nvSpPr>
        <p:spPr>
          <a:xfrm>
            <a:off x="4788000" y="6308640"/>
            <a:ext cx="403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NUCLEAR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32" name="Picture 12" descr="colony"/>
          <p:cNvPicPr/>
          <p:nvPr/>
        </p:nvPicPr>
        <p:blipFill>
          <a:blip r:embed="rId1"/>
          <a:stretch/>
        </p:blipFill>
        <p:spPr>
          <a:xfrm>
            <a:off x="755640" y="620640"/>
            <a:ext cx="2951280" cy="16732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3" descr=""/>
          <p:cNvPicPr/>
          <p:nvPr/>
        </p:nvPicPr>
        <p:blipFill>
          <a:blip r:embed="rId2"/>
          <a:stretch/>
        </p:blipFill>
        <p:spPr>
          <a:xfrm>
            <a:off x="5508720" y="620640"/>
            <a:ext cx="2663640" cy="19130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4" descr=""/>
          <p:cNvPicPr/>
          <p:nvPr/>
        </p:nvPicPr>
        <p:blipFill>
          <a:blip r:embed="rId3"/>
          <a:stretch/>
        </p:blipFill>
        <p:spPr>
          <a:xfrm>
            <a:off x="1187280" y="3933720"/>
            <a:ext cx="2160720" cy="19893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5" descr=""/>
          <p:cNvPicPr/>
          <p:nvPr/>
        </p:nvPicPr>
        <p:blipFill>
          <a:blip r:embed="rId4"/>
          <a:stretch/>
        </p:blipFill>
        <p:spPr>
          <a:xfrm>
            <a:off x="5796000" y="364500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14:27:11Z</dcterms:created>
  <dc:creator>gelms</dc:creator>
  <dc:description/>
  <dc:language>en-US</dc:language>
  <cp:lastModifiedBy>RomaK</cp:lastModifiedBy>
  <dcterms:modified xsi:type="dcterms:W3CDTF">2015-09-03T12:38:47Z</dcterms:modified>
  <cp:revision>11</cp:revision>
  <dc:subject/>
  <dc:title>Types of Energy</dc:title>
</cp:coreProperties>
</file>