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C02F-A6CF-410C-8799-64C03ACF62A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7 Environmen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ypes of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Y7 Environmental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oject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EL 2007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e need to mo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N E R G 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 we get this energy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O O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QUESTION?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do we need to move?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 N E R G 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ere do we get this energy from?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 O O D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happen witho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act 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ould happen without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 fact ….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OTHING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TIC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&amp; LIGH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KINETIC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LECTRICAL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OUND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HEAT &amp; LIGHT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NERGY IN ACTION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RE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IN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TORED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RAVITATIONAL POTENTIAL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HEMICAL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TRAIN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UCLEAR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7AB2-8685-4EDF-A3FE-F7EB6D06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9E5E-140A-4B11-B7AF-54EC7E28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E091-5B17-4E6E-B2B1-661E11D69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F65D-BF52-4123-8739-422F2D365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FFB8-781D-40CA-BA41-2A85C9C1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A0D3-A2D8-40ED-8F30-1BF545B6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4F48-AAF7-42F7-B04B-AED9AAC5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3080-E6DC-4B05-9A0A-7ECFB8F5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DBD6-7087-48EF-9174-768B3C51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04D9-AD22-48B4-A7B9-D0E9F8A1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AFF5-282F-48DE-885E-7381A81A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EAE8-2289-42BB-BA91-7A2B47E7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4339-9EB8-411B-8364-06591805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7656-ADB9-4F39-BE26-616A96F9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01BF-CB36-4B78-8395-2023CA0A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2B1C-5C54-4F19-8A59-1A543207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D748-C148-46C1-B97F-7C9E5A24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CC567-7423-43EA-AC30-512C57C7C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3C529-5E3F-4E17-9C6F-308DE3D3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15A0C-BE37-462E-AA00-77744754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97D93-6DAC-4481-8CDE-676420D6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A88A3-DFC9-4DD6-981E-F42DAB06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B297-A636-408B-A1C9-E3FBE61D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2A61C-A75F-4296-99EA-D4BEDCA6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B13BA-AEBA-473A-AF3B-E80B794B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610FE-7011-46D0-9B69-1447260A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62D03-6C18-49DD-B891-B061E541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F57F3-C3DA-423D-809D-89C106E1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37B07-3038-45A2-96A4-FEDCAB15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0F540-7FFD-4807-8C0C-6D0DDEF72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0EFF-6DB6-4E5E-996B-2952B68B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8CC1-96CD-41DC-91E1-41F40D19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14B6-DFFE-4BBF-9731-AE6FD520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8D4E-BDC1-4AC8-BD5C-0EF21F25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FEE1-C1B5-4FD9-BF35-787E10E1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6601-94ED-4650-9455-281B619D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0C16-4CB8-4181-8ADB-87A6F799FB49}" type="slidenum"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42EE-6392-46B7-962C-CC26DFED79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18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20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22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26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27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36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7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8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9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0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1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2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3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4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5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6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7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8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9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944F-28E6-41D1-B461-BFF10CD4ECA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Black"/>
              </a:rPr>
              <a:t>Types of Energy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7 Environment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rojec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GEL 2007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0" name="Picture 5" descr="fireworks_1"/>
          <p:cNvPicPr/>
          <p:nvPr/>
        </p:nvPicPr>
        <p:blipFill>
          <a:blip r:embed="rId1"/>
          <a:stretch/>
        </p:blipFill>
        <p:spPr>
          <a:xfrm>
            <a:off x="8101080" y="5815080"/>
            <a:ext cx="1042920" cy="1042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fireworks_1"/>
          <p:cNvPicPr/>
          <p:nvPr/>
        </p:nvPicPr>
        <p:blipFill>
          <a:blip r:embed="rId2"/>
          <a:stretch/>
        </p:blipFill>
        <p:spPr>
          <a:xfrm>
            <a:off x="468360" y="0"/>
            <a:ext cx="18176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5"/>
          <p:cNvSpPr/>
          <p:nvPr/>
        </p:nvSpPr>
        <p:spPr>
          <a:xfrm>
            <a:off x="539640" y="2492280"/>
            <a:ext cx="2016360" cy="158436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Black"/>
              </a:rPr>
              <a:t>QUESTION?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-360" y="1628280"/>
            <a:ext cx="84582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What do we need to move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971640" y="2708280"/>
            <a:ext cx="1384200" cy="117468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6"/>
          <p:cNvSpPr/>
          <p:nvPr/>
        </p:nvSpPr>
        <p:spPr>
          <a:xfrm>
            <a:off x="3132000" y="2708280"/>
            <a:ext cx="60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99"/>
                </a:solidFill>
                <a:latin typeface="Ravie"/>
              </a:rPr>
              <a:t>E N E R G Y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07" name="Picture 7" descr=""/>
          <p:cNvPicPr/>
          <p:nvPr/>
        </p:nvPicPr>
        <p:blipFill>
          <a:blip r:embed="rId2"/>
          <a:stretch/>
        </p:blipFill>
        <p:spPr>
          <a:xfrm>
            <a:off x="6907320" y="3429000"/>
            <a:ext cx="2236680" cy="309564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8"/>
          <p:cNvSpPr/>
          <p:nvPr/>
        </p:nvSpPr>
        <p:spPr>
          <a:xfrm>
            <a:off x="0" y="4292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Where do we get this energy from?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Text Box 9"/>
          <p:cNvSpPr/>
          <p:nvPr/>
        </p:nvSpPr>
        <p:spPr>
          <a:xfrm>
            <a:off x="324000" y="5445000"/>
            <a:ext cx="67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99"/>
                </a:solidFill>
                <a:latin typeface="Ravie"/>
              </a:rPr>
              <a:t>        </a:t>
            </a:r>
            <a:r>
              <a:rPr b="0" lang="en-GB" sz="6000" spc="-1" strike="noStrike">
                <a:solidFill>
                  <a:srgbClr val="ff3399"/>
                </a:solidFill>
                <a:latin typeface="Ravie"/>
              </a:rPr>
              <a:t>F O O D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4.44444E-006 L -0.01267 -0.00162 E">
                                      <p:cBhvr>
                                        <p:cTn id="57" dur="2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4"/>
          <p:cNvSpPr/>
          <p:nvPr/>
        </p:nvSpPr>
        <p:spPr>
          <a:xfrm>
            <a:off x="2050920" y="1989000"/>
            <a:ext cx="47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4800" spc="-1" strike="noStrike">
                <a:solidFill>
                  <a:srgbClr val="ffcc00"/>
                </a:solidFill>
                <a:latin typeface="Wide Latin"/>
              </a:rPr>
              <a:t>would happen without</a:t>
            </a:r>
            <a:r>
              <a:rPr b="0" lang="en-GB" sz="1800" spc="-1" strike="noStrike">
                <a:solidFill>
                  <a:srgbClr val="ffcc00"/>
                </a:solidFill>
                <a:latin typeface="That Darn Cat!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0" y="0"/>
            <a:ext cx="6227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LHF Action Movie"/>
              </a:rPr>
              <a:t>In fact …..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LHF Action Movie"/>
              </a:rPr>
              <a:t>                 </a:t>
            </a:r>
            <a:r>
              <a:rPr b="0" lang="en-GB" sz="4800" spc="-1" strike="noStrike">
                <a:solidFill>
                  <a:srgbClr val="ffffff"/>
                </a:solidFill>
                <a:latin typeface="LHF Action Movie"/>
              </a:rPr>
              <a:t>NOTHING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2519280" y="4724280"/>
            <a:ext cx="66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MidnightSnack BB"/>
              </a:rPr>
              <a:t>ENERGY</a:t>
            </a:r>
            <a:endParaRPr b="0" lang="en-US" sz="9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3" name="j009727.wav" descr=""/>
          <p:cNvPicPr/>
          <p:nvPr/>
        </p:nvPicPr>
        <p:blipFill>
          <a:blip r:embed="rId1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2132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Line 5"/>
          <p:cNvSpPr/>
          <p:nvPr/>
        </p:nvSpPr>
        <p:spPr>
          <a:xfrm flipV="1">
            <a:off x="0" y="3357720"/>
            <a:ext cx="9539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468360" y="2708280"/>
            <a:ext cx="396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KINETIC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4716360" y="2781360"/>
            <a:ext cx="442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ELECTRICAL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250920" y="6308640"/>
            <a:ext cx="442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SOUND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4643280" y="6308640"/>
            <a:ext cx="475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HEAT &amp; LIGHT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0" name="Picture 10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2449440" cy="17208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5940360" y="476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2" descr=""/>
          <p:cNvPicPr/>
          <p:nvPr/>
        </p:nvPicPr>
        <p:blipFill>
          <a:blip r:embed="rId3"/>
          <a:stretch/>
        </p:blipFill>
        <p:spPr>
          <a:xfrm>
            <a:off x="1403280" y="3860640"/>
            <a:ext cx="1833480" cy="1833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3" descr=""/>
          <p:cNvPicPr/>
          <p:nvPr/>
        </p:nvPicPr>
        <p:blipFill>
          <a:blip r:embed="rId4"/>
          <a:stretch/>
        </p:blipFill>
        <p:spPr>
          <a:xfrm>
            <a:off x="6156360" y="3860640"/>
            <a:ext cx="1422360" cy="195120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14"/>
          <p:cNvSpPr/>
          <p:nvPr/>
        </p:nvSpPr>
        <p:spPr>
          <a:xfrm>
            <a:off x="0" y="0"/>
            <a:ext cx="38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ENERGY IN ACTION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6" name="Line 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0" y="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STORED ENERGY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0" y="2421000"/>
            <a:ext cx="450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GRAVITATIONAL POTENTIAL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4572000" y="292428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CHEMICAL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0" name="Text Box 10"/>
          <p:cNvSpPr/>
          <p:nvPr/>
        </p:nvSpPr>
        <p:spPr>
          <a:xfrm>
            <a:off x="324000" y="6308640"/>
            <a:ext cx="39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STRAIN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Text Box 11"/>
          <p:cNvSpPr/>
          <p:nvPr/>
        </p:nvSpPr>
        <p:spPr>
          <a:xfrm>
            <a:off x="4788000" y="6308640"/>
            <a:ext cx="403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NUCLEAR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32" name="Picture 12" descr="colony"/>
          <p:cNvPicPr/>
          <p:nvPr/>
        </p:nvPicPr>
        <p:blipFill>
          <a:blip r:embed="rId1"/>
          <a:stretch/>
        </p:blipFill>
        <p:spPr>
          <a:xfrm>
            <a:off x="755640" y="620640"/>
            <a:ext cx="2951280" cy="16732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3" descr=""/>
          <p:cNvPicPr/>
          <p:nvPr/>
        </p:nvPicPr>
        <p:blipFill>
          <a:blip r:embed="rId2"/>
          <a:stretch/>
        </p:blipFill>
        <p:spPr>
          <a:xfrm>
            <a:off x="5508720" y="620640"/>
            <a:ext cx="2663640" cy="19130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4" descr=""/>
          <p:cNvPicPr/>
          <p:nvPr/>
        </p:nvPicPr>
        <p:blipFill>
          <a:blip r:embed="rId3"/>
          <a:stretch/>
        </p:blipFill>
        <p:spPr>
          <a:xfrm>
            <a:off x="1187280" y="3933720"/>
            <a:ext cx="2160720" cy="19893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5" descr=""/>
          <p:cNvPicPr/>
          <p:nvPr/>
        </p:nvPicPr>
        <p:blipFill>
          <a:blip r:embed="rId4"/>
          <a:stretch/>
        </p:blipFill>
        <p:spPr>
          <a:xfrm>
            <a:off x="5796000" y="364500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14:27:11Z</dcterms:created>
  <dc:creator>gelms</dc:creator>
  <dc:description/>
  <dc:language>en-US</dc:language>
  <cp:lastModifiedBy>RomaK</cp:lastModifiedBy>
  <dcterms:modified xsi:type="dcterms:W3CDTF">2015-09-03T12:38:47Z</dcterms:modified>
  <cp:revision>11</cp:revision>
  <dc:subject/>
  <dc:title>Types of Energy</dc:title>
</cp:coreProperties>
</file>