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A9CCA-4D79-42E4-AB6D-3CD64C13B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ment of average spe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e by measuring a distance with a tape then measuring the time with a stop clock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N AVERAGE SPEED =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stance /tim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metres per second (m/s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stantaneous speed is the speed over a small distance e.g. 5c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done with a light gate attached to a compu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the change in speed divide by the time 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TRANSPOR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61DC-CEC7-4B5B-8A9F-9BDCB76D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998F-997B-4E61-9880-8DDA1C9E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D814-2D25-480B-87BF-1C78E533A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6DF4-355C-4E7F-B388-48EC92E43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BE18D-4F88-41CA-B13D-8AD7AF2A1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F47A2-3D36-421B-A24E-0C69F92FB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5B879-2958-4F9F-B5EF-400338CDC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A98-5B5D-4A92-A694-F6182402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F7696-480D-47C7-88E8-92DAE5690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F7A03-54F0-489A-B493-2B079913C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01D2E-7C04-47FB-959A-570C0C9D7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4F29-BEA8-411E-BF9E-D65CD933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C8F10-61AD-4130-B406-B459F5A8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A0E2-9D4C-487A-9823-14F986DB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7D9AC-FB8E-4AE3-BDD6-DBBF4E5A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FCC2C-8AA0-4CF1-A8D7-B975E17A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5B5D-D18C-4E74-8015-37A66DAB7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F413-0CEC-40BB-B98C-ABEB5130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7B08-8A97-4543-A224-A875C317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1DA-84DB-4D27-B2F6-BF36D57D8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A809-4986-40FB-A6CA-861CC937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B22F-4FE1-46F9-A21A-2C9D52A03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F40-2CCB-4844-AB75-B65D35CB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EC4A-692A-4443-B8DF-1C3131556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80491-8DAD-4402-83A5-549FF2B4662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0A943-4E7F-4237-891B-7403F1EA679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ment of average speed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one by measuring a distance with a tape then measuring the time with a stop clock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EN AVERAGE SPEED =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Distance /time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Measured in metres per second (m/s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nstantaneous speed is the speed over a small distance e.g. 5c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done with a light gate attached to a compu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Acceleratio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is is the change in speed divide by the time taken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TRANSPOR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5400" spc="-1" strike="noStrike">
              <a:solidFill>
                <a:srgbClr val="0066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2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8:26Z</dcterms:modified>
  <cp:revision>26</cp:revision>
  <dc:subject/>
  <dc:title>Slide 1</dc:title>
</cp:coreProperties>
</file>