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4284-FCE6-4A7F-BE02-90BD0A801E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ment of average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e by measuring a distance with a tape then measuring the time with a stop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ment of average spe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ne by measuring a distance with a tape then measuring the time with a stop clock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AVERAGE SPEED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/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metres per second (m/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AVERAGE SPEED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ance /ti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metres per second (m/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ntaneous speed is the speed over a small distance e.g. 5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one with a light gate attached to a comp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antaneous speed is the speed over a small distance e.g. 5c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done with a light gate attached to a compu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change in speed divide by the time ta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ele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change in speed divide by the time tak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D4A6-A208-4E7F-88C4-9AD81712C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38FA-8E98-4DFD-92E1-E385A76D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493B-AB2C-43BC-9506-7E488BB71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F35B-3547-4E36-9C48-9D574F4F0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A74C-9226-430F-8197-96F8DB5BF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3850-7239-470E-BA30-3A61D6DC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9C51-50A8-4BD8-B7AD-649B69F6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8B1D-EBD0-46D1-8F00-390DF225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5C9B-2CF2-4A68-98D2-2313077A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7FF3-5FC0-4B9D-8E3A-BC740B13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8B5A-A71B-499E-972E-2C80F2E3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79D8-D616-4AF2-8634-AB544B15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F6CF-A5C9-4E18-B6A7-4AA0AC86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ED20-0146-40EC-B05A-AB916967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BED7-4BAD-4D55-B841-1D0A6EE2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42EA-5BCB-43C0-9CC9-ECB83EDC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5425-A9A2-40AF-A7A5-D0B359CDC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5D29-7261-499B-88E0-BED9BE54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8922-D872-4FD8-938D-652BFA50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A08E-EA89-40CA-A479-A5942F4F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286A-D102-4C37-9A78-E9918CD9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A969-3CF4-4BD9-9F3A-6FF8D8E5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13F4-CA7C-4479-8738-2BA29AFD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8BA1-8959-463E-87EC-534E6BB2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6570-C36C-4922-9DA2-73A3DCC55D9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9592-59D9-481B-8061-25B771C5A91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Measurement of average speed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Done by measuring a distance with a tape then measuring the time with a stop clock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THEN AVERAGE SPEED =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Distance /tim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Measured in metres per second (m/s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nstantaneous speed is the speed over a small distance e.g. 5cm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This is done with a light gate attached to a comput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Acceleratio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This is the change in speed divide by the time take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5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icity sold at peak pric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city bought back at night at low price and used to pump water back up to the top da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38:26Z</dcterms:modified>
  <cp:revision>26</cp:revision>
  <dc:subject/>
  <dc:title>Slide 1</dc:title>
</cp:coreProperties>
</file>