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glass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cashreg.wav" ContentType="audio/x-wav"/>
  <Override PartName="/ppt/media/camera.wav" ContentType="audio/x-wav"/>
  <Override PartName="/ppt/media/applause.wav" ContentType="audio/x-wav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5F8C-ED28-4C62-A74C-AD7A6B984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energy travels in the form of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can travel through solids , liquids and gases by vibrating the particles in the three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in the three materials vibrate in the same direction as the wave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ve is called a Longitudinal 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i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aves then vibrate our ear drums which then activate small bones in 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ram of the ear is sh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 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waves travel very much slower than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be seen by observing a thunder and lightning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reaches us quickly but the sound from the thunder comes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measured by by using two microphones and an electronic ti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ound reaches the first mic, the timer starts.When the sound reaches the second mic, the timer sto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know the distance between the two mics (say one metre) and the time , we can work out the speed.This is shown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 THE SPEED OF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= 0.003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= 1 me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ion of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Sound can be calculated as show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   1/0.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330 m / 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 between sound and light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a transverse wave.The particles move at right angles to the wave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1C7-23BC-4E93-BD6F-3D6FB105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72D-5A48-4FD8-A83D-64002B0D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7786-3353-446C-97F5-422D1A40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B2BB-8B23-488B-93F8-CE362D85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AEA-0560-4097-B2AE-F3B7D5C5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59A-BD0E-4943-8CB8-C68CEDDA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67B-5E90-4E95-8F29-9974F17F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8A4-6738-4154-A768-9928358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E0A-044C-42BB-886B-D4295009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A3D-345D-4166-A0B3-CED0E59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79E-00EA-4169-9ACC-68B88A9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CDD-87F8-498E-818B-5673272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D34E-5EDB-482D-9AF6-D78D22ED16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glas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</a:t>
            </a:r>
            <a:r>
              <a:rPr b="0" lang="en-GB" sz="44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energy travels in the form of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ound can travel through solids , liquids and gases by vibrating the particles in the three types of materi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particles in the three materials vibrate in the same direction as the wave mo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is wave is called a Longitudinal W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longipatm"/>
          <p:cNvPicPr/>
          <p:nvPr/>
        </p:nvPicPr>
        <p:blipFill>
          <a:blip r:embed="rId1"/>
          <a:stretch/>
        </p:blipFill>
        <p:spPr>
          <a:xfrm>
            <a:off x="2987640" y="3933720"/>
            <a:ext cx="5600880" cy="26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82680" y="3862440"/>
            <a:ext cx="2289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canno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travel i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ff"/>
                </a:solidFill>
                <a:latin typeface="Comic Sans MS"/>
              </a:rPr>
              <a:t>vacu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elecommunications.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hese waves then vibrate our ear drums which then activate small bones in our inner 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 diagram of the ear is show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The E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41280" y="2060640"/>
            <a:ext cx="8460000" cy="411624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1601640" y="31240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95280" y="487692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Ear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4000" y="587700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Outer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4044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waves travel very much slower than light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is can be seen by observing a thunder and lightning st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The light reaches us quickly but the sound from the thunder comes l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932360" y="2349360"/>
            <a:ext cx="3457440" cy="4089600"/>
          </a:xfrm>
          <a:prstGeom prst="rect">
            <a:avLst/>
          </a:prstGeom>
          <a:ln cap="sq"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  The speed of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The speed of sound can be measured by by using two microphones and an electronic ti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When the sound reaches the first mic, the timer starts.When the sound reaches the second mic, the timer st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ff"/>
                </a:solidFill>
                <a:latin typeface="Comic Sans MS"/>
              </a:rPr>
              <a:t>If we know the distance between the two mics (say one metre) and the time , we can work out the speed.This is shown on the next 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954000" y="808200"/>
            <a:ext cx="69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TELECOMMUNICATION. THE SPEED OF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752480" y="1905120"/>
            <a:ext cx="5562720" cy="121896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 = 0.003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9810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6095880" y="4343400"/>
            <a:ext cx="762120" cy="53352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6"/>
          <p:cNvCxnSpPr>
            <a:endCxn id="68" idx="1"/>
          </p:cNvCxnSpPr>
          <p:nvPr/>
        </p:nvCxnSpPr>
        <p:spPr>
          <a:xfrm flipH="1" rot="16200000">
            <a:off x="1084680" y="3714480"/>
            <a:ext cx="1715400" cy="7668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1" name="AutoShape 7"/>
          <p:cNvCxnSpPr>
            <a:endCxn id="68" idx="3"/>
          </p:cNvCxnSpPr>
          <p:nvPr/>
        </p:nvCxnSpPr>
        <p:spPr>
          <a:xfrm flipH="1" rot="16200000">
            <a:off x="1618920" y="3485520"/>
            <a:ext cx="1715400" cy="534240"/>
          </a:xfrm>
          <a:prstGeom prst="curvedConnector5">
            <a:avLst>
              <a:gd name="adj1" fmla="val 42212"/>
              <a:gd name="adj2" fmla="val 71409"/>
              <a:gd name="adj3" fmla="val 42212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2" name="AutoShape 8"/>
          <p:cNvCxnSpPr/>
          <p:nvPr/>
        </p:nvCxnSpPr>
        <p:spPr>
          <a:xfrm flipH="1">
            <a:off x="6248160" y="3048120"/>
            <a:ext cx="457920" cy="1715040"/>
          </a:xfrm>
          <a:prstGeom prst="curvedConnector5">
            <a:avLst>
              <a:gd name="adj1" fmla="val -49960"/>
              <a:gd name="adj2" fmla="val 49989"/>
              <a:gd name="adj3" fmla="val -49960"/>
            </a:avLst>
          </a:prstGeom>
          <a:ln cap="sq" w="38160">
            <a:solidFill>
              <a:srgbClr val="ffff00"/>
            </a:solidFill>
            <a:miter/>
          </a:ln>
        </p:spPr>
      </p:cxnSp>
      <p:cxnSp>
        <p:nvCxnSpPr>
          <p:cNvPr id="73" name="AutoShape 9"/>
          <p:cNvCxnSpPr>
            <a:endCxn id="69" idx="3"/>
          </p:cNvCxnSpPr>
          <p:nvPr/>
        </p:nvCxnSpPr>
        <p:spPr>
          <a:xfrm rot="5400000">
            <a:off x="6228720" y="3600360"/>
            <a:ext cx="1639080" cy="381600"/>
          </a:xfrm>
          <a:prstGeom prst="curvedConnector2">
            <a:avLst/>
          </a:prstGeom>
          <a:ln cap="sq" w="38160">
            <a:solidFill>
              <a:srgbClr val="ffff00"/>
            </a:solidFill>
            <a:miter/>
          </a:ln>
        </p:spPr>
      </p:cxnSp>
      <p:sp>
        <p:nvSpPr>
          <p:cNvPr id="74" name="Text Box 10"/>
          <p:cNvSpPr/>
          <p:nvPr/>
        </p:nvSpPr>
        <p:spPr>
          <a:xfrm>
            <a:off x="1927080" y="5249880"/>
            <a:ext cx="1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011640" y="4313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c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819520" y="5334120"/>
            <a:ext cx="3276360" cy="0"/>
          </a:xfrm>
          <a:prstGeom prst="line">
            <a:avLst/>
          </a:prstGeom>
          <a:ln cap="sq" w="38160">
            <a:solidFill>
              <a:srgbClr val="ffff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0240" y="5451480"/>
            <a:ext cx="18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089880" y="54910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Distance = 1 me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5"/>
          <p:cNvSpPr/>
          <p:nvPr/>
        </p:nvSpPr>
        <p:spPr>
          <a:xfrm>
            <a:off x="304920" y="4267080"/>
            <a:ext cx="838080" cy="909720"/>
          </a:xfrm>
          <a:custGeom>
            <a:avLst/>
            <a:gdLst>
              <a:gd name="textAreaLeft" fmla="*/ 83520 w 838080"/>
              <a:gd name="textAreaRight" fmla="*/ 754560 w 838080"/>
              <a:gd name="textAreaTop" fmla="*/ 363960 h 909720"/>
              <a:gd name="textAreaBottom" fmla="*/ 545760 h 909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0" y="5257800"/>
            <a:ext cx="15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Soun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200"/>
            </a:br>
            <a:r>
              <a:rPr b="0" lang="en-GB" sz="3200" spc="-1" strike="noStrike">
                <a:solidFill>
                  <a:srgbClr val="ffff66"/>
                </a:solidFill>
                <a:latin typeface="Comic Sans MS"/>
              </a:rPr>
              <a:t>Calculation of The Speed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he Speed of Sound can be calculated as shown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Speed  =  </a:t>
            </a:r>
            <a:r>
              <a:rPr b="0" lang="en-GB" sz="3200" spc="-1" strike="noStrike" u="sng">
                <a:solidFill>
                  <a:srgbClr val="ff99ff"/>
                </a:solidFill>
                <a:uFillTx/>
                <a:latin typeface="Comic Sans MS"/>
              </a:rPr>
              <a:t>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      1/0.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=   330 m / s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elecommunication.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Comic Sans MS"/>
              </a:rPr>
              <a:t>The difference between sound and light wa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000" y="2514600"/>
            <a:ext cx="88963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ff"/>
                </a:solidFill>
                <a:latin typeface="Comic Sans MS"/>
              </a:rPr>
              <a:t>Light is a transverse wave.The particles move at right angles to the wave as sh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transverspointcurated2"/>
          <p:cNvPicPr/>
          <p:nvPr/>
        </p:nvPicPr>
        <p:blipFill>
          <a:blip r:embed="rId1"/>
          <a:stretch/>
        </p:blipFill>
        <p:spPr>
          <a:xfrm>
            <a:off x="3132000" y="3716280"/>
            <a:ext cx="53499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8:05Z</dcterms:modified>
  <cp:revision>22</cp:revision>
  <dc:subject/>
  <dc:title>Telecommunication. Sound Waves.</dc:title>
</cp:coreProperties>
</file>