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cashreg.wav" ContentType="audio/x-wav"/>
  <Override PartName="/ppt/media/camera.wav" ContentType="audio/x-wav"/>
  <Override PartName="/ppt/media/applause.wav" ContentType="audio/x-wav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B9C8-601A-4D6A-B9DD-09FEDB14F7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365-30F1-4092-BCB4-91F635B1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9B0-2DAA-4B76-B9D9-19BE6153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C5E-A972-417B-B79E-8D19A5DF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929-C6C2-4966-BE22-7686FBE2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EBD-EA52-4CE7-9B31-39DA80F5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72F-F123-4362-A660-0834DF5E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4CA-D799-4796-8FC3-573B3C7D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D78-59E5-4C12-BE78-AC206A94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0E6-4D8D-4D34-B1F1-D0DF5BF7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C3E-760A-4364-A805-219BEF2F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263-BF9B-4BE9-91CA-912C6CE9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ED02-1AE3-4B2A-BB61-46A67A89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80AF-93A1-4AE8-9160-63A83F12E1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</a:t>
            </a: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energy travels in the form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can travel through solids , liquids and gases by vibrating the particles in the three types of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particles in the three materials vibrate in the same direction as the wav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is wave is called a Longitudinal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ngipatm"/>
          <p:cNvPicPr/>
          <p:nvPr/>
        </p:nvPicPr>
        <p:blipFill>
          <a:blip r:embed="rId1"/>
          <a:stretch/>
        </p:blipFill>
        <p:spPr>
          <a:xfrm>
            <a:off x="2987640" y="3933720"/>
            <a:ext cx="5600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2680" y="3862440"/>
            <a:ext cx="228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cann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travel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vacu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lecommunications.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hese waves then vibrate our ear drums which then activate small bones in our inne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 diagram of the ear is sh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he 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460000" cy="411624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1601640" y="3124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95280" y="48769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Ea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4000" y="5877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2800"/>
            </a:b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4044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waves travel very much slower than light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is can be seen by observing a thunder and lightning st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e light reaches us quickly but the sound from the thunder come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57440" cy="4089600"/>
          </a:xfrm>
          <a:prstGeom prst="rect">
            <a:avLst/>
          </a:prstGeom>
          <a:ln cap="sq"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  The speed of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The speed of sound can be measured by by using two microphones and an electronic ti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When the sound reaches the first mic, the timer starts.When the sound reaches the second mic, the timer st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If we know the distance between the two mics (say one metre) and the time , we can work out the speed.This is shown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54000" y="80820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ELECOMMUNICATION. THE SPEED OF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752480" y="1905120"/>
            <a:ext cx="5562720" cy="1218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 = 0.00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810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958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"/>
          <p:cNvCxnSpPr>
            <a:endCxn id="68" idx="1"/>
          </p:cNvCxnSpPr>
          <p:nvPr/>
        </p:nvCxnSpPr>
        <p:spPr>
          <a:xfrm flipH="1" rot="16200000">
            <a:off x="1084680" y="3714480"/>
            <a:ext cx="1715400" cy="7668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1" name="AutoShape 7"/>
          <p:cNvCxnSpPr>
            <a:endCxn id="68" idx="3"/>
          </p:cNvCxnSpPr>
          <p:nvPr/>
        </p:nvCxnSpPr>
        <p:spPr>
          <a:xfrm flipH="1" rot="16200000">
            <a:off x="1618920" y="3485520"/>
            <a:ext cx="1715400" cy="534240"/>
          </a:xfrm>
          <a:prstGeom prst="curvedConnector5">
            <a:avLst>
              <a:gd name="adj1" fmla="val 42212"/>
              <a:gd name="adj2" fmla="val 71409"/>
              <a:gd name="adj3" fmla="val 42212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2" name="AutoShape 8"/>
          <p:cNvCxnSpPr/>
          <p:nvPr/>
        </p:nvCxnSpPr>
        <p:spPr>
          <a:xfrm flipH="1">
            <a:off x="6248160" y="3048120"/>
            <a:ext cx="457920" cy="1715040"/>
          </a:xfrm>
          <a:prstGeom prst="curvedConnector5">
            <a:avLst>
              <a:gd name="adj1" fmla="val -49960"/>
              <a:gd name="adj2" fmla="val 49989"/>
              <a:gd name="adj3" fmla="val -49960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3" name="AutoShape 9"/>
          <p:cNvCxnSpPr>
            <a:endCxn id="69" idx="3"/>
          </p:cNvCxnSpPr>
          <p:nvPr/>
        </p:nvCxnSpPr>
        <p:spPr>
          <a:xfrm rot="5400000">
            <a:off x="6228720" y="3600360"/>
            <a:ext cx="1639080" cy="38160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sp>
        <p:nvSpPr>
          <p:cNvPr id="74" name="Text Box 10"/>
          <p:cNvSpPr/>
          <p:nvPr/>
        </p:nvSpPr>
        <p:spPr>
          <a:xfrm>
            <a:off x="1927080" y="5249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1640" y="4313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819520" y="5334120"/>
            <a:ext cx="327636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0240" y="545148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089880" y="54910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Distance = 1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04920" y="4267080"/>
            <a:ext cx="838080" cy="909720"/>
          </a:xfrm>
          <a:custGeom>
            <a:avLst/>
            <a:gdLst>
              <a:gd name="textAreaLeft" fmla="*/ 83520 w 838080"/>
              <a:gd name="textAreaRight" fmla="*/ 754560 w 838080"/>
              <a:gd name="textAreaTop" fmla="*/ 363960 h 909720"/>
              <a:gd name="textAreaBottom" fmla="*/ 545760 h 909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0" y="5257800"/>
            <a:ext cx="15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200"/>
            </a:b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alculation of The Speed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Speed of Sound can be calculated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peed  =  </a:t>
            </a:r>
            <a:r>
              <a:rPr b="0" lang="en-GB" sz="3200" spc="-1" strike="noStrike" u="sng">
                <a:solidFill>
                  <a:srgbClr val="ff99ff"/>
                </a:solidFill>
                <a:uFillTx/>
                <a:latin typeface="Comic Sans MS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      1/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330 m / s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514600"/>
            <a:ext cx="8896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Light is a transverse wave.The particles move at right angles to the wave as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transverspointcurated2"/>
          <p:cNvPicPr/>
          <p:nvPr/>
        </p:nvPicPr>
        <p:blipFill>
          <a:blip r:embed="rId1"/>
          <a:stretch/>
        </p:blipFill>
        <p:spPr>
          <a:xfrm>
            <a:off x="3132000" y="3716280"/>
            <a:ext cx="5349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8:05Z</dcterms:modified>
  <cp:revision>22</cp:revision>
  <dc:subject/>
  <dc:title>Telecommunication. Sound Waves.</dc:title>
</cp:coreProperties>
</file>