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81894-6259-4039-B57E-4EF711D6B4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PEED OF E .M .WAV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3 x 108m/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3oo,ooo,ooo m/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UR MIX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PRIMARY COLOURS – RED , GREEN , BLUE TOGETHER MAKE WH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LOUR MIX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 PRIMARY COLOURS – RED , GREEN , BLUE TOGETHER MAKE WHIT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AND GREEN GIVE YEL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AND BLUE GIVE MAGE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 AND BLUE GIVE CY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D AND GREEN GIVE YELLOW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D AND BLUE GIVE MAGENT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EEN AND BLUE GIVE CYA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STATIONARY SATELLITES ARE AT A HEIGHT OF 36 , 000Km ABOVE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HAVE A 24 HR ORB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STATIONARY SATELLITES ARE AT A HEIGHT OF 36 , 000Km ABOVE THE EAR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HAVE A 24 HR ORBI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ALS ARE MICROWAVE AND TRAVEL IN A STRAIGHT LINE TO AND FROM THE SATELLITE.THEY CANNOT CURVE IN THE EARTH`S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GNALS ARE MICROWAVE AND TRAVEL IN A STRAIGHT LINE TO AND FROM THE SATELLITE.THEY CANNOT CURVE IN THE EARTH`S ATMOSPHE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CAL FIBRES USED TO CARRY INFORMATION BY TOTAL INTERNAL REFLECTION. LIGHT TRAVELS AT A SPEED OF 200 , 000 , 000 M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TICAL FIBRES USED TO CARRY INFORMATION BY TOTAL INTERNAL REFLECTION. LIGHT TRAVELS AT A SPEED OF 200 , 000 , 000 M/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EQUA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Q = I x T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V = I x 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P = I x V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P = E / 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P = V2 / R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P = I2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RT = R1 + R2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1 /RT = 1/R1 + 1/R2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Q = I x T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V = I x 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 = I x V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 = E / 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 = V2 / R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 = I2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T = R1 + R2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 /RT = 1/R1 + 1/R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S FOR SERIES AND PARALLEL CIRC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TAGE SPLITS UP IN A SERIES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STAYS THE SAME IN A SERIES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TAGE STAYS THE SAME IN A PARALLEL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SPLITS UP IN A PARALLEL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ULES FOR SERIES AND PARALLEL CIRCUI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OLTAGE SPLITS UP IN A SERIES CIRCUI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RRENT STAYS THE SAME IN A SERIES CIRCUI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OLTAGE STAYS THE SAME IN A PARALLEL CIRCUI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RRENT SPLITS UP IN A PARALLEL CIRCUI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TMETERS MEASURE VOLTAGE AND GO ACROSS THE 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METERS MEASURE CURRENT AND ARE WIRED IN SERIES WITH THE COMPON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IT COMPONENTS INCLUDE RESISTORS , BULB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OLTMETERS MEASURE VOLTAGE AND GO ACROSS THE COMPON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MMETERS MEASURE CURRENT AND ARE WIRED IN SERIES WITH THE COMPONENT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IRCUIT COMPONENTS INCLUDE RESISTORS , BULBS ETC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S 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S IN THREE PIN PLU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WN LIV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BLUE 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GREEN / YELLOW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SE IS A SAFETY DEVICE WIRED IN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 P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 WIRE NOT NEEDED FOR DOUBLE INSULATED APPLIANCES , THEY HAVE A PLASTIC C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INS ELECTRIC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RES IN THREE PIN PLU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OWN LIV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BLUE NEUTRA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  GREEN / YELLOW EAR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USE IS A SAFETY DEVICE WIRED IN TH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E PI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RTH WIRE NOT NEEDED FOR DOUBLE INSULATED APPLIANCES , THEY HAVE A PLASTIC CAS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S 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TYPES OF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THE LIGHTING CIRCUIT 15A FUS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THE RING MAINS CIRCUIT 30A FUS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3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OKER CIRCUIT 45A F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ARE WIRED IN PARALLEL  IF ONE GOES OUT THE OTHERS STAY ON   LESS WIRE USED SO MONEY IS SA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INS ELECTRIC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REE TYPES OF CIRCUI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 THE LIGHTING CIRCUIT 15A FUS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THE RING MAINS CIRCUIT 30A FUS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3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OOKER CIRCUIT 45A FU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L ARE WIRED IN PARALLEL  IF ONE GOES OUT THE OTHERS STAY ON   LESS WIRE USED SO MONEY IS SAV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OF SOUND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40 m/s in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EED OF SOUND WAV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40 m/s in ai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 MO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IL OF WIRE CARRYING CURRENT SURROUNDED BY A PAIR OF MAGN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RE TURNS ON THE COIL AND THE STRONGER THE MAGNET , THE FASTER THE COIL GO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MOTO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IL OF WIRE CARRYING CURRENT SURROUNDED BY A PAIR OF MAGNE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ORE TURNS ON THE COIL AND THE STRONGER THE MAGNET , THE FASTER THE COIL GO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COILS OF WIRE WITH AN IRON CORE , THE PRIMARY COIL AND THE SECONDARY C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OR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P /NS = VP / V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 x VP = IS x V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COILS OF WIRE WITH AN IRON CORE , THE PRIMARY COIL AND THE SECONDARY COI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FORM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P /NS = VP / V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P x VP = IS x V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THERMO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THE LAB THERMOME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THE CLINICAL THERMOMETER BOTH LIQUID IN GLASS THERMOMET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THE DIGITAL THERMO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 BETWEEN LAB AND CLINICAL THERMOMETERS, SIZE,SCALE, MAGNIFIER IN CLINICAL THERMOMETER,KI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THERMOME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 THE LAB THERMOMETER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THE CLINICAL THERMOMETER BOTH LIQUID IN GLASS THERMOMETERS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 THE DIGITAL THERMOME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ERENCE BETWEEN LAB AND CLINICAL THERMOMETERS, SIZE,SCALE, MAGNIFIER IN CLINICAL THERMOMETER,KINK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= f l     v = d /t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QUA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v= f l     v = d /t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 = the number of waves per sec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d in Hertz (HZ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equency = the number of waves per secon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asured in Hertz (HZ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R WAVE –THIS TELLS YOU THE RADIO S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DIO WAVE TELLS YOU WHAT IS ON THE S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RRIER WAVE –THIS TELLS YOU THE RADIO ST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UDIO WAVE TELLS YOU WHAT IS ON THE ST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LITUDE MODULATED (AM) WAVE –A COMBINATION OF THE CARRIER AND AUDIO W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MPLITUDE MODULATED (AM) WAVE –A COMBINATION OF THE CARRIER AND AUDIO WAV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S OF THE RAD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AERIAL -  PICKS UP ALL SIG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TUNER – SELECTS ONE PARTICULAR SIG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S OF THE RADI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 AERIAL -  PICKS UP ALL SIGNA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TUNER – SELECTS ONE PARTICULAR SIGNA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CODER – SEPARATES CARRIER WAVE FROM AUDIO W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AMPLIFIER – MAKES BIGGER COPY OF AUDIO W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DECODER – SEPARATES CARRIER WAVE FROM AUDIO WAV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.  AMPLIFIER – MAKES BIGGER COPY OF AUDIO WAV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BATTERY – SUPPLIES ENERGY TO AMPLIF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 LOUDSPEAKER – CHANGES ELECTRICAL ENERGY TO SOUND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. BATTERY – SUPPLIES ENERGY TO AMPLIFI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.  LOUDSPEAKER – CHANGES ELECTRICAL ENERGY TO SOUND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955F-85F3-4327-ADDF-2D7BF7DD9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3F69-2530-4A01-97E4-601B444B2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985D-C62C-4527-89F3-C797CA94C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B94A-406A-4144-BA43-DBFBF4A9B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B34BD-39DA-4B5F-98AC-DBF6C0B20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DED7C-F8FB-4B11-ADCB-9810B2CC6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24D7E-1E92-4B8E-A67C-C2B96B981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C5FFE-74FD-4C96-A14C-B4D08D99B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C064F-90AE-4CE4-82DF-A344D892C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7714E-9445-43AC-A71B-0E0202234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70CF3-0308-453C-B111-0956997A7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C6AE-CBE9-4DD8-B5F5-2F54FEF90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DE3D9-7746-4EF6-8F92-55E063643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41A73-5B4D-42E4-9BC4-F126F25AC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89C8C-E3DD-4642-A761-5784D0D24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D8BFB-CE97-43D0-9A48-0EFC3C095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048E1-CA95-4BF0-ACBD-874169088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D8FF-3A38-4CF3-BFB8-EBEB74B31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7F52-F990-4512-8C33-1B377B027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9DC6-B78D-4BB8-A1E6-A3E01DCBB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F831-2530-4C66-A032-17C7CE1C7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7BAB-C978-4321-B9B9-1A928EB88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BCF0-F0D1-40DC-9050-D052AC72B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0BB9-91EA-431C-AE2D-ECB7373F9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0FED3-160A-4AA6-9E09-AD5932EC34C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A5234-C4B6-4C11-BB50-DE024B978D3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5"/>
          <p:cNvSpPr/>
          <p:nvPr/>
        </p:nvSpPr>
        <p:spPr>
          <a:xfrm flipV="1">
            <a:off x="1066680" y="640440"/>
            <a:ext cx="662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Tahoma"/>
              </a:rPr>
              <a:t>SPEED OF E .M .WAV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0" lang="en-GB" sz="7200" spc="-1" strike="noStrike">
                <a:solidFill>
                  <a:srgbClr val="0000ff"/>
                </a:solidFill>
                <a:latin typeface="Tahoma"/>
              </a:rPr>
              <a:t>3 x 10</a:t>
            </a:r>
            <a:r>
              <a:rPr b="0" lang="en-GB" sz="7200" spc="-1" strike="noStrike" baseline="30000">
                <a:solidFill>
                  <a:srgbClr val="0000ff"/>
                </a:solidFill>
                <a:latin typeface="Tahoma"/>
              </a:rPr>
              <a:t>8</a:t>
            </a:r>
            <a:r>
              <a:rPr b="0" lang="en-GB" sz="7200" spc="-1" strike="noStrike">
                <a:solidFill>
                  <a:srgbClr val="0000ff"/>
                </a:solidFill>
                <a:latin typeface="Tahoma"/>
              </a:rPr>
              <a:t>m/s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ff"/>
                </a:solidFill>
                <a:latin typeface="Tahoma"/>
              </a:rPr>
              <a:t>3oo,ooo,ooo m/s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COLOUR MIXING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3 PRIMARY COLOURS – RED , GREEN , BLUE TOGETHER MAKE WHIT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RED AND GREEN GIVE YELLOW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RED AND BLUE GIVE MAGENTA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GREEN AND BLUE GIVE CYAN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77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6" dur="770" fill="hold"/>
                                        <p:tgtEl>
                                          <p:spTgt spid="1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8" dur="77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0" dur="77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77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7" dur="77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9" dur="77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1" dur="77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77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8" dur="77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0" dur="77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2" dur="77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77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9" dur="77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1" dur="77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3" dur="77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GEOSTATIONARY SATELLITES ARE AT A HEIGHT OF 36 , 000Km ABOVE THE EARTH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THEY HAVE A 24 HR ORBI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SIGNALS ARE MICROWAVE AND TRAVEL IN A STRAIGHT LINE TO AND FROM THE SATELLITE.THEY CANNOT CURVE IN THE EARTH`S ATMOSPHER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OPTICAL FIBRES USED TO CARRY INFORMATION BY TOTAL INTERNAL REFLECTION. LIGHT TRAVELS AT A SPEED OF 200 , 000 , 000 M/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8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8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8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8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8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LECTRIC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EQU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Q = I x T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V = I x 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P = I x V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P = E / 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P = V</a:t>
            </a:r>
            <a:r>
              <a:rPr b="0" lang="en-GB" sz="3200" spc="-1" strike="noStrike" baseline="30000">
                <a:solidFill>
                  <a:srgbClr val="0000ff"/>
                </a:solidFill>
                <a:latin typeface="Tahoma"/>
              </a:rPr>
              <a:t>2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 / R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P = I</a:t>
            </a:r>
            <a:r>
              <a:rPr b="0" lang="en-GB" sz="3200" spc="-1" strike="noStrike" baseline="30000">
                <a:solidFill>
                  <a:srgbClr val="0000ff"/>
                </a:solidFill>
                <a:latin typeface="Tahoma"/>
              </a:rPr>
              <a:t>2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R</a:t>
            </a:r>
            <a:r>
              <a:rPr b="0" lang="en-GB" sz="3200" spc="-1" strike="noStrike" baseline="-25000">
                <a:solidFill>
                  <a:srgbClr val="0000ff"/>
                </a:solidFill>
                <a:latin typeface="Tahoma"/>
              </a:rPr>
              <a:t>T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 = R</a:t>
            </a:r>
            <a:r>
              <a:rPr b="0" lang="en-GB" sz="3200" spc="-1" strike="noStrike" baseline="-25000">
                <a:solidFill>
                  <a:srgbClr val="0000ff"/>
                </a:solidFill>
                <a:latin typeface="Tahoma"/>
              </a:rPr>
              <a:t>1 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+ R</a:t>
            </a:r>
            <a:r>
              <a:rPr b="0" lang="en-GB" sz="3200" spc="-1" strike="noStrike" baseline="-25000">
                <a:solidFill>
                  <a:srgbClr val="0000ff"/>
                </a:solidFill>
                <a:latin typeface="Tahoma"/>
              </a:rPr>
              <a:t>2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1 /R</a:t>
            </a:r>
            <a:r>
              <a:rPr b="0" lang="en-GB" sz="3200" spc="-1" strike="noStrike" baseline="-25000">
                <a:solidFill>
                  <a:srgbClr val="0000ff"/>
                </a:solidFill>
                <a:latin typeface="Tahoma"/>
              </a:rPr>
              <a:t>T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 = 1/R</a:t>
            </a:r>
            <a:r>
              <a:rPr b="0" lang="en-GB" sz="3200" spc="-1" strike="noStrike" baseline="-25000">
                <a:solidFill>
                  <a:srgbClr val="0000ff"/>
                </a:solidFill>
                <a:latin typeface="Tahoma"/>
              </a:rPr>
              <a:t>1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 + 1/R</a:t>
            </a:r>
            <a:r>
              <a:rPr b="0" lang="en-GB" sz="3200" spc="-1" strike="noStrike" baseline="-25000">
                <a:solidFill>
                  <a:srgbClr val="0000ff"/>
                </a:solidFill>
                <a:latin typeface="Tahoma"/>
              </a:rPr>
              <a:t>2</a:t>
            </a:r>
            <a:r>
              <a:rPr b="0" lang="en-GB" sz="3200" spc="-1" strike="noStrike" baseline="30000">
                <a:solidFill>
                  <a:srgbClr val="f0f515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77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4" dur="77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6" dur="77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8" dur="77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77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5" dur="77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7" dur="77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9" dur="77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77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6" dur="77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8" dur="77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0" dur="77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77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7" dur="77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9" dur="77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1" dur="77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77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8" dur="77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0" dur="77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2" dur="77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77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9" dur="77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1" dur="77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3" dur="77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LECTRIC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RULES FOR SERIES AND PARALLEL CIRCUI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VOLTAGE SPLITS UP IN A SERIES CIRCU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CURRENT STAYS THE SAME IN A SERIES CIRCU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VOLTAGE STAYS THE SAME IN A PARALLEL CIRCU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CURRENT SPLITS UP IN A PARALLEL CIRCU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LECTRIC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VOLTMETERS MEASURE VOLTAGE AND GO ACROSS THE COMPON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AMMETERS MEASURE CURRENT AND ARE WIRED IN SERIES WITH THE COMPONEN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CIRCUIT COMPONENTS INCLUDE RESISTORS , BULBS ET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LECTRIC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MAINS ELECTRIC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WIRES IN THREE PIN PLU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1.</a:t>
            </a: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BROWN LIVE</a:t>
            </a: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2. BLUE NEUTR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3.  GREEN / YELLOW EAR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FUSE IS A SAFETY DEVICE WIRED IN TH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LIVE P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EARTH WIRE NOT NEEDED FOR DOUBLE INSULATED APPLIANCES , THEY HAVE A PLASTIC CAS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77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3" dur="770" fill="hold"/>
                                        <p:tgtEl>
                                          <p:spTgt spid="13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5" dur="77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7" dur="77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77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4" dur="77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6" dur="77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8" dur="77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77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5" dur="77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7" dur="77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9" dur="77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77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6" dur="77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8" dur="77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0" dur="77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77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7" dur="77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9" dur="77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1" dur="77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77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8" dur="77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0" dur="77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2" dur="77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77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9" dur="77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1" dur="77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3" dur="77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77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0" dur="77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2" dur="77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4" dur="77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LECTRIC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MAINS ELECTRIC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THREE TYPES OF CIRCU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1. THE LIGHTING CIRCUIT 15A FUSE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2. THE RING MAINS CIRCUIT 30A FUSE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    3.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THE COOKER CIRCUIT 45A FU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ALL ARE WIRED IN PARALLEL  IF ONE GOES OUT THE OTHERS STAY ON   LESS WIRE USED SO MONEY IS SAV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8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8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8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8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8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2" dur="8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8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8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8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2" dur="8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8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8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8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2" dur="8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8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8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ff"/>
                </a:solidFill>
                <a:latin typeface="Tahoma"/>
              </a:rPr>
              <a:t>SPEED OF SOUND</a:t>
            </a:r>
            <a:r>
              <a:rPr b="0" lang="en-GB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4800" spc="-1" strike="noStrike">
                <a:solidFill>
                  <a:srgbClr val="0000ff"/>
                </a:solidFill>
                <a:latin typeface="Tahoma"/>
              </a:rPr>
              <a:t>WAV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22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0000ff"/>
                </a:solidFill>
                <a:latin typeface="Tahoma"/>
              </a:rPr>
              <a:t>340 m/s in air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ELECTRIC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ELECTRIC MOT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COIL OF WIRE CARRYING CURRENT SURROUNDED BY A PAIR OF MAGNE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THE MORE TURNS ON THE COIL AND THE STRONGER THE MAGNET , THE FASTER THE COIL GO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8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9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ELECTRIC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TWO COILS OF WIRE WITH AN IRON CORE , THE PRIMARY COIL AND THE SECONDARY COI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TRANSFORM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N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 /N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ahoma"/>
              </a:rPr>
              <a:t>S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 = V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 / V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ahoma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I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 x V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 = I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ahoma"/>
              </a:rPr>
              <a:t>S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 x V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ahoma"/>
              </a:rPr>
              <a:t>S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HEALT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TYPES OF THERMOME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1. THE LAB THERMOMETER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2. THE CLINICAL THERMOMETER BOTH LIQUID IN GLASS THERMOMETERS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3. THE DIGITAL THERMOME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DIFFERENCE BETWEEN LAB AND CLINICAL THERMOMETERS, SIZE,SCALE, MAGNIFIER IN CLINICAL THERMOMETER,KIN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9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2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2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2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2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5" dur="2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2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2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2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3" dur="2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2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2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ff"/>
                </a:solidFill>
                <a:latin typeface="Tahoma"/>
              </a:rPr>
              <a:t>EQUATION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ff"/>
                </a:solidFill>
                <a:latin typeface="Tahoma"/>
              </a:rPr>
              <a:t>v= f</a:t>
            </a:r>
            <a:r>
              <a:rPr b="0" lang="en-GB" sz="8000" spc="-1" strike="noStrike">
                <a:solidFill>
                  <a:srgbClr val="0000ff"/>
                </a:solidFill>
                <a:latin typeface="Symbol"/>
                <a:ea typeface="Symbol"/>
              </a:rPr>
              <a:t></a:t>
            </a:r>
            <a:r>
              <a:rPr b="0" lang="en-GB" sz="8000" spc="-1" strike="noStrike">
                <a:solidFill>
                  <a:srgbClr val="0000ff"/>
                </a:solidFill>
                <a:latin typeface="Times New Roman"/>
              </a:rPr>
              <a:t>v = d /t</a:t>
            </a:r>
            <a:r>
              <a:rPr b="0" lang="en-GB" sz="8000" spc="-1" strike="noStrike">
                <a:solidFill>
                  <a:srgbClr val="0000ff"/>
                </a:solidFill>
                <a:latin typeface="Symbol"/>
                <a:ea typeface="Symbol"/>
              </a:rPr>
              <a:t>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ff"/>
                </a:solidFill>
                <a:latin typeface="Tahoma"/>
              </a:rPr>
              <a:t>Frequency = the number of waves per second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ctr"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ff"/>
                </a:solidFill>
                <a:latin typeface="Tahoma"/>
              </a:rPr>
              <a:t>Measured in Hertz (HZ)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CARRIER WAVE –THIS TELLS YOU THE RADIO STATION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AUDIO WAVE TELLS YOU WHAT IS ON THE STATION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77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77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" dur="77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" dur="77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77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" dur="77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" dur="77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5" dur="77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AMPLITUDE MODULATED (AM) WAVE –A COMBINATION OF THE CARRIER AND AUDIO WAV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PARTS OF THE RADIO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1. AERIAL -  PICKS UP ALL SIGNAL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2. TUNER – SELECTS ONE PARTICULAR SIGNAL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2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3.</a:t>
            </a: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 DECODER – SEPARATES CARRIER WAVE FROM AUDIO WAV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4.  AMPLIFIER – MAKES BIGGER COPY OF AUDIO WAVE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0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5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5. BATTERY – SUPPLIES ENERGY TO AMPLIFIER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6.  LOUDSPEAKER – CHANGES ELECTRICAL ENERGY TO SOUND ENERGY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0T17:42:04Z</dcterms:created>
  <dc:creator>wallan</dc:creator>
  <dc:description/>
  <dc:language>en-US</dc:language>
  <cp:lastModifiedBy>RomaK</cp:lastModifiedBy>
  <dcterms:modified xsi:type="dcterms:W3CDTF">2015-09-03T12:37:57Z</dcterms:modified>
  <cp:revision>16</cp:revision>
  <dc:subject/>
  <dc:title>Slide 1</dc:title>
</cp:coreProperties>
</file>