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802C-245E-4ECD-B577-2A9DF4CB3B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ED OF E .M .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 x 108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oo,ooo,ooo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8F9F-9CF1-46A4-8813-5DCD45A8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90B9-6FC0-4CDA-8366-2C7304F7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D18-408F-4773-8048-0DD60C2A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FF6-0ED4-46B9-9B39-2B6F09FB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D54F-04BF-42DC-A80B-4F18F31E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30F7-28C3-452A-99A4-E0CD9C7C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B1EE-97E9-4D4E-8B5F-E22B2835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2C1E-0FD3-4B00-9BF8-65103DFD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90CE-58D4-443E-AE31-6E01FD0D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C4C9-33E7-40B6-BCFD-437A5075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CA95-01AA-470D-B149-74C4BBE2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A5D3-F9F0-43FC-8324-90E4E738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9E10-2C9B-4983-8FF3-EA1B7CEB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7CE9-5F24-43E6-9703-D4DE6E94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69D6-3453-4649-85ED-A9AC00FB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BFDC-450B-4CD8-93CA-6EBF259E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44A5-C4D0-40BA-A875-12BBAE3E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463-97CB-4AA6-827D-8F3ABC4C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AAB-009E-4B70-BD98-35427215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C09-527F-4B4B-8676-AE8928B3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F36-D44E-48B5-8748-0A539180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DE0-CA97-4A30-BB91-3B9FB2FA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657-FEB1-4C10-828E-4239134A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2DD-2661-4A88-B6D4-07B1A6AE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2CC5-6093-4188-840A-9E2F0CEA01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06A6-8E5F-440C-9FA2-A9AB2D89E4C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ahoma"/>
              </a:rPr>
              <a:t>SPEED OF E .M .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 x 10</a:t>
            </a:r>
            <a:r>
              <a:rPr b="0" lang="en-GB" sz="7200" spc="-1" strike="noStrike" baseline="30000">
                <a:solidFill>
                  <a:srgbClr val="0000ff"/>
                </a:solidFill>
                <a:latin typeface="Tahoma"/>
              </a:rPr>
              <a:t>8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oo,ooo,ooo 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OLOUR MIX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 PRIMARY COLOURS – RED , GREEN , BLUE TOGETHER MAKE WHI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GREEN GIVE YELLOW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BLUE GIVE MAGEN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REEN AND BLUE GIVE CY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EOSTATIONARY SATELLITES ARE AT A HEIGHT OF 36 , 000Km ABOVE THE EART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THEY HAVE A 24 HR ORBI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SIGNALS ARE MICROWAVE AND TRAVEL IN A STRAIGHT LINE TO AND FROM THE SATELLITE.THEY CANNOT CURVE IN THE EARTH`S ATMOSPHE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OPTICAL FIBRES USED TO CARRY INFORMATION BY TOTAL INTERNAL REFLECTION. LIGHT TRAVELS AT A SPEED OF 200 , 000 , 000 M/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Q = I x 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 = I x 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 x V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E /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V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/ R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+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 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+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 baseline="30000">
                <a:solidFill>
                  <a:srgbClr val="f0f51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RULES FOR SERIES AND PARALLEL CIRCU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PLITS UP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TAYS THE SAME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TAYS THE SAME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PLITS UP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OLTMETERS MEASURE VOLTAGE AND GO ACROSS THE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MMETERS MEASURE CURRENT AND ARE WIRED IN SERIES WITH THE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CIRCUIT COMPONENTS INCLUDE RESISTORS , BULBS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WIRES IN THREE PIN PL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BROWN LIVE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2. BLUE NEUT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3.  GREEN / YELLOW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FUSE IS A SAFETY DEVICE WIRED IN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LIVE P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EARTH WIRE NOT NEEDED FOR DOUBLE INSULATED APPLIANCES , THEY HAVE A PLASTIC CA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7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REE TYPES OF CIRC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. THE LIGHTING CIRCUIT 15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2. THE RING MAINS CIRCUIT 30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   3.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E COOKER CIRCUIT 45A F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LL ARE WIRED IN PARALLEL  IF ONE GOES OUT THE OTHERS STAY ON   LESS WIRE USED SO MONEY IS SA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SPEED OF SOUND</a:t>
            </a: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WA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Tahoma"/>
              </a:rPr>
              <a:t>340 m/s in air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LECTRIC MO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IL OF WIRE CARRYING CURRENT SURROUNDED BY A PAIR OF MAG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MORE TURNS ON THE COIL AND THE STRONGER THE MAGNET , THE FASTER THE COIL G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WO COILS OF WIRE WITH AN IRON CORE , THE PRIMARY COIL AND THE SECONDARY C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RANSFOR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S OF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1. THE LAB THERMOMETER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THE CLINICAL THERMOMETER BOTH LIQUID IN GLASS THERMOMETER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3. THE DIGITAL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IFFERENCE BETWEEN LAB AND CLINICAL THERMOMETERS, SIZE,SCALE, MAGNIFIER IN CLINICAL THERMOMETER,K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Tahoma"/>
              </a:rPr>
              <a:t>v= f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</a:t>
            </a:r>
            <a:r>
              <a:rPr b="0" lang="en-GB" sz="8000" spc="-1" strike="noStrike">
                <a:solidFill>
                  <a:srgbClr val="0000ff"/>
                </a:solidFill>
                <a:latin typeface="Times New Roman"/>
              </a:rPr>
              <a:t>v = d /t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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Frequency = the number of waves per seco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Measured in Hertz (HZ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ARRIER WAVE –THIS TELLS YOU THE RADIO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UDIO WAVE TELLS YOU WHAT IS ON THE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MPLITUDE MODULATED (AM) WAVE –A COMBINATION OF THE CARRIER AND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ARTS OF THE RADI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1. AERIAL -  PICKS UP ALL SIGNA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2. TUNER – SELECTS ONE PARTICULAR SIG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DECODER – SEPARATES CARRIER WAVE FROM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4.  AMPLIFIER – MAKES BIGGER COPY OF AUDIO WAV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5. BATTERY – SUPPLIES ENERGY TO AMPLIFI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6.  LOUDSPEAKER – CHANGES ELECTRICAL ENERGY TO SOUND ENERG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7:57Z</dcterms:modified>
  <cp:revision>16</cp:revision>
  <dc:subject/>
  <dc:title>Slide 1</dc:title>
</cp:coreProperties>
</file>