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E3DE-B8D2-4903-B7AF-88B6F312B7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ED OF E .M .WAV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 x 108m/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oo,ooo,ooo m/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 MIX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PRIMARY COLOURS – RED , GREEN , BLUE TOGETHER MAKE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UR MIX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PRIMARY COLOURS – RED , GREEN , BLUE TOGETHER MAKE WHI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AND GREEN GIVE YEL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AND BLUE GIVE 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AND BLUE GIVE 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AND GREEN GIVE YELLOW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AND BLUE GIVE MAGENT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N AND BLUE GIVE CYA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STATIONARY SATELLITES ARE AT A HEIGHT OF 36 , 000Km ABOVE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A 24 HR OR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STATIONARY SATELLITES ARE AT A HEIGHT OF 36 , 000Km ABOVE THE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HAVE A 24 HR ORB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S ARE MICROWAVE AND TRAVEL IN A STRAIGHT LINE TO AND FROM THE SATELLITE.THEY CANNOT CURVE IN THE EARTH`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GNALS ARE MICROWAVE AND TRAVEL IN A STRAIGHT LINE TO AND FROM THE SATELLITE.THEY CANNOT CURVE IN THE EARTH`S ATMOSPHE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 USED TO CARRY INFORMATION BY TOTAL INTERNAL REFLECTION. LIGHT TRAVELS AT A SPEED OF 200 , 000 , 000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TICAL FIBRES USED TO CARRY INFORMATION BY TOTAL INTERNAL REFLECTION. LIGHT TRAVELS AT A SPEED OF 200 , 000 , 000 M/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Q = I x T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V = I x 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I x V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E / 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V2 / R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I2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RT = R1 + R2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1 /RT = 1/R1 + 1/R2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Q = I x T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V = I x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I x V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E /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V2 / R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I2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T = R1 + R2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 /RT = 1/R1 + 1/R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 FOR SERIES AND PARALLEL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SPLITS UP IN A 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TAYS THE SAME IN A 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STAYS THE SAME IN A 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PLITS UP IN A 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ULES FOR SERIES AND PARALLEL CIRCUI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AGE SPLITS UP IN A SERIES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 STAYS THE SAME IN A SERIES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AGE STAYS THE SAME IN A PARALLEL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 SPLITS UP IN A PARALLEL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METERS MEASURE VOLTAGE AND GO ACROSS THE 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ETERS MEASURE CURRENT AND ARE WIRED IN SERIES WITH THE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COMPONENTS INCLUDE RESISTORS , BULB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METERS MEASURE VOLTAGE AND GO ACROSS THE COMPON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METERS MEASURE CURRENT AND ARE WIRED IN SERIES WITH THE COMPONENT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RCUIT COMPONENTS INCLUDE RESISTORS , BULBS ET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S IN THREE PIN PL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WN L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BLUE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GREEN / YELLOW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E IS A SAFETY DEVICE WIRED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P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WIRE NOT NEEDED FOR DOUBLE INSULATED APPLIANCES , THEY HAVE A PLASTIC C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RES IN THREE PIN PLU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WN LIV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BLUE NEUTR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 GREEN / YELLOW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SE IS A SAFETY DEVICE WIRED IN TH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 P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 WIRE NOT NEEDED FOR DOUBLE INSULATED APPLIANCES , THEY HAVE A PLASTIC CAS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TYPES OF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E LIGHTING CIRCUIT 15A FU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RING MAINS CIRCUIT 30A FU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OKER CIRCUIT 45A 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RE WIRED IN PARALLEL  IF ONE GOES OUT THE OTHERS STAY ON   LESS WIRE USED SO MONEY IS SA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REE TYPES OF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THE LIGHTING CIRCUIT 15A FUS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HE RING MAINS CIRCUIT 30A FUS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3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OKER CIRCUIT 45A FU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ARE WIRED IN PARALLEL  IF ONE GOES OUT THE OTHERS STAY ON   LESS WIRE USED SO MONEY IS SAV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OF SOUND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0 m/s in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ED OF SOUND WAV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40 m/s in ai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MO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IL OF WIRE CARRYING CURRENT SURROUNDED BY A PAIR OF MAG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TURNS ON THE COIL AND THE STRONGER THE MAGNET , THE FASTER THE COIL GO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MO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IL OF WIRE CARRYING CURRENT SURROUNDED BY A PAIR OF MAGNE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RE TURNS ON THE COIL AND THE STRONGER THE MAGNET , THE FASTER THE COIL GO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OILS OF WIRE WITH AN IRON CORE , THE PRIMARY COIL AND THE SECONDARY C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P /NS = VP / 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 x VP = IS x V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COILS OF WIRE WITH AN IRON CORE , THE PRIMARY COIL AND THE SECONDARY COI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FORM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P /NS = VP / V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P x VP = IS x V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HERM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E LAB THERMOME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CLINICAL THERMOMETER BOTH LIQUID IN GLASS THERMOMET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HE DIGITAL THERM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BETWEEN LAB AND CLINICAL THERMOMETERS, SIZE,SCALE, MAGNIFIER IN CLINICAL THERMOMETER,K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THERMOME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THE LAB THERMOMETER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HE CLINICAL THERMOMETER BOTH LIQUID IN GLASS THERMOMETER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THE DIGITAL THERMOME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CE BETWEEN LAB AND CLINICAL THERMOMETERS, SIZE,SCALE, MAGNIFIER IN CLINICAL THERMOMETER,KI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= f l     v = d /t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= f l     v = d /t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= the number of waves per 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Hertz (H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quency = the number of waves per sec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Hertz (HZ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WAVE –THIS TELLS YOU THE RADIO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O WAVE TELLS YOU WHAT IS ON THE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RIER WAVE –THIS TELLS YOU THE RADIO S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DIO WAVE TELLS YOU WHAT IS ON THE S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LITUDE MODULATED (AM) WAVE –A COMBINATION OF THE CARRIER AND AUDIO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PLITUDE MODULATED (AM) WAVE –A COMBINATION OF THE CARRIER AND AUDIO WA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THE RA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ERIAL -  PICKS UP ALL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UNER – SELECTS ONE PARTICULAR SIG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S OF THE RADI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AERIAL -  PICKS UP ALL SIGNA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UNER – SELECTS ONE PARTICULAR SIGN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CODER – SEPARATES CARRIER WAVE FROM AUDIO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AMPLIFIER – MAKES BIGGER COPY OF AUDIO W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DECODER – SEPARATES CARRIER WAVE FROM AUDIO WA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 AMPLIFIER – MAKES BIGGER COPY OF AUDIO WAV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BATTERY – SUPPLIES ENERGY TO AMPL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 LOUDSPEAKER – CHANGES ELECTRICAL ENERGY TO SOU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BATTERY – SUPPLIES ENERGY TO AMPLIFI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  LOUDSPEAKER – CHANGES ELECTRICAL ENERGY TO SOUND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CD5B-1CB7-4283-A0C7-9B51AD1D9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AA09-4A19-4B29-9C2C-610563F1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29F6-B910-4D73-AA2A-4AF17918D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7F6E-20E6-4CD5-AE87-69D68D06F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CB71-2625-496A-BA88-617D123FE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42C3-2B3F-4D39-BF51-5B2AC178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EC47-2A27-47DD-B7B5-6D912A52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009F-2BB3-4679-83B0-3A70D091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6F86-4564-4DCA-ADCA-EF0DB0C3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80FB-01B6-4E68-A18F-56736B88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4D6E-6712-4ADD-A004-7CA3D4C8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7C9B-7B87-4E17-A4AA-1C564C47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000D-DD3C-4617-AB88-1ACC3F2E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2045-8C8C-452D-B9D4-EA38E3E3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648A-888E-478D-8A05-4666373F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5EB6-CF68-4555-BF2D-F83C964D2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3436-6D9B-4CC7-BE3C-8FD6281E3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0D70-C23E-4B51-822D-D5453C3A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0198-2245-4AFB-BD78-56EF6A8E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529C-5C53-4CEA-A975-26BA7996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6457-702C-4D6A-8600-45E425A5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25C0-F8DB-4979-99F7-DF9FB057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BEDC-7EFC-47E5-8B04-CB489B28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0531-35DD-4E2E-94D4-8F1DBFAC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520B-A0A3-47DE-AFFA-3CC863DA11C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BBA4-88A1-4C7C-8D9D-12D456C0EA1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ahoma"/>
              </a:rPr>
              <a:t>SPEED OF E .M .WAV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3 x 10</a:t>
            </a:r>
            <a:r>
              <a:rPr b="0" lang="en-GB" sz="7200" spc="-1" strike="noStrike" baseline="30000">
                <a:solidFill>
                  <a:srgbClr val="0000ff"/>
                </a:solidFill>
                <a:latin typeface="Tahoma"/>
              </a:rPr>
              <a:t>8</a:t>
            </a: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m/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3oo,ooo,ooo m/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COLOUR MIXING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3 PRIMARY COLOURS – RED , GREEN , BLUE TOGETHER MAKE WHIT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RED AND GREEN GIVE YELLOW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RED AND BLUE GIVE MAGENT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GREEN AND BLUE GIVE CYA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0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77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1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77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77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77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77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GEOSTATIONARY SATELLITES ARE AT A HEIGHT OF 36 , 000Km ABOVE THE EARTH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THEY HAVE A 24 HR ORBI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SIGNALS ARE MICROWAVE AND TRAVEL IN A STRAIGHT LINE TO AND FROM THE SATELLITE.THEY CANNOT CURVE IN THE EARTH`S ATMOSPHER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OPTICAL FIBRES USED TO CARRY INFORMATION BY TOTAL INTERNAL REFLECTION. LIGHT TRAVELS AT A SPEED OF 200 , 000 , 000 M/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8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EQU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Q = I x T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V = I x 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I x V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E / 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V</a:t>
            </a:r>
            <a:r>
              <a:rPr b="0" lang="en-GB" sz="3200" spc="-1" strike="noStrike" baseline="30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/ R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I</a:t>
            </a:r>
            <a:r>
              <a:rPr b="0" lang="en-GB" sz="3200" spc="-1" strike="noStrike" baseline="30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T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= 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1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+ 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1 /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T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= 1/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+ 1/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 baseline="30000">
                <a:solidFill>
                  <a:srgbClr val="f0f515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77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4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6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77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5" dur="77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7" dur="77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9" dur="77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77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77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8" dur="77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0" dur="77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77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7" dur="77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9" dur="77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1" dur="77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77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77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0" dur="77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77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9" dur="77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1" dur="77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3" dur="77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RULES FOR SERIES AND PARALLEL CIRCU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VOLTAGE SPLITS UP IN A SERIES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CURRENT STAYS THE SAME IN A SERIES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VOLTAGE STAYS THE SAME IN A PARALLEL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CURRENT SPLITS UP IN A PARALLEL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VOLTMETERS MEASURE VOLTAGE AND GO ACROSS THE COMPON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AMMETERS MEASURE CURRENT AND ARE WIRED IN SERIES WITH THE COMPON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CIRCUIT COMPONENTS INCLUDE RESISTORS , BULBS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MAINS ELECTRIC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WIRES IN THREE PIN PLU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BROWN LIVE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2. BLUE NEUT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3.  GREEN / YELLOW EAR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FUSE IS A SAFETY DEVICE WIRED IN TH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LIVE P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EARTH WIRE NOT NEEDED FOR DOUBLE INSULATED APPLIANCES , THEY HAVE A PLASTIC CAS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77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3" dur="770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5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7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77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4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6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8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77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5" dur="77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7" dur="77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9" dur="77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77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6" dur="77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8" dur="77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0" dur="77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77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7" dur="77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9" dur="77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1" dur="77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77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8" dur="77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0" dur="77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2" dur="77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77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9" dur="77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1" dur="77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3" dur="77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77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0" dur="77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2" dur="77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4" dur="77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MAINS ELECTRI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THREE TYPES OF CIRCU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1. THE LIGHTING CIRCUIT 15A FUSE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2. THE RING MAINS CIRCUIT 30A FUSE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   3.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THE COOKER CIRCUIT 45A F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ALL ARE WIRED IN PARALLEL  IF ONE GOES OUT THE OTHERS STAY ON   LESS WIRE USED SO MONEY IS SAV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8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8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8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8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ff"/>
                </a:solidFill>
                <a:latin typeface="Tahoma"/>
              </a:rPr>
              <a:t>SPEED OF SOUND</a:t>
            </a:r>
            <a:r>
              <a:rPr b="0" lang="en-GB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4800" spc="-1" strike="noStrike">
                <a:solidFill>
                  <a:srgbClr val="0000ff"/>
                </a:solidFill>
                <a:latin typeface="Tahoma"/>
              </a:rPr>
              <a:t>WAV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2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ff"/>
                </a:solidFill>
                <a:latin typeface="Tahoma"/>
              </a:rPr>
              <a:t>340 m/s in air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ELECTRIC MO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OIL OF WIRE CARRYING CURRENT SURROUNDED BY A PAIR OF MAGN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HE MORE TURNS ON THE COIL AND THE STRONGER THE MAGNET , THE FASTER THE COIL GO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WO COILS OF WIRE WITH AN IRON CORE , THE PRIMARY COIL AND THE SECONDARY CO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RANSFORM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/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=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/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I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x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= I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x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YPES OF THERMOME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1. THE LAB THERMOMETER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2. THE CLINICAL THERMOMETER BOTH LIQUID IN GLASS THERMOMETER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3. THE DIGITAL THERMOME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IFFERENCE BETWEEN LAB AND CLINICAL THERMOMETERS, SIZE,SCALE, MAGNIFIER IN CLINICAL THERMOMETER,KIN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ff"/>
                </a:solidFill>
                <a:latin typeface="Tahoma"/>
              </a:rPr>
              <a:t>EQUATION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ff"/>
                </a:solidFill>
                <a:latin typeface="Tahoma"/>
              </a:rPr>
              <a:t>v= f</a:t>
            </a:r>
            <a:r>
              <a:rPr b="0" lang="en-GB" sz="8000" spc="-1" strike="noStrike">
                <a:solidFill>
                  <a:srgbClr val="0000ff"/>
                </a:solidFill>
                <a:latin typeface="Symbol"/>
                <a:ea typeface="Symbol"/>
              </a:rPr>
              <a:t></a:t>
            </a:r>
            <a:r>
              <a:rPr b="0" lang="en-GB" sz="8000" spc="-1" strike="noStrike">
                <a:solidFill>
                  <a:srgbClr val="0000ff"/>
                </a:solidFill>
                <a:latin typeface="Times New Roman"/>
              </a:rPr>
              <a:t>v = d /t</a:t>
            </a:r>
            <a:r>
              <a:rPr b="0" lang="en-GB" sz="8000" spc="-1" strike="noStrike">
                <a:solidFill>
                  <a:srgbClr val="0000ff"/>
                </a:solidFill>
                <a:latin typeface="Symbol"/>
                <a:ea typeface="Symbol"/>
              </a:rPr>
              <a:t>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ff"/>
                </a:solidFill>
                <a:latin typeface="Tahoma"/>
              </a:rPr>
              <a:t>Frequency = the number of waves per second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ff"/>
                </a:solidFill>
                <a:latin typeface="Tahoma"/>
              </a:rPr>
              <a:t>Measured in Hertz (HZ)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CARRIER WAVE –THIS TELLS YOU THE RADIO STA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AUDIO WAVE TELLS YOU WHAT IS ON THE STA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AMPLITUDE MODULATED (AM) WAVE –A COMBINATION OF THE CARRIER AND AUDIO WAV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PARTS OF THE RADIO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1. AERIAL -  PICKS UP ALL SIGNAL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2. TUNER – SELECTS ONE PARTICULAR SIGN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 DECODER – SEPARATES CARRIER WAVE FROM AUDIO WAV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4.  AMPLIFIER – MAKES BIGGER COPY OF AUDIO WAV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5. BATTERY – SUPPLIES ENERGY TO AMPLIFIE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6.  LOUDSPEAKER – CHANGES ELECTRICAL ENERGY TO SOUND ENERGY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RomaK</cp:lastModifiedBy>
  <dcterms:modified xsi:type="dcterms:W3CDTF">2015-09-03T12:37:57Z</dcterms:modified>
  <cp:revision>16</cp:revision>
  <dc:subject/>
  <dc:title>Slide 1</dc:title>
</cp:coreProperties>
</file>