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F08-AA41-4C78-B9DB-3A32A0B1AE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ED OF E .M .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 x 108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oo,ooo,ooo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UR MIX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PRIMARY COLOURS – RED , GREEN , BLUE TOGETHER MAKE WH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GREEN GIVE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ND BLUE GIVE MAGEN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AND BLUE GIVE CY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STATIONARY SATELLITES ARE AT A HEIGHT OF 36 , 000Km ABOVE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A 24 HR ORB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S ARE MICROWAVE AND TRAVEL IN A STRAIGHT LINE TO AND FROM THE SATELLITE.THEY CANNOT CURVE IN THE EARTH`S ATMOSPH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TICAL FIBRES USED TO CARRY INFORMATION BY TOTAL INTERNAL REFLECTION. LIGHT TRAVELS AT A SPEED OF 200 , 000 , 000 M/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 = I x T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 = I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 x V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E /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V2 / R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 = I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T = R1 + R2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/RT = 1/R1 + 1/R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S FOR SERIES AND PARALLEL CIRCUI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PLITS UP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TAYS THE SAME IN A SERIES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STAYS THE SAME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SPLITS UP IN A PARALLEL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METERS MEASURE VOLTAGE AND GO ACROSS THE COMPON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METERS MEASURE CURRENT AND ARE WIRED IN SERIES WITH THE COMPONE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IT COMPONENTS INCLUDE RESISTORS , BULBS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RES IN THREE PIN PL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LIV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BLUE NEUTR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GREEN / YELLOW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SE IS A SAFETY DEVICE WIRED IN TH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 P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IRE NOT NEEDED FOR DOUBLE INSULATED APPLIANCES , THEY HAVE A PLASTIC CAS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S 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 OF CIRCU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IGHTING CIRCUIT 15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RING MAINS CIRCUIT 30A FUS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OKER CIRCUIT 45A F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ARE WIRED IN PARALLEL  IF ONE GOES OUT THE OTHERS STAY ON   LESS WIRE USED SO MONEY IS SAV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ED OF SOUND WA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0 m/s in a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MO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IL OF WIRE CARRYING CURRENT SURROUNDED BY A PAIR OF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TURNS ON THE COIL AND THE STRONGER THE MAGNET , THE FASTER THE COIL GO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COILS OF WIRE WITH AN IRON CORE , THE PRIMARY COIL AND THE SECONDARY CO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ORM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P /NS = VP / V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 x VP = IS x V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THE LAB THERMOMETE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CLINICAL THERMOMETER BOTH LIQUID IN GLASS THERMOMET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THE DIGITAL THERMO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BETWEEN LAB AND CLINICAL THERMOMETERS, SIZE,SCALE, MAGNIFIER IN CLINICAL THERMOMETER,K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QU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= f l     v = d /t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 = the number of waves per sec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WAVE –THIS TELLS YOU THE RADIO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DIO WAVE TELLS YOU WHAT IS ON THE S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PLITUDE MODULATED (AM) WAVE –A COMBINATION OF THE CARRIER AND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THE RADI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ERIAL -  PICKS UP ALL SIGN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UNER – SELECTS ONE PARTICULAR SIGN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DECODER – SEPARATES CARRIER WAVE FROM AUDIO WA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AMPLIFIER – MAKES BIGGER COPY OF AUDIO WAV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BATTERY – SUPPLIES ENERGY TO AMPLIFI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 LOUDSPEAKER – CHANGES ELECTRICAL ENERGY TO SOU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014-62AD-4C1F-8685-11348E16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E72-FEB3-4EF4-9FA5-148AEB3B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753-B6D5-4C05-8504-CAE51B3A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57F-4ED6-4F7C-A167-E754DC86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4781-AF01-4093-9C2C-123B49C5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33F1-249E-4E5E-9E15-CAFCBC69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239-61D4-4E4D-A58F-BCB305A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9106-CF28-4BB8-8DCC-E516AE9F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D078-0A47-49A2-848D-7DE57612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ADD4-AD4B-41D2-9D19-216DE4C6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AC3-7E4E-4F2A-A61F-DC8AA77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B37-4858-4028-B75F-6067AB87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6AA-9258-4023-B068-3C1EEB40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3E37-7B75-49D6-9370-63026DA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982-14D8-4FD8-ACF2-2265F079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DCC6-6913-4E87-88EC-F7F3A711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35FB-727A-4966-9B03-824C6756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21E-4036-4D90-BA87-172EFCC1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564-A14E-4F42-A42C-F6C8B9BD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3EA-707E-4580-9C51-5884EBE6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888-2547-4430-B0DC-7FB4D069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5FD-CF45-499B-8EFC-9043BB2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16D-0AFF-4A06-B12F-2771D59C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36A-AF5A-4AF7-80F2-98D26AD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104B-9405-41AC-AFED-1B82AC6FDE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6AC8-436F-4D53-A139-C615BA12E3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ahoma"/>
              </a:rPr>
              <a:t>SPEED OF E .M .W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 x 10</a:t>
            </a:r>
            <a:r>
              <a:rPr b="0" lang="en-GB" sz="72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ff"/>
                </a:solidFill>
                <a:latin typeface="Tahoma"/>
              </a:rPr>
              <a:t>3oo,ooo,ooo m/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OLOUR MIX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 PRIMARY COLOURS – RED , GREEN , BLUE TOGETHER MAKE WHI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GREEN GIVE YELLOW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RED AND BLUE GIVE MAGENT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REEN AND BLUE GIVE CY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GEOSTATIONARY SATELLITES ARE AT A HEIGHT OF 36 , 000Km ABOVE THE EART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THEY HAVE A 24 HR ORBI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SIGNALS ARE MICROWAVE AND TRAVEL IN A STRAIGHT LINE TO AND FROM THE SATELLITE.THEY CANNOT CURVE IN THE EARTH`S ATMOSPHER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OPTICAL FIBRES USED TO CARRY INFORMATION BY TOTAL INTERNAL REFLECTION. LIGHT TRAVELS AT A SPEED OF 200 , 000 , 000 M/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Q = I x 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 = I x 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 x V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E /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V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/ R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P = I</a:t>
            </a:r>
            <a:r>
              <a:rPr b="0" lang="en-GB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+ 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 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=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1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+ 1/R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0" lang="en-GB" sz="3200" spc="-1" strike="noStrike" baseline="30000">
                <a:solidFill>
                  <a:srgbClr val="f0f51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77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77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77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RULES FOR SERIES AND PARALLEL CIRCU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PLITS UP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TAYS THE SAME IN A SERIES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VOLTAGE STAYS THE SAME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URRENT SPLITS UP IN A PARALLEL CIR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VOLTMETERS MEASURE VOLTAGE AND GO ACROSS THE COMPO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MMETERS MEASURE CURRENT AND ARE WIRED IN SERIES WITH THE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CIRCUIT COMPONENTS INCLUDE RESISTORS , BULB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WIRES IN THREE PIN PLU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BROWN LIVE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2. BLUE NEUT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3.  GREEN / YELLOW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FUSE IS A SAFETY DEVICE WIRED IN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LIVE P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EARTH WIRE NOT NEEDED FOR DOUBLE INSULATED APPLIANCES , THEY HAVE A PLASTIC CA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77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0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2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MAINS ELECTRI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REE TYPES OF CIRC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1. THE LIGHTING CIRCUIT 15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2. THE RING MAINS CIRCUIT 30A FUSE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    3.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THE COOKER CIRCUIT 45A F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ALL ARE WIRED IN PARALLEL  IF ONE GOES OUT THE OTHERS STAY ON   LESS WIRE USED SO MONEY IS SA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SPEED OF SOUND</a:t>
            </a:r>
            <a:r>
              <a:rPr b="0" lang="en-GB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WA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ff"/>
                </a:solidFill>
                <a:latin typeface="Tahoma"/>
              </a:rPr>
              <a:t>340 m/s in air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 MO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IL OF WIRE CARRYING CURRENT SURROUNDED BY A PAIR OF MAGN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MORE TURNS ON THE COIL AND THE STRONGER THE MAGNET , THE FASTER THE COIL G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ELECTRI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WO COILS OF WIRE WITH AN IRON CORE , THE PRIMARY COIL AND THE SECONDARY C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RANSFOR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/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= I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YPES OF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1. THE LAB THERMOMETER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2. THE CLINICAL THERMOMETER BOTH LIQUID IN GLASS THERMOMETER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3. THE DIGITAL THERM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IFFERENCE BETWEEN LAB AND CLINICAL THERMOMETERS, SIZE,SCALE, MAGNIFIER IN CLINICAL THERMOMETER,K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Tahoma"/>
              </a:rPr>
              <a:t>EQUA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ff"/>
                </a:solidFill>
                <a:latin typeface="Tahoma"/>
              </a:rPr>
              <a:t>v= f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</a:t>
            </a:r>
            <a:r>
              <a:rPr b="0" lang="en-GB" sz="8000" spc="-1" strike="noStrike">
                <a:solidFill>
                  <a:srgbClr val="0000ff"/>
                </a:solidFill>
                <a:latin typeface="Times New Roman"/>
              </a:rPr>
              <a:t>v = d /t</a:t>
            </a:r>
            <a:r>
              <a:rPr b="0" lang="en-GB" sz="8000" spc="-1" strike="noStrike">
                <a:solidFill>
                  <a:srgbClr val="0000ff"/>
                </a:solidFill>
                <a:latin typeface="Symbol"/>
                <a:ea typeface="Symbol"/>
              </a:rPr>
              <a:t>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Frequency = the number of waves per seco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Tahoma"/>
              </a:rPr>
              <a:t>Measured in Hertz (HZ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CARRIER WAVE –THIS TELLS YOU THE RADIO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UDIO WAVE TELLS YOU WHAT IS ON THE STA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AMPLITUDE MODULATED (AM) WAVE –A COMBINATION OF THE CARRIER AND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PARTS OF THE RADI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1. AERIAL -  PICKS UP ALL SIGNA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2. TUNER – SELECTS ONE PARTICULAR SIG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DECODER – SEPARATES CARRIER WAVE FROM AUDIO WAV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4.  AMPLIFIER – MAKES BIGGER COPY OF AUDIO WAV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f515"/>
                </a:solidFill>
                <a:latin typeface="Tahoma"/>
              </a:rPr>
              <a:t>TELECOM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5. BATTERY – SUPPLIES ENERGY TO AMPLIFI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6.  LOUDSPEAKER – CHANGES ELECTRICAL ENERGY TO SOUND ENERG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7:57Z</dcterms:modified>
  <cp:revision>16</cp:revision>
  <dc:subject/>
  <dc:title>Slide 1</dc:title>
</cp:coreProperties>
</file>