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CASHREG.WAV" ContentType="audio/x-wav"/>
  <Override PartName="/ppt/media/TYPE.WAV" ContentType="audio/x-wav"/>
  <Override PartName="/ppt/media/WHOOSH.WAV" ContentType="audio/x-wav"/>
  <Override PartName="/ppt/media/LASER.WAV" ContentType="audio/x-wav"/>
  <Override PartName="/ppt/media/CAMERA.WAV" ContentType="audio/x-wav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28DF-F62F-435D-985B-50F78505A9CF}" type="slidenum">
              <a:rPr b="0" lang="en-US" sz="18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5.Aperture of the mirror :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2, the distance MM’ is the aperture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5.Aperture of the mirror :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ortion of the hollow spherical surface from which the mirror reflections take place is called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2, the distance MM’ is the aperture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6.Focal Length of a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6.Focal Length of a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 is in front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a concave mirror, the rays appear to converge at a point F. The distance PF is called the focal length and F is called the focal point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 is in front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Focal length of a concave mirror :-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focus, in this case is behind th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Focal length of a concave mirror :-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case of convex mirrors, the parallel rays, on reflection, appear to diverge from a point F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is point again is called the focal point of the convex mirrors and the distance PF is called the focal leng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focus, in this case is behind the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eal and Virtual imag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In a concave mirror, the focus is real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object and the image lie on the same side of the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mirrored surface. A real image is called so because it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an be caught on a screen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In a convex mirror, on the other hand, the object an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s image lie on the opposite sides of the mirrored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urface. The image therefore is a virtual imag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not be captured on a screen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 In a plane mirror, the image again is a virtual one, as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does not form on the same side as that of the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bjec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 In a concave mirror, the focus is real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object and the image lie on the same side of the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mirrored surface. A real image is called so because it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an be caught on a screen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In a convex mirror, on the other hand, the object an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s image lie on the opposite sides of the mirrored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urface. The image therefore is a virtual imag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not be captured on a screen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 In a plane mirror, the image again is a virtual one, as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does not form on the same side as that of the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bjec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at is a spherical mirror?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What is a spherical mirror?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Types of spherical mirrors :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1. Convex Mirror   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gsana New"/>
              </a:rPr>
              <a:t>2. Concave Mirror</a:t>
            </a: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vex  mirror :. If the mirror coating is in the inside of the spherical surface, then the mirror is called a convex mirror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Concave mirror :If the mirror coating is on the outside of the spherical surface, then the mirror is called a concav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ngsana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can be observed that C of a convex mirror is behind   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mirrored surface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n the other hand, C for a concave mirror is in front   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1.Center of curvature : The center of curvature of the mirror is defined as the center of the hollow sphere from which the mirror has been cut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can be observed that C of a convex mirror is behind   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mirrored surface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n the other hand, C for a concave mirror is in front   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2. Radius of curvature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2. Radius of curvature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Radius of curvature is the radius of the sphere from which the mirrors (either convex or concave) is made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, the distance CP is the radius of curvatures of the two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t is represented by the letter P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Where the line cuts the mirror, you will find the pole P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3.Pole of the mirror : The central point on the surface of the mirrors is called the pole of the mirror.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 </a:t>
            </a: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t is represented by the letter P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pole of the mirror can be found by drawing a straight line from the center C to the largest distance on the surface from C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Where the line cuts the mirror, you will find the pole P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Some definitions of convex and concave mirrors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4.Principal axis of the mirror :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In the figure line XY is the principal axis of the mirrors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4.Principal axis of the mirror :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straight line that passes through the center of curvature C and the pole P of the mirror, is called the principal axis of th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In the figure line XY is the principal axis of the mirrors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The principal axis of a spherical mirror, functions similar to the normal of the plane mirror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ngsana New"/>
              </a:rPr>
              <a:t>A ray of light passing along the principal axis will be reflected back along the same path. </a:t>
            </a: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2FF-E205-44E5-A3EA-C7D5E41E0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6D9-489A-4EA4-80F8-B74F70DF6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823D-0DD4-41E1-A675-00DC7F6D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8278-70B6-4E18-9BDB-C9CAF61C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7BDF-B72F-43FD-8708-45BE8648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6794-1003-40D3-A4CA-4955C2FE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5E69-9831-4BE6-9A99-2B2CDCFC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C57B-30C9-4B90-A607-C1D58ABD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DE45-640E-4845-8A0D-2F1EA36B8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F183-AB94-4DF5-AB4F-1776084A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2046-49C8-4B46-9727-60F906D5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0575-FFEB-4795-A298-505907F0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2BDE-566C-4FC7-A9ED-17EB70AB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E490-F943-4FEE-8AA3-0534CE35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1943-F4C0-4F67-B5EA-FDBFE7A7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A8330-7BDF-4B2E-B2AE-14519F45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9F2C-E3D6-42E3-8BC3-E8331BFF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77C6-D847-4588-B483-FB6D1644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A818-6A4C-413A-995E-6BA87B51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ACA-E74A-4CCF-BED1-77B5D9546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EB34-DF18-4349-A144-3F2E0B6D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BFB4-E0E6-44BC-AD78-B1F7ECED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3766-3031-4227-9269-FA60675C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1C74-8EC7-473F-AED1-9571D226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E0F-FE07-4FDA-972B-F29B5620FBE5}" type="slidenum">
              <a:rPr b="0" lang="en-US" sz="1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ffffcc"/>
                </a:solidFill>
                <a:latin typeface="Angsana New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Angsana New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Angsana Ne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cc"/>
                </a:solidFill>
                <a:latin typeface="Angsana Ne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A8E2-AFAE-4153-B3EB-D187E76B8AE2}" type="slidenum">
              <a:rPr b="0" lang="en-US" sz="1600" spc="-1" strike="noStrike">
                <a:solidFill>
                  <a:srgbClr val="ffffcc"/>
                </a:solidFill>
                <a:latin typeface="Angsana New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457200"/>
            <a:ext cx="6858000" cy="2104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cc"/>
                </a:solidFill>
                <a:latin typeface="Angsana New"/>
              </a:rPr>
              <a:t>    </a:t>
            </a:r>
            <a:r>
              <a:rPr b="1" lang="th-TH" sz="6600" spc="-1" strike="noStrike">
                <a:solidFill>
                  <a:srgbClr val="ffffcc"/>
                </a:solidFill>
                <a:latin typeface="Angsana New"/>
              </a:rPr>
              <a:t>SPHERICAL MIRRORS</a:t>
            </a:r>
            <a:endParaRPr b="0" lang="en-US" sz="66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934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solidFill>
            <a:srgbClr val="ccff33"/>
          </a:soli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0000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920" y="1752480"/>
            <a:ext cx="8381880" cy="433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800000"/>
                </a:solidFill>
                <a:uFillTx/>
                <a:latin typeface="Arial"/>
                <a:ea typeface="Cordia New"/>
              </a:rPr>
              <a:t>5.Aperture of the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portion of the hollow spherical surface from which the mirror reflections take place is called the aperture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In the figure 2, the distance MM’ is the aperture of the mirror.</a:t>
            </a: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28600" y="228600"/>
            <a:ext cx="8686800" cy="15562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800000"/>
                </a:solidFill>
                <a:latin typeface="Angsana New"/>
              </a:rPr>
              <a:t>Some definitions of convex 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244520"/>
            <a:ext cx="861048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800000"/>
                </a:solidFill>
                <a:latin typeface="Arial"/>
                <a:ea typeface="Cordia New"/>
              </a:rPr>
              <a:t>6.Focal Length of a mirror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When parallel rays of light coming from an infinite distance, fall on either a concave or a convex mirror, they are reflected back to a point on the principal axis XY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800000"/>
                </a:solidFill>
                <a:latin typeface="Arial"/>
                <a:ea typeface="Cordia New"/>
              </a:rPr>
              <a:t>The focus is where the image is formed of an                                                                                                                       object placed at a far distanc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</a:t>
            </a: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3429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0" y="4267080"/>
            <a:ext cx="91440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rays appear to converge at a point F. The distance PF is called the focal length and F is called the focal point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 is in front of the mirror.</a:t>
            </a: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91" nodeType="afterEffect" fill="hold" presetClass="entr" presetID="17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0000"/>
                </a:solidFill>
                <a:uFillTx/>
                <a:latin typeface="Angsana New"/>
              </a:rPr>
              <a:t>Focal length of a concave mirror :-</a:t>
            </a:r>
            <a:endParaRPr b="0" lang="en-US" sz="4000" spc="-1" strike="noStrike">
              <a:solidFill>
                <a:srgbClr val="ffffcc"/>
              </a:solidFill>
              <a:latin typeface="Angsana New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8001000" cy="31244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0" y="3733920"/>
            <a:ext cx="91440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n case of convex mirrors, the parallel rays, on reflection, appear to diverge from a point F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is point again is called the focal point of the convex mirrors and the distance PF is called the focal leng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The focus, in this case is behind the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7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1" nodeType="afterEffect" fill="hold" presetClass="entr" presetID="14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295280" y="0"/>
            <a:ext cx="6400800" cy="1739880"/>
          </a:xfrm>
          <a:prstGeom prst="rect">
            <a:avLst/>
          </a:prstGeom>
          <a:noFill/>
          <a:ln w="572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000000"/>
                </a:solidFill>
                <a:latin typeface="Angsana New"/>
              </a:rPr>
              <a:t>Real and Virtual images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28600" y="990720"/>
            <a:ext cx="89154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1.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n a concave mirror, the focus is real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The object and the image lie on the same side of the 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mirrored surface. A real image is called so because it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can be caught on a screen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2. In a convex mirror, on the other hand, the object an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s image lie on the opposite sides of the mirrored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surface. The image therefore is a virtual image.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cannot be captured on a screen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3. In a plane mirror, the image again is a virtual one, as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it does not form on the same side as that of the  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    </a:t>
            </a:r>
            <a:r>
              <a:rPr b="0" lang="th-TH" sz="2400" spc="-1" strike="noStrike">
                <a:solidFill>
                  <a:srgbClr val="000000"/>
                </a:solidFill>
                <a:latin typeface="Arial"/>
                <a:ea typeface="Cordia New"/>
              </a:rPr>
              <a:t>object.</a:t>
            </a: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5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6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7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2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8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762120" y="228600"/>
            <a:ext cx="7619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What is a </a:t>
            </a:r>
            <a:r>
              <a:rPr b="1" lang="th-TH" sz="5400" spc="-1" strike="noStrike">
                <a:solidFill>
                  <a:srgbClr val="ffffcc"/>
                </a:solidFill>
                <a:latin typeface="Angsana New"/>
              </a:rPr>
              <a:t>spherical</a:t>
            </a: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 mirror?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838080" y="1295280"/>
            <a:ext cx="739152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Spherical mirrors are mirrors whose surfaces form a part of a hollow sphere, The spheres can be made of glass or any polished metal surfaces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838080" y="3429000"/>
            <a:ext cx="723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5400" spc="-1" strike="noStrike">
                <a:solidFill>
                  <a:srgbClr val="ffffcc"/>
                </a:solidFill>
                <a:latin typeface="Angsana New"/>
              </a:rPr>
              <a:t>Types of spherical mirrors :</a:t>
            </a:r>
            <a:endParaRPr b="0" lang="en-US" sz="5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304920" y="4267080"/>
            <a:ext cx="8534160" cy="2399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1. Convex Mirror   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cc"/>
                </a:solidFill>
                <a:latin typeface="Angsana New"/>
              </a:rPr>
              <a:t>2. Concave Mirror</a:t>
            </a:r>
            <a:endParaRPr b="0" lang="en-US" sz="60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609480" y="838080"/>
            <a:ext cx="8153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vex 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. 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in the inside of the spherical surface, then the mirror is called a convex mirror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533520" y="3429000"/>
            <a:ext cx="792468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6000" spc="-1" strike="noStrike" u="sng">
                <a:solidFill>
                  <a:srgbClr val="800000"/>
                </a:solidFill>
                <a:uFillTx/>
                <a:latin typeface="Angsana New"/>
              </a:rPr>
              <a:t>Concave mirror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:</a:t>
            </a:r>
            <a:r>
              <a:rPr b="1" lang="th-TH" sz="2800" spc="-1" strike="noStrike">
                <a:solidFill>
                  <a:srgbClr val="000000"/>
                </a:solidFill>
                <a:latin typeface="Arial"/>
                <a:ea typeface="Cordia New"/>
              </a:rPr>
              <a:t>If the mirror coating is on the outside of the spherical surface, then the mirror is called a concave mirror.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304920" y="304920"/>
            <a:ext cx="853416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cc00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1600200"/>
            <a:ext cx="868680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3333ff"/>
                </a:solidFill>
                <a:latin typeface="Arial"/>
                <a:ea typeface="Cordia New"/>
              </a:rPr>
              <a:t>1.</a:t>
            </a:r>
            <a:r>
              <a:rPr b="1" lang="th-TH" sz="36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Center of curvature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er of curvature of the mirror is defined as the center of the hollow sphere from which the mirror has been cut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can be observed that C of a convex mirror is behind   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the mirrored surface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n the other hand, C for a concave mirror is in front   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"/>
          <p:cNvSpPr/>
          <p:nvPr/>
        </p:nvSpPr>
        <p:spPr>
          <a:xfrm>
            <a:off x="380880" y="38088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endParaRPr b="0" lang="en-US" sz="4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457200" y="1523880"/>
            <a:ext cx="8305920" cy="51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 u="sng">
                <a:solidFill>
                  <a:srgbClr val="3333ff"/>
                </a:solidFill>
                <a:uFillTx/>
                <a:latin typeface="Angsana New"/>
              </a:rPr>
              <a:t>2. Radius of curvature</a:t>
            </a:r>
            <a:r>
              <a:rPr b="0" lang="th-TH" sz="2800" spc="-1" strike="noStrike">
                <a:solidFill>
                  <a:srgbClr val="3333ff"/>
                </a:solidFill>
                <a:latin typeface="Angsan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                                          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Radius of curvature is the radius of the sphere from which the mirrors (either convex or concave) is made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n the figure, the distance CP is the radius of curvatures of the two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228600" y="228600"/>
            <a:ext cx="8534520" cy="155628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800" spc="-1" strike="noStrike">
                <a:solidFill>
                  <a:srgbClr val="ffffcc"/>
                </a:solidFill>
                <a:latin typeface="Angsana New"/>
              </a:rPr>
              <a:t>Some definitions of convex and concave mirrors</a:t>
            </a:r>
            <a:r>
              <a:rPr b="0" lang="th-TH" sz="2800" spc="-1" strike="noStrike">
                <a:solidFill>
                  <a:srgbClr val="ffffcc"/>
                </a:solidFill>
                <a:latin typeface="Angsana New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80880" y="1676520"/>
            <a:ext cx="838224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 u="sng">
                <a:solidFill>
                  <a:srgbClr val="3333ff"/>
                </a:solidFill>
                <a:uFillTx/>
                <a:latin typeface="Arial"/>
                <a:ea typeface="Cordia New"/>
              </a:rPr>
              <a:t>3.Pole of the mirror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: The central point on the surface of the mirrors is called the pole of the mirror.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 </a:t>
            </a: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It is represented by the letter P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A pole of the mirror can be found by drawing a straight line from the center C to the largest distance on the surface from C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cc"/>
                </a:solidFill>
                <a:latin typeface="Arial"/>
                <a:ea typeface="Cordia New"/>
              </a:rPr>
              <a:t>Where the line cuts the mirror, you will find the pole P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80880" y="304920"/>
            <a:ext cx="8534520" cy="143460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3333ff"/>
                </a:solidFill>
                <a:latin typeface="Angsana New"/>
              </a:rPr>
              <a:t>Some definitions of convex and concave mirrors</a:t>
            </a:r>
            <a:endParaRPr b="0" lang="en-US" sz="4400" spc="-1" strike="noStrike">
              <a:solidFill>
                <a:srgbClr val="ffffcc"/>
              </a:solidFill>
              <a:latin typeface="Angsana New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04920" y="1244520"/>
            <a:ext cx="853416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 u="sng">
                <a:solidFill>
                  <a:srgbClr val="003300"/>
                </a:solidFill>
                <a:uFillTx/>
                <a:latin typeface="Arial"/>
                <a:ea typeface="Cordia New"/>
              </a:rPr>
              <a:t>4.Principal axis of the mirror</a:t>
            </a: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 :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straight line that passes through the center of curvature C and the pole P of the mirror, is called the principal axis of th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In the figure line XY is the principal axis of the mirrors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The principal axis of a spherical mirror, functions similar to the normal of the plane mirror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buClr>
                <a:srgbClr val="cc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cc0066"/>
                </a:solidFill>
                <a:latin typeface="Arial"/>
                <a:ea typeface="Cordia New"/>
              </a:rPr>
              <a:t>A ray of light passing along the principal axis will be reflected back along the same path. </a:t>
            </a: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ngsana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1:02:13Z</dcterms:created>
  <dc:creator>Customer</dc:creator>
  <dc:description/>
  <dc:language>en-US</dc:language>
  <cp:lastModifiedBy>RomaK</cp:lastModifiedBy>
  <dcterms:modified xsi:type="dcterms:W3CDTF">2015-09-03T12:37:14Z</dcterms:modified>
  <cp:revision>19</cp:revision>
  <dc:subject/>
  <dc:title>No Slide Title</dc:title>
</cp:coreProperties>
</file>