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SHREG.WAV" ContentType="audio/x-wav"/>
  <Override PartName="/ppt/media/TYPE.WAV" ContentType="audio/x-wav"/>
  <Override PartName="/ppt/media/WHOOSH.WAV" ContentType="audio/x-wav"/>
  <Override PartName="/ppt/media/LASER.WAV" ContentType="audio/x-wav"/>
  <Override PartName="/ppt/media/CAMERA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19A1-180F-4CA3-A67C-574F73B99F3F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5.Aperture of the mirror :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2, the distance MM’ is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5.Aperture of the mirror :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2, the distance MM’ is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6.Focal Length of a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6.Focal Length of a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in front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in front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-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, in this case is behind th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-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, in this case is behind the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eal and Virtual imag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In a concave mirror, the focus is real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object and the image lie on the same side of the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mirrored surface. A real image is called so because it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an be caught on a screen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In a convex mirror, on the other hand, the object an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s image lie on the opposite sides of the mirrore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urface. The image therefore is a virtual imag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not be captured on a screen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 In a plane mirror, the image again is a virtual one, as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does not form on the same side as that of the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bjec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 In a concave mirror, the focus is real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object and the image lie on the same side of the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mirrored surface. A real image is called so because it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an be caught on a screen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In a convex mirror, on the other hand, the object an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s image lie on the opposite sides of the mirrore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urface. The image therefore is a virtual imag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not be captured on a screen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 In a plane mirror, the image again is a virtual one, as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does not form on the same side as that of the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bjec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at is a spherical mirror?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What is a spherical mirror?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Types of spherical mirrors :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1. Convex Mirror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2. Concave Mirror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 be observed that C of a convex mirror is behind   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mirrored surfac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n the other hand, C for a concave mirror is in front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 be observed that C of a convex mirror is behind   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mirrored surfac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n the other hand, C for a concave mirror is in front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Radius of curvature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Radius of curvature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P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re the line cuts the mirror, you will find the pole P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P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re the line cuts the mirror, you will find the pole P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4.Principal axis of th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line XY is the principal axis of the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4.Principal axis of th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line XY is the principal axis of the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9EE-742C-4DB5-9ED8-0AD621D7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F0F-5401-4C2C-8CB0-0CE972A2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5EF-C369-426E-8B3E-3B791069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DD4E-76BD-4FD5-8F05-4D219877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78B5-AE87-474D-913C-41D56C28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D5D7-02AA-4999-B821-0ED7F089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6780-5D2D-442F-A1E0-A2A5B306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48D8-23AF-4B1C-818B-6803E7F7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0A9B-E844-490D-ADD3-F50A5BB9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930D-F0C5-4905-8537-F80B482C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5A8E-E2F7-4EB6-BA67-6A90874B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4DB8-7192-4099-A5E6-CFC4C606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0B2A-0B53-46F4-BB37-147BC332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2399-5609-492C-928C-E1804FC3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22CB-C9C6-414F-90F4-411B00F1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B380-47BA-486D-BF71-CDF993E5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D8E3-EE52-488B-B20E-BC0C4C4B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597B-947F-4150-84A5-6F2194F9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17EA-3DC2-41E1-A2BE-C9FD4476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CA3-5E0C-42F3-B22A-1321A690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DB3-3005-40A7-B112-2492C016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E1C-2BF4-4F33-A2F7-4F3366C3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F41-15B1-42F8-A13F-AC0B8FBE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EBE-1D88-4C76-8407-71C94A8E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E2C1-3CFF-4377-88C2-987A4EF95B3A}" type="slidenum">
              <a:rPr b="0" lang="en-US" sz="1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cc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42BB-A7CA-4F3C-B155-3776E98B34A5}" type="slidenum">
              <a:rPr b="0" lang="en-US" sz="1600" spc="-1" strike="noStrike">
                <a:solidFill>
                  <a:srgbClr val="ffffcc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43000" y="457200"/>
            <a:ext cx="6858000" cy="2104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6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1" lang="th-TH" sz="66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66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934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solidFill>
            <a:srgbClr val="ccff33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04920" y="1752480"/>
            <a:ext cx="8381880" cy="433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800000"/>
                </a:solidFill>
                <a:uFillTx/>
                <a:latin typeface="Arial"/>
                <a:ea typeface="Cordia New"/>
              </a:rPr>
              <a:t>5.Aperture of the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portion of the hollow spherical surface from which the mirror reflections take place is called the aperture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In the figure 2, the distance MM’ is the aperture of the mirror.</a:t>
            </a: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28600" y="228600"/>
            <a:ext cx="8686800" cy="15562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800000"/>
                </a:solidFill>
                <a:latin typeface="Angsana New"/>
              </a:rPr>
              <a:t>Some definitions of convex 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44520"/>
            <a:ext cx="861048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800000"/>
                </a:solidFill>
                <a:latin typeface="Arial"/>
                <a:ea typeface="Cordia New"/>
              </a:rPr>
              <a:t>6.Focal Length of a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</a:t>
            </a: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0" y="426708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rays appear to converge at a point F. The distance PF is called the focal length and F is called the focal point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 is in front of the mirror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 :-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8001000" cy="31244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0" y="373392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case of convex mirrors, the parallel rays, on reflection, appear to diverge from a point F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is point again is called the focal point of the convex mirrors and the distance PF is called the focal leng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, in this case is behind the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95280" y="0"/>
            <a:ext cx="6400800" cy="17398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28600" y="990720"/>
            <a:ext cx="89154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1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focus is real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The object and the image lie on the same side of the 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mirrored surface. A real image is called so because it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can be caught on a screen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2. In a convex mirror, on the other hand, the object an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s image lie on the opposite sides of the mirrore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surface. The image therefore is a virtual image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cannot be captured on a screen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3. In a plane mirror, the image again is a virtual one, as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does not form on the same side as that of the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object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762120" y="2286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What is a 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spherical</a:t>
            </a: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 mirror?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38080" y="1295280"/>
            <a:ext cx="739152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838080" y="342900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04920" y="4267080"/>
            <a:ext cx="8534160" cy="239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609480" y="838080"/>
            <a:ext cx="81536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vex 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in the inside of the spherical surface, then the mirror is called a convex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33520" y="3429000"/>
            <a:ext cx="79246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cave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on the outside of the spherical surface, then the mirror is called a concave mirror.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04920" y="304920"/>
            <a:ext cx="853416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cc00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1600200"/>
            <a:ext cx="86868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ff"/>
                </a:solidFill>
                <a:latin typeface="Arial"/>
                <a:ea typeface="Cordia New"/>
              </a:rPr>
              <a:t>1.</a:t>
            </a:r>
            <a:r>
              <a:rPr b="1" lang="th-TH" sz="36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Center of curvature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er of curvature of the mirror is defined as the center of the hollow sphere from which the mirror has been cut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can be observed that C of a convex mirror is behind   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the mirrored surface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n the other hand, C for a concave mirror is in front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380880" y="38088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57200" y="1523880"/>
            <a:ext cx="8305920" cy="51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 u="sng">
                <a:solidFill>
                  <a:srgbClr val="3333ff"/>
                </a:solidFill>
                <a:uFillTx/>
                <a:latin typeface="Angsana New"/>
              </a:rPr>
              <a:t>2. Radius of curvature</a:t>
            </a:r>
            <a:r>
              <a:rPr b="0" lang="th-TH" sz="2800" spc="-1" strike="noStrike">
                <a:solidFill>
                  <a:srgbClr val="3333ff"/>
                </a:solidFill>
                <a:latin typeface="Angsan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Radius of curvature is the radius of the sphere from which the mirrors (either convex or concave) is mad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n the figure, the distance CP is the radius of curvatures of the two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880" y="1676520"/>
            <a:ext cx="83822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3.Pole of the mirror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ral point on the surface of the mirrors is called the pole of the mirror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P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A pole of the mirror can be found by drawing a straight line from the center C to the largest distance on the surface from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Where the line cuts the mirror, you will find the pole P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80880" y="304920"/>
            <a:ext cx="8534520" cy="143460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ff"/>
                </a:solidFill>
                <a:latin typeface="Angsana New"/>
              </a:rPr>
              <a:t>Some definitions of convex and concave mirrors</a:t>
            </a:r>
            <a:endParaRPr b="0" lang="en-US" sz="4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04920" y="1244520"/>
            <a:ext cx="853416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3300"/>
                </a:solidFill>
                <a:uFillTx/>
                <a:latin typeface="Arial"/>
                <a:ea typeface="Cordia New"/>
              </a:rPr>
              <a:t>4.Principal axis of the mirror</a:t>
            </a: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straight line that passes through the center of curvature C and the pole P of the mirror, is called the principal axis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In the figure line XY is the principal axis of the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The principal axis of a spherical mirror, functions similar to the normal of the plan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ray of light passing along the principal axis will be reflected back along the same pa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21:02:13Z</dcterms:created>
  <dc:creator>Customer</dc:creator>
  <dc:description/>
  <dc:language>en-US</dc:language>
  <cp:lastModifiedBy>RomaK</cp:lastModifiedBy>
  <dcterms:modified xsi:type="dcterms:W3CDTF">2015-09-03T12:37:14Z</dcterms:modified>
  <cp:revision>19</cp:revision>
  <dc:subject/>
  <dc:title>No Slide Title</dc:title>
</cp:coreProperties>
</file>