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TYPE.WAV" ContentType="audio/x-wav"/>
  <Override PartName="/ppt/media/WHOOSH.WAV" ContentType="audio/x-wav"/>
  <Override PartName="/ppt/media/LASER.WAV" ContentType="audio/x-wav"/>
  <Override PartName="/ppt/media/CAMER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4BDC-8441-46B0-9191-89F4B0240739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.Aperture of the mirror :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2, the distance MM’ is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5.Aperture of the mirror :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2, the distance MM’ is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6.Focal Length of a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6.Focal Length of a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in front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in front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-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, in this case is behind th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, in this case is behind the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eal and Virtual imag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In a concave mirror, the focus is real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object and the image lie on the same side of the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mirrored surface. A real image is called so because it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an be caught on a screen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In a convex mirror, on the other hand, the object an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s image lie on the opposite sides of the mirrore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urface. The image therefore is a virtual imag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not be captured on a screen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 In a plane mirror, the image again is a virtual one, as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does not form on the same side as that of the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bjec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 In a concave mirror, the focus is real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object and the image lie on the same side of the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mirrored surface. A real image is called so because it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an be caught on a screen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In a convex mirror, on the other hand, the object an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s image lie on the opposite sides of the mirrore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urface. The image therefore is a virtual imag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not be captured on a screen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 In a plane mirror, the image again is a virtual one, as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does not form on the same side as that of the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bjec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at is a spherical mirror?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What is a spherical mirror?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Types of spherical mirrors 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. Convex Mirror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. Concave Mirr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 be observed that C of a convex mirror is behind   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mirrored surfac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n the other hand, C for a concave mirror is in front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 be observed that C of a convex mirror is behind   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mirrored surfac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n the other hand, C for a concave mirror is in front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Radius of curvature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Radius of curvature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P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re the line cuts the mirror, you will find the pole P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P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re the line cuts the mirror, you will find the pole P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4.Principal axis of th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line XY is the principal axis of the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4.Principal axis of th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line XY is the principal axis of the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D9F-C663-4783-B3BC-66BB9C15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EBF-DFE8-459D-94BF-743235E6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95D-6DC5-488E-8E80-073F336B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4E6-3F3C-483A-8487-C4ADF07E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E11E-A69B-47DF-B496-5F8FBEAA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0F9E-34E1-41FB-A0D3-4AC1840F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3816-2173-47A0-BEA5-90E8061C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21FD-F6CD-410C-BF99-6FD22E34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2112-A5A9-4B71-BCDF-63E35705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BF84-251D-4B75-B41E-B22781E3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9839-52B3-4129-8B4F-29D727EF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8490-E265-4184-AAAE-80D0ECA1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7685-9DA1-4CE4-86FA-FE0A4696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42A4-A3BC-4DED-91F4-D440859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9502-471D-4928-89DC-CA443AC0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09F0-15C1-4C1E-B284-5913654B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C11B-6B24-4B45-B219-3F3CF1E4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591-4487-453D-AF3D-6D677E15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7A3F-FC1A-46EA-8624-41919A82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B25-34F4-4350-9E4B-BCE33FFB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3C8-C60E-4E4A-9851-C9E359CD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5D5-F099-47D7-A606-D3B536F3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8B1A-2B6B-4DEA-9031-1DA55441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FCB-8F2B-440C-899B-7AAB9501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13AD-065B-4D44-BE52-FF28BDD265B0}" type="slidenum">
              <a:rPr b="0" lang="en-US" sz="1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cc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7F05-C2E8-4164-9556-50B2071E793C}" type="slidenum">
              <a:rPr b="0" lang="en-US" sz="1600" spc="-1" strike="noStrike">
                <a:solidFill>
                  <a:srgbClr val="ffffcc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6858000" cy="21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66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920" y="1752480"/>
            <a:ext cx="8381880" cy="433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800000"/>
                </a:solidFill>
                <a:uFillTx/>
                <a:latin typeface="Arial"/>
                <a:ea typeface="Cordia New"/>
              </a:rPr>
              <a:t>5.Aperture of the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portion of the hollow spherical surface from which the mirror reflections take place is called the aperture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In the figure 2, the distance MM’ is the aperture of the mirror.</a:t>
            </a: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800000"/>
                </a:solidFill>
                <a:latin typeface="Angsana New"/>
              </a:rPr>
              <a:t>Some definitions of convex 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44520"/>
            <a:ext cx="86104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Arial"/>
                <a:ea typeface="Cordia New"/>
              </a:rPr>
              <a:t>6.Focal Length of a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4267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rays appear to converge at a point F. The distance PF is called the focal length and F is called the focal point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 is in front of the mirror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 :-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001000" cy="3124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373392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case of convex mirrors, the parallel rays, on reflection, appear to diverge from a point F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is point again is called the focal point of the convex mirrors and the distance PF is called the focal leng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, in this case is behind the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0"/>
            <a:ext cx="6400800" cy="1739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90720"/>
            <a:ext cx="89154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focus is real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The object and the image lie on the same side of the 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mirrored surface. A real image is called so because it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can be caught on a screen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2. In a convex mirror, on the other hand, the object an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s image lie on the opposite sides of the mirrore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surface. The image therefore is a virtual image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cannot be captured on a screen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3. In a plane mirror, the image again is a virtual one, as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does not form on the same side as that of the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object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What is a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spherical</a:t>
            </a: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 mirror?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1295280"/>
            <a:ext cx="739152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" y="4267080"/>
            <a:ext cx="8534160" cy="239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09480" y="838080"/>
            <a:ext cx="8153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vex 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in the inside of the spherical surface, then the mirror is called a convex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3429000"/>
            <a:ext cx="7924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cave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on the outside of the spherical surface, then the mirror is called a concave mirror.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00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00200"/>
            <a:ext cx="86868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Arial"/>
                <a:ea typeface="Cordia New"/>
              </a:rPr>
              <a:t>1.</a:t>
            </a:r>
            <a:r>
              <a:rPr b="1" lang="th-TH" sz="36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Center of curvature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er of curvature of the mirror is defined as the center of the hollow sphere from which the mirror has been cut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can be observed that C of a convex mirror is behind   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the mirrored surface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n the other hand, C for a concave mirror is in front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38088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523880"/>
            <a:ext cx="83059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 u="sng">
                <a:solidFill>
                  <a:srgbClr val="3333ff"/>
                </a:solidFill>
                <a:uFillTx/>
                <a:latin typeface="Angsana New"/>
              </a:rPr>
              <a:t>2. Radius of curvature</a:t>
            </a:r>
            <a:r>
              <a:rPr b="0" lang="th-TH" sz="2800" spc="-1" strike="noStrike">
                <a:solidFill>
                  <a:srgbClr val="3333ff"/>
                </a:solidFill>
                <a:latin typeface="Angsan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Radius of curvature is the radius of the sphere from which the mirrors (either convex or concave) is mad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n the figure, the distance CP is the radius of curvatures of the two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880" y="1676520"/>
            <a:ext cx="83822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3.Pole of the mirror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ral point on the surface of the mirrors is called the pole of the mirror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P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A pole of the mirror can be found by drawing a straight line from the center C to the largest distance on the surface from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Where the line cuts the mirror, you will find the pole P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04920"/>
            <a:ext cx="8534520" cy="143460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ff"/>
                </a:solidFill>
                <a:latin typeface="Angsana New"/>
              </a:rPr>
              <a:t>Some definitions of convex and concave mirrors</a:t>
            </a:r>
            <a:endParaRPr b="0" lang="en-US" sz="4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1244520"/>
            <a:ext cx="85341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00"/>
                </a:solidFill>
                <a:uFillTx/>
                <a:latin typeface="Arial"/>
                <a:ea typeface="Cordia New"/>
              </a:rPr>
              <a:t>4.Principal axis of the mirror</a:t>
            </a: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straight line that passes through the center of curvature C and the pole P of the mirror, is called the principal axis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In the figure line XY is the principal axis of the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The principal axis of a spherical mirror, functions similar to the normal of the plan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ray of light passing along the principal axis will be reflected back along the same pa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2:13Z</dcterms:created>
  <dc:creator>Customer</dc:creator>
  <dc:description/>
  <dc:language>en-US</dc:language>
  <cp:lastModifiedBy>RomaK</cp:lastModifiedBy>
  <dcterms:modified xsi:type="dcterms:W3CDTF">2015-09-03T12:37:14Z</dcterms:modified>
  <cp:revision>19</cp:revision>
  <dc:subject/>
  <dc:title>No Slide Title</dc:title>
</cp:coreProperties>
</file>