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9AA2-9F4C-4D1E-9D8B-6ABA9396D5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F59-2087-4026-83E3-12CDF499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2A7-AA9A-411A-B426-EAE3D0B6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D59-B8F4-4638-AF37-18771F1A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7EA-1680-40D8-9BF9-BD475DBA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50E-A70A-4496-B500-1D1A791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201-39A7-415C-B2AB-407B5D2E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1BD-A900-4337-8E1F-57D0B7B9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4DE-0010-4073-AFC9-B768DF57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2F0-81D0-453A-9755-81172F09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87F-4AD2-4384-BAD0-91D2D90B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21B-807B-46BC-8E6A-BD8491B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EAF-992C-47FA-901C-4C46F02A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52F6-65CA-4D84-AA2B-6DB057074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clipart.com/en/close-up?o=639803&amp;memlevel=C&amp;a=c&amp;q=ear&amp;s=91&amp;e=120&amp;show=all&amp;c=&amp;cid=&amp;findincat=&amp;g=&amp;cc=&amp;page=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ylfaen"/>
              </a:rPr>
              <a:t>Sound and L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lfaen"/>
              </a:rPr>
              <a:t>Jenny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d04924_"/>
          <p:cNvPicPr/>
          <p:nvPr/>
        </p:nvPicPr>
        <p:blipFill>
          <a:blip r:embed="rId1"/>
          <a:stretch/>
        </p:blipFill>
        <p:spPr>
          <a:xfrm>
            <a:off x="6324480" y="3048120"/>
            <a:ext cx="252576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an7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57200"/>
            <a:ext cx="202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is the sky blu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5410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are sunsets re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aboratory: How Sound Tra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es sound travel through paper, plastic, metal, and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Which medium does sound travel  best in: air, water, or wo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 sound waves have to have a medium to travel thr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5"/>
          <p:cNvSpPr/>
          <p:nvPr/>
        </p:nvSpPr>
        <p:spPr>
          <a:xfrm>
            <a:off x="914400" y="533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6"/>
          <p:cNvSpPr/>
          <p:nvPr/>
        </p:nvSpPr>
        <p:spPr>
          <a:xfrm>
            <a:off x="914400" y="609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7"/>
          <p:cNvGraphicFramePr/>
          <p:nvPr/>
        </p:nvGraphicFramePr>
        <p:xfrm>
          <a:off x="1411200" y="438120"/>
          <a:ext cx="632160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438120"/>
                    <a:ext cx="63216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523880" y="533520"/>
          <a:ext cx="6230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33520"/>
                    <a:ext cx="623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ight an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Heart: After-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ound Wave Demo + mar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raw Whistle/Rec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0" y="990360"/>
            <a:ext cx="990720" cy="10666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990720" y="99072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1219320" y="0"/>
            <a:ext cx="1066680" cy="1905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286000" y="0"/>
            <a:ext cx="1523880" cy="685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809880" y="533160"/>
            <a:ext cx="2667240" cy="152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477120" y="533520"/>
            <a:ext cx="1904760" cy="1828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7314840" y="2362320"/>
            <a:ext cx="1066680" cy="76176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315200" y="3124080"/>
            <a:ext cx="1219320" cy="16765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6857640" y="4800600"/>
            <a:ext cx="1676520" cy="762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858000" y="5562720"/>
            <a:ext cx="380880" cy="1295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2:36:23Z</dcterms:created>
  <dc:creator>Jenny</dc:creator>
  <dc:description/>
  <dc:language>en-US</dc:language>
  <cp:lastModifiedBy>RomaK</cp:lastModifiedBy>
  <dcterms:modified xsi:type="dcterms:W3CDTF">2015-09-03T12:36:59Z</dcterms:modified>
  <cp:revision>15</cp:revision>
  <dc:subject/>
  <dc:title>Sound and Light</dc:title>
</cp:coreProperties>
</file>