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8B27-55DA-494B-AC31-04CA41A707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rivatives o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Chlo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Chlo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l5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ro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lse can be used to conver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xylic acid to an acid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l5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ro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lse can be used to conver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xylic acid to an acid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am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am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E37E-6BDF-43DC-BCCE-EAF117A1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C9D7-670D-42A9-B639-8E61D54D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B0CA-160A-4FBA-9281-F35964E8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4C46-078C-4D1A-A4AB-A7FDA277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B42-31EF-4B31-9B00-A8C8BD69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086C-4882-41F9-B039-03D0A7E6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FBCE-631C-41B4-8A42-0E991BA9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7FD6-2F8B-42D2-90B0-8585AC66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78C-6C89-42BD-A982-C884740A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5963-606D-4119-86D0-776A3834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DC8D-693B-4E43-94F0-C8F31D48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795C-6BA6-458D-9467-343A95C1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9C6B-7ADE-4D4E-9FB6-2302D97FC9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ff0000"/>
                </a:solidFill>
                <a:latin typeface="Chiller"/>
              </a:rPr>
              <a:t>Derivatives</a:t>
            </a:r>
            <a:r>
              <a:rPr b="1" lang="en-NZ" sz="7200" spc="-1" strike="noStrike">
                <a:solidFill>
                  <a:srgbClr val="000000"/>
                </a:solidFill>
                <a:latin typeface="Chiller"/>
              </a:rPr>
              <a:t> </a:t>
            </a:r>
            <a:r>
              <a:rPr b="1" lang="en-NZ" sz="7200" spc="-1" strike="noStrike">
                <a:solidFill>
                  <a:srgbClr val="ff0000"/>
                </a:solidFill>
                <a:latin typeface="Chiller"/>
              </a:rPr>
              <a:t>of </a:t>
            </a:r>
            <a:br>
              <a:rPr sz="7200"/>
            </a:br>
            <a:r>
              <a:rPr b="1" lang="en-NZ" sz="7200" spc="-1" strike="noStrike">
                <a:solidFill>
                  <a:srgbClr val="ff0000"/>
                </a:solidFill>
                <a:latin typeface="Chiller"/>
              </a:rPr>
              <a:t>Acid Chlorid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276720" y="3789360"/>
            <a:ext cx="2752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Chiller"/>
              </a:rPr>
              <a:t>Derivatives of methanoyl chlor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82692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536400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916360" y="2924280"/>
            <a:ext cx="22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348000" y="2421000"/>
            <a:ext cx="90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Cl</a:t>
            </a:r>
            <a:r>
              <a:rPr b="0" lang="en-NZ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419640" y="2997360"/>
            <a:ext cx="81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OCl</a:t>
            </a:r>
            <a:r>
              <a:rPr b="0" lang="en-N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2752920" cy="2428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2"/>
          <p:cNvSpPr/>
          <p:nvPr/>
        </p:nvSpPr>
        <p:spPr>
          <a:xfrm>
            <a:off x="5559480" y="37368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5869800" y="33577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CO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1097280" y="34480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2"/>
          <a:stretch/>
        </p:blipFill>
        <p:spPr>
          <a:xfrm>
            <a:off x="611280" y="4076640"/>
            <a:ext cx="2663640" cy="2471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6"/>
          <p:cNvSpPr/>
          <p:nvPr/>
        </p:nvSpPr>
        <p:spPr>
          <a:xfrm>
            <a:off x="217656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174200" y="1773360"/>
            <a:ext cx="459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produc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64080" y="1197000"/>
            <a:ext cx="861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else can be used to convert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carboxylic acid to an acid chlor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Chiller"/>
              </a:rPr>
              <a:t>Derivatives of methanoyl chlor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536400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2916360" y="2924280"/>
            <a:ext cx="22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559480" y="37368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217656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3471840" y="2368440"/>
            <a:ext cx="95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536400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3630960" y="1844640"/>
            <a:ext cx="50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the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9"/>
          <p:cNvSpPr/>
          <p:nvPr/>
        </p:nvSpPr>
        <p:spPr>
          <a:xfrm>
            <a:off x="900000" y="249228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>
            <a:off x="2916360" y="2924280"/>
            <a:ext cx="22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2195640" y="3162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3492360" y="3860640"/>
            <a:ext cx="95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5383080" y="4365720"/>
            <a:ext cx="1944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am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3702240" y="3500280"/>
            <a:ext cx="50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the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5"/>
          <p:cNvSpPr/>
          <p:nvPr/>
        </p:nvSpPr>
        <p:spPr>
          <a:xfrm>
            <a:off x="900000" y="5732640"/>
            <a:ext cx="1944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6"/>
          <p:cNvSpPr/>
          <p:nvPr/>
        </p:nvSpPr>
        <p:spPr>
          <a:xfrm>
            <a:off x="2916360" y="6093000"/>
            <a:ext cx="216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7"/>
          <p:cNvSpPr/>
          <p:nvPr/>
        </p:nvSpPr>
        <p:spPr>
          <a:xfrm>
            <a:off x="3918240" y="5229360"/>
            <a:ext cx="50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the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5364000" y="5734080"/>
            <a:ext cx="2016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th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3330360" y="56088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11111E-006 L -0.48437 -0.00533 E">
                                      <p:cBhvr>
                                        <p:cTn id="107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1111E-006 L -5.55556E-007 0.2625 E">
                                      <p:cBhvr>
                                        <p:cTn id="13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11111E-006 L 0.00382 0.25208 E">
                                      <p:cBhvr>
                                        <p:cTn id="13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02:52:12Z</dcterms:created>
  <dc:creator>mun091</dc:creator>
  <dc:description/>
  <dc:language>en-US</dc:language>
  <cp:lastModifiedBy>RomaK</cp:lastModifiedBy>
  <dcterms:modified xsi:type="dcterms:W3CDTF">2015-09-01T16:21:55Z</dcterms:modified>
  <cp:revision>8</cp:revision>
  <dc:subject/>
  <dc:title>Derivatives of methanoyl chloride</dc:title>
</cp:coreProperties>
</file>