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0FF0-0E4B-4B18-84DC-DEE092972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CFF-A278-45EE-8706-ECC5DB5E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F9E-712C-4CA5-8696-1299122F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9A5-AE6C-445F-901A-5E10CB7D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CEB-289F-4A89-A756-D8B7E1CC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80B-ECA7-49CF-8B43-822E8965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DD9-D419-4911-8594-CA247477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B73-B937-4322-A43A-41F7AE35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AB1-110F-46E6-9253-FAEBE747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30F-FC95-49FB-97BD-6DED4EC1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261-5F91-47A7-9529-38A80A67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B47-8179-4080-8B83-4F3FF483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A5A-8D3B-499F-B6E1-A8040684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1AC4-7CE6-4DA5-A6C7-3143F1A71C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Derivatives</a:t>
            </a:r>
            <a:r>
              <a:rPr b="1" lang="en-NZ" sz="7200" spc="-1" strike="noStrike">
                <a:solidFill>
                  <a:srgbClr val="000000"/>
                </a:solidFill>
                <a:latin typeface="Chiller"/>
              </a:rPr>
              <a:t> </a:t>
            </a: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of </a:t>
            </a:r>
            <a:br>
              <a:rPr sz="7200"/>
            </a:b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Acid Chlorid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75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2692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000" y="2421000"/>
            <a:ext cx="90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19640" y="2997360"/>
            <a:ext cx="81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2752920" cy="2428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869800" y="33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097280" y="34480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663640" cy="247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174200" y="177336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64080" y="1197000"/>
            <a:ext cx="861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else can be used to convert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carboxylic acid to an acid chlo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471840" y="23684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630960" y="184464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900000" y="249228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19564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492360" y="38606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383080" y="436572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702240" y="350028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900000" y="573264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2916360" y="609300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918240" y="522936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364000" y="573408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330360" y="5608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-0.48437 -0.00533 E"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5.55556E-007 0.2625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00382 0.25208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2:52:12Z</dcterms:created>
  <dc:creator>mun091</dc:creator>
  <dc:description/>
  <dc:language>en-US</dc:language>
  <cp:lastModifiedBy>RomaK</cp:lastModifiedBy>
  <dcterms:modified xsi:type="dcterms:W3CDTF">2015-09-01T16:21:55Z</dcterms:modified>
  <cp:revision>8</cp:revision>
  <dc:subject/>
  <dc:title>Derivatives of methanoyl chloride</dc:title>
</cp:coreProperties>
</file>