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AEE8-6C22-4299-956F-417602AE65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sultant Forces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wo forces acting on a particle have magnitudes 8N and 3N. The angle between their directions is 60°. Find the resultant force acting on the particl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ree forces (2i – j) N, 3i N and (-i + 4j) N, where i and j are unit vectors due east and due north respectively, act on a particle. Find the magnitude and direction of the resulting for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rces P, Q and R act on a particle at O in the plane of the coordinate axes Ox, Oy, making angles p, q, r respectively with Ox in the first quadran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= 4 N, Q = 3 N, R = 6 N, p = 30°, q = 45°, r = 60°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413-1EB2-4294-9C0E-A0730945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A0F-D0B3-4225-9508-EE47099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54C-47EE-4405-8070-FABD9ECE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5B1-0312-4F66-B3CF-A395E534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8232-8FEE-4DF7-B54E-2444B488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52FB-CCCE-4E43-8AF4-1EDE7E68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1686-6E57-4FC0-AE43-9B12CECD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E9B8-CD79-4D6D-AD5F-DCA6DAE0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F441-BA9D-46BB-B3AE-CD0F3207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E1AF-115E-45D5-97BB-5E82BA3F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BF33-4306-41BF-8B66-0F670DD7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2CC-79D9-4552-A24E-34CC9FB9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F2AD-AD77-4AAB-AD7E-DF7FAE5B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6B73-72E9-409B-A9C0-77D88483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7EE6-9DBF-4A30-9CE3-DC63D164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94A1-14CE-41D2-88C6-357122FF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9E4F-611E-4A79-827B-ED776D35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6AF-CAB7-4724-8B95-73AD24EE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2ED-8DBA-4005-B90D-006DED23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05F-89E3-4E1E-B814-CB5093FB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974-A3A7-483B-9BE2-31368290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69A-8954-4B36-99EA-E91B3500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7D2-67BF-40E2-8386-BCBE236E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606-6DEB-4F5C-B795-D83809A8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DA44-BC03-4DC9-95B5-3259BDCC4025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6E5C-6F5D-4D42-AD48-FAD40F38005A}" type="slidenum">
              <a:rPr b="0" lang="en-GB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808080"/>
                </a:solidFill>
                <a:latin typeface="Century Gothic"/>
              </a:rPr>
              <a:t>Resultant Forces</a:t>
            </a:r>
            <a:endParaRPr b="0" lang="en-US" sz="60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632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If two forces act together on an object, their effect may be described as the action of one force.</a:t>
            </a:r>
            <a:br>
              <a:rPr sz="2400"/>
            </a:b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12000" cy="2146320"/>
          </a:xfrm>
          <a:prstGeom prst="rect">
            <a:avLst/>
          </a:prstGeom>
          <a:ln w="25560">
            <a:solidFill>
              <a:srgbClr val="c0c0c0"/>
            </a:solidFill>
            <a:prstDash val="lg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of magnitude 5N and 6N act on a particle. They act at right angles. Find the magnitude and direction of their result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wo forces acting on a particle have magnitudes 8N and 3N. The angle between their directions is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. Find the resultant force acting on the particl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Three forces (2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–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3i N and (-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+ 4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) N, where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i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j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re unit vectors due east and due north respectively, act on a particle. Find the magnitude and direction of the resulting force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entury Gothic"/>
              </a:rPr>
              <a:t>EXAMPLE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Forces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nd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act on a particle at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plane of the coordinate ax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y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making angles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respectively with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Ox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in the first quadrant.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 N, </a:t>
            </a:r>
            <a:r>
              <a:rPr b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 N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p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3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q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45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, </a:t>
            </a:r>
            <a:r>
              <a:rPr b="0" i="1" lang="en-GB" sz="2400" spc="-1" strike="noStrike">
                <a:solidFill>
                  <a:srgbClr val="808080"/>
                </a:solidFill>
                <a:latin typeface="Century Gothic"/>
              </a:rPr>
              <a:t>r</a:t>
            </a:r>
            <a:r>
              <a:rPr b="0" lang="en-GB" sz="2400" spc="-1" strike="noStrike">
                <a:solidFill>
                  <a:srgbClr val="808080"/>
                </a:solidFill>
                <a:latin typeface="Century Gothic"/>
              </a:rPr>
              <a:t> = 60</a:t>
            </a:r>
            <a:r>
              <a:rPr b="0" lang="en-US" sz="2400" spc="-1" strike="noStrike">
                <a:solidFill>
                  <a:srgbClr val="808080"/>
                </a:solidFill>
                <a:latin typeface="Century Gothic"/>
              </a:rPr>
              <a:t>° 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09:05Z</dcterms:created>
  <dc:creator>zafer</dc:creator>
  <dc:description/>
  <cp:keywords/>
  <dc:language>en-US</dc:language>
  <cp:lastModifiedBy>RomaK</cp:lastModifiedBy>
  <dcterms:modified xsi:type="dcterms:W3CDTF">2015-09-03T12:36:45Z</dcterms:modified>
  <cp:revision>4</cp:revision>
  <dc:subject/>
  <dc:title>Forces as Ve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