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9003-92AE-420E-948A-F1E7C5AC66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ior High School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h Jed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 of refer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(x/v0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(g/v02)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(g/v02) x2 +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(x/v0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(g/v02) 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½ (g/v02) x2 + 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 =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h + ½ g (Δ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Δ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 of motion depends only on the initial height,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t = tf - 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 =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f =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h + ½ g (Δ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Δ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t = tf - t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x = v0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x = v0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 is negative (below the horizontal l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 is negative (below the horizontal lin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THROW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THROW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at an 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itial position:  x = 0,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Initial position:  x = 0,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through the air without a propul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= g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 = g =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- 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ximum h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(vi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bx + a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(vi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bx + a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height y = 0, after time interval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0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height y = 0, after time interval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(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0                              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(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 =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(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 = 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is greatest  for the throw angle of 4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s are the same for angles Θ and (900 – 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LUS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is greatest  for the throw angle of 45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s are the same for angles Θ and (900 – Θ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 and horizontal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 = 25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 and horizontal r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 = 25 m/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speed = initial speed  (conservation of ener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angle = - launch angle (symmetry of parabo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peed = initial speed  (conservation of energy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ct angle = - launch angle (symmetry of parabola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maximum height v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p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 maximum height v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p =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/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– Fin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0,0) – initial position, vi = vi [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]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2 sin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2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– Final Eq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0,0) – initial position, vi = vi [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]–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2 sin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2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jectile moves along a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52F-A93C-4717-97D3-557EC24F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BAD-6022-46B1-AA76-58F866AD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C52-C058-452B-AD47-EAB45E03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06B-D966-44BB-8309-EBC60E45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9715-36D2-40B4-8DDF-659001BA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051A-1C61-4F46-9645-5F35BF8E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5A8B-30DC-4466-9504-CB58E2F2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64CE-07EC-4032-8CC9-2A1044BB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927E-40C4-4B6D-AD93-321DE67E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8256-33C2-47FC-801D-60D8534D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B6EF-7D31-4086-84B2-F4A453B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8C7-AD1C-4389-AEA0-8AFD1479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4286-ECAD-4CEE-A9E1-6A892861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2352-D60B-4A6C-8DEA-D5CDC87F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CF19-AA22-4FDF-9913-1633A130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675F-8162-4E03-A395-2D911A56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BEBE-02B4-4121-9CAA-377F424A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98C-E00F-4058-A9B2-EC63481F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2DA-BEFE-4E50-B3AA-F1F71E0F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12A-F85A-4D48-B2FC-C997EF92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AD4-7F75-4A87-AA4E-2959485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258-1204-4185-B776-4CA061FC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889-406C-4F14-BD8F-F87FF5CC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67B-38A3-4D6D-99D0-536B4D9E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330F-95F3-4358-961D-1D0515F7B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6152-ADB2-45C3-A89B-E2D192221DD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>
            <a:hlinkClick r:id="" action="ppaction://hlinkshowjump?jump=nextslide"/>
          </p:cNvPr>
          <p:cNvSpPr/>
          <p:nvPr/>
        </p:nvSpPr>
        <p:spPr>
          <a:xfrm>
            <a:off x="380880" y="5181480"/>
            <a:ext cx="198144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rt 1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ar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106668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9"/>
          <p:cNvGrpSpPr/>
          <p:nvPr/>
        </p:nvGrpSpPr>
        <p:grpSpPr>
          <a:xfrm>
            <a:off x="533520" y="1600200"/>
            <a:ext cx="3047400" cy="3812400"/>
            <a:chOff x="533520" y="1600200"/>
            <a:chExt cx="3047400" cy="3812400"/>
          </a:xfrm>
        </p:grpSpPr>
        <p:sp>
          <p:nvSpPr>
            <p:cNvPr id="332" name="Line 2"/>
            <p:cNvSpPr/>
            <p:nvPr/>
          </p:nvSpPr>
          <p:spPr>
            <a:xfrm>
              <a:off x="914040" y="1981080"/>
              <a:ext cx="0" cy="2743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3"/>
            <p:cNvSpPr/>
            <p:nvPr/>
          </p:nvSpPr>
          <p:spPr>
            <a:xfrm>
              <a:off x="838080" y="4572000"/>
              <a:ext cx="251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304776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91404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33520" y="4952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15228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838080" y="2438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0" y="2590560"/>
            <a:ext cx="533520" cy="1981080"/>
            <a:chOff x="0" y="2590560"/>
            <a:chExt cx="533520" cy="1981080"/>
          </a:xfrm>
        </p:grpSpPr>
        <p:sp>
          <p:nvSpPr>
            <p:cNvPr id="340" name="Line 11"/>
            <p:cNvSpPr/>
            <p:nvPr/>
          </p:nvSpPr>
          <p:spPr>
            <a:xfrm flipV="1">
              <a:off x="533520" y="2590560"/>
              <a:ext cx="0" cy="198108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Line 14"/>
          <p:cNvSpPr/>
          <p:nvPr/>
        </p:nvSpPr>
        <p:spPr>
          <a:xfrm>
            <a:off x="1066680" y="2590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3" name="Group 17"/>
          <p:cNvGrpSpPr/>
          <p:nvPr/>
        </p:nvGrpSpPr>
        <p:grpSpPr>
          <a:xfrm>
            <a:off x="1600200" y="2057400"/>
            <a:ext cx="1143000" cy="1116720"/>
            <a:chOff x="1600200" y="2057400"/>
            <a:chExt cx="1143000" cy="1116720"/>
          </a:xfrm>
        </p:grpSpPr>
        <p:sp>
          <p:nvSpPr>
            <p:cNvPr id="344" name="Text Box 15"/>
            <p:cNvSpPr/>
            <p:nvPr/>
          </p:nvSpPr>
          <p:spPr>
            <a:xfrm>
              <a:off x="1600200" y="2057400"/>
              <a:ext cx="1143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1600200" y="205740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3962520" y="990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29000" y="1752480"/>
          <a:ext cx="5638680" cy="4078440"/>
        </p:xfrm>
        <a:graphic>
          <a:graphicData uri="http://schemas.openxmlformats.org/drawingml/2006/table">
            <a:tbl>
              <a:tblPr/>
              <a:tblGrid>
                <a:gridCol w="1346040"/>
                <a:gridCol w="2032200"/>
                <a:gridCol w="22604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.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SP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8" name="Group 51"/>
          <p:cNvGrpSpPr/>
          <p:nvPr/>
        </p:nvGrpSpPr>
        <p:grpSpPr>
          <a:xfrm>
            <a:off x="914400" y="2666880"/>
            <a:ext cx="762120" cy="1143000"/>
            <a:chOff x="914400" y="2666880"/>
            <a:chExt cx="762120" cy="1143000"/>
          </a:xfrm>
        </p:grpSpPr>
        <p:sp>
          <p:nvSpPr>
            <p:cNvPr id="349" name="Line 48"/>
            <p:cNvSpPr/>
            <p:nvPr/>
          </p:nvSpPr>
          <p:spPr>
            <a:xfrm>
              <a:off x="914400" y="2666880"/>
              <a:ext cx="0" cy="11430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49"/>
            <p:cNvSpPr/>
            <p:nvPr/>
          </p:nvSpPr>
          <p:spPr>
            <a:xfrm>
              <a:off x="1143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>
              <a:off x="1143000" y="3200400"/>
              <a:ext cx="304920" cy="0"/>
            </a:xfrm>
            <a:prstGeom prst="line">
              <a:avLst/>
            </a:prstGeom>
            <a:ln cap="sq" w="1260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77120" y="220968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077840" y="27432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143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57200" y="3886200"/>
            <a:ext cx="3581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 = 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h + ½ g (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h +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0880" y="5791320"/>
            <a:ext cx="358164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14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59" name="Line 8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" name="Text Box 16"/>
          <p:cNvSpPr/>
          <p:nvPr/>
        </p:nvSpPr>
        <p:spPr>
          <a:xfrm>
            <a:off x="56386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23"/>
          <p:cNvGrpSpPr/>
          <p:nvPr/>
        </p:nvGrpSpPr>
        <p:grpSpPr>
          <a:xfrm>
            <a:off x="5181480" y="3505320"/>
            <a:ext cx="1905120" cy="2527200"/>
            <a:chOff x="5181480" y="3505320"/>
            <a:chExt cx="1905120" cy="2527200"/>
          </a:xfrm>
        </p:grpSpPr>
        <p:sp>
          <p:nvSpPr>
            <p:cNvPr id="367" name="Freeform 15"/>
            <p:cNvSpPr/>
            <p:nvPr/>
          </p:nvSpPr>
          <p:spPr>
            <a:xfrm>
              <a:off x="5181480" y="3505320"/>
              <a:ext cx="1905120" cy="2527200"/>
            </a:xfrm>
            <a:custGeom>
              <a:avLst/>
              <a:gdLst/>
              <a:ahLst/>
              <a:rect l="l" t="t" r="r" b="b"/>
              <a:pathLst>
                <a:path w="1200" h="1592">
                  <a:moveTo>
                    <a:pt x="0" y="8"/>
                  </a:moveTo>
                  <a:cubicBezTo>
                    <a:pt x="108" y="4"/>
                    <a:pt x="216" y="0"/>
                    <a:pt x="336" y="56"/>
                  </a:cubicBezTo>
                  <a:cubicBezTo>
                    <a:pt x="456" y="112"/>
                    <a:pt x="608" y="208"/>
                    <a:pt x="720" y="344"/>
                  </a:cubicBezTo>
                  <a:cubicBezTo>
                    <a:pt x="832" y="480"/>
                    <a:pt x="928" y="664"/>
                    <a:pt x="1008" y="872"/>
                  </a:cubicBezTo>
                  <a:cubicBezTo>
                    <a:pt x="1088" y="1080"/>
                    <a:pt x="1168" y="1472"/>
                    <a:pt x="1200" y="1592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943600" y="44956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5045040" y="3467880"/>
            <a:ext cx="4098960" cy="2551320"/>
            <a:chOff x="5045040" y="3467880"/>
            <a:chExt cx="4098960" cy="2551320"/>
          </a:xfrm>
        </p:grpSpPr>
        <p:sp>
          <p:nvSpPr>
            <p:cNvPr id="370" name="Freeform 20"/>
            <p:cNvSpPr/>
            <p:nvPr/>
          </p:nvSpPr>
          <p:spPr>
            <a:xfrm rot="178800">
              <a:off x="5105520" y="3543480"/>
              <a:ext cx="2971800" cy="2400120"/>
            </a:xfrm>
            <a:custGeom>
              <a:avLst/>
              <a:gdLst/>
              <a:ahLst/>
              <a:rect l="l" t="t" r="r" b="b"/>
              <a:pathLst>
                <a:path w="1872" h="1656">
                  <a:moveTo>
                    <a:pt x="0" y="24"/>
                  </a:moveTo>
                  <a:cubicBezTo>
                    <a:pt x="168" y="12"/>
                    <a:pt x="336" y="0"/>
                    <a:pt x="480" y="24"/>
                  </a:cubicBezTo>
                  <a:cubicBezTo>
                    <a:pt x="624" y="48"/>
                    <a:pt x="728" y="72"/>
                    <a:pt x="864" y="168"/>
                  </a:cubicBezTo>
                  <a:cubicBezTo>
                    <a:pt x="1000" y="264"/>
                    <a:pt x="1168" y="440"/>
                    <a:pt x="1296" y="600"/>
                  </a:cubicBezTo>
                  <a:cubicBezTo>
                    <a:pt x="1424" y="760"/>
                    <a:pt x="1536" y="952"/>
                    <a:pt x="1632" y="1128"/>
                  </a:cubicBezTo>
                  <a:cubicBezTo>
                    <a:pt x="1728" y="1304"/>
                    <a:pt x="1800" y="1480"/>
                    <a:pt x="1872" y="1656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Text Box 22"/>
            <p:cNvSpPr/>
            <p:nvPr/>
          </p:nvSpPr>
          <p:spPr>
            <a:xfrm>
              <a:off x="7391520" y="4368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2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&gt;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2040" y="18288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808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76" name="Line 9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Text Box 12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2" name="Freeform 15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3341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7162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= h + ½ g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380880" y="4114800"/>
            <a:ext cx="3429000" cy="761760"/>
            <a:chOff x="380880" y="4114800"/>
            <a:chExt cx="3429000" cy="761760"/>
          </a:xfrm>
        </p:grpSpPr>
        <p:grpSp>
          <p:nvGrpSpPr>
            <p:cNvPr id="388" name="Group 31"/>
            <p:cNvGrpSpPr/>
            <p:nvPr/>
          </p:nvGrpSpPr>
          <p:grpSpPr>
            <a:xfrm>
              <a:off x="533520" y="4190760"/>
              <a:ext cx="3276360" cy="581400"/>
              <a:chOff x="533520" y="4190760"/>
              <a:chExt cx="3276360" cy="581400"/>
            </a:xfrm>
          </p:grpSpPr>
          <p:sp>
            <p:nvSpPr>
              <p:cNvPr id="389" name="Text Box 2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t =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600200" y="4267080"/>
                <a:ext cx="11430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0"/>
            <p:cNvSpPr/>
            <p:nvPr/>
          </p:nvSpPr>
          <p:spPr>
            <a:xfrm>
              <a:off x="380880" y="4114800"/>
              <a:ext cx="3124440" cy="76176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304920" y="5105520"/>
            <a:ext cx="3886200" cy="581400"/>
            <a:chOff x="304920" y="5105520"/>
            <a:chExt cx="3886200" cy="581400"/>
          </a:xfrm>
        </p:grpSpPr>
        <p:sp>
          <p:nvSpPr>
            <p:cNvPr id="393" name="Text Box 34"/>
            <p:cNvSpPr/>
            <p:nvPr/>
          </p:nvSpPr>
          <p:spPr>
            <a:xfrm>
              <a:off x="30492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9.81ms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-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1447920" y="5105520"/>
              <a:ext cx="21333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Text Box 37"/>
          <p:cNvSpPr/>
          <p:nvPr/>
        </p:nvSpPr>
        <p:spPr>
          <a:xfrm>
            <a:off x="380880" y="5943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8"/>
          <p:cNvSpPr/>
          <p:nvPr/>
        </p:nvSpPr>
        <p:spPr>
          <a:xfrm>
            <a:off x="6934320" y="1295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 =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400" name="Line 6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6" name="Freeform 12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533520" y="4191120"/>
            <a:ext cx="3276360" cy="581400"/>
            <a:chOff x="533520" y="4191120"/>
            <a:chExt cx="3276360" cy="581400"/>
          </a:xfrm>
        </p:grpSpPr>
        <p:sp>
          <p:nvSpPr>
            <p:cNvPr id="408" name="Text Box 19"/>
            <p:cNvSpPr/>
            <p:nvPr/>
          </p:nvSpPr>
          <p:spPr>
            <a:xfrm>
              <a:off x="533520" y="41911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1676520" y="42670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0" name="Group 35"/>
          <p:cNvGrpSpPr/>
          <p:nvPr/>
        </p:nvGrpSpPr>
        <p:grpSpPr>
          <a:xfrm>
            <a:off x="152280" y="5029200"/>
            <a:ext cx="4038840" cy="762120"/>
            <a:chOff x="152280" y="5029200"/>
            <a:chExt cx="4038840" cy="762120"/>
          </a:xfrm>
        </p:grpSpPr>
        <p:grpSp>
          <p:nvGrpSpPr>
            <p:cNvPr id="411" name="Group 32"/>
            <p:cNvGrpSpPr/>
            <p:nvPr/>
          </p:nvGrpSpPr>
          <p:grpSpPr>
            <a:xfrm>
              <a:off x="152280" y="5029200"/>
              <a:ext cx="4038840" cy="762120"/>
              <a:chOff x="152280" y="5029200"/>
              <a:chExt cx="4038840" cy="762120"/>
            </a:xfrm>
          </p:grpSpPr>
          <p:sp>
            <p:nvSpPr>
              <p:cNvPr id="412" name="Rectangle 21"/>
              <p:cNvSpPr/>
              <p:nvPr/>
            </p:nvSpPr>
            <p:spPr>
              <a:xfrm>
                <a:off x="152280" y="5029200"/>
                <a:ext cx="3124440" cy="762120"/>
              </a:xfrm>
              <a:prstGeom prst="rect">
                <a:avLst/>
              </a:prstGeom>
              <a:noFill/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23"/>
              <p:cNvSpPr/>
              <p:nvPr/>
            </p:nvSpPr>
            <p:spPr>
              <a:xfrm>
                <a:off x="304920" y="5105520"/>
                <a:ext cx="3886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x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Line 24"/>
            <p:cNvSpPr/>
            <p:nvPr/>
          </p:nvSpPr>
          <p:spPr>
            <a:xfrm>
              <a:off x="1905120" y="5181480"/>
              <a:ext cx="10666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80880" y="5670720"/>
            <a:ext cx="426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6" name="Group 34"/>
          <p:cNvGrpSpPr/>
          <p:nvPr/>
        </p:nvGrpSpPr>
        <p:grpSpPr>
          <a:xfrm>
            <a:off x="5181480" y="5334120"/>
            <a:ext cx="1905120" cy="685800"/>
            <a:chOff x="5181480" y="5334120"/>
            <a:chExt cx="1905120" cy="685800"/>
          </a:xfrm>
        </p:grpSpPr>
        <p:sp>
          <p:nvSpPr>
            <p:cNvPr id="417" name="Line 26"/>
            <p:cNvSpPr/>
            <p:nvPr/>
          </p:nvSpPr>
          <p:spPr>
            <a:xfrm>
              <a:off x="5181480" y="6019920"/>
              <a:ext cx="19051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5410080" y="53341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Δ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" name="Rectangle 28"/>
          <p:cNvSpPr/>
          <p:nvPr/>
        </p:nvSpPr>
        <p:spPr>
          <a:xfrm>
            <a:off x="772200" y="190512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928440" y="3243240"/>
            <a:ext cx="1692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30" name="Line 4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0" y="3962520"/>
            <a:ext cx="3276360" cy="3817080"/>
            <a:chOff x="0" y="3962520"/>
            <a:chExt cx="3276360" cy="3817080"/>
          </a:xfrm>
        </p:grpSpPr>
        <p:grpSp>
          <p:nvGrpSpPr>
            <p:cNvPr id="436" name="Group 18"/>
            <p:cNvGrpSpPr/>
            <p:nvPr/>
          </p:nvGrpSpPr>
          <p:grpSpPr>
            <a:xfrm>
              <a:off x="0" y="3962520"/>
              <a:ext cx="3276360" cy="3817080"/>
              <a:chOff x="0" y="3962520"/>
              <a:chExt cx="3276360" cy="3817080"/>
            </a:xfrm>
          </p:grpSpPr>
          <p:sp>
            <p:nvSpPr>
              <p:cNvPr id="437" name="Text Box 16"/>
              <p:cNvSpPr/>
              <p:nvPr/>
            </p:nvSpPr>
            <p:spPr>
              <a:xfrm>
                <a:off x="0" y="3962520"/>
                <a:ext cx="3276360" cy="38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 = 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+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+g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 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g t 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Line 17"/>
              <p:cNvSpPr/>
              <p:nvPr/>
            </p:nvSpPr>
            <p:spPr>
              <a:xfrm>
                <a:off x="838080" y="3962520"/>
                <a:ext cx="129528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0"/>
            <p:cNvSpPr/>
            <p:nvPr/>
          </p:nvSpPr>
          <p:spPr>
            <a:xfrm>
              <a:off x="609480" y="4724280"/>
              <a:ext cx="1295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53" name="Line 11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0" y="3962520"/>
            <a:ext cx="3580920" cy="3008160"/>
            <a:chOff x="0" y="3962520"/>
            <a:chExt cx="3580920" cy="3008160"/>
          </a:xfrm>
        </p:grpSpPr>
        <p:sp>
          <p:nvSpPr>
            <p:cNvPr id="459" name="Text Box 18"/>
            <p:cNvSpPr/>
            <p:nvPr/>
          </p:nvSpPr>
          <p:spPr>
            <a:xfrm>
              <a:off x="0" y="3962520"/>
              <a:ext cx="35809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 = 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+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g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(2h /(-g)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 2h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915840" y="3962520"/>
              <a:ext cx="14155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1" name="Line 20"/>
          <p:cNvSpPr/>
          <p:nvPr/>
        </p:nvSpPr>
        <p:spPr>
          <a:xfrm>
            <a:off x="930240" y="4724280"/>
            <a:ext cx="2498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Freeform 21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23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24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914400" y="5486400"/>
            <a:ext cx="19810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0" y="5410080"/>
            <a:ext cx="2895480" cy="60984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6553080" y="3276720"/>
            <a:ext cx="2895480" cy="1774080"/>
            <a:chOff x="6553080" y="3276720"/>
            <a:chExt cx="2895480" cy="1774080"/>
          </a:xfrm>
        </p:grpSpPr>
        <p:sp>
          <p:nvSpPr>
            <p:cNvPr id="469" name="Line 32"/>
            <p:cNvSpPr/>
            <p:nvPr/>
          </p:nvSpPr>
          <p:spPr>
            <a:xfrm>
              <a:off x="7619760" y="3886560"/>
              <a:ext cx="762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6553080" y="3276720"/>
              <a:ext cx="2895480" cy="1774080"/>
              <a:chOff x="6553080" y="3276720"/>
              <a:chExt cx="2895480" cy="1774080"/>
            </a:xfrm>
          </p:grpSpPr>
          <p:sp>
            <p:nvSpPr>
              <p:cNvPr id="471" name="Text Box 31"/>
              <p:cNvSpPr/>
              <p:nvPr/>
            </p:nvSpPr>
            <p:spPr>
              <a:xfrm>
                <a:off x="6553080" y="3276720"/>
                <a:ext cx="2895480" cy="17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g Δt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(-g)√2h/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2h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Line 33"/>
              <p:cNvSpPr/>
              <p:nvPr/>
            </p:nvSpPr>
            <p:spPr>
              <a:xfrm>
                <a:off x="7162560" y="4496040"/>
                <a:ext cx="68544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Text Box 34"/>
          <p:cNvSpPr/>
          <p:nvPr/>
        </p:nvSpPr>
        <p:spPr>
          <a:xfrm>
            <a:off x="6705720" y="533412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 i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ative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low the horizontal li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02400" y="3124080"/>
            <a:ext cx="2448360" cy="581400"/>
            <a:chOff x="302400" y="3124080"/>
            <a:chExt cx="2448360" cy="581400"/>
          </a:xfrm>
        </p:grpSpPr>
        <p:sp>
          <p:nvSpPr>
            <p:cNvPr id="475" name="Rectangle 25"/>
            <p:cNvSpPr/>
            <p:nvPr/>
          </p:nvSpPr>
          <p:spPr>
            <a:xfrm>
              <a:off x="302400" y="3124080"/>
              <a:ext cx="24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Line 37"/>
            <p:cNvSpPr/>
            <p:nvPr/>
          </p:nvSpPr>
          <p:spPr>
            <a:xfrm>
              <a:off x="1371600" y="3200400"/>
              <a:ext cx="12193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RIZONTAL THROW -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3520" y="2362320"/>
          <a:ext cx="7772400" cy="428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lf -parabola, open dow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t =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x =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nal Veloc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 = √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 2h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= -√2h(-g) /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Group 33"/>
          <p:cNvGrpSpPr/>
          <p:nvPr/>
        </p:nvGrpSpPr>
        <p:grpSpPr>
          <a:xfrm>
            <a:off x="5334120" y="3429000"/>
            <a:ext cx="2057400" cy="2743200"/>
            <a:chOff x="5334120" y="3429000"/>
            <a:chExt cx="2057400" cy="2743200"/>
          </a:xfrm>
        </p:grpSpPr>
        <p:sp>
          <p:nvSpPr>
            <p:cNvPr id="480" name="Line 24"/>
            <p:cNvSpPr/>
            <p:nvPr/>
          </p:nvSpPr>
          <p:spPr>
            <a:xfrm>
              <a:off x="5562720" y="34290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25"/>
            <p:cNvSpPr/>
            <p:nvPr/>
          </p:nvSpPr>
          <p:spPr>
            <a:xfrm>
              <a:off x="6095880" y="4572000"/>
              <a:ext cx="12956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5334120" y="5562720"/>
              <a:ext cx="19047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5943600" y="61722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4" name="Text Box 30"/>
          <p:cNvSpPr/>
          <p:nvPr/>
        </p:nvSpPr>
        <p:spPr>
          <a:xfrm>
            <a:off x="304920" y="17524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 – initial height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itial horizont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675000" y="2209680"/>
            <a:ext cx="1991880" cy="4032720"/>
            <a:chOff x="675000" y="2209680"/>
            <a:chExt cx="1991880" cy="4032720"/>
          </a:xfrm>
        </p:grpSpPr>
        <p:sp>
          <p:nvSpPr>
            <p:cNvPr id="487" name="Line 3"/>
            <p:cNvSpPr/>
            <p:nvPr/>
          </p:nvSpPr>
          <p:spPr>
            <a:xfrm flipV="1">
              <a:off x="675000" y="2618280"/>
              <a:ext cx="761040" cy="36241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1143000" y="2209680"/>
              <a:ext cx="1523880" cy="510120"/>
              <a:chOff x="1143000" y="2209680"/>
              <a:chExt cx="1523880" cy="510120"/>
            </a:xfrm>
          </p:grpSpPr>
          <p:sp>
            <p:nvSpPr>
              <p:cNvPr id="489" name="Text Box 5"/>
              <p:cNvSpPr/>
              <p:nvPr/>
            </p:nvSpPr>
            <p:spPr>
              <a:xfrm>
                <a:off x="1143000" y="220968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1143000" y="2209680"/>
                <a:ext cx="4572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7"/>
          <p:cNvGrpSpPr/>
          <p:nvPr/>
        </p:nvGrpSpPr>
        <p:grpSpPr>
          <a:xfrm>
            <a:off x="304920" y="609480"/>
            <a:ext cx="8839080" cy="6019560"/>
            <a:chOff x="304920" y="609480"/>
            <a:chExt cx="8839080" cy="6019560"/>
          </a:xfrm>
        </p:grpSpPr>
        <p:sp>
          <p:nvSpPr>
            <p:cNvPr id="492" name="Line 8"/>
            <p:cNvSpPr/>
            <p:nvPr/>
          </p:nvSpPr>
          <p:spPr>
            <a:xfrm flipV="1">
              <a:off x="685800" y="837720"/>
              <a:ext cx="0" cy="57913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Line 9"/>
            <p:cNvSpPr/>
            <p:nvPr/>
          </p:nvSpPr>
          <p:spPr>
            <a:xfrm>
              <a:off x="533520" y="6400800"/>
              <a:ext cx="83055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822960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0492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838080" y="5410080"/>
            <a:ext cx="456840" cy="990720"/>
            <a:chOff x="838080" y="5410080"/>
            <a:chExt cx="456840" cy="990720"/>
          </a:xfrm>
        </p:grpSpPr>
        <p:sp>
          <p:nvSpPr>
            <p:cNvPr id="497" name="Freeform 13"/>
            <p:cNvSpPr/>
            <p:nvPr/>
          </p:nvSpPr>
          <p:spPr>
            <a:xfrm>
              <a:off x="838080" y="5867280"/>
              <a:ext cx="456840" cy="53352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144" y="384"/>
                  </a:moveTo>
                  <a:cubicBezTo>
                    <a:pt x="132" y="320"/>
                    <a:pt x="120" y="256"/>
                    <a:pt x="96" y="192"/>
                  </a:cubicBezTo>
                  <a:cubicBezTo>
                    <a:pt x="72" y="128"/>
                    <a:pt x="16" y="3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Text Box 14"/>
            <p:cNvSpPr/>
            <p:nvPr/>
          </p:nvSpPr>
          <p:spPr>
            <a:xfrm>
              <a:off x="922680" y="54100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Line 15"/>
            <p:cNvSpPr/>
            <p:nvPr/>
          </p:nvSpPr>
          <p:spPr>
            <a:xfrm>
              <a:off x="838080" y="5867280"/>
              <a:ext cx="83160" cy="228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838080" y="5867280"/>
              <a:ext cx="251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761760" y="2666880"/>
            <a:ext cx="686160" cy="3733920"/>
            <a:chOff x="761760" y="2666880"/>
            <a:chExt cx="686160" cy="3733920"/>
          </a:xfrm>
        </p:grpSpPr>
        <p:sp>
          <p:nvSpPr>
            <p:cNvPr id="502" name="Line 18"/>
            <p:cNvSpPr/>
            <p:nvPr/>
          </p:nvSpPr>
          <p:spPr>
            <a:xfrm>
              <a:off x="1447920" y="2666880"/>
              <a:ext cx="0" cy="37339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Line 19"/>
            <p:cNvSpPr/>
            <p:nvPr/>
          </p:nvSpPr>
          <p:spPr>
            <a:xfrm flipH="1">
              <a:off x="761760" y="26668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0" y="2666520"/>
            <a:ext cx="2362320" cy="4244400"/>
            <a:chOff x="0" y="2666520"/>
            <a:chExt cx="2362320" cy="4244400"/>
          </a:xfrm>
        </p:grpSpPr>
        <p:sp>
          <p:nvSpPr>
            <p:cNvPr id="505" name="Line 21"/>
            <p:cNvSpPr/>
            <p:nvPr/>
          </p:nvSpPr>
          <p:spPr>
            <a:xfrm>
              <a:off x="762120" y="6400800"/>
              <a:ext cx="68580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Line 22"/>
            <p:cNvSpPr/>
            <p:nvPr/>
          </p:nvSpPr>
          <p:spPr>
            <a:xfrm flipV="1">
              <a:off x="685800" y="2666520"/>
              <a:ext cx="0" cy="35816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1066680" y="64008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Text Box 24"/>
            <p:cNvSpPr/>
            <p:nvPr/>
          </p:nvSpPr>
          <p:spPr>
            <a:xfrm>
              <a:off x="0" y="3581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Group 25"/>
          <p:cNvGrpSpPr/>
          <p:nvPr/>
        </p:nvGrpSpPr>
        <p:grpSpPr>
          <a:xfrm>
            <a:off x="2590920" y="3048120"/>
            <a:ext cx="4114800" cy="2835720"/>
            <a:chOff x="2590920" y="3048120"/>
            <a:chExt cx="4114800" cy="2835720"/>
          </a:xfrm>
        </p:grpSpPr>
        <p:sp>
          <p:nvSpPr>
            <p:cNvPr id="510" name="Text Box 26"/>
            <p:cNvSpPr/>
            <p:nvPr/>
          </p:nvSpPr>
          <p:spPr>
            <a:xfrm>
              <a:off x="2590920" y="3048120"/>
              <a:ext cx="41148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itial velocity: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[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elocity components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x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cos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y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y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sin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572360" y="3048120"/>
              <a:ext cx="304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2" name="Text Box 28"/>
          <p:cNvSpPr/>
          <p:nvPr/>
        </p:nvSpPr>
        <p:spPr>
          <a:xfrm>
            <a:off x="2590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tial position: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0,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ile Mo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290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6" descr="http://www.london2012.org/NR/rdonlyres/F1ACE579-1906-4724-854E-6575EB23F71C/0/basketball.jpg"/>
          <p:cNvPicPr/>
          <p:nvPr/>
        </p:nvPicPr>
        <p:blipFill>
          <a:blip r:embed="rId1"/>
          <a:stretch/>
        </p:blipFill>
        <p:spPr>
          <a:xfrm>
            <a:off x="0" y="4562640"/>
            <a:ext cx="3124080" cy="1761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242892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8" descr="http://www2.raisport.rai.it/news/sport/sci/200102/24/3a970483024b3/Malysz.jpg"/>
          <p:cNvPicPr/>
          <p:nvPr/>
        </p:nvPicPr>
        <p:blipFill>
          <a:blip r:embed="rId2"/>
          <a:stretch/>
        </p:blipFill>
        <p:spPr>
          <a:xfrm>
            <a:off x="3352680" y="3352680"/>
            <a:ext cx="2295720" cy="1611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385776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http://www.linxtargolf.com/images/golf-swing-3.jpg"/>
          <p:cNvPicPr/>
          <p:nvPr/>
        </p:nvPicPr>
        <p:blipFill>
          <a:blip r:embed="rId3"/>
          <a:stretch/>
        </p:blipFill>
        <p:spPr>
          <a:xfrm>
            <a:off x="6411960" y="3524400"/>
            <a:ext cx="2122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762120" y="1219320"/>
            <a:ext cx="8153280" cy="5181480"/>
            <a:chOff x="762120" y="1219320"/>
            <a:chExt cx="8153280" cy="5181480"/>
          </a:xfrm>
        </p:grpSpPr>
        <p:sp>
          <p:nvSpPr>
            <p:cNvPr id="515" name="Line 3"/>
            <p:cNvSpPr/>
            <p:nvPr/>
          </p:nvSpPr>
          <p:spPr>
            <a:xfrm>
              <a:off x="1066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4"/>
            <p:cNvSpPr/>
            <p:nvPr/>
          </p:nvSpPr>
          <p:spPr>
            <a:xfrm>
              <a:off x="1523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>
              <a:off x="1981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>
              <a:off x="24382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28954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34290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Line 9"/>
            <p:cNvSpPr/>
            <p:nvPr/>
          </p:nvSpPr>
          <p:spPr>
            <a:xfrm>
              <a:off x="39625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>
              <a:off x="4495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50292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55627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6095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294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1629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696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296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>
              <a:off x="87631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762120" y="5105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>
              <a:off x="762120" y="41148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762120" y="32767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762120" y="2590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762120" y="1676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762120" y="20574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>
              <a:off x="762120" y="1447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26"/>
            <p:cNvSpPr/>
            <p:nvPr/>
          </p:nvSpPr>
          <p:spPr>
            <a:xfrm>
              <a:off x="762120" y="13716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9" name="Line 27"/>
          <p:cNvSpPr/>
          <p:nvPr/>
        </p:nvSpPr>
        <p:spPr>
          <a:xfrm flipV="1">
            <a:off x="76212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28"/>
          <p:cNvSpPr/>
          <p:nvPr/>
        </p:nvSpPr>
        <p:spPr>
          <a:xfrm>
            <a:off x="60948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3808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Oval 32"/>
          <p:cNvSpPr/>
          <p:nvPr/>
        </p:nvSpPr>
        <p:spPr>
          <a:xfrm>
            <a:off x="91440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Oval 33"/>
          <p:cNvSpPr/>
          <p:nvPr/>
        </p:nvSpPr>
        <p:spPr>
          <a:xfrm>
            <a:off x="13716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Oval 34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Oval 35"/>
          <p:cNvSpPr/>
          <p:nvPr/>
        </p:nvSpPr>
        <p:spPr>
          <a:xfrm>
            <a:off x="228600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Oval 36"/>
          <p:cNvSpPr/>
          <p:nvPr/>
        </p:nvSpPr>
        <p:spPr>
          <a:xfrm>
            <a:off x="327672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Oval 38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487692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Oval 40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Oval 41"/>
          <p:cNvSpPr/>
          <p:nvPr/>
        </p:nvSpPr>
        <p:spPr>
          <a:xfrm>
            <a:off x="59436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Oval 42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Oval 44"/>
          <p:cNvSpPr/>
          <p:nvPr/>
        </p:nvSpPr>
        <p:spPr>
          <a:xfrm>
            <a:off x="75438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Oval 45"/>
          <p:cNvSpPr/>
          <p:nvPr/>
        </p:nvSpPr>
        <p:spPr>
          <a:xfrm>
            <a:off x="807732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46"/>
          <p:cNvSpPr/>
          <p:nvPr/>
        </p:nvSpPr>
        <p:spPr>
          <a:xfrm>
            <a:off x="8610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Freeform 47"/>
          <p:cNvSpPr/>
          <p:nvPr/>
        </p:nvSpPr>
        <p:spPr>
          <a:xfrm>
            <a:off x="8534520" y="51055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Oval 48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49"/>
          <p:cNvSpPr/>
          <p:nvPr/>
        </p:nvSpPr>
        <p:spPr>
          <a:xfrm>
            <a:off x="2666880" y="2514600"/>
            <a:ext cx="398016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50"/>
          <p:cNvSpPr/>
          <p:nvPr/>
        </p:nvSpPr>
        <p:spPr>
          <a:xfrm>
            <a:off x="457200" y="28195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solidFill>
            <a:srgbClr val="ffff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51"/>
          <p:cNvSpPr/>
          <p:nvPr/>
        </p:nvSpPr>
        <p:spPr>
          <a:xfrm>
            <a:off x="0" y="1523880"/>
            <a:ext cx="15238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 = g =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9.81m/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3520" y="838080"/>
            <a:ext cx="78483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209680"/>
          <a:ext cx="9144000" cy="43070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209680"/>
          <a:ext cx="9144000" cy="42926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0880" y="1676520"/>
            <a:ext cx="3429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808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19320" y="3200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x/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28600" y="5791320"/>
            <a:ext cx="358128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>
            <a:off x="5181480" y="2362320"/>
            <a:ext cx="0" cy="38862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4952880" y="6019920"/>
            <a:ext cx="37339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72400" y="6248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019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3719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495360" y="3759120"/>
                <a:ext cx="3351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14"/>
          <p:cNvSpPr/>
          <p:nvPr/>
        </p:nvSpPr>
        <p:spPr>
          <a:xfrm>
            <a:off x="68580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+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Freeform 15"/>
          <p:cNvSpPr/>
          <p:nvPr/>
        </p:nvSpPr>
        <p:spPr>
          <a:xfrm>
            <a:off x="5181480" y="3720960"/>
            <a:ext cx="2362320" cy="2298960"/>
          </a:xfrm>
          <a:custGeom>
            <a:avLst/>
            <a:gdLst/>
            <a:ahLst/>
            <a:rect l="l" t="t" r="r" b="b"/>
            <a:pathLst>
              <a:path w="1488" h="1448">
                <a:moveTo>
                  <a:pt x="0" y="1448"/>
                </a:moveTo>
                <a:cubicBezTo>
                  <a:pt x="52" y="1244"/>
                  <a:pt x="104" y="1040"/>
                  <a:pt x="192" y="824"/>
                </a:cubicBezTo>
                <a:cubicBezTo>
                  <a:pt x="280" y="608"/>
                  <a:pt x="432" y="288"/>
                  <a:pt x="528" y="152"/>
                </a:cubicBezTo>
                <a:cubicBezTo>
                  <a:pt x="624" y="16"/>
                  <a:pt x="688" y="0"/>
                  <a:pt x="768" y="8"/>
                </a:cubicBezTo>
                <a:cubicBezTo>
                  <a:pt x="848" y="16"/>
                  <a:pt x="920" y="72"/>
                  <a:pt x="1008" y="200"/>
                </a:cubicBezTo>
                <a:cubicBezTo>
                  <a:pt x="1096" y="328"/>
                  <a:pt x="1216" y="568"/>
                  <a:pt x="1296" y="776"/>
                </a:cubicBezTo>
                <a:cubicBezTo>
                  <a:pt x="1376" y="984"/>
                  <a:pt x="1432" y="1216"/>
                  <a:pt x="1488" y="1448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height y = 0, after time interva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320" y="289548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99720" y="18288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8" name="Group 7"/>
          <p:cNvGrpSpPr/>
          <p:nvPr/>
        </p:nvGrpSpPr>
        <p:grpSpPr>
          <a:xfrm>
            <a:off x="380880" y="4114800"/>
            <a:ext cx="3581640" cy="2059920"/>
            <a:chOff x="380880" y="4114800"/>
            <a:chExt cx="3581640" cy="2059920"/>
          </a:xfrm>
        </p:grpSpPr>
        <p:sp>
          <p:nvSpPr>
            <p:cNvPr id="589" name="Line 8"/>
            <p:cNvSpPr/>
            <p:nvPr/>
          </p:nvSpPr>
          <p:spPr>
            <a:xfrm>
              <a:off x="1295280" y="5638680"/>
              <a:ext cx="1447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380880" y="4114800"/>
              <a:ext cx="3581640" cy="2059920"/>
              <a:chOff x="380880" y="4114800"/>
              <a:chExt cx="3581640" cy="2059920"/>
            </a:xfrm>
          </p:grpSpPr>
          <p:sp>
            <p:nvSpPr>
              <p:cNvPr id="591" name="Text Box 10"/>
              <p:cNvSpPr/>
              <p:nvPr/>
            </p:nvSpPr>
            <p:spPr>
              <a:xfrm>
                <a:off x="380880" y="4114800"/>
                <a:ext cx="35816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+ ½ g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 = 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Text Box 11"/>
              <p:cNvSpPr/>
              <p:nvPr/>
            </p:nvSpPr>
            <p:spPr>
              <a:xfrm>
                <a:off x="1143000" y="5105520"/>
                <a:ext cx="1905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Text Box 12"/>
              <p:cNvSpPr/>
              <p:nvPr/>
            </p:nvSpPr>
            <p:spPr>
              <a:xfrm>
                <a:off x="1371600" y="5715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Rectangle 13"/>
          <p:cNvSpPr/>
          <p:nvPr/>
        </p:nvSpPr>
        <p:spPr>
          <a:xfrm>
            <a:off x="152280" y="5105520"/>
            <a:ext cx="2895840" cy="12952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5334120" y="4724280"/>
            <a:ext cx="32763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Freeform 16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25780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0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8458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68960" y="1905120"/>
            <a:ext cx="206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33520" y="327672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Freeform 7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8839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715000" y="4724280"/>
            <a:ext cx="31240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>
            <a:off x="5791320" y="4724280"/>
            <a:ext cx="251460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859440" y="4876920"/>
            <a:ext cx="5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3341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Group 14"/>
          <p:cNvGrpSpPr/>
          <p:nvPr/>
        </p:nvGrpSpPr>
        <p:grpSpPr>
          <a:xfrm>
            <a:off x="533520" y="3886200"/>
            <a:ext cx="3276360" cy="1221480"/>
            <a:chOff x="533520" y="3886200"/>
            <a:chExt cx="3276360" cy="1221480"/>
          </a:xfrm>
        </p:grpSpPr>
        <p:sp>
          <p:nvSpPr>
            <p:cNvPr id="613" name="Line 15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4" name="Group 16"/>
            <p:cNvGrpSpPr/>
            <p:nvPr/>
          </p:nvGrpSpPr>
          <p:grpSpPr>
            <a:xfrm>
              <a:off x="533520" y="3886200"/>
              <a:ext cx="3276360" cy="1221480"/>
              <a:chOff x="533520" y="3886200"/>
              <a:chExt cx="3276360" cy="1221480"/>
            </a:xfrm>
          </p:grpSpPr>
          <p:sp>
            <p:nvSpPr>
              <p:cNvPr id="615" name="Text Box 1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t =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Text Box 18"/>
              <p:cNvSpPr/>
              <p:nvPr/>
            </p:nvSpPr>
            <p:spPr>
              <a:xfrm>
                <a:off x="1447920" y="3886200"/>
                <a:ext cx="160020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Text Box 19"/>
              <p:cNvSpPr/>
              <p:nvPr/>
            </p:nvSpPr>
            <p:spPr>
              <a:xfrm>
                <a:off x="1676520" y="4647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20"/>
          <p:cNvGrpSpPr/>
          <p:nvPr/>
        </p:nvGrpSpPr>
        <p:grpSpPr>
          <a:xfrm>
            <a:off x="304920" y="5486400"/>
            <a:ext cx="4190760" cy="1625400"/>
            <a:chOff x="304920" y="5486400"/>
            <a:chExt cx="4190760" cy="1625400"/>
          </a:xfrm>
        </p:grpSpPr>
        <p:grpSp>
          <p:nvGrpSpPr>
            <p:cNvPr id="619" name="Group 21"/>
            <p:cNvGrpSpPr/>
            <p:nvPr/>
          </p:nvGrpSpPr>
          <p:grpSpPr>
            <a:xfrm>
              <a:off x="304920" y="5730840"/>
              <a:ext cx="4190760" cy="1230120"/>
              <a:chOff x="304920" y="5730840"/>
              <a:chExt cx="4190760" cy="1230120"/>
            </a:xfrm>
          </p:grpSpPr>
          <p:sp>
            <p:nvSpPr>
              <p:cNvPr id="620" name="Text Box 22"/>
              <p:cNvSpPr/>
              <p:nvPr/>
            </p:nvSpPr>
            <p:spPr>
              <a:xfrm>
                <a:off x="304920" y="5730840"/>
                <a:ext cx="4190760" cy="12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1447920" y="6035400"/>
                <a:ext cx="20574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24"/>
            <p:cNvSpPr/>
            <p:nvPr/>
          </p:nvSpPr>
          <p:spPr>
            <a:xfrm>
              <a:off x="1219320" y="54864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o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Text Box 25"/>
            <p:cNvSpPr/>
            <p:nvPr/>
          </p:nvSpPr>
          <p:spPr>
            <a:xfrm>
              <a:off x="1828800" y="6095880"/>
              <a:ext cx="121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4" name="Group 26"/>
          <p:cNvGrpSpPr/>
          <p:nvPr/>
        </p:nvGrpSpPr>
        <p:grpSpPr>
          <a:xfrm>
            <a:off x="4724280" y="5562720"/>
            <a:ext cx="3657600" cy="992880"/>
            <a:chOff x="4724280" y="5562720"/>
            <a:chExt cx="3657600" cy="992880"/>
          </a:xfrm>
        </p:grpSpPr>
        <p:sp>
          <p:nvSpPr>
            <p:cNvPr id="625" name="Line 27"/>
            <p:cNvSpPr/>
            <p:nvPr/>
          </p:nvSpPr>
          <p:spPr>
            <a:xfrm>
              <a:off x="5715000" y="609588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6" name="Group 28"/>
            <p:cNvGrpSpPr/>
            <p:nvPr/>
          </p:nvGrpSpPr>
          <p:grpSpPr>
            <a:xfrm>
              <a:off x="4724280" y="5562720"/>
              <a:ext cx="3657600" cy="992880"/>
              <a:chOff x="4724280" y="5562720"/>
              <a:chExt cx="3657600" cy="992880"/>
            </a:xfrm>
          </p:grpSpPr>
          <p:sp>
            <p:nvSpPr>
              <p:cNvPr id="627" name="Text Box 29"/>
              <p:cNvSpPr/>
              <p:nvPr/>
            </p:nvSpPr>
            <p:spPr>
              <a:xfrm>
                <a:off x="4724280" y="57150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5715000" y="55627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6019920" y="6095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Rectangle 32"/>
          <p:cNvSpPr/>
          <p:nvPr/>
        </p:nvSpPr>
        <p:spPr>
          <a:xfrm>
            <a:off x="4419720" y="5562720"/>
            <a:ext cx="3733560" cy="10666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27432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in (2</a:t>
            </a:r>
            <a:r>
              <a:rPr b="0" lang="en-US" sz="1800" spc="-1" strike="noStrike" baseline="30000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) =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2 sin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cos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3809880" y="525780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895480" y="1676520"/>
            <a:ext cx="3733920" cy="1066680"/>
            <a:chOff x="2895480" y="1676520"/>
            <a:chExt cx="3733920" cy="1066680"/>
          </a:xfrm>
        </p:grpSpPr>
        <p:sp>
          <p:nvSpPr>
            <p:cNvPr id="635" name="Line 4"/>
            <p:cNvSpPr/>
            <p:nvPr/>
          </p:nvSpPr>
          <p:spPr>
            <a:xfrm>
              <a:off x="3962160" y="221004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971800" y="1676520"/>
              <a:ext cx="3657600" cy="992880"/>
              <a:chOff x="2971800" y="1676520"/>
              <a:chExt cx="3657600" cy="992880"/>
            </a:xfrm>
          </p:grpSpPr>
          <p:sp>
            <p:nvSpPr>
              <p:cNvPr id="637" name="Text Box 6"/>
              <p:cNvSpPr/>
              <p:nvPr/>
            </p:nvSpPr>
            <p:spPr>
              <a:xfrm>
                <a:off x="2971800" y="18288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Text Box 7"/>
              <p:cNvSpPr/>
              <p:nvPr/>
            </p:nvSpPr>
            <p:spPr>
              <a:xfrm>
                <a:off x="3962520" y="16765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Text Box 8"/>
              <p:cNvSpPr/>
              <p:nvPr/>
            </p:nvSpPr>
            <p:spPr>
              <a:xfrm>
                <a:off x="4267440" y="22096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2895480" y="1676520"/>
              <a:ext cx="3733920" cy="106668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41" name=""/>
          <p:cNvGraphicFramePr/>
          <p:nvPr/>
        </p:nvGraphicFramePr>
        <p:xfrm>
          <a:off x="838080" y="2887560"/>
          <a:ext cx="2743200" cy="397044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 (deg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 (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9"/>
          <p:cNvSpPr/>
          <p:nvPr/>
        </p:nvSpPr>
        <p:spPr>
          <a:xfrm>
            <a:off x="4191120" y="3124080"/>
            <a:ext cx="4724280" cy="2952360"/>
          </a:xfrm>
          <a:prstGeom prst="rect">
            <a:avLst/>
          </a:prstGeom>
          <a:noFill/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 is greatest  for the throw angle of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s are the same for angl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90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 flipH="1">
            <a:off x="3657600" y="5638680"/>
            <a:ext cx="380880" cy="7632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 flipH="1" flipV="1">
            <a:off x="3657600" y="4800240"/>
            <a:ext cx="457200" cy="68580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jectory and horizontal ra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2514600" y="1676520"/>
                <a:ext cx="3351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47" name="Object 4"/>
          <p:cNvGraphicFramePr/>
          <p:nvPr/>
        </p:nvGraphicFramePr>
        <p:xfrm>
          <a:off x="457200" y="2741760"/>
          <a:ext cx="777240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1760"/>
                    <a:ext cx="77724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Text Box 5"/>
          <p:cNvSpPr/>
          <p:nvPr/>
        </p:nvSpPr>
        <p:spPr>
          <a:xfrm>
            <a:off x="3581280" y="32004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 m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Picture 3" descr="M2-3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762120" y="55627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l speed = initial speed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conservation of ener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angle = - launch angl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symmetry of parabol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52600" y="2133720"/>
            <a:ext cx="26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56920" y="27432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38080" y="335268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t maximum height v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37200" y="3962520"/>
            <a:ext cx="27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609480" y="4786200"/>
            <a:ext cx="3124440" cy="1069560"/>
            <a:chOff x="609480" y="4786200"/>
            <a:chExt cx="3124440" cy="1069560"/>
          </a:xfrm>
        </p:grpSpPr>
        <p:grpSp>
          <p:nvGrpSpPr>
            <p:cNvPr id="659" name="Group 8"/>
            <p:cNvGrpSpPr/>
            <p:nvPr/>
          </p:nvGrpSpPr>
          <p:grpSpPr>
            <a:xfrm>
              <a:off x="609480" y="5029200"/>
              <a:ext cx="3124440" cy="579600"/>
              <a:chOff x="609480" y="5029200"/>
              <a:chExt cx="3124440" cy="579600"/>
            </a:xfrm>
          </p:grpSpPr>
          <p:sp>
            <p:nvSpPr>
              <p:cNvPr id="660" name="Text Box 9"/>
              <p:cNvSpPr/>
              <p:nvPr/>
            </p:nvSpPr>
            <p:spPr>
              <a:xfrm>
                <a:off x="609480" y="5029200"/>
                <a:ext cx="312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>
                <a:off x="1523880" y="5333760"/>
                <a:ext cx="1524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2" name="Text Box 11"/>
            <p:cNvSpPr/>
            <p:nvPr/>
          </p:nvSpPr>
          <p:spPr>
            <a:xfrm>
              <a:off x="1523880" y="47862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1676520" y="5396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1523880" y="53197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3520" y="601992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t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6" name="Group 15"/>
          <p:cNvGrpSpPr/>
          <p:nvPr/>
        </p:nvGrpSpPr>
        <p:grpSpPr>
          <a:xfrm>
            <a:off x="3657600" y="4038480"/>
            <a:ext cx="5486400" cy="2279520"/>
            <a:chOff x="3657600" y="4038480"/>
            <a:chExt cx="5486400" cy="2279520"/>
          </a:xfrm>
        </p:grpSpPr>
        <p:sp>
          <p:nvSpPr>
            <p:cNvPr id="667" name="Line 16"/>
            <p:cNvSpPr/>
            <p:nvPr/>
          </p:nvSpPr>
          <p:spPr>
            <a:xfrm>
              <a:off x="4724280" y="5791320"/>
              <a:ext cx="152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8" name="Group 17"/>
            <p:cNvGrpSpPr/>
            <p:nvPr/>
          </p:nvGrpSpPr>
          <p:grpSpPr>
            <a:xfrm>
              <a:off x="3657600" y="4038480"/>
              <a:ext cx="5486400" cy="2279520"/>
              <a:chOff x="3657600" y="4038480"/>
              <a:chExt cx="5486400" cy="2279520"/>
            </a:xfrm>
          </p:grpSpPr>
          <p:sp>
            <p:nvSpPr>
              <p:cNvPr id="669" name="Text Box 18"/>
              <p:cNvSpPr/>
              <p:nvPr/>
            </p:nvSpPr>
            <p:spPr>
              <a:xfrm>
                <a:off x="3657600" y="4038480"/>
                <a:ext cx="5486400" cy="22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up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 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/(-g)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(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/g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Text Box 19"/>
              <p:cNvSpPr/>
              <p:nvPr/>
            </p:nvSpPr>
            <p:spPr>
              <a:xfrm>
                <a:off x="4876920" y="5257440"/>
                <a:ext cx="22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4952880" y="5790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>
            <a:off x="3276720" y="5257800"/>
            <a:ext cx="4190760" cy="99072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ile Motion – Final Equ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2259000"/>
          <a:ext cx="7772400" cy="4599000"/>
        </p:xfrm>
        <a:graphic>
          <a:graphicData uri="http://schemas.openxmlformats.org/drawingml/2006/table">
            <a:tbl>
              <a:tblPr/>
              <a:tblGrid>
                <a:gridCol w="2438280"/>
                <a:gridCol w="5334120"/>
              </a:tblGrid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bola, open dow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t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x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x heigh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0"/>
          <p:cNvSpPr/>
          <p:nvPr/>
        </p:nvSpPr>
        <p:spPr>
          <a:xfrm>
            <a:off x="0" y="17524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0,0) – initial position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initi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2819520" y="1828800"/>
            <a:ext cx="2286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809880" y="3989520"/>
            <a:ext cx="129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809880" y="358128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39625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3733920" y="4800600"/>
            <a:ext cx="1752480" cy="932400"/>
            <a:chOff x="3733920" y="4800600"/>
            <a:chExt cx="1752480" cy="932400"/>
          </a:xfrm>
        </p:grpSpPr>
        <p:sp>
          <p:nvSpPr>
            <p:cNvPr id="681" name="Line 26"/>
            <p:cNvSpPr/>
            <p:nvPr/>
          </p:nvSpPr>
          <p:spPr>
            <a:xfrm>
              <a:off x="3733920" y="5257800"/>
              <a:ext cx="1752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2" name="Group 27"/>
            <p:cNvGrpSpPr/>
            <p:nvPr/>
          </p:nvGrpSpPr>
          <p:grpSpPr>
            <a:xfrm>
              <a:off x="3733920" y="4800600"/>
              <a:ext cx="1600200" cy="932400"/>
              <a:chOff x="3733920" y="4800600"/>
              <a:chExt cx="1600200" cy="932400"/>
            </a:xfrm>
          </p:grpSpPr>
          <p:sp>
            <p:nvSpPr>
              <p:cNvPr id="683" name="Text Box 28"/>
              <p:cNvSpPr/>
              <p:nvPr/>
            </p:nvSpPr>
            <p:spPr>
              <a:xfrm>
                <a:off x="3733920" y="4800600"/>
                <a:ext cx="16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4114800" y="5334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Line 30"/>
          <p:cNvSpPr/>
          <p:nvPr/>
        </p:nvSpPr>
        <p:spPr>
          <a:xfrm>
            <a:off x="3886200" y="6400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3962520" y="58672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4038480" y="646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ILE MOTION - SUMMA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7680" y="19047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7" descr="javelin_thrower_lg_wm"/>
          <p:cNvPicPr/>
          <p:nvPr/>
        </p:nvPicPr>
        <p:blipFill>
          <a:blip r:embed="rId1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0"/>
          <p:cNvSpPr/>
          <p:nvPr/>
        </p:nvSpPr>
        <p:spPr>
          <a:xfrm>
            <a:off x="380880" y="1219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3520" y="1219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762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080" y="762120"/>
            <a:ext cx="457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257800" y="53341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188" name="Oval 16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192" name="Oval 19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196" name="Oval 4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00" name="Oval 2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Group 43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04" name="Oval 28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7" name="Group 44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08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36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Oval 37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Group 45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12" name="Oval 30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16" name="Oval 31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Oval 41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44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Oval 2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41" name="Oval 9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45" name="Oval 13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249" name="Oval 17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53" name="Oval 21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2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Group 24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57" name="Oval 25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0" name="Group 28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61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Oval 30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3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65" name="Oval 33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69" name="Oval 37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38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Line 47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95" name="Oval 24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5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99" name="Oval 28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Oval 29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Oval 30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303" name="Oval 32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Oval 3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307" name="Oval 3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Oval 37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311" name="Oval 40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315" name="Oval 44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Oval 46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47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319" name="Oval 48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Oval 49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Oval 50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2" name="Group 51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323" name="Oval 52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Oval 53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Oval 54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" name="Line 55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5410080" y="1523880"/>
            <a:ext cx="358164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AutoShape 57"/>
          <p:cNvSpPr/>
          <p:nvPr/>
        </p:nvSpPr>
        <p:spPr>
          <a:xfrm>
            <a:off x="1219320" y="3276720"/>
            <a:ext cx="228600" cy="2438280"/>
          </a:xfrm>
          <a:prstGeom prst="downArrow">
            <a:avLst>
              <a:gd name="adj1" fmla="val 50000"/>
              <a:gd name="adj2" fmla="val 266654"/>
            </a:avLst>
          </a:prstGeom>
          <a:solidFill>
            <a:srgbClr val="ff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5238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 = -9.81m/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46:13Z</dcterms:created>
  <dc:creator>Lech Jedral</dc:creator>
  <dc:description/>
  <dc:language>en-US</dc:language>
  <cp:lastModifiedBy>RomaK</cp:lastModifiedBy>
  <dcterms:modified xsi:type="dcterms:W3CDTF">2015-09-03T12:36:21Z</dcterms:modified>
  <cp:revision>31</cp:revision>
  <dc:subject/>
  <dc:title>PROJECTILE MOTION Chapter 1.4</dc:title>
</cp:coreProperties>
</file>