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D2F2-B5D4-4DC3-8E41-87FE633B34B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-  In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force is applied over a smaller surface area you get a larger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can be calculated using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cals or N/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-  In solid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a force is applied over a smaller surface area you get a larger pressur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can be calculated using the following equa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scals or N/m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- In liq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hydraulics systems work because the pressure is the same throughout the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ressure - In liquid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hydraulics systems work because the pressure is the same throughout the system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s make things turn or rotate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used by forces but are not forces themse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ment will be bigger if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causing the turning effect is big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is further from the piv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s make things turn or rotate. 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y are caused by forces but are not forces themselves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 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moment will be bigger if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force causing the turning effect is bigger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force is further from the pivo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size of a moment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ment = Force x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lculating the size of a moment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oment = Force x Distanc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clockwise Moment = Clockwise Mo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moment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ti-clockwise Moment = Clockwise Mome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ALANC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t moment is zer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FAFA-A727-4629-A4C9-6C48EED3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72C1-5653-47AB-8AE5-60E1F5CD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3D25-4916-4F91-8E06-A230B52E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D7D-B0D5-4ED4-ACD8-7067E343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5AFB-4071-4AE8-8AA0-304918A3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C3ED-25D7-4716-9132-6B4448A7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CD85-CD8E-432A-933F-CF3FC09E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D930-9C62-4DC7-AE60-372FA38B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F763-5F3B-4A6A-8F9A-2974445D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67C5-A714-44CA-8F6E-0DEE59D2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276D-278F-4034-89B5-13910C05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0D03-3B1F-4855-ADFF-0F553E39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1538-F8AB-4E9D-BF34-82104D81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B121-B23A-45AA-9FAC-EF32E747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1B0C-04D1-4649-8664-7DD7C065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1834-BA9E-4D81-86B2-0F656246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BD3F-5731-48D8-8479-CE0785A5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DD4-4DD4-4650-AF6C-9AC2B276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4F2-9F9E-4BD8-8243-901A4E98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8C5B-2C68-4B29-A1F1-6B47B6A8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B05D-9EDF-4A7B-89F7-AB7EDD40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D948-76A7-45E0-93E3-DB6E7D3D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4152-6C7A-4BC9-B01D-B88277E5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8E55-007A-4EB5-BC5A-214ADCE3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1B71-50CF-4BC3-8A6E-C02B2F5E7A2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7B39-D153-4BE8-89D6-990822B699B4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7"/>
          <p:cNvSpPr/>
          <p:nvPr/>
        </p:nvSpPr>
        <p:spPr>
          <a:xfrm>
            <a:off x="179280" y="189000"/>
            <a:ext cx="4392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Pressure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and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Mo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http://www.s-cool.co.uk/g-/phy-/forces-/g-phy-forces-rs_files/image002.gif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3068640"/>
            <a:ext cx="4589280" cy="14256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359" name="Rectangle 5"/>
          <p:cNvSpPr/>
          <p:nvPr/>
        </p:nvSpPr>
        <p:spPr>
          <a:xfrm>
            <a:off x="900000" y="473400"/>
            <a:ext cx="5194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Pressure </a:t>
            </a:r>
            <a:r>
              <a:rPr b="1" lang="en-GB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- 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n soli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Verdana"/>
                <a:ea typeface="Times New Roman"/>
              </a:rPr>
              <a:t>If a force is applied over a smaller surface area you get a larger pressur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Pressure can be calculated using the following equation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5580000" y="3141720"/>
            <a:ext cx="1079640" cy="57780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7021800" y="3068640"/>
            <a:ext cx="1450080" cy="825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AutoShape 8"/>
          <p:cNvSpPr/>
          <p:nvPr/>
        </p:nvSpPr>
        <p:spPr>
          <a:xfrm rot="5400000">
            <a:off x="4249440" y="4687920"/>
            <a:ext cx="1079640" cy="57780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AutoShape 9"/>
          <p:cNvSpPr/>
          <p:nvPr/>
        </p:nvSpPr>
        <p:spPr>
          <a:xfrm rot="7363800">
            <a:off x="312840" y="4600800"/>
            <a:ext cx="2303280" cy="925200"/>
          </a:xfrm>
          <a:custGeom>
            <a:avLst/>
            <a:gdLst>
              <a:gd name="textAreaLeft" fmla="*/ 359640 w 2303280"/>
              <a:gd name="textAreaRight" fmla="*/ 2015640 w 2303280"/>
              <a:gd name="textAreaTop" fmla="*/ 231120 h 925200"/>
              <a:gd name="textAreaBottom" fmla="*/ 694080 h 925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259560" y="6165720"/>
            <a:ext cx="24652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scals or N/m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4509000" y="5805360"/>
            <a:ext cx="55116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-1260360" y="1628640"/>
          <a:ext cx="9504360" cy="2670480"/>
        </p:xfrm>
        <a:graphic>
          <a:graphicData uri="http://schemas.openxmlformats.org/drawingml/2006/table">
            <a:tbl>
              <a:tblPr/>
              <a:tblGrid>
                <a:gridCol w="1346040"/>
                <a:gridCol w="8158320"/>
              </a:tblGrid>
              <a:tr h="100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increases     with depth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 acts</a:t>
                      </a:r>
                      <a:r>
                        <a:rPr b="1" lang="en-GB" sz="2400" spc="-1" strike="noStrike">
                          <a:solidFill>
                            <a:srgbClr val="808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equally in all directions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Verdana"/>
                          <a:ea typeface="Times New Roman"/>
                        </a:rPr>
                        <a:t>Pressu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is transmitted through liquids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-360" y="69228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 Black"/>
              </a:rPr>
              <a:t>Pressure</a:t>
            </a:r>
            <a:r>
              <a:rPr b="1" lang="en-GB" sz="3200" spc="-1" strike="noStrike">
                <a:solidFill>
                  <a:srgbClr val="ff0000"/>
                </a:solidFill>
                <a:latin typeface="Arial Black"/>
              </a:rPr>
              <a:t> - In liquids</a:t>
            </a: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AutoShape 19"/>
          <p:cNvSpPr/>
          <p:nvPr/>
        </p:nvSpPr>
        <p:spPr>
          <a:xfrm>
            <a:off x="3780000" y="1844640"/>
            <a:ext cx="50472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AutoShape 20"/>
          <p:cNvSpPr/>
          <p:nvPr/>
        </p:nvSpPr>
        <p:spPr>
          <a:xfrm>
            <a:off x="6227640" y="1916280"/>
            <a:ext cx="486000" cy="502920"/>
          </a:xfrm>
          <a:prstGeom prst="downArrow">
            <a:avLst>
              <a:gd name="adj1" fmla="val 50000"/>
              <a:gd name="adj2" fmla="val 2587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AutoShape 21"/>
          <p:cNvSpPr/>
          <p:nvPr/>
        </p:nvSpPr>
        <p:spPr>
          <a:xfrm>
            <a:off x="7164360" y="2492280"/>
            <a:ext cx="1224000" cy="1079640"/>
          </a:xfrm>
          <a:custGeom>
            <a:avLst/>
            <a:gdLst>
              <a:gd name="textAreaLeft" fmla="*/ 122400 w 1224000"/>
              <a:gd name="textAreaRight" fmla="*/ 1101600 w 1224000"/>
              <a:gd name="textAreaTop" fmla="*/ 432000 h 1079640"/>
              <a:gd name="textAreaBottom" fmla="*/ 648000 h 1079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Picture 22" descr="brake hydraulic"/>
          <p:cNvPicPr/>
          <p:nvPr/>
        </p:nvPicPr>
        <p:blipFill>
          <a:blip r:embed="rId4"/>
          <a:stretch/>
        </p:blipFill>
        <p:spPr>
          <a:xfrm>
            <a:off x="900000" y="4653000"/>
            <a:ext cx="3384720" cy="17287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3"/>
          <p:cNvSpPr/>
          <p:nvPr/>
        </p:nvSpPr>
        <p:spPr>
          <a:xfrm flipV="1" rot="10800000">
            <a:off x="4640400" y="4648680"/>
            <a:ext cx="41796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l hydraulics systems work because the pressure is the same throughout the system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-181080" y="-490680"/>
            <a:ext cx="932508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 Black"/>
              </a:rPr>
              <a:t>Moments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Moments make things turn or rotate. 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They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aused</a:t>
            </a:r>
            <a:r>
              <a:rPr b="1" lang="en-GB" sz="2800" spc="-1" strike="noStrike">
                <a:solidFill>
                  <a:srgbClr val="ff8b17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by forces but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 forces themselv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8b17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539640" y="4149720"/>
            <a:ext cx="8136000" cy="247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he moment will be bigger if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GB" sz="2400" spc="-1" strike="noStrike">
                <a:solidFill>
                  <a:srgbClr val="ff3399"/>
                </a:solidFill>
                <a:latin typeface="Arial Black"/>
              </a:rPr>
              <a:t>The force causing the turning effect is bigge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99"/>
                </a:solidFill>
                <a:latin typeface="Arial Black"/>
              </a:rPr>
              <a:t>   </a:t>
            </a:r>
            <a:r>
              <a:rPr b="1" lang="en-GB" sz="2400" spc="-1" strike="noStrike">
                <a:solidFill>
                  <a:srgbClr val="ff3399"/>
                </a:solidFill>
                <a:latin typeface="Arial Black"/>
              </a:rPr>
              <a:t>The force is further from the pivo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51102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 Black"/>
              </a:rPr>
              <a:t>Calculating the size of a moment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68360" y="3284640"/>
            <a:ext cx="63370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 Black"/>
              </a:rPr>
              <a:t>Moment = Force x Dista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987640" y="544500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ewt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7093080" y="5516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Line 8"/>
          <p:cNvSpPr/>
          <p:nvPr/>
        </p:nvSpPr>
        <p:spPr>
          <a:xfrm flipH="1" flipV="1">
            <a:off x="6372360" y="4149360"/>
            <a:ext cx="720720" cy="100980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250920" y="5950080"/>
            <a:ext cx="1800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Black"/>
              </a:rPr>
              <a:t>N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Line 10"/>
          <p:cNvSpPr/>
          <p:nvPr/>
        </p:nvSpPr>
        <p:spPr>
          <a:xfrm flipV="1">
            <a:off x="971640" y="4149360"/>
            <a:ext cx="145800" cy="115236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Line 11"/>
          <p:cNvSpPr/>
          <p:nvPr/>
        </p:nvSpPr>
        <p:spPr>
          <a:xfrm flipH="1" flipV="1">
            <a:off x="3708000" y="4149360"/>
            <a:ext cx="144360" cy="1081080"/>
          </a:xfrm>
          <a:prstGeom prst="line">
            <a:avLst/>
          </a:prstGeom>
          <a:ln w="76320">
            <a:solidFill>
              <a:srgbClr val="ff8b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sci_dia_90"/>
          <p:cNvPicPr/>
          <p:nvPr/>
        </p:nvPicPr>
        <p:blipFill>
          <a:blip r:embed="rId1"/>
          <a:stretch/>
        </p:blipFill>
        <p:spPr>
          <a:xfrm>
            <a:off x="179280" y="2276640"/>
            <a:ext cx="8569440" cy="341604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5"/>
          <p:cNvSpPr/>
          <p:nvPr/>
        </p:nvSpPr>
        <p:spPr>
          <a:xfrm>
            <a:off x="0" y="5950080"/>
            <a:ext cx="93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Black"/>
              </a:rPr>
              <a:t>Anti-clockwise Moment = Clockwise Mo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684360" y="836640"/>
            <a:ext cx="467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103"/>
                </a:solidFill>
                <a:latin typeface="Arial Black"/>
              </a:rPr>
              <a:t>BALANC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103"/>
                </a:solidFill>
                <a:latin typeface="Arial Black"/>
              </a:rPr>
              <a:t>Net moment is zer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2:46:28Z</dcterms:created>
  <dc:creator>HP Authorized Customer</dc:creator>
  <dc:description/>
  <dc:language>en-US</dc:language>
  <cp:lastModifiedBy>RomaK</cp:lastModifiedBy>
  <dcterms:modified xsi:type="dcterms:W3CDTF">2015-09-03T12:35:53Z</dcterms:modified>
  <cp:revision>13</cp:revision>
  <dc:subject/>
  <dc:title>Slide 1</dc:title>
</cp:coreProperties>
</file>