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4650-7C51-481E-AD21-07AEA3B4ED3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ressure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d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oment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-  In so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force is applied over a smaller surface area you get a larger press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can be calculated using the following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cals or N/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ressure -  In solid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f a force is applied over a smaller surface area you get a larger pressure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ressure can be calculated using the following equatio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ewto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scals or N/m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- In liqu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hydraulics systems work because the pressure is the same throughout the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ressure - In liquids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hydraulics systems work because the pressure is the same throughout the system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ments make things turn or rotate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used by forces but are not forces themsel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ment will be bigger if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causing the turning effect is big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is further from the piv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oments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oments make things turn or rotate. 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y are caused by forces but are not forces themselves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 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moment will be bigger if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force causing the turning effect is bigger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force is further from the pivo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ing the size of a moment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ment = Force x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alculating the size of a moment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oment = Force x Distanc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ewto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-clockwise Moment = Clockwise Mo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moment is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ti-clockwise Moment = Clockwise Momen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ALANC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et moment is zero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8400-5C8D-48BF-8FDE-3392B04C2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92EA-5AD2-4723-B60F-760F8899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D64A-1F8C-41D9-BDF1-EC7700C41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86FF-C03E-4803-9226-0BC35F52E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CC4F-4008-43C6-8E03-232D1376D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5051-031E-4053-9081-B43AF345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5626-7527-4791-939C-1332F884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152C-BEBB-4295-B70E-4602298A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EDDC-5BC9-46A5-9E1A-93142CE8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037A-E754-44B1-89FE-4FE95135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70AB-AE4D-43C0-8B9A-07CB875F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154F-D21E-4DDA-83FA-0EC26434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24AD-CFEF-40CD-9354-33181C2F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9BAE-44BA-492C-9D1B-CC98B714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033A-D0A8-4B81-A692-CE2D92CA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60C0-10B9-4ED8-B947-0A0DF928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7574-4FE5-465C-8340-6F334A8D2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4086-8478-44D0-B08F-25820A41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73C3-D758-4610-B392-E353AED8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BB88-8F6E-47CE-8117-0FEBEEFF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E218-09D8-4C20-8CF3-6A6882CC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C347-E289-4B1B-876C-AAFF5D84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F745-3FCF-4E32-8602-C54146F6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DF51-7A9C-4DA6-851D-073CB2B2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85B0-2CE9-43AD-B410-46CE58D8A4D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E6E8-2C98-4D71-8032-A8D4D4A53E54}" type="slidenum">
              <a:rPr b="0" lang="en-GB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37"/>
          <p:cNvSpPr/>
          <p:nvPr/>
        </p:nvSpPr>
        <p:spPr>
          <a:xfrm>
            <a:off x="179280" y="189000"/>
            <a:ext cx="4392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Pressure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    </a:t>
            </a: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and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Mo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http://www.s-cool.co.uk/g-/phy-/forces-/g-phy-forces-rs_files/image002.gif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971640" y="3068640"/>
            <a:ext cx="4589280" cy="14256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sp>
        <p:nvSpPr>
          <p:cNvPr id="359" name="Rectangle 5"/>
          <p:cNvSpPr/>
          <p:nvPr/>
        </p:nvSpPr>
        <p:spPr>
          <a:xfrm>
            <a:off x="900000" y="473400"/>
            <a:ext cx="51944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Pressure </a:t>
            </a:r>
            <a:r>
              <a:rPr b="1" lang="en-GB" sz="3200" spc="-1" strike="noStrike">
                <a:solidFill>
                  <a:srgbClr val="ff0000"/>
                </a:solidFill>
                <a:latin typeface="Verdana"/>
                <a:ea typeface="Times New Roman"/>
              </a:rPr>
              <a:t>- 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n soli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Verdana"/>
                <a:ea typeface="Times New Roman"/>
              </a:rPr>
              <a:t>If a force is applied over a smaller surface area you get a larger pressur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Pressure can be calculated using the following equation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5580000" y="3141720"/>
            <a:ext cx="1079640" cy="57780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144360 h 577800"/>
              <a:gd name="textAreaBottom" fmla="*/ 433440 h 577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7021800" y="3068640"/>
            <a:ext cx="1450080" cy="825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wto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AutoShape 8"/>
          <p:cNvSpPr/>
          <p:nvPr/>
        </p:nvSpPr>
        <p:spPr>
          <a:xfrm rot="5400000">
            <a:off x="4249440" y="4687920"/>
            <a:ext cx="1079640" cy="57780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144360 h 577800"/>
              <a:gd name="textAreaBottom" fmla="*/ 433440 h 577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AutoShape 9"/>
          <p:cNvSpPr/>
          <p:nvPr/>
        </p:nvSpPr>
        <p:spPr>
          <a:xfrm rot="7363800">
            <a:off x="312840" y="4600800"/>
            <a:ext cx="2303280" cy="925200"/>
          </a:xfrm>
          <a:custGeom>
            <a:avLst/>
            <a:gdLst>
              <a:gd name="textAreaLeft" fmla="*/ 359640 w 2303280"/>
              <a:gd name="textAreaRight" fmla="*/ 2015640 w 2303280"/>
              <a:gd name="textAreaTop" fmla="*/ 231120 h 925200"/>
              <a:gd name="textAreaBottom" fmla="*/ 694080 h 925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259560" y="6165720"/>
            <a:ext cx="246528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scals or N/m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Rectangle 11"/>
          <p:cNvSpPr/>
          <p:nvPr/>
        </p:nvSpPr>
        <p:spPr>
          <a:xfrm>
            <a:off x="4509000" y="5805360"/>
            <a:ext cx="55116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-1260360" y="1628640"/>
          <a:ext cx="9504360" cy="2670480"/>
        </p:xfrm>
        <a:graphic>
          <a:graphicData uri="http://schemas.openxmlformats.org/drawingml/2006/table">
            <a:tbl>
              <a:tblPr/>
              <a:tblGrid>
                <a:gridCol w="1346040"/>
                <a:gridCol w="8158320"/>
              </a:tblGrid>
              <a:tr h="100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884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Pressure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cc00"/>
                          </a:solidFill>
                          <a:latin typeface="Verdana"/>
                          <a:ea typeface="Times New Roman"/>
                        </a:rPr>
                        <a:t>increases     with depth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884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Pressure acts</a:t>
                      </a:r>
                      <a:r>
                        <a:rPr b="1" lang="en-GB" sz="2400" spc="-1" strike="noStrike">
                          <a:solidFill>
                            <a:srgbClr val="808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cc00"/>
                          </a:solidFill>
                          <a:latin typeface="Verdana"/>
                          <a:ea typeface="Times New Roman"/>
                        </a:rPr>
                        <a:t>equally in all directions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884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Pressure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cc00"/>
                          </a:solidFill>
                          <a:latin typeface="Verdana"/>
                          <a:ea typeface="Times New Roman"/>
                        </a:rPr>
                        <a:t>is transmitted through liquids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-360" y="69228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 Black"/>
              </a:rPr>
              <a:t>Pressure</a:t>
            </a:r>
            <a:r>
              <a:rPr b="1" lang="en-GB" sz="3200" spc="-1" strike="noStrike">
                <a:solidFill>
                  <a:srgbClr val="ff0000"/>
                </a:solidFill>
                <a:latin typeface="Arial Black"/>
              </a:rPr>
              <a:t> - In liquids</a:t>
            </a: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AutoShape 19"/>
          <p:cNvSpPr/>
          <p:nvPr/>
        </p:nvSpPr>
        <p:spPr>
          <a:xfrm>
            <a:off x="3780000" y="1844640"/>
            <a:ext cx="504720" cy="4320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AutoShape 20"/>
          <p:cNvSpPr/>
          <p:nvPr/>
        </p:nvSpPr>
        <p:spPr>
          <a:xfrm>
            <a:off x="6227640" y="1916280"/>
            <a:ext cx="486000" cy="502920"/>
          </a:xfrm>
          <a:prstGeom prst="downArrow">
            <a:avLst>
              <a:gd name="adj1" fmla="val 50000"/>
              <a:gd name="adj2" fmla="val 25870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AutoShape 21"/>
          <p:cNvSpPr/>
          <p:nvPr/>
        </p:nvSpPr>
        <p:spPr>
          <a:xfrm>
            <a:off x="7164360" y="2492280"/>
            <a:ext cx="1224000" cy="1079640"/>
          </a:xfrm>
          <a:custGeom>
            <a:avLst/>
            <a:gdLst>
              <a:gd name="textAreaLeft" fmla="*/ 122400 w 1224000"/>
              <a:gd name="textAreaRight" fmla="*/ 1101600 w 1224000"/>
              <a:gd name="textAreaTop" fmla="*/ 432000 h 1079640"/>
              <a:gd name="textAreaBottom" fmla="*/ 648000 h 10796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Picture 22" descr="brake hydraulic"/>
          <p:cNvPicPr/>
          <p:nvPr/>
        </p:nvPicPr>
        <p:blipFill>
          <a:blip r:embed="rId4"/>
          <a:stretch/>
        </p:blipFill>
        <p:spPr>
          <a:xfrm>
            <a:off x="900000" y="4653000"/>
            <a:ext cx="3384720" cy="172872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23"/>
          <p:cNvSpPr/>
          <p:nvPr/>
        </p:nvSpPr>
        <p:spPr>
          <a:xfrm flipV="1" rot="10800000">
            <a:off x="4640400" y="4648680"/>
            <a:ext cx="41796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l hydraulics systems work because the pressure is the same throughout the system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5"/>
          <p:cNvSpPr/>
          <p:nvPr/>
        </p:nvSpPr>
        <p:spPr>
          <a:xfrm>
            <a:off x="-181080" y="-490680"/>
            <a:ext cx="9325080" cy="53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 Black"/>
              </a:rPr>
              <a:t>Moments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Moments make things turn or rotate. </a:t>
            </a: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8b17"/>
                </a:solidFill>
                <a:latin typeface="Arial"/>
              </a:rPr>
              <a:t>They ar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aused</a:t>
            </a:r>
            <a:r>
              <a:rPr b="1" lang="en-GB" sz="2800" spc="-1" strike="noStrike">
                <a:solidFill>
                  <a:srgbClr val="ff8b17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8b17"/>
                </a:solidFill>
                <a:latin typeface="Arial"/>
              </a:rPr>
              <a:t>by forces but ar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GB" sz="2400" spc="-1" strike="noStrike">
                <a:solidFill>
                  <a:srgbClr val="ff8b17"/>
                </a:solidFill>
                <a:latin typeface="Arial"/>
              </a:rPr>
              <a:t> forces themselve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8b17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539640" y="4149720"/>
            <a:ext cx="8136000" cy="247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The moment will be bigger if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en-GB" sz="2400" spc="-1" strike="noStrike">
                <a:solidFill>
                  <a:srgbClr val="ff3399"/>
                </a:solidFill>
                <a:latin typeface="Arial Black"/>
              </a:rPr>
              <a:t>The force causing the turning effect is bigger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99"/>
                </a:solidFill>
                <a:latin typeface="Arial Black"/>
              </a:rPr>
              <a:t>   </a:t>
            </a:r>
            <a:r>
              <a:rPr b="1" lang="en-GB" sz="2400" spc="-1" strike="noStrike">
                <a:solidFill>
                  <a:srgbClr val="ff3399"/>
                </a:solidFill>
                <a:latin typeface="Arial Black"/>
              </a:rPr>
              <a:t>The force is further from the pivot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51102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 Black"/>
              </a:rPr>
              <a:t>Calculating the size of a moment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468360" y="3284640"/>
            <a:ext cx="633708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 Black"/>
              </a:rPr>
              <a:t>Moment = Force x Dista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987640" y="5445000"/>
            <a:ext cx="295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ewt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7093080" y="5516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Line 8"/>
          <p:cNvSpPr/>
          <p:nvPr/>
        </p:nvSpPr>
        <p:spPr>
          <a:xfrm flipH="1" flipV="1">
            <a:off x="6372360" y="4149360"/>
            <a:ext cx="720720" cy="1009800"/>
          </a:xfrm>
          <a:prstGeom prst="line">
            <a:avLst/>
          </a:prstGeom>
          <a:ln w="76320">
            <a:solidFill>
              <a:srgbClr val="ff8b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250920" y="5950080"/>
            <a:ext cx="180000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Black"/>
              </a:rPr>
              <a:t>Nm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Line 10"/>
          <p:cNvSpPr/>
          <p:nvPr/>
        </p:nvSpPr>
        <p:spPr>
          <a:xfrm flipV="1">
            <a:off x="971640" y="4149360"/>
            <a:ext cx="145800" cy="1152360"/>
          </a:xfrm>
          <a:prstGeom prst="line">
            <a:avLst/>
          </a:prstGeom>
          <a:ln w="76320">
            <a:solidFill>
              <a:srgbClr val="ff8b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Line 11"/>
          <p:cNvSpPr/>
          <p:nvPr/>
        </p:nvSpPr>
        <p:spPr>
          <a:xfrm flipH="1" flipV="1">
            <a:off x="3708000" y="4149360"/>
            <a:ext cx="144360" cy="1081080"/>
          </a:xfrm>
          <a:prstGeom prst="line">
            <a:avLst/>
          </a:prstGeom>
          <a:ln w="76320">
            <a:solidFill>
              <a:srgbClr val="ff8b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sci_dia_90"/>
          <p:cNvPicPr/>
          <p:nvPr/>
        </p:nvPicPr>
        <p:blipFill>
          <a:blip r:embed="rId1"/>
          <a:stretch/>
        </p:blipFill>
        <p:spPr>
          <a:xfrm>
            <a:off x="179280" y="2276640"/>
            <a:ext cx="8569440" cy="341604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5"/>
          <p:cNvSpPr/>
          <p:nvPr/>
        </p:nvSpPr>
        <p:spPr>
          <a:xfrm>
            <a:off x="0" y="5950080"/>
            <a:ext cx="93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 Black"/>
              </a:rPr>
              <a:t>Anti-clockwise Moment = Clockwise Momen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684360" y="836640"/>
            <a:ext cx="4679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e103"/>
                </a:solidFill>
                <a:latin typeface="Arial Black"/>
              </a:rPr>
              <a:t>BALANC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e103"/>
                </a:solidFill>
                <a:latin typeface="Arial Black"/>
              </a:rPr>
              <a:t>Net moment is zer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12:46:28Z</dcterms:created>
  <dc:creator>HP Authorized Customer</dc:creator>
  <dc:description/>
  <dc:language>en-US</dc:language>
  <cp:lastModifiedBy>RomaK</cp:lastModifiedBy>
  <dcterms:modified xsi:type="dcterms:W3CDTF">2015-09-03T12:35:53Z</dcterms:modified>
  <cp:revision>13</cp:revision>
  <dc:subject/>
  <dc:title>Slide 1</dc:title>
</cp:coreProperties>
</file>