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C728-7274-4167-851B-DE3798B36982}"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63BC-CF74-4142-B6EB-D98C07BD61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18A35-136D-4BFF-946B-96B856120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E4AC4-5DC5-4F1E-8B09-255A58588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AA711-60A2-4006-BE62-B6D3F0E2A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47B9B-C6DB-416C-9CB2-A417A04D6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893197-A3A4-4820-B8A8-C4AF0B5B52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3EED2-5D7D-4097-903A-33F02BE9B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13B9D-A28E-40E2-A81D-A8B5D1E39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FF1B8-3F95-45E0-81EA-C3487094E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EDA26-C2F7-4660-8D6F-F8E6D1815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2B3BF-AC24-4380-99B4-F05583680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DF7EF-8096-4B40-992B-99F394D24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208EF-217D-4575-AFDD-CB8F3356C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2BFE2-CDB4-4CB2-8144-CEF333C04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4C17D-4ED5-4A98-9E84-CEF6026AD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86B3C-99CB-4428-8DC0-77681148A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23D33-00A9-45C4-AFF6-091A68517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1B85A7-2BC3-4B59-979A-0F4EE18389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BA630BD-B469-4D5F-B983-4EADB28CCE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77A6AE-4B7E-4A79-83D1-56F3D20FD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FEB7326-316C-487D-8A44-7DA62815DE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E0ABFA-46AC-47E7-A691-0E6761BC3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AA45DF6-B6E8-41B8-9DF9-664325B005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45B19-772F-4824-88AA-D84D5870A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5750B8E-983B-4D64-A22A-71EA88100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EC2A5D-A463-463D-9523-26918EF90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E2E598B-B924-481B-AA2D-64D41068A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893C05-CCA6-4141-BB38-57843726A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C699F9B-CDFE-4F2A-94FB-18ABFC29E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D2CC9E8-5C5F-4B8F-BEBE-540EDABED7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662F827-DA8C-4F6E-AE67-CBA867E5E0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C94D65-E9AA-4741-ACC2-CBE98917CC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559C0B-DAD1-45AF-8D17-D0F78E1911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9B01F2-A7DA-4246-A94D-E662DE2F8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7FADA-AD01-43B0-B210-F115F294A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8045B-31AF-4E3A-BCD7-A4EE411CFB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0C10C-E753-45F4-9BEF-DAB82E211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4A452-4E3A-43F3-898E-CF87AC2FA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B6FB4-7969-40DB-9FDB-A549C0088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28D36-2461-4419-8342-55C3679565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D6D8A5-7F6F-404C-81D6-380C2BA29C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F7C6B-E605-43EB-8700-1FF7DE148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8194D1-734C-4DEA-A420-4AF5D5BB60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F35FE6-6AC5-4EAD-9237-65DC703826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62DFC1-10F8-4DCD-8522-4E491AFF70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F1595-8D8B-4231-83E2-8CA5EC1D9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ACEF77-DD88-4C75-A38F-7BFC5194C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2EEFB8-D906-418F-B255-56DE132B39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FA591E-BBB5-4017-9187-670F20E0D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2559F1-2470-4411-B098-AAAEA02210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959BC9-29E1-4BC9-B95F-2F390EAEF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F6F409-4B2B-4357-8868-6427B567BD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27DC60-9957-45C9-8938-0D9599E00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3FC87E-727B-4E05-8FE7-A3F64BFA11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7F555B-F38F-4058-90CB-6AA6CBD07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9B9236A-F283-41FE-9CF8-C11A446DCE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28514-2DE8-4457-BBD3-EDA6123B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70B11BC-ED3A-4A80-95D0-F85DFB2E73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3380AD9-214A-4E47-9F84-B8614F02A0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52C8CF6-640F-4DEB-8FCB-42FFD7717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BD9199A-D21A-4B7D-90EF-CC5FDE7E7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297862D-76DC-4779-B0C7-A199E0D43A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A3A7B02-AD89-4DC9-9BCD-9B75776691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E4E7F83-BA3F-478E-9A41-EE814516C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E6BEA8E-1BEF-42C9-82BD-01E49B4084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CCECDD5-5FE5-480A-B6BE-8F5C4CD85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35EC766-40CD-4708-A8CB-545B7DD5E0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4B4C3-D531-4F74-B95F-79D119CC3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082C9DB-AE20-476F-A205-E560099A0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CCCAD19-197D-4633-A5E6-BBB0CD8856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1B0BD55-A28F-4C34-99C8-4A59E2B4FE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CD3F374-DF74-4D38-A4FD-F6078DFBB3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E94B30-6D92-4CAE-89A5-5FE824FE38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9C4F90A-B1E9-47ED-8CE1-EFD2BA1F2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17B2E8F-86E9-415A-88CF-661617830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75B21CD-4422-4BD6-A08D-D197EC8BB7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B5B0A5D-5372-4862-8AA5-6CE31EDF6A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BBDA7B-1664-472E-9CE5-4BAD1E585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8267C-14AE-4B56-A7F2-E9435398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F4603D8-071F-4124-8F4B-943D19061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A437046-88C8-40DA-A952-9DF809E3B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4CC183-A512-4EC1-98A6-039BA1EEA3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A06BB51-1F26-45FD-827F-DA0785765F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BC4EF49-1754-425A-AA85-C6CF2F6A06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51FF1-184D-41EC-ACD1-20AD843A3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3772-B9C3-49B2-92D7-8AEF498EFA46}"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6E39-9FBC-400B-9728-46B88AAB303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4CCF8-BCA5-4C19-957C-960BEEBADDE6}"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0EDF-598E-42BA-B433-358E2FEC097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5975-1396-4585-B66F-C74984EA6849}"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8C4C-1270-44F9-81E0-CDBAADEC4BE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400E-8A56-4292-BCEC-58AC0F23AA99}" type="datetime">
              <a:rPr b="0" lang="en-US" sz="1200" spc="-1" strike="noStrike">
                <a:solidFill>
                  <a:srgbClr val="fff39d"/>
                </a:solidFill>
                <a:latin typeface="Century Schoolbook"/>
              </a:rPr>
              <a:t>07/28/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5FED-1537-4CA8-BCF4-517502F8EAFA}"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9D21-CC5A-4A91-8242-67A921B8DC14}"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AE31-1164-4ABC-8926-E5B63BF282A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E61A9-2AD2-4079-ABFF-50919BBF5735}"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04BC-9917-4A47-BDE2-8B1F0B1AAF9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258E8-0088-42F6-88F1-6AC85F9A0793}"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AAE9B-3436-4CD0-B16A-8A6A8B217AF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0B3C-9EE3-4294-98E4-E38A00D743C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FF3C-EE61-4F98-846A-A243447031D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DF22-C0E6-40D6-8357-9A363AEAE14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A14E-327B-4652-A4CA-8F1685591102}"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23C2-F424-471D-87CF-FA8C965DBB0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ACA3-4FFE-449A-8722-FF66164B956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4141-07EE-4D8C-9DB1-837D58AD6CD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6F7A-4A64-4B80-8577-F2A1EB2A925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05E07-1A34-4A9E-96D9-E8725798A77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F0C85-C1D3-4A3B-96BC-328C518414E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A001-F5FB-41E5-B258-E0C252EF8BC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78D3E-04F0-44A4-B337-765258D5285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C791-D16B-4F79-A389-F825646C7BE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CD33-FDDB-47B6-8C99-EBED99F1BCD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B8B3E-201D-43D4-9064-ED6FE5AC0A4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CD47-7187-4B33-8421-B355D95E727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7C95-3A00-4E5B-A820-60E27AF6694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ACEB-7DE8-4B60-9A2D-3A4E1BDAF53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DD49-2297-487B-8A06-78A78203767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4A58-B39D-4075-B1FB-4CC0720D495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8A32-C395-42A7-8C31-ACD91AB141F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8B47-55E8-44C2-BC36-8B663813E221}"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029C3-849E-44AA-8E1B-E924D9408A0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BE2C-65E8-4016-9321-B649E9F0F1F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FD04-495F-4EFD-BA36-0E632F63FE31}"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F3CE-306A-471C-9E38-7E92B0BF598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2951A-0676-4EC2-B26D-6DCBE539D731}"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B2B1-89D1-4CBA-9733-166C906BE3F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C41D-FD9D-4CC6-B11F-1FF4A87A1DC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3AD0-4C84-45E3-80DC-4C87E6B1E4E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3D4E-35BE-4345-99D6-4A91DE14A81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4B778-A376-41C9-AA29-AFA423ABBF7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