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B5A4-9BE6-446E-89AF-21DFC79ED80B}"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DC11-B6D8-43F5-A6A7-2C924BF359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DA316-BC82-48D1-B04E-AB25AFD45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65B60-DAD0-446D-AA22-52155B28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589CE-8171-4240-A809-7B79FE60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54916-A3DD-4CFB-9A3C-1D1CA25AF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7E8FD-7AC5-4A8E-9C04-117D73401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967A5-D4F1-4293-996A-276C8359C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BAC2F-F52A-4468-9678-BFDFD4821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DC79-F052-4E67-8A94-BD5DEF807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71C28-B466-47FF-BC3A-41253F991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84E62-7925-42A4-8E61-0BE993CF6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AD44C-22B0-4424-A130-61B75C9D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B6F5-D2EC-48A8-BA6D-9D6BE34A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25C19-2D6E-4409-A29C-CE0555132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2AFA2-3D94-4C06-8F99-D76363B07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722E5-0912-4A8F-A960-2CACAEED0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7E7D5-3C88-4538-A3A2-D614EF8E9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38C76-67AB-4324-B4F6-1FA97F507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636220-6A7B-4EC7-8F2A-F91839175B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4DC4FA-200B-4021-8B2A-0A192A1EE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958A78-255C-4CB6-96DE-202C554CF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C7A47B-C015-4095-9AD4-77217397F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5A0A88-61A8-4E19-B0C1-B931A08300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E82D4-6FB3-4267-9F21-6D9C9074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C5C17F-EA2C-4A14-A9F0-8B0F1A7F2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58E9C0-61FD-4CE0-8E6E-906B87794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3680BE-CD9C-4C49-9563-838427771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8CF452-1D2C-4B11-99E2-E636307B6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63804E-96DC-453F-AD75-4F67396B1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913984A-CBF1-41D9-88E9-010DEEBB6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0F8F06-9B1F-4544-A7C9-9BFC7A6A4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63BE1-815E-4B95-84CC-8F8160FF6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B338D-25A7-43F3-AEC4-1F93EF002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9D1C2-0F4B-452A-B109-9DE424461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AEF47-9C39-489F-A1DC-2671B357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B7950-0EA2-4622-9B5B-6F67411F9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9BA43-06F1-43B5-8164-71C20E0F2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9BDDA-6F68-413B-9DD8-D13290B55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B5A3A-D82C-45A7-BFA1-37D5CBE63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87B19-D342-4223-AC8C-18D65C7D8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EF3A0-D4C4-4855-96E8-BF4C1976A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50CA0-5C7C-4B1D-A395-6688194C8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2E5B1-BA3E-4E1E-AEDC-3F2A65A410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ABF4F6-E903-4705-820E-5AA4B4CE6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ACBAA0-1B58-4355-B6BD-6DCF3C4C72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8E416-B42C-4F28-8FF4-48C43A746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319AE5-5F18-49B7-B917-2401C1BB5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F97BB4-9852-4763-8DC6-EA084DD5B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24B30B-FCA0-4E05-A76C-89B4575D5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A97D5B-4523-4497-B0C0-895B607BE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A47AFC-EBD0-4207-A69E-3A829C837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77FA57-56C9-4A75-9782-86E688D0A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8E6315-8D1F-42F5-8A17-5F33E5686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F79613-3058-46FB-AC48-279454B8C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25A301-C1D5-4D40-B286-2277C75B2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30E67B-CBB1-4F35-A74D-2563454D93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F6C12-A08A-43D1-8CD3-6F8651109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F4A1E4B-DDAE-4C6B-BB73-C4E6973765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8A1341E-10EA-4C37-8AC0-30AA684224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558403-D6F3-45E9-BD73-0734A7F04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5E9A217-823B-41F9-ADC4-475B59F128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59413E2-ABFE-41B0-9A3C-B31654BA1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9B4D30-3F62-42F5-B7A4-CAD00867D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D00F49-0152-4ACA-9DD5-526D67B04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44EC7D-5DD6-45B1-BA98-DF635681E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0F0E48-5D36-42F7-A4F9-83A13C897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7C7C92-8102-4C7D-A08D-55AA35AE7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3FC8-F1FE-4956-9E1B-57CFB80C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3A1D6C-5820-421F-B435-66C7E610C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79A890-12FD-4A9E-A17C-B59E8194C6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B74E7D3-A37A-43C6-BD15-204FF07792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56FB78D-7350-4BC9-AB11-6C9C89781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ED16E3F-E411-43AB-984C-844C1DA46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575182-F852-4210-8354-BC930D008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3FD3B8-14DF-49AB-94EB-9DAFDD965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F709CC-105B-4252-A2F7-4B238D314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3DF71C-CBBC-4A7F-A8A0-43BF54025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11A31A-179F-40BE-864A-D73FBA396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33D0-120B-4DF7-B265-79806934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6091CB-E978-4ABF-B363-97A0F6E8D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9A1616-2907-46C5-AD39-29B52DD52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BA9EDF-B0ED-4F95-BBA7-00D539C5E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223507-7EB7-4FDA-8C94-B8D19046B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DAD3184-76DC-46D4-AC78-52EADB835A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44E1-2CFD-4DD6-9543-D93E40DA5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653E-62F0-4E3F-A8A0-5C9616542B9D}"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CAF9-7266-4386-8C69-80B89663235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EA6C-89A8-426F-BF33-3C58DF844034}"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4E7F-2DAC-47F4-A1C1-C8A3D30BFB4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CE2C-59BC-4D22-8195-236C85D28BD2}"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FE7F-6CEA-460F-9FB7-46AD48EBC68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7D30-28C5-4D8F-AEAE-99CC2261D754}" type="datetime">
              <a:rPr b="0" lang="en-US" sz="1200" spc="-1" strike="noStrike">
                <a:solidFill>
                  <a:srgbClr val="fff39d"/>
                </a:solidFill>
                <a:latin typeface="Century Schoolbook"/>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053C-D764-4D2C-B789-ED48E600444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CB72-9A7F-43F4-A85F-B8C07AA4F84E}"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C150-A70C-4D1D-851A-192CF63A5B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00DF-8F58-4810-B78C-F1578AA3FE5E}"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5A84-9CE4-4D97-B111-3EF0F9C87D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8A70-8E1C-4705-B9FC-416BCC51DB40}"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3209-4FB4-4039-9323-A931FC21041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C395-16FE-47C7-A382-123B1422292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C1A6-3D41-4FCA-8089-5D36CC1E412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6A68-5BFF-4B97-911B-92E0764D9B6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5B4F-7670-420D-A016-BD9646CB1B2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9AC9-D190-4EA1-B32F-9C6AE10DF9C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4913-43A9-48F5-90F1-BDD71CC541D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9EDA-C5C6-4A05-B45B-3BECAC06715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23AF-EC71-41F0-B112-DE194F4E913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00D3-D720-4CC0-A3E3-76361B6839E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F99-D34F-4FB9-8CB4-92C052ADA68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76EB-F7E2-42E6-8873-D25721989FC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F2EB-8467-46EF-8D11-5747A6E4C7E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CC48-2F1D-4336-8CBA-48BFA28219B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2002-1246-4914-B454-4FA29F09CEC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20D8-5B74-418F-8452-20AFE5D464B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C554-E0C3-45DF-82F4-EB62736DF0A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B540-9045-44B1-AFEC-80CB812A327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9A0E-3873-4300-9E52-B95391B2996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3AA6-977B-44FD-968F-51D6EB56895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F7CA-319A-4605-A2A7-C62777A25DE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E191-69E7-45B7-89F8-A5E97CE4017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69A9-64C6-4368-8A21-BCDBFFEFCC54}"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0392-FAAD-4D6C-9832-CEE1296E059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EB6B-65EA-46F8-9A87-17DD9E6E29D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D393-D67F-4EC5-B91B-64C798BC19D8}"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63F6-C53E-45F1-B228-310BF6040E4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72E5-F458-4B2C-B301-06921E1431DD}"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348F-4348-41A1-B3CA-9A656758B28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9D90-F88C-40A6-A49D-A94A322D275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0C97-8F77-4F12-9B07-89E56956C86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3A32-CC6F-4DAC-BFE6-2C6B2341794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3B48-08A6-41C0-B4C4-55276A3315A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