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D3F7-65BE-4D0C-A3E4-3AADA462D9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CA3-33C1-42AD-98A8-5F0AF55E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1E9-B9E3-4DD9-B3F4-705CF2AB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352-339B-4DA9-98A0-EAFE7854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30B-92F9-4C60-BAB5-E93D6D3A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853-090C-4D81-BF03-1ED33D53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40A-9124-4C57-B82D-8DE4602C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8BD-E14D-4616-8E7D-C5553ADF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550-5704-487C-969C-86C9B96D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1DE-2357-4AA9-8C65-30A9F812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0A5-2B0D-45F9-8F2D-ACF60C03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EC9-926D-47EA-8B72-0FD1C307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A6D-6F59-4546-B94D-D87E9E6B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A423-BFE6-4B08-A05E-2CBE21029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eec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914400"/>
          <a:ext cx="6858000" cy="5211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 rot="16200000">
            <a:off x="-65376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8088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8088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1371600" y="1447920"/>
            <a:ext cx="6934320" cy="365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3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066680"/>
          <a:ext cx="6858000" cy="5059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304920" y="48769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380880" y="10666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3"/>
          <p:cNvSpPr/>
          <p:nvPr/>
        </p:nvSpPr>
        <p:spPr>
          <a:xfrm>
            <a:off x="1371600" y="403848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581280" y="2514600"/>
            <a:ext cx="14479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990720"/>
          <a:ext cx="6858000" cy="5135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41"/>
          <p:cNvSpPr/>
          <p:nvPr/>
        </p:nvSpPr>
        <p:spPr>
          <a:xfrm rot="16200000">
            <a:off x="-652320" y="32450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33520" y="2743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33520" y="1752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533520" y="1066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3"/>
          <p:cNvSpPr/>
          <p:nvPr/>
        </p:nvSpPr>
        <p:spPr>
          <a:xfrm flipV="1">
            <a:off x="1295280" y="4495320"/>
            <a:ext cx="69343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V="1">
            <a:off x="5562720" y="51051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1295280" y="5029200"/>
            <a:ext cx="419112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6095880" y="1447920"/>
            <a:ext cx="3048120" cy="32727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3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 flipV="1">
            <a:off x="5334120" y="5028480"/>
            <a:ext cx="30456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990720"/>
          <a:ext cx="6705720" cy="513540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533520" y="1828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04920" y="12193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 flipV="1">
            <a:off x="1371600" y="2666880"/>
            <a:ext cx="670572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V="1">
            <a:off x="6781680" y="289548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>
            <a:off x="1295280" y="2971800"/>
            <a:ext cx="54864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2362320" y="411480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40 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6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66294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7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71600" y="914400"/>
          <a:ext cx="6934320" cy="521172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41"/>
          <p:cNvSpPr/>
          <p:nvPr/>
        </p:nvSpPr>
        <p:spPr>
          <a:xfrm rot="16200000">
            <a:off x="-65232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 flipV="1">
            <a:off x="1371600" y="914040"/>
            <a:ext cx="419112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371600" y="990720"/>
            <a:ext cx="4114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5562720" y="990720"/>
            <a:ext cx="0" cy="5181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8"/>
          <p:cNvSpPr/>
          <p:nvPr/>
        </p:nvSpPr>
        <p:spPr>
          <a:xfrm>
            <a:off x="6172200" y="2209680"/>
            <a:ext cx="259092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50 meters away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.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5410080" y="83808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6 L -0.45416 -0.43712 E">
                                      <p:cBhvr>
                                        <p:cTn id="20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914400"/>
          <a:ext cx="6553080" cy="52117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41"/>
          <p:cNvSpPr/>
          <p:nvPr/>
        </p:nvSpPr>
        <p:spPr>
          <a:xfrm rot="16200000">
            <a:off x="-652320" y="294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04920" y="495288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57200" y="3886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62012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5720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30492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V="1">
            <a:off x="1371600" y="1523520"/>
            <a:ext cx="6629400" cy="3505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371600" y="5105520"/>
            <a:ext cx="0" cy="990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3962520" y="434340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0"/>
          <p:cNvSpPr/>
          <p:nvPr/>
        </p:nvSpPr>
        <p:spPr>
          <a:xfrm>
            <a:off x="1295280" y="487692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0"/>
          <p:cNvSpPr/>
          <p:nvPr/>
        </p:nvSpPr>
        <p:spPr>
          <a:xfrm>
            <a:off x="380880" y="2971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1"/>
          <p:cNvSpPr/>
          <p:nvPr/>
        </p:nvSpPr>
        <p:spPr>
          <a:xfrm>
            <a:off x="304920" y="2057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3"/>
          <p:cNvSpPr/>
          <p:nvPr/>
        </p:nvSpPr>
        <p:spPr>
          <a:xfrm>
            <a:off x="1371600" y="39625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>
            <a:off x="13716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>
            <a:off x="2743200" y="4038480"/>
            <a:ext cx="0" cy="198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8"/>
          <p:cNvSpPr/>
          <p:nvPr/>
        </p:nvSpPr>
        <p:spPr>
          <a:xfrm>
            <a:off x="40384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9"/>
          <p:cNvSpPr/>
          <p:nvPr/>
        </p:nvSpPr>
        <p:spPr>
          <a:xfrm>
            <a:off x="5334120" y="4038480"/>
            <a:ext cx="7596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0"/>
          <p:cNvSpPr/>
          <p:nvPr/>
        </p:nvSpPr>
        <p:spPr>
          <a:xfrm>
            <a:off x="67816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1"/>
          <p:cNvSpPr/>
          <p:nvPr/>
        </p:nvSpPr>
        <p:spPr>
          <a:xfrm>
            <a:off x="800100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2"/>
          <p:cNvSpPr/>
          <p:nvPr/>
        </p:nvSpPr>
        <p:spPr>
          <a:xfrm>
            <a:off x="19810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3"/>
          <p:cNvSpPr/>
          <p:nvPr/>
        </p:nvSpPr>
        <p:spPr>
          <a:xfrm>
            <a:off x="29718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>
            <a:off x="327672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5"/>
          <p:cNvSpPr/>
          <p:nvPr/>
        </p:nvSpPr>
        <p:spPr>
          <a:xfrm>
            <a:off x="6400800" y="3962520"/>
            <a:ext cx="0" cy="2133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6"/>
          <p:cNvSpPr/>
          <p:nvPr/>
        </p:nvSpPr>
        <p:spPr>
          <a:xfrm>
            <a:off x="7543800" y="3962520"/>
            <a:ext cx="0" cy="2209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9907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8"/>
          <p:cNvSpPr/>
          <p:nvPr/>
        </p:nvSpPr>
        <p:spPr>
          <a:xfrm>
            <a:off x="228600" y="5867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9"/>
          <p:cNvSpPr/>
          <p:nvPr/>
        </p:nvSpPr>
        <p:spPr>
          <a:xfrm>
            <a:off x="3962520" y="1371600"/>
            <a:ext cx="5181480" cy="106884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was 10 meters away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tween 0 to 50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7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50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0,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3880" y="2514600"/>
          <a:ext cx="5943600" cy="3763800"/>
        </p:xfrm>
        <a:graphic>
          <a:graphicData uri="http://schemas.openxmlformats.org/drawingml/2006/table">
            <a:tbl>
              <a:tblPr/>
              <a:tblGrid>
                <a:gridCol w="1189080"/>
                <a:gridCol w="1187640"/>
                <a:gridCol w="1190520"/>
                <a:gridCol w="1187280"/>
                <a:gridCol w="118908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42"/>
          <p:cNvSpPr/>
          <p:nvPr/>
        </p:nvSpPr>
        <p:spPr>
          <a:xfrm>
            <a:off x="609480" y="5410080"/>
            <a:ext cx="8384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685800" y="4495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4"/>
          <p:cNvSpPr/>
          <p:nvPr/>
        </p:nvSpPr>
        <p:spPr>
          <a:xfrm>
            <a:off x="2514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4800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6"/>
          <p:cNvSpPr/>
          <p:nvPr/>
        </p:nvSpPr>
        <p:spPr>
          <a:xfrm>
            <a:off x="358128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7"/>
          <p:cNvSpPr/>
          <p:nvPr/>
        </p:nvSpPr>
        <p:spPr>
          <a:xfrm>
            <a:off x="5943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7086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685800" y="3733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685800" y="2895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1"/>
          <p:cNvSpPr/>
          <p:nvPr/>
        </p:nvSpPr>
        <p:spPr>
          <a:xfrm flipV="1">
            <a:off x="1447920" y="3657240"/>
            <a:ext cx="60195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3"/>
          <p:cNvSpPr/>
          <p:nvPr/>
        </p:nvSpPr>
        <p:spPr>
          <a:xfrm>
            <a:off x="1371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58514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5"/>
          <p:cNvSpPr/>
          <p:nvPr/>
        </p:nvSpPr>
        <p:spPr>
          <a:xfrm flipH="1">
            <a:off x="1600200" y="1371600"/>
            <a:ext cx="3581280" cy="4800600"/>
          </a:xfrm>
          <a:prstGeom prst="line">
            <a:avLst/>
          </a:prstGeom>
          <a:ln cap="rnd" w="76320">
            <a:solidFill>
              <a:srgbClr val="33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6"/>
          <p:cNvSpPr/>
          <p:nvPr/>
        </p:nvSpPr>
        <p:spPr>
          <a:xfrm>
            <a:off x="457200" y="6019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95280" y="1143000"/>
          <a:ext cx="6629400" cy="50292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5"/>
          <p:cNvSpPr/>
          <p:nvPr/>
        </p:nvSpPr>
        <p:spPr>
          <a:xfrm rot="16200000">
            <a:off x="-165960" y="420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2286000" y="6278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7"/>
          <p:cNvSpPr/>
          <p:nvPr/>
        </p:nvSpPr>
        <p:spPr>
          <a:xfrm flipH="1">
            <a:off x="4038120" y="762120"/>
            <a:ext cx="2210040" cy="556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8"/>
          <p:cNvSpPr/>
          <p:nvPr/>
        </p:nvSpPr>
        <p:spPr>
          <a:xfrm flipH="1">
            <a:off x="1218960" y="685800"/>
            <a:ext cx="1600200" cy="2514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67545E-006 L 0.00174 -0.44383 E">
                                      <p:cBhvr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9612E-007 L 0.35 -0.00208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3"/>
          <p:cNvSpPr/>
          <p:nvPr/>
        </p:nvSpPr>
        <p:spPr>
          <a:xfrm flipV="1">
            <a:off x="1371600" y="1599840"/>
            <a:ext cx="5334120" cy="4419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5"/>
          <p:cNvSpPr/>
          <p:nvPr/>
        </p:nvSpPr>
        <p:spPr>
          <a:xfrm flipV="1">
            <a:off x="3505320" y="441936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6"/>
          <p:cNvSpPr/>
          <p:nvPr/>
        </p:nvSpPr>
        <p:spPr>
          <a:xfrm flipH="1">
            <a:off x="1219320" y="4267080"/>
            <a:ext cx="228600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876920" y="396252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5"/>
          <p:cNvSpPr/>
          <p:nvPr/>
        </p:nvSpPr>
        <p:spPr>
          <a:xfrm>
            <a:off x="3429000" y="4114800"/>
            <a:ext cx="15228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914400"/>
          <a:ext cx="6553440" cy="50594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51814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5530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80010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295280" y="1905120"/>
            <a:ext cx="6553440" cy="17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4"/>
          <p:cNvSpPr/>
          <p:nvPr/>
        </p:nvSpPr>
        <p:spPr>
          <a:xfrm flipV="1">
            <a:off x="5181480" y="297144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1219320" y="2971800"/>
            <a:ext cx="3962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5943600" y="91440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304920" y="5867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50292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914400"/>
          <a:ext cx="6553440" cy="510552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50292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62485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754380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6"/>
          <p:cNvSpPr/>
          <p:nvPr/>
        </p:nvSpPr>
        <p:spPr>
          <a:xfrm flipV="1">
            <a:off x="1295280" y="914400"/>
            <a:ext cx="3886200" cy="502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7"/>
          <p:cNvSpPr/>
          <p:nvPr/>
        </p:nvSpPr>
        <p:spPr>
          <a:xfrm>
            <a:off x="1371600" y="990720"/>
            <a:ext cx="38098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8"/>
          <p:cNvSpPr/>
          <p:nvPr/>
        </p:nvSpPr>
        <p:spPr>
          <a:xfrm>
            <a:off x="5181480" y="1066680"/>
            <a:ext cx="76320" cy="4876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943600" y="259092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2"/>
          <p:cNvSpPr/>
          <p:nvPr/>
        </p:nvSpPr>
        <p:spPr>
          <a:xfrm>
            <a:off x="5029200" y="91440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143000" y="1523880"/>
            <a:ext cx="6781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1600" y="685800"/>
          <a:ext cx="6705720" cy="556272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457200" y="487692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533520" y="3809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24382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51814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88620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65530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79246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533520" y="2590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3520" y="1447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609480" y="609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3"/>
          <p:cNvSpPr/>
          <p:nvPr/>
        </p:nvSpPr>
        <p:spPr>
          <a:xfrm flipV="1">
            <a:off x="1295280" y="4495680"/>
            <a:ext cx="67820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81280" y="2514600"/>
            <a:ext cx="152424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121932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80880" y="5943600"/>
            <a:ext cx="762120" cy="3988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754380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457200" y="16002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80880" y="99072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3"/>
          <p:cNvSpPr/>
          <p:nvPr/>
        </p:nvSpPr>
        <p:spPr>
          <a:xfrm flipV="1">
            <a:off x="1371600" y="2666520"/>
            <a:ext cx="67057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380880" y="5943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45720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457200" y="1828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380880" y="914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V="1">
            <a:off x="1371600" y="914040"/>
            <a:ext cx="411480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0.07998 L -0.45 -0.42603 E">
                                      <p:cBhvr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9:02Z</dcterms:created>
  <dc:creator>Home</dc:creator>
  <dc:description/>
  <dc:language>en-US</dc:language>
  <cp:lastModifiedBy>RomaK</cp:lastModifiedBy>
  <dcterms:modified xsi:type="dcterms:W3CDTF">2015-09-03T12:35:07Z</dcterms:modified>
  <cp:revision>15</cp:revision>
  <dc:subject/>
  <dc:title>Reading position off a position vs time graph</dc:title>
</cp:coreProperties>
</file>