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F3E6-9BB0-4833-90AA-18C523AF5C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s Griffi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mber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ember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things happen because of this til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ys are long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ther is warm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hings happen because of this ti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ays are long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ther is warm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h (28 d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th (28 day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ficial satellites have four main u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the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ing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icial satellites have four main us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itoring th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erving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ing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sol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lun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 sol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A lun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9CB-8953-4131-9CFB-14550A0C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755-ECB3-4035-AA19-F3052C08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BF9-0A1D-45E4-8581-928DB6A7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A83-9EF1-45D3-BDA6-935FE5FA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7FD-B7DD-4F8B-A9CE-533D3CF8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D71-293F-496B-B987-8CA73A00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1FB-2D9A-4D98-AEF4-9719891C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278-F55A-4124-89B8-DC7F571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272-44D9-426C-BAC0-85F22C88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0DD-45F1-4A89-B3BD-C7CB8008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9D2-6FA7-41AD-BC34-FD5ADE9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2D2-EF35-43A9-80D4-172B541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5177-FB53-4FCC-BDC0-D6D6441F470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2130480"/>
            <a:ext cx="294948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076720" y="6093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rs Griff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farsidemoon"/>
          <p:cNvPicPr/>
          <p:nvPr/>
        </p:nvPicPr>
        <p:blipFill>
          <a:blip r:embed="rId1"/>
          <a:stretch/>
        </p:blipFill>
        <p:spPr>
          <a:xfrm>
            <a:off x="4211640" y="620640"/>
            <a:ext cx="44751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98600" y="38088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tilt of the Earth on its axis is also responsible for the s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609480" y="4572000"/>
            <a:ext cx="3506760" cy="1583640"/>
            <a:chOff x="609480" y="4572000"/>
            <a:chExt cx="3506760" cy="1583640"/>
          </a:xfrm>
        </p:grpSpPr>
        <p:sp>
          <p:nvSpPr>
            <p:cNvPr id="121" name="Text Box 4"/>
            <p:cNvSpPr/>
            <p:nvPr/>
          </p:nvSpPr>
          <p:spPr>
            <a:xfrm>
              <a:off x="609480" y="569592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H="1" flipV="1">
              <a:off x="1133280" y="4572000"/>
              <a:ext cx="120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1066680" y="61722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June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4876920" y="4648320"/>
            <a:ext cx="3506760" cy="1524960"/>
            <a:chOff x="4876920" y="4648320"/>
            <a:chExt cx="3506760" cy="1524960"/>
          </a:xfrm>
        </p:grpSpPr>
        <p:sp>
          <p:nvSpPr>
            <p:cNvPr id="125" name="Text Box 8"/>
            <p:cNvSpPr/>
            <p:nvPr/>
          </p:nvSpPr>
          <p:spPr>
            <a:xfrm>
              <a:off x="4876920" y="571356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7380360" y="4648320"/>
              <a:ext cx="237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5562720" y="61722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December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6781680" y="2209680"/>
          <a:ext cx="2116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380880" y="2209680"/>
          <a:ext cx="211608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3"/>
          <p:cNvSpPr/>
          <p:nvPr/>
        </p:nvSpPr>
        <p:spPr>
          <a:xfrm>
            <a:off x="3352680" y="1981080"/>
            <a:ext cx="2438640" cy="243864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4"/>
          <p:cNvGraphicFramePr/>
          <p:nvPr/>
        </p:nvGraphicFramePr>
        <p:xfrm>
          <a:off x="380880" y="2209680"/>
          <a:ext cx="1067040" cy="21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09680"/>
                    <a:ext cx="106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7848720" y="2209680"/>
          <a:ext cx="105732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209680"/>
                    <a:ext cx="10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6"/>
          <p:cNvSpPr/>
          <p:nvPr/>
        </p:nvSpPr>
        <p:spPr>
          <a:xfrm flipV="1">
            <a:off x="1143000" y="2057040"/>
            <a:ext cx="60948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754380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840200" y="644400"/>
            <a:ext cx="3692520" cy="1274760"/>
            <a:chOff x="4840200" y="644400"/>
            <a:chExt cx="3692520" cy="1274760"/>
          </a:xfrm>
        </p:grpSpPr>
        <p:pic>
          <p:nvPicPr>
            <p:cNvPr id="140" name="Picture 3" descr="earth in seasons"/>
            <p:cNvPicPr/>
            <p:nvPr/>
          </p:nvPicPr>
          <p:blipFill>
            <a:blip r:embed="rId1"/>
            <a:srcRect l="0" t="27301" r="38940" b="26390"/>
            <a:stretch/>
          </p:blipFill>
          <p:spPr>
            <a:xfrm>
              <a:off x="4840200" y="721080"/>
              <a:ext cx="36925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4"/>
            <p:cNvSpPr/>
            <p:nvPr/>
          </p:nvSpPr>
          <p:spPr>
            <a:xfrm>
              <a:off x="6079680" y="644400"/>
              <a:ext cx="116496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6260040" y="8190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264000" y="112464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263280" y="14544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225360" y="7318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wo things happen because of this ti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8600" y="2916360"/>
            <a:ext cx="812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cccc"/>
                </a:solidFill>
                <a:latin typeface="Comic Sans MS"/>
              </a:rPr>
              <a:t>The days are long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ff"/>
                </a:solidFill>
                <a:latin typeface="Comic Sans MS"/>
              </a:rPr>
              <a:t>The weather is warm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stronaut_Aldrin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raters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3124080" y="4952880"/>
            <a:ext cx="28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rater_AZearth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762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r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280" y="369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3ebf1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3" descr="EARTH"/>
          <p:cNvPicPr/>
          <p:nvPr/>
        </p:nvPicPr>
        <p:blipFill>
          <a:blip r:embed="rId1"/>
          <a:srcRect l="0" t="25136" r="0" b="0"/>
          <a:stretch/>
        </p:blipFill>
        <p:spPr>
          <a:xfrm>
            <a:off x="2508120" y="2552760"/>
            <a:ext cx="280836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ON"/>
          <p:cNvPicPr/>
          <p:nvPr/>
        </p:nvPicPr>
        <p:blipFill>
          <a:blip r:embed="rId2"/>
          <a:srcRect l="0" t="30915" r="0" b="0"/>
          <a:stretch/>
        </p:blipFill>
        <p:spPr>
          <a:xfrm>
            <a:off x="6392880" y="3524400"/>
            <a:ext cx="955800" cy="93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 rot="12442800">
            <a:off x="0" y="0"/>
            <a:ext cx="7086600" cy="6553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959400 h 6553080"/>
              <a:gd name="textAreaBottom" fmla="*/ 5593680 h 6553080"/>
            </a:gdLst>
            <a:ahLst/>
            <a:rect l="textAreaLeft" t="textAreaTop" r="textAreaRight" b="textAreaBottom"/>
            <a:pathLst>
              <a:path w="21600" h="21600">
                <a:moveTo>
                  <a:pt x="1636" y="6311"/>
                </a:moveTo>
                <a:cubicBezTo>
                  <a:pt x="951" y="7708"/>
                  <a:pt x="596" y="9243"/>
                  <a:pt x="596" y="10799"/>
                </a:cubicBezTo>
                <a:cubicBezTo>
                  <a:pt x="595" y="11115"/>
                  <a:pt x="610" y="11429"/>
                  <a:pt x="639" y="11743"/>
                </a:cubicBezTo>
                <a:lnTo>
                  <a:pt x="46" y="11798"/>
                </a:lnTo>
                <a:cubicBezTo>
                  <a:pt x="15" y="11466"/>
                  <a:pt x="0" y="11133"/>
                  <a:pt x="0" y="10800"/>
                </a:cubicBezTo>
                <a:cubicBezTo>
                  <a:pt x="-1" y="9153"/>
                  <a:pt x="376" y="7527"/>
                  <a:pt x="1101" y="6048"/>
                </a:cubicBezTo>
                <a:lnTo>
                  <a:pt x="-1324" y="4861"/>
                </a:lnTo>
                <a:lnTo>
                  <a:pt x="2686" y="3487"/>
                </a:lnTo>
                <a:lnTo>
                  <a:pt x="4061" y="7498"/>
                </a:lnTo>
                <a:lnTo>
                  <a:pt x="1636" y="631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6520" y="13636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th (28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347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3ebf1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rtificial satellites have four main 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Monitoring the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Observing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Exploring the sola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bs00925_"/>
          <p:cNvPicPr/>
          <p:nvPr/>
        </p:nvPicPr>
        <p:blipFill>
          <a:blip r:embed="rId1"/>
          <a:stretch/>
        </p:blipFill>
        <p:spPr>
          <a:xfrm>
            <a:off x="5403960" y="2584440"/>
            <a:ext cx="3303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60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857160" y="1452600"/>
            <a:ext cx="3686040" cy="3375000"/>
            <a:chOff x="857160" y="1452600"/>
            <a:chExt cx="3686040" cy="3375000"/>
          </a:xfrm>
        </p:grpSpPr>
        <p:sp>
          <p:nvSpPr>
            <p:cNvPr id="65" name="Oval 8"/>
            <p:cNvSpPr/>
            <p:nvPr/>
          </p:nvSpPr>
          <p:spPr>
            <a:xfrm>
              <a:off x="3747960" y="148428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EARTH"/>
            <p:cNvPicPr/>
            <p:nvPr/>
          </p:nvPicPr>
          <p:blipFill>
            <a:blip r:embed="rId2"/>
            <a:srcRect l="0" t="26637" r="2189" b="7074"/>
            <a:stretch/>
          </p:blipFill>
          <p:spPr>
            <a:xfrm>
              <a:off x="857160" y="2863800"/>
              <a:ext cx="20574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4114440" y="1452600"/>
              <a:ext cx="4287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1"/>
            <p:cNvSpPr/>
            <p:nvPr/>
          </p:nvSpPr>
          <p:spPr>
            <a:xfrm flipV="1">
              <a:off x="1860480" y="1544400"/>
              <a:ext cx="2038320" cy="151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20428800">
              <a:off x="1790640" y="2612880"/>
              <a:ext cx="2530440" cy="74520"/>
            </a:xfrm>
            <a:prstGeom prst="triangle">
              <a:avLst>
                <a:gd name="adj" fmla="val 9353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586320" y="5468760"/>
            <a:ext cx="763560" cy="720720"/>
            <a:chOff x="3586320" y="5468760"/>
            <a:chExt cx="763560" cy="720720"/>
          </a:xfrm>
        </p:grpSpPr>
        <p:sp>
          <p:nvSpPr>
            <p:cNvPr id="72" name="AutoShape 15"/>
            <p:cNvSpPr/>
            <p:nvPr/>
          </p:nvSpPr>
          <p:spPr>
            <a:xfrm flipH="1">
              <a:off x="3987360" y="5468760"/>
              <a:ext cx="360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586320" y="5472000"/>
              <a:ext cx="763560" cy="70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780000" y="404640"/>
            <a:ext cx="4321080" cy="2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77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" name="Picture 6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857160" y="2863800"/>
            <a:ext cx="205740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455840" y="372960"/>
            <a:ext cx="794880" cy="807840"/>
            <a:chOff x="1455840" y="372960"/>
            <a:chExt cx="794880" cy="807840"/>
          </a:xfrm>
        </p:grpSpPr>
        <p:sp>
          <p:nvSpPr>
            <p:cNvPr id="82" name="Oval 8"/>
            <p:cNvSpPr/>
            <p:nvPr/>
          </p:nvSpPr>
          <p:spPr>
            <a:xfrm>
              <a:off x="1455840" y="404640"/>
              <a:ext cx="76320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9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1822320" y="372960"/>
              <a:ext cx="42840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10"/>
          <p:cNvSpPr/>
          <p:nvPr/>
        </p:nvSpPr>
        <p:spPr>
          <a:xfrm flipH="1" flipV="1">
            <a:off x="1453680" y="853920"/>
            <a:ext cx="406440" cy="220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 rot="16726200">
            <a:off x="788400" y="1794240"/>
            <a:ext cx="2147760" cy="38736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660840" y="5442120"/>
            <a:ext cx="795240" cy="807840"/>
            <a:chOff x="3660840" y="5442120"/>
            <a:chExt cx="795240" cy="807840"/>
          </a:xfrm>
        </p:grpSpPr>
        <p:sp>
          <p:nvSpPr>
            <p:cNvPr id="88" name="Oval 14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15" descr="MOON"/>
            <p:cNvPicPr/>
            <p:nvPr/>
          </p:nvPicPr>
          <p:blipFill>
            <a:blip r:embed="rId4"/>
            <a:srcRect l="48465" t="31608" r="3750" b="4857"/>
            <a:stretch/>
          </p:blipFill>
          <p:spPr>
            <a:xfrm>
              <a:off x="4027320" y="5442120"/>
              <a:ext cx="42876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6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780000" y="333360"/>
            <a:ext cx="43210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93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1666800" y="2803680"/>
            <a:ext cx="2057400" cy="1963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 rot="13276800">
            <a:off x="247320" y="2103480"/>
            <a:ext cx="2558880" cy="65232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237960" y="1284120"/>
            <a:ext cx="776160" cy="798840"/>
            <a:chOff x="237960" y="1284120"/>
            <a:chExt cx="776160" cy="798840"/>
          </a:xfrm>
        </p:grpSpPr>
        <p:sp>
          <p:nvSpPr>
            <p:cNvPr id="100" name="Oval 10"/>
            <p:cNvSpPr/>
            <p:nvPr/>
          </p:nvSpPr>
          <p:spPr>
            <a:xfrm>
              <a:off x="237960" y="1315440"/>
              <a:ext cx="745200" cy="739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Picture 11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595800" y="1284120"/>
              <a:ext cx="418320" cy="79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12"/>
          <p:cNvSpPr/>
          <p:nvPr/>
        </p:nvSpPr>
        <p:spPr>
          <a:xfrm flipH="1" flipV="1">
            <a:off x="460080" y="2043000"/>
            <a:ext cx="2236680" cy="99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rot="12847200">
            <a:off x="754920" y="1616040"/>
            <a:ext cx="485640" cy="641520"/>
          </a:xfrm>
          <a:custGeom>
            <a:avLst/>
            <a:gdLst>
              <a:gd name="textAreaLeft" fmla="*/ 159120 w 485640"/>
              <a:gd name="textAreaRight" fmla="*/ 331920 w 485640"/>
              <a:gd name="textAreaTop" fmla="*/ 83160 h 641520"/>
              <a:gd name="textAreaBottom" fmla="*/ 558360 h 6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77" y="2647"/>
                  <a:pt x="14754" y="5080"/>
                  <a:pt x="14754" y="10800"/>
                </a:cubicBezTo>
                <a:cubicBezTo>
                  <a:pt x="14754" y="16520"/>
                  <a:pt x="18177" y="189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3643200" y="5442120"/>
            <a:ext cx="812880" cy="807840"/>
            <a:chOff x="3643200" y="5442120"/>
            <a:chExt cx="812880" cy="807840"/>
          </a:xfrm>
        </p:grpSpPr>
        <p:sp>
          <p:nvSpPr>
            <p:cNvPr id="105" name="Oval 15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16" descr="MOON"/>
            <p:cNvPicPr/>
            <p:nvPr/>
          </p:nvPicPr>
          <p:blipFill>
            <a:blip r:embed="rId4"/>
            <a:srcRect l="19968" t="31608" r="3750" b="4857"/>
            <a:stretch/>
          </p:blipFill>
          <p:spPr>
            <a:xfrm>
              <a:off x="3772080" y="5442120"/>
              <a:ext cx="68400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7"/>
            <p:cNvSpPr/>
            <p:nvPr/>
          </p:nvSpPr>
          <p:spPr>
            <a:xfrm>
              <a:off x="3643200" y="5470560"/>
              <a:ext cx="328680" cy="74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8"/>
          <p:cNvSpPr/>
          <p:nvPr/>
        </p:nvSpPr>
        <p:spPr>
          <a:xfrm>
            <a:off x="4211640" y="6524640"/>
            <a:ext cx="43927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851280" y="333360"/>
            <a:ext cx="42498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Eclip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1" name="Picture 3" descr="Lunar eclipse"/>
          <p:cNvPicPr/>
          <p:nvPr/>
        </p:nvPicPr>
        <p:blipFill>
          <a:blip r:embed="rId1"/>
          <a:stretch/>
        </p:blipFill>
        <p:spPr>
          <a:xfrm>
            <a:off x="1143000" y="4940280"/>
            <a:ext cx="692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lar eclipse"/>
          <p:cNvPicPr/>
          <p:nvPr/>
        </p:nvPicPr>
        <p:blipFill>
          <a:blip r:embed="rId2"/>
          <a:srcRect l="0" t="0" r="0" b="4175"/>
          <a:stretch/>
        </p:blipFill>
        <p:spPr>
          <a:xfrm>
            <a:off x="1143000" y="1752480"/>
            <a:ext cx="693432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1440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A sol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 lun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clip91a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457200" y="5029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clip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oonfullclem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2280" y="1522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ll 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53:57Z</dcterms:created>
  <dc:creator>Bella Griffiths</dc:creator>
  <dc:description/>
  <dc:language>en-US</dc:language>
  <cp:lastModifiedBy>RomaK</cp:lastModifiedBy>
  <dcterms:modified xsi:type="dcterms:W3CDTF">2015-09-03T12:34:56Z</dcterms:modified>
  <cp:revision>9</cp:revision>
  <dc:subject/>
  <dc:title>Slide 1</dc:title>
</cp:coreProperties>
</file>