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CHIMES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A0580-FDC8-4535-BB07-D8C87B4087DF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apter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wton’s Law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hapter 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ewton’s Law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aw of Grav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y mass exerts a force of attraction on every other mas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ath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 = 6.67  10-11  N·m2/kg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Law of Gravit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very mass exerts a force of attraction on every other mas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math…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 = 6.67  10-11  N·m2/kg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vity Ques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d the Moon exert a gravitational force on the Apollo astronaut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kind of objects can exert a gravitational force on other object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ravity Quest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id the Moon exert a gravitational force on the Apollo astronauts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at kind of objects can exert a gravitational force on other objects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vity Ques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onstant G is a rather small number.  What kind of objects can exert strong gravitational forces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the distance between two objects in space is doubled, then what happens to the gravitational force between them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ravity Quest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constant G is a rather small number.  What kind of objects can exert strong gravitational forces?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f the distance between two objects in space is doubled, then what happens to the gravitational force between them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weight of an object FW is the gravitational force acting downward on the objec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W = m 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eigh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weight of an object FW is the gravitational force acting downward on the object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W = m 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nsio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Tensile Forc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nsion is the force in a string, chain or tendon that is applied tending to stretch i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ension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(Tensile Force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ension is the force in a string, chain or tendon that is applied tending to stretch it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rmal Forc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rmal force on an object that is being supported by a surface is the component of the supporting force that is perpendicular to the surfa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rmal Forc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normal force on an object that is being supported by a surface is the component of the supporting force that is perpendicular to the surfac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N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efficient of Fricti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inetic Fri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f = mk FN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tic Fri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f  ms F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most cases, mk  &lt; m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efficient of Friction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Kinetic Fric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f = mk FN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atic Fric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f  ms FN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 most cases, mk  &lt; m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 to problems.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n to problems..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wton’s Law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wton’s First La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w of Inert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wton’s Second La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 = 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wton’s Third La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tion Rea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w of Universal Gravi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ewton’s Law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ewton’s First Law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aw of Inerti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ewton’s Second Law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 = m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ewton’s Third Law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ction Reac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aw of Universal Gravit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measured in kilogram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the measure of the inertia of an objec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ertia is the natural tendency of a body resist changes in mo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as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s measured in kilogram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s the measure of the inertia of an object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ertia is the natural tendency of a body resist changes in motion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gency of chang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anges the velocit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a vector quantit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..measured in Newton’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or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agency of chang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hanges the velocit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s a vector quantit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...measured in Newton’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wton’s First La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w of Inert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body remains at rest or moves in a straight line at a constant speed unless acted upon by a force.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ewton’s First Law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aw of Inerti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 body remains at rest or moves in a straight line at a constant speed unless acted upon by a force.”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wton’s First La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 mention of chemical com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 mention of terrestrial or celestial real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ce required when object changes mo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celeration is the observable consequence of forces act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ewton’s First Law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 mention of chemical composi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 mention of terrestrial or celestial realm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orce required when object changes mo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cceleration is the observable consequence of forces act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wton’s Second La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m of the Forces acting on a body is proportional to the acceleration that the body experien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  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 F = (mass) 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ewton’s Second Law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Sum of the Forces acting on a body is proportional to the acceleration that the body experienc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  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 F = (mass) 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t For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et For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wton’s Third La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tion-Rea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every action force there is an equal and opposite reaction for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ewton’s Third Law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ction-Reac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or every action force there is an equal and opposite reaction for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3D440-7160-48B0-B817-452A368D7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807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3B879-7F79-48B9-B161-DCB938A9E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469B7-76EC-40CD-ABFE-B3704A921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5990F-8560-4634-ACFF-561EA3B26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178E5-3DBC-4C3E-9809-20583D5EF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FCBDF-5A3B-4049-870B-29778DEA1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07288-DB52-49DC-9E10-D44C43208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74B19-FCBC-4EE2-B573-242658BD9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F2ED2-E678-47AD-979E-8318AB393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685800" y="2854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360D8-82FB-41AA-B71C-CC7542923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BAB6E-4EB4-4861-A893-6C977D1F0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C819B-A44F-4AB0-8312-A1A0CE1BB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6848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CDF7F-193E-46A9-B7EC-4B8A522AF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C9FD7-5342-4B0F-9C22-2DCA6E5A0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85800" y="3807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26CB9-3A3A-460E-AB8E-F37027D82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6848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3AEAC-6E9B-40C7-A4D2-4C04C7FD1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31380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94144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68580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31380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594144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DA6AF-182D-4330-B43F-262840744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0E5EA-791D-4E37-A7B7-E8ADAC9A7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C87E1-042A-4EF8-A371-49720E3B9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5CDDC-4FC7-4F39-A4DC-2E39F1E61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2854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D13FC-C553-4506-BD51-C7D021107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DF148-0208-4984-8C99-81958CEDB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6B493-53FE-4795-AB28-C942E71A0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ECF38-D178-4FE6-A968-5593A8F4B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6477120"/>
            <a:ext cx="9131400" cy="3682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3300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2394aa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5960" y="60213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021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16112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BC098-624E-4AC6-BD2B-50695ABDCCB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1001520" y="6529320"/>
            <a:ext cx="724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NEX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3161880" y="652932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REVIOU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" name="Picture 10" descr="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2846520" y="6519960"/>
            <a:ext cx="307800" cy="304560"/>
          </a:xfrm>
          <a:prstGeom prst="rect">
            <a:avLst/>
          </a:prstGeom>
          <a:ln w="0">
            <a:noFill/>
          </a:ln>
        </p:spPr>
      </p:pic>
      <p:pic>
        <p:nvPicPr>
          <p:cNvPr id="9" name="Picture 11" descr="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685800" y="6519960"/>
            <a:ext cx="306360" cy="304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0" y="3352680"/>
            <a:ext cx="9142560" cy="3503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Rectangle 3"/>
          <p:cNvSpPr/>
          <p:nvPr/>
        </p:nvSpPr>
        <p:spPr>
          <a:xfrm>
            <a:off x="0" y="2971800"/>
            <a:ext cx="9142560" cy="38847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3300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8" name="Group 4"/>
          <p:cNvGrpSpPr/>
          <p:nvPr/>
        </p:nvGrpSpPr>
        <p:grpSpPr>
          <a:xfrm>
            <a:off x="5345280" y="114480"/>
            <a:ext cx="2631960" cy="3149280"/>
            <a:chOff x="5345280" y="114480"/>
            <a:chExt cx="2631960" cy="3149280"/>
          </a:xfrm>
        </p:grpSpPr>
        <p:grpSp>
          <p:nvGrpSpPr>
            <p:cNvPr id="49" name="Group 5"/>
            <p:cNvGrpSpPr/>
            <p:nvPr/>
          </p:nvGrpSpPr>
          <p:grpSpPr>
            <a:xfrm>
              <a:off x="5691240" y="114480"/>
              <a:ext cx="2286000" cy="3149280"/>
              <a:chOff x="5691240" y="114480"/>
              <a:chExt cx="2286000" cy="3149280"/>
            </a:xfrm>
          </p:grpSpPr>
          <p:sp>
            <p:nvSpPr>
              <p:cNvPr id="50" name="Freeform 6"/>
              <p:cNvSpPr/>
              <p:nvPr/>
            </p:nvSpPr>
            <p:spPr>
              <a:xfrm>
                <a:off x="5691240" y="201600"/>
                <a:ext cx="2286000" cy="2809800"/>
              </a:xfrm>
              <a:custGeom>
                <a:avLst/>
                <a:gdLst/>
                <a:ahLst/>
                <a:rect l="l" t="t" r="r" b="b"/>
                <a:pathLst>
                  <a:path w="1440" h="1770">
                    <a:moveTo>
                      <a:pt x="812" y="0"/>
                    </a:moveTo>
                    <a:lnTo>
                      <a:pt x="901" y="33"/>
                    </a:lnTo>
                    <a:lnTo>
                      <a:pt x="986" y="78"/>
                    </a:lnTo>
                    <a:lnTo>
                      <a:pt x="1066" y="129"/>
                    </a:lnTo>
                    <a:lnTo>
                      <a:pt x="1140" y="187"/>
                    </a:lnTo>
                    <a:lnTo>
                      <a:pt x="1207" y="256"/>
                    </a:lnTo>
                    <a:lnTo>
                      <a:pt x="1265" y="330"/>
                    </a:lnTo>
                    <a:lnTo>
                      <a:pt x="1316" y="410"/>
                    </a:lnTo>
                    <a:lnTo>
                      <a:pt x="1361" y="492"/>
                    </a:lnTo>
                    <a:lnTo>
                      <a:pt x="1394" y="581"/>
                    </a:lnTo>
                    <a:lnTo>
                      <a:pt x="1419" y="673"/>
                    </a:lnTo>
                    <a:lnTo>
                      <a:pt x="1435" y="766"/>
                    </a:lnTo>
                    <a:lnTo>
                      <a:pt x="1439" y="862"/>
                    </a:lnTo>
                    <a:lnTo>
                      <a:pt x="1435" y="958"/>
                    </a:lnTo>
                    <a:lnTo>
                      <a:pt x="1419" y="1052"/>
                    </a:lnTo>
                    <a:lnTo>
                      <a:pt x="1394" y="1143"/>
                    </a:lnTo>
                    <a:lnTo>
                      <a:pt x="1361" y="1230"/>
                    </a:lnTo>
                    <a:lnTo>
                      <a:pt x="1316" y="1314"/>
                    </a:lnTo>
                    <a:lnTo>
                      <a:pt x="1265" y="1395"/>
                    </a:lnTo>
                    <a:lnTo>
                      <a:pt x="1207" y="1468"/>
                    </a:lnTo>
                    <a:lnTo>
                      <a:pt x="1140" y="1537"/>
                    </a:lnTo>
                    <a:lnTo>
                      <a:pt x="1066" y="1597"/>
                    </a:lnTo>
                    <a:lnTo>
                      <a:pt x="986" y="1646"/>
                    </a:lnTo>
                    <a:lnTo>
                      <a:pt x="901" y="1691"/>
                    </a:lnTo>
                    <a:lnTo>
                      <a:pt x="812" y="1724"/>
                    </a:lnTo>
                    <a:lnTo>
                      <a:pt x="721" y="1749"/>
                    </a:lnTo>
                    <a:lnTo>
                      <a:pt x="627" y="1765"/>
                    </a:lnTo>
                    <a:lnTo>
                      <a:pt x="533" y="1769"/>
                    </a:lnTo>
                    <a:lnTo>
                      <a:pt x="437" y="1765"/>
                    </a:lnTo>
                    <a:lnTo>
                      <a:pt x="344" y="1749"/>
                    </a:lnTo>
                    <a:lnTo>
                      <a:pt x="252" y="1724"/>
                    </a:lnTo>
                    <a:lnTo>
                      <a:pt x="165" y="1691"/>
                    </a:lnTo>
                    <a:lnTo>
                      <a:pt x="80" y="1646"/>
                    </a:lnTo>
                    <a:lnTo>
                      <a:pt x="0" y="1597"/>
                    </a:lnTo>
                    <a:lnTo>
                      <a:pt x="51" y="1524"/>
                    </a:lnTo>
                    <a:lnTo>
                      <a:pt x="125" y="1571"/>
                    </a:lnTo>
                    <a:lnTo>
                      <a:pt x="201" y="1609"/>
                    </a:lnTo>
                    <a:lnTo>
                      <a:pt x="281" y="1640"/>
                    </a:lnTo>
                    <a:lnTo>
                      <a:pt x="364" y="1662"/>
                    </a:lnTo>
                    <a:lnTo>
                      <a:pt x="446" y="1675"/>
                    </a:lnTo>
                    <a:lnTo>
                      <a:pt x="533" y="1680"/>
                    </a:lnTo>
                    <a:lnTo>
                      <a:pt x="618" y="1675"/>
                    </a:lnTo>
                    <a:lnTo>
                      <a:pt x="703" y="1662"/>
                    </a:lnTo>
                    <a:lnTo>
                      <a:pt x="785" y="1640"/>
                    </a:lnTo>
                    <a:lnTo>
                      <a:pt x="866" y="1609"/>
                    </a:lnTo>
                    <a:lnTo>
                      <a:pt x="941" y="1571"/>
                    </a:lnTo>
                    <a:lnTo>
                      <a:pt x="1013" y="1524"/>
                    </a:lnTo>
                    <a:lnTo>
                      <a:pt x="1080" y="1470"/>
                    </a:lnTo>
                    <a:lnTo>
                      <a:pt x="1140" y="1410"/>
                    </a:lnTo>
                    <a:lnTo>
                      <a:pt x="1194" y="1343"/>
                    </a:lnTo>
                    <a:lnTo>
                      <a:pt x="1240" y="1270"/>
                    </a:lnTo>
                    <a:lnTo>
                      <a:pt x="1281" y="1194"/>
                    </a:lnTo>
                    <a:lnTo>
                      <a:pt x="1312" y="1116"/>
                    </a:lnTo>
                    <a:lnTo>
                      <a:pt x="1332" y="1032"/>
                    </a:lnTo>
                    <a:lnTo>
                      <a:pt x="1345" y="947"/>
                    </a:lnTo>
                    <a:lnTo>
                      <a:pt x="1350" y="862"/>
                    </a:lnTo>
                    <a:lnTo>
                      <a:pt x="1345" y="775"/>
                    </a:lnTo>
                    <a:lnTo>
                      <a:pt x="1332" y="691"/>
                    </a:lnTo>
                    <a:lnTo>
                      <a:pt x="1312" y="608"/>
                    </a:lnTo>
                    <a:lnTo>
                      <a:pt x="1281" y="530"/>
                    </a:lnTo>
                    <a:lnTo>
                      <a:pt x="1240" y="452"/>
                    </a:lnTo>
                    <a:lnTo>
                      <a:pt x="1194" y="381"/>
                    </a:lnTo>
                    <a:lnTo>
                      <a:pt x="1140" y="314"/>
                    </a:lnTo>
                    <a:lnTo>
                      <a:pt x="1080" y="254"/>
                    </a:lnTo>
                    <a:lnTo>
                      <a:pt x="1013" y="201"/>
                    </a:lnTo>
                    <a:lnTo>
                      <a:pt x="941" y="154"/>
                    </a:lnTo>
                    <a:lnTo>
                      <a:pt x="866" y="114"/>
                    </a:lnTo>
                    <a:lnTo>
                      <a:pt x="785" y="85"/>
                    </a:lnTo>
                    <a:lnTo>
                      <a:pt x="788" y="78"/>
                    </a:lnTo>
                    <a:lnTo>
                      <a:pt x="812" y="0"/>
                    </a:lnTo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100000">
                    <a:srgbClr val="3333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Line 7"/>
              <p:cNvSpPr/>
              <p:nvPr/>
            </p:nvSpPr>
            <p:spPr>
              <a:xfrm flipV="1">
                <a:off x="5746680" y="2571480"/>
                <a:ext cx="227160" cy="409320"/>
              </a:xfrm>
              <a:prstGeom prst="line">
                <a:avLst/>
              </a:prstGeom>
              <a:ln cap="sq" w="255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" name="Line 8"/>
              <p:cNvSpPr/>
              <p:nvPr/>
            </p:nvSpPr>
            <p:spPr>
              <a:xfrm flipV="1">
                <a:off x="7008840" y="385920"/>
                <a:ext cx="79200" cy="156960"/>
              </a:xfrm>
              <a:prstGeom prst="line">
                <a:avLst/>
              </a:prstGeom>
              <a:ln cap="sq" w="255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" name="Line 9"/>
              <p:cNvSpPr/>
              <p:nvPr/>
            </p:nvSpPr>
            <p:spPr>
              <a:xfrm flipV="1">
                <a:off x="7142040" y="114480"/>
                <a:ext cx="79560" cy="156960"/>
              </a:xfrm>
              <a:prstGeom prst="line">
                <a:avLst/>
              </a:prstGeom>
              <a:ln cap="sq" w="255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Freeform 10"/>
              <p:cNvSpPr/>
              <p:nvPr/>
            </p:nvSpPr>
            <p:spPr>
              <a:xfrm>
                <a:off x="5999040" y="3021120"/>
                <a:ext cx="1335240" cy="242640"/>
              </a:xfrm>
              <a:custGeom>
                <a:avLst/>
                <a:gdLst/>
                <a:ahLst/>
                <a:rect l="l" t="t" r="r" b="b"/>
                <a:pathLst>
                  <a:path w="841" h="153">
                    <a:moveTo>
                      <a:pt x="3" y="98"/>
                    </a:moveTo>
                    <a:lnTo>
                      <a:pt x="20" y="80"/>
                    </a:lnTo>
                    <a:lnTo>
                      <a:pt x="44" y="65"/>
                    </a:lnTo>
                    <a:lnTo>
                      <a:pt x="89" y="43"/>
                    </a:lnTo>
                    <a:lnTo>
                      <a:pt x="140" y="30"/>
                    </a:lnTo>
                    <a:lnTo>
                      <a:pt x="188" y="19"/>
                    </a:lnTo>
                    <a:lnTo>
                      <a:pt x="253" y="9"/>
                    </a:lnTo>
                    <a:lnTo>
                      <a:pt x="314" y="3"/>
                    </a:lnTo>
                    <a:lnTo>
                      <a:pt x="386" y="0"/>
                    </a:lnTo>
                    <a:lnTo>
                      <a:pt x="475" y="1"/>
                    </a:lnTo>
                    <a:lnTo>
                      <a:pt x="567" y="6"/>
                    </a:lnTo>
                    <a:lnTo>
                      <a:pt x="632" y="14"/>
                    </a:lnTo>
                    <a:lnTo>
                      <a:pt x="700" y="27"/>
                    </a:lnTo>
                    <a:lnTo>
                      <a:pt x="765" y="47"/>
                    </a:lnTo>
                    <a:lnTo>
                      <a:pt x="799" y="66"/>
                    </a:lnTo>
                    <a:lnTo>
                      <a:pt x="820" y="82"/>
                    </a:lnTo>
                    <a:lnTo>
                      <a:pt x="840" y="108"/>
                    </a:lnTo>
                    <a:lnTo>
                      <a:pt x="806" y="122"/>
                    </a:lnTo>
                    <a:lnTo>
                      <a:pt x="748" y="133"/>
                    </a:lnTo>
                    <a:lnTo>
                      <a:pt x="676" y="141"/>
                    </a:lnTo>
                    <a:lnTo>
                      <a:pt x="608" y="148"/>
                    </a:lnTo>
                    <a:lnTo>
                      <a:pt x="526" y="151"/>
                    </a:lnTo>
                    <a:lnTo>
                      <a:pt x="437" y="152"/>
                    </a:lnTo>
                    <a:lnTo>
                      <a:pt x="352" y="152"/>
                    </a:lnTo>
                    <a:lnTo>
                      <a:pt x="263" y="151"/>
                    </a:lnTo>
                    <a:lnTo>
                      <a:pt x="164" y="143"/>
                    </a:lnTo>
                    <a:lnTo>
                      <a:pt x="85" y="135"/>
                    </a:lnTo>
                    <a:lnTo>
                      <a:pt x="20" y="120"/>
                    </a:lnTo>
                    <a:lnTo>
                      <a:pt x="0" y="109"/>
                    </a:lnTo>
                    <a:lnTo>
                      <a:pt x="3" y="98"/>
                    </a:lnTo>
                  </a:path>
                </a:pathLst>
              </a:custGeom>
              <a:gradFill rotWithShape="0">
                <a:gsLst>
                  <a:gs pos="0">
                    <a:srgbClr val="3333cc"/>
                  </a:gs>
                  <a:gs pos="100000">
                    <a:srgbClr val="0000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5" name="Oval 11"/>
            <p:cNvSpPr/>
            <p:nvPr/>
          </p:nvSpPr>
          <p:spPr>
            <a:xfrm>
              <a:off x="5345280" y="396720"/>
              <a:ext cx="2376360" cy="2372040"/>
            </a:xfrm>
            <a:prstGeom prst="ellipse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6" name="Group 12"/>
            <p:cNvGrpSpPr/>
            <p:nvPr/>
          </p:nvGrpSpPr>
          <p:grpSpPr>
            <a:xfrm>
              <a:off x="5345280" y="644400"/>
              <a:ext cx="2209680" cy="1760760"/>
              <a:chOff x="5345280" y="644400"/>
              <a:chExt cx="2209680" cy="1760760"/>
            </a:xfrm>
          </p:grpSpPr>
          <p:sp>
            <p:nvSpPr>
              <p:cNvPr id="57" name="Freeform 13"/>
              <p:cNvSpPr/>
              <p:nvPr/>
            </p:nvSpPr>
            <p:spPr>
              <a:xfrm>
                <a:off x="5657760" y="1289160"/>
                <a:ext cx="1800" cy="27000"/>
              </a:xfrm>
              <a:custGeom>
                <a:avLst/>
                <a:gdLst/>
                <a:ahLst/>
                <a:rect l="l" t="t" r="r" b="b"/>
                <a:pathLst>
                  <a:path w="1" h="17">
                    <a:moveTo>
                      <a:pt x="0" y="0"/>
                    </a:moveTo>
                    <a:lnTo>
                      <a:pt x="0" y="16"/>
                    </a:lnTo>
                    <a:lnTo>
                      <a:pt x="0" y="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Freeform 14"/>
              <p:cNvSpPr/>
              <p:nvPr/>
            </p:nvSpPr>
            <p:spPr>
              <a:xfrm>
                <a:off x="5695920" y="13381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16" y="0"/>
                    </a:lnTo>
                    <a:lnTo>
                      <a:pt x="16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Freeform 15"/>
              <p:cNvSpPr/>
              <p:nvPr/>
            </p:nvSpPr>
            <p:spPr>
              <a:xfrm>
                <a:off x="5823000" y="1273320"/>
                <a:ext cx="81000" cy="75960"/>
              </a:xfrm>
              <a:custGeom>
                <a:avLst/>
                <a:gdLst/>
                <a:ahLst/>
                <a:rect l="l" t="t" r="r" b="b"/>
                <a:pathLst>
                  <a:path w="51" h="48">
                    <a:moveTo>
                      <a:pt x="50" y="0"/>
                    </a:moveTo>
                    <a:lnTo>
                      <a:pt x="31" y="0"/>
                    </a:lnTo>
                    <a:lnTo>
                      <a:pt x="20" y="13"/>
                    </a:lnTo>
                    <a:lnTo>
                      <a:pt x="13" y="13"/>
                    </a:lnTo>
                    <a:lnTo>
                      <a:pt x="7" y="19"/>
                    </a:lnTo>
                    <a:lnTo>
                      <a:pt x="0" y="19"/>
                    </a:lnTo>
                    <a:lnTo>
                      <a:pt x="0" y="35"/>
                    </a:lnTo>
                    <a:lnTo>
                      <a:pt x="12" y="47"/>
                    </a:lnTo>
                    <a:lnTo>
                      <a:pt x="41" y="47"/>
                    </a:lnTo>
                    <a:lnTo>
                      <a:pt x="50" y="35"/>
                    </a:lnTo>
                    <a:lnTo>
                      <a:pt x="50" y="0"/>
                    </a:lnTo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" name="Freeform 16"/>
              <p:cNvSpPr/>
              <p:nvPr/>
            </p:nvSpPr>
            <p:spPr>
              <a:xfrm>
                <a:off x="5345280" y="1333440"/>
                <a:ext cx="715680" cy="932040"/>
              </a:xfrm>
              <a:custGeom>
                <a:avLst/>
                <a:gdLst/>
                <a:ahLst/>
                <a:rect l="l" t="t" r="r" b="b"/>
                <a:pathLst>
                  <a:path w="451" h="587">
                    <a:moveTo>
                      <a:pt x="107" y="0"/>
                    </a:moveTo>
                    <a:lnTo>
                      <a:pt x="99" y="16"/>
                    </a:lnTo>
                    <a:lnTo>
                      <a:pt x="64" y="47"/>
                    </a:lnTo>
                    <a:lnTo>
                      <a:pt x="56" y="75"/>
                    </a:lnTo>
                    <a:lnTo>
                      <a:pt x="30" y="95"/>
                    </a:lnTo>
                    <a:lnTo>
                      <a:pt x="12" y="135"/>
                    </a:lnTo>
                    <a:lnTo>
                      <a:pt x="12" y="159"/>
                    </a:lnTo>
                    <a:lnTo>
                      <a:pt x="0" y="201"/>
                    </a:lnTo>
                    <a:lnTo>
                      <a:pt x="16" y="219"/>
                    </a:lnTo>
                    <a:lnTo>
                      <a:pt x="56" y="272"/>
                    </a:lnTo>
                    <a:lnTo>
                      <a:pt x="68" y="265"/>
                    </a:lnTo>
                    <a:lnTo>
                      <a:pt x="139" y="265"/>
                    </a:lnTo>
                    <a:lnTo>
                      <a:pt x="172" y="278"/>
                    </a:lnTo>
                    <a:lnTo>
                      <a:pt x="169" y="319"/>
                    </a:lnTo>
                    <a:lnTo>
                      <a:pt x="193" y="374"/>
                    </a:lnTo>
                    <a:lnTo>
                      <a:pt x="191" y="389"/>
                    </a:lnTo>
                    <a:lnTo>
                      <a:pt x="201" y="406"/>
                    </a:lnTo>
                    <a:lnTo>
                      <a:pt x="186" y="445"/>
                    </a:lnTo>
                    <a:lnTo>
                      <a:pt x="204" y="494"/>
                    </a:lnTo>
                    <a:lnTo>
                      <a:pt x="214" y="532"/>
                    </a:lnTo>
                    <a:lnTo>
                      <a:pt x="226" y="556"/>
                    </a:lnTo>
                    <a:lnTo>
                      <a:pt x="239" y="586"/>
                    </a:lnTo>
                    <a:lnTo>
                      <a:pt x="263" y="582"/>
                    </a:lnTo>
                    <a:lnTo>
                      <a:pt x="302" y="560"/>
                    </a:lnTo>
                    <a:lnTo>
                      <a:pt x="320" y="533"/>
                    </a:lnTo>
                    <a:lnTo>
                      <a:pt x="319" y="515"/>
                    </a:lnTo>
                    <a:lnTo>
                      <a:pt x="342" y="500"/>
                    </a:lnTo>
                    <a:lnTo>
                      <a:pt x="338" y="474"/>
                    </a:lnTo>
                    <a:lnTo>
                      <a:pt x="373" y="432"/>
                    </a:lnTo>
                    <a:lnTo>
                      <a:pt x="378" y="398"/>
                    </a:lnTo>
                    <a:lnTo>
                      <a:pt x="369" y="386"/>
                    </a:lnTo>
                    <a:lnTo>
                      <a:pt x="373" y="372"/>
                    </a:lnTo>
                    <a:lnTo>
                      <a:pt x="365" y="360"/>
                    </a:lnTo>
                    <a:lnTo>
                      <a:pt x="391" y="327"/>
                    </a:lnTo>
                    <a:lnTo>
                      <a:pt x="391" y="310"/>
                    </a:lnTo>
                    <a:lnTo>
                      <a:pt x="427" y="282"/>
                    </a:lnTo>
                    <a:lnTo>
                      <a:pt x="450" y="207"/>
                    </a:lnTo>
                    <a:lnTo>
                      <a:pt x="417" y="226"/>
                    </a:lnTo>
                    <a:lnTo>
                      <a:pt x="388" y="218"/>
                    </a:lnTo>
                    <a:lnTo>
                      <a:pt x="392" y="200"/>
                    </a:lnTo>
                    <a:lnTo>
                      <a:pt x="363" y="180"/>
                    </a:lnTo>
                    <a:lnTo>
                      <a:pt x="349" y="132"/>
                    </a:lnTo>
                    <a:lnTo>
                      <a:pt x="321" y="93"/>
                    </a:lnTo>
                    <a:lnTo>
                      <a:pt x="321" y="66"/>
                    </a:lnTo>
                    <a:lnTo>
                      <a:pt x="306" y="65"/>
                    </a:lnTo>
                    <a:lnTo>
                      <a:pt x="296" y="69"/>
                    </a:lnTo>
                    <a:lnTo>
                      <a:pt x="254" y="54"/>
                    </a:lnTo>
                    <a:lnTo>
                      <a:pt x="243" y="65"/>
                    </a:lnTo>
                    <a:lnTo>
                      <a:pt x="234" y="78"/>
                    </a:lnTo>
                    <a:lnTo>
                      <a:pt x="211" y="53"/>
                    </a:lnTo>
                    <a:lnTo>
                      <a:pt x="189" y="47"/>
                    </a:lnTo>
                    <a:lnTo>
                      <a:pt x="187" y="15"/>
                    </a:lnTo>
                    <a:lnTo>
                      <a:pt x="155" y="20"/>
                    </a:lnTo>
                    <a:lnTo>
                      <a:pt x="135" y="13"/>
                    </a:lnTo>
                    <a:lnTo>
                      <a:pt x="107" y="0"/>
                    </a:lnTo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" name="Freeform 17"/>
              <p:cNvSpPr/>
              <p:nvPr/>
            </p:nvSpPr>
            <p:spPr>
              <a:xfrm>
                <a:off x="6997680" y="1566720"/>
                <a:ext cx="27000" cy="44640"/>
              </a:xfrm>
              <a:custGeom>
                <a:avLst/>
                <a:gdLst/>
                <a:ahLst/>
                <a:rect l="l" t="t" r="r" b="b"/>
                <a:pathLst>
                  <a:path w="17" h="28">
                    <a:moveTo>
                      <a:pt x="7" y="0"/>
                    </a:moveTo>
                    <a:lnTo>
                      <a:pt x="9" y="8"/>
                    </a:lnTo>
                    <a:lnTo>
                      <a:pt x="7" y="14"/>
                    </a:lnTo>
                    <a:lnTo>
                      <a:pt x="7" y="19"/>
                    </a:lnTo>
                    <a:lnTo>
                      <a:pt x="16" y="23"/>
                    </a:lnTo>
                    <a:lnTo>
                      <a:pt x="16" y="27"/>
                    </a:lnTo>
                    <a:lnTo>
                      <a:pt x="9" y="23"/>
                    </a:lnTo>
                    <a:lnTo>
                      <a:pt x="3" y="27"/>
                    </a:lnTo>
                    <a:lnTo>
                      <a:pt x="0" y="23"/>
                    </a:lnTo>
                    <a:lnTo>
                      <a:pt x="3" y="19"/>
                    </a:lnTo>
                    <a:lnTo>
                      <a:pt x="0" y="14"/>
                    </a:ln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" name="Freeform 18"/>
              <p:cNvSpPr/>
              <p:nvPr/>
            </p:nvSpPr>
            <p:spPr>
              <a:xfrm>
                <a:off x="6862680" y="1760400"/>
                <a:ext cx="108000" cy="154080"/>
              </a:xfrm>
              <a:custGeom>
                <a:avLst/>
                <a:gdLst/>
                <a:ahLst/>
                <a:rect l="l" t="t" r="r" b="b"/>
                <a:pathLst>
                  <a:path w="68" h="97">
                    <a:moveTo>
                      <a:pt x="0" y="48"/>
                    </a:moveTo>
                    <a:lnTo>
                      <a:pt x="24" y="48"/>
                    </a:lnTo>
                    <a:lnTo>
                      <a:pt x="52" y="0"/>
                    </a:lnTo>
                    <a:lnTo>
                      <a:pt x="67" y="28"/>
                    </a:lnTo>
                    <a:lnTo>
                      <a:pt x="55" y="96"/>
                    </a:lnTo>
                    <a:lnTo>
                      <a:pt x="5" y="80"/>
                    </a:lnTo>
                    <a:lnTo>
                      <a:pt x="0" y="48"/>
                    </a:lnTo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" name="Freeform 19"/>
              <p:cNvSpPr/>
              <p:nvPr/>
            </p:nvSpPr>
            <p:spPr>
              <a:xfrm>
                <a:off x="7077240" y="1819440"/>
                <a:ext cx="185400" cy="149040"/>
              </a:xfrm>
              <a:custGeom>
                <a:avLst/>
                <a:gdLst/>
                <a:ahLst/>
                <a:rect l="l" t="t" r="r" b="b"/>
                <a:pathLst>
                  <a:path w="117" h="94">
                    <a:moveTo>
                      <a:pt x="7" y="22"/>
                    </a:moveTo>
                    <a:lnTo>
                      <a:pt x="0" y="0"/>
                    </a:lnTo>
                    <a:lnTo>
                      <a:pt x="39" y="9"/>
                    </a:lnTo>
                    <a:lnTo>
                      <a:pt x="95" y="32"/>
                    </a:lnTo>
                    <a:lnTo>
                      <a:pt x="95" y="49"/>
                    </a:lnTo>
                    <a:lnTo>
                      <a:pt x="116" y="93"/>
                    </a:lnTo>
                    <a:lnTo>
                      <a:pt x="73" y="51"/>
                    </a:lnTo>
                    <a:lnTo>
                      <a:pt x="44" y="54"/>
                    </a:lnTo>
                    <a:lnTo>
                      <a:pt x="7" y="22"/>
                    </a:lnTo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" name="Freeform 20"/>
              <p:cNvSpPr/>
              <p:nvPr/>
            </p:nvSpPr>
            <p:spPr>
              <a:xfrm>
                <a:off x="7429680" y="2122560"/>
                <a:ext cx="125280" cy="160200"/>
              </a:xfrm>
              <a:custGeom>
                <a:avLst/>
                <a:gdLst/>
                <a:ahLst/>
                <a:rect l="l" t="t" r="r" b="b"/>
                <a:pathLst>
                  <a:path w="79" h="101">
                    <a:moveTo>
                      <a:pt x="48" y="0"/>
                    </a:moveTo>
                    <a:lnTo>
                      <a:pt x="78" y="30"/>
                    </a:lnTo>
                    <a:lnTo>
                      <a:pt x="16" y="100"/>
                    </a:lnTo>
                    <a:lnTo>
                      <a:pt x="0" y="84"/>
                    </a:lnTo>
                    <a:lnTo>
                      <a:pt x="45" y="39"/>
                    </a:lnTo>
                    <a:lnTo>
                      <a:pt x="48" y="0"/>
                    </a:lnTo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" name="Freeform 21"/>
              <p:cNvSpPr/>
              <p:nvPr/>
            </p:nvSpPr>
            <p:spPr>
              <a:xfrm>
                <a:off x="5567400" y="1033560"/>
                <a:ext cx="61920" cy="104760"/>
              </a:xfrm>
              <a:custGeom>
                <a:avLst/>
                <a:gdLst/>
                <a:ahLst/>
                <a:rect l="l" t="t" r="r" b="b"/>
                <a:pathLst>
                  <a:path w="39" h="66">
                    <a:moveTo>
                      <a:pt x="38" y="51"/>
                    </a:moveTo>
                    <a:lnTo>
                      <a:pt x="28" y="43"/>
                    </a:lnTo>
                    <a:lnTo>
                      <a:pt x="28" y="14"/>
                    </a:lnTo>
                    <a:lnTo>
                      <a:pt x="33" y="8"/>
                    </a:lnTo>
                    <a:lnTo>
                      <a:pt x="24" y="8"/>
                    </a:lnTo>
                    <a:lnTo>
                      <a:pt x="29" y="0"/>
                    </a:lnTo>
                    <a:lnTo>
                      <a:pt x="22" y="0"/>
                    </a:lnTo>
                    <a:lnTo>
                      <a:pt x="14" y="9"/>
                    </a:lnTo>
                    <a:lnTo>
                      <a:pt x="14" y="27"/>
                    </a:lnTo>
                    <a:lnTo>
                      <a:pt x="18" y="31"/>
                    </a:lnTo>
                    <a:lnTo>
                      <a:pt x="18" y="39"/>
                    </a:lnTo>
                    <a:lnTo>
                      <a:pt x="16" y="39"/>
                    </a:lnTo>
                    <a:lnTo>
                      <a:pt x="9" y="46"/>
                    </a:lnTo>
                    <a:lnTo>
                      <a:pt x="9" y="53"/>
                    </a:lnTo>
                    <a:lnTo>
                      <a:pt x="0" y="65"/>
                    </a:lnTo>
                    <a:lnTo>
                      <a:pt x="29" y="65"/>
                    </a:lnTo>
                    <a:lnTo>
                      <a:pt x="38" y="51"/>
                    </a:lnTo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" name="Freeform 22"/>
              <p:cNvSpPr/>
              <p:nvPr/>
            </p:nvSpPr>
            <p:spPr>
              <a:xfrm>
                <a:off x="5546880" y="1068480"/>
                <a:ext cx="33120" cy="38160"/>
              </a:xfrm>
              <a:custGeom>
                <a:avLst/>
                <a:gdLst/>
                <a:ahLst/>
                <a:rect l="l" t="t" r="r" b="b"/>
                <a:pathLst>
                  <a:path w="21" h="24">
                    <a:moveTo>
                      <a:pt x="17" y="8"/>
                    </a:moveTo>
                    <a:lnTo>
                      <a:pt x="20" y="8"/>
                    </a:lnTo>
                    <a:lnTo>
                      <a:pt x="20" y="0"/>
                    </a:lnTo>
                    <a:lnTo>
                      <a:pt x="13" y="0"/>
                    </a:lnTo>
                    <a:lnTo>
                      <a:pt x="0" y="15"/>
                    </a:lnTo>
                    <a:lnTo>
                      <a:pt x="0" y="23"/>
                    </a:lnTo>
                    <a:lnTo>
                      <a:pt x="12" y="23"/>
                    </a:lnTo>
                    <a:lnTo>
                      <a:pt x="17" y="17"/>
                    </a:lnTo>
                    <a:lnTo>
                      <a:pt x="17" y="8"/>
                    </a:lnTo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" name="Freeform 23"/>
              <p:cNvSpPr/>
              <p:nvPr/>
            </p:nvSpPr>
            <p:spPr>
              <a:xfrm>
                <a:off x="5497560" y="1006560"/>
                <a:ext cx="406440" cy="342720"/>
              </a:xfrm>
              <a:custGeom>
                <a:avLst/>
                <a:gdLst/>
                <a:ahLst/>
                <a:rect l="l" t="t" r="r" b="b"/>
                <a:pathLst>
                  <a:path w="256" h="216">
                    <a:moveTo>
                      <a:pt x="168" y="0"/>
                    </a:moveTo>
                    <a:lnTo>
                      <a:pt x="168" y="15"/>
                    </a:lnTo>
                    <a:lnTo>
                      <a:pt x="173" y="20"/>
                    </a:lnTo>
                    <a:lnTo>
                      <a:pt x="201" y="20"/>
                    </a:lnTo>
                    <a:lnTo>
                      <a:pt x="201" y="28"/>
                    </a:lnTo>
                    <a:lnTo>
                      <a:pt x="181" y="28"/>
                    </a:lnTo>
                    <a:lnTo>
                      <a:pt x="181" y="52"/>
                    </a:lnTo>
                    <a:lnTo>
                      <a:pt x="172" y="41"/>
                    </a:lnTo>
                    <a:lnTo>
                      <a:pt x="172" y="56"/>
                    </a:lnTo>
                    <a:lnTo>
                      <a:pt x="160" y="70"/>
                    </a:lnTo>
                    <a:lnTo>
                      <a:pt x="152" y="62"/>
                    </a:lnTo>
                    <a:lnTo>
                      <a:pt x="140" y="72"/>
                    </a:lnTo>
                    <a:lnTo>
                      <a:pt x="138" y="69"/>
                    </a:lnTo>
                    <a:lnTo>
                      <a:pt x="123" y="69"/>
                    </a:lnTo>
                    <a:lnTo>
                      <a:pt x="131" y="59"/>
                    </a:lnTo>
                    <a:lnTo>
                      <a:pt x="131" y="55"/>
                    </a:lnTo>
                    <a:lnTo>
                      <a:pt x="124" y="48"/>
                    </a:lnTo>
                    <a:lnTo>
                      <a:pt x="124" y="37"/>
                    </a:lnTo>
                    <a:lnTo>
                      <a:pt x="114" y="48"/>
                    </a:lnTo>
                    <a:lnTo>
                      <a:pt x="114" y="69"/>
                    </a:lnTo>
                    <a:lnTo>
                      <a:pt x="102" y="69"/>
                    </a:lnTo>
                    <a:lnTo>
                      <a:pt x="87" y="84"/>
                    </a:lnTo>
                    <a:lnTo>
                      <a:pt x="81" y="84"/>
                    </a:lnTo>
                    <a:lnTo>
                      <a:pt x="73" y="94"/>
                    </a:lnTo>
                    <a:lnTo>
                      <a:pt x="43" y="94"/>
                    </a:lnTo>
                    <a:lnTo>
                      <a:pt x="53" y="108"/>
                    </a:lnTo>
                    <a:lnTo>
                      <a:pt x="53" y="130"/>
                    </a:lnTo>
                    <a:lnTo>
                      <a:pt x="43" y="143"/>
                    </a:lnTo>
                    <a:lnTo>
                      <a:pt x="31" y="130"/>
                    </a:lnTo>
                    <a:lnTo>
                      <a:pt x="8" y="130"/>
                    </a:lnTo>
                    <a:lnTo>
                      <a:pt x="8" y="146"/>
                    </a:lnTo>
                    <a:lnTo>
                      <a:pt x="0" y="156"/>
                    </a:lnTo>
                    <a:lnTo>
                      <a:pt x="0" y="177"/>
                    </a:lnTo>
                    <a:lnTo>
                      <a:pt x="15" y="194"/>
                    </a:lnTo>
                    <a:lnTo>
                      <a:pt x="37" y="194"/>
                    </a:lnTo>
                    <a:lnTo>
                      <a:pt x="71" y="153"/>
                    </a:lnTo>
                    <a:lnTo>
                      <a:pt x="101" y="153"/>
                    </a:lnTo>
                    <a:lnTo>
                      <a:pt x="105" y="145"/>
                    </a:lnTo>
                    <a:lnTo>
                      <a:pt x="112" y="153"/>
                    </a:lnTo>
                    <a:lnTo>
                      <a:pt x="111" y="161"/>
                    </a:lnTo>
                    <a:lnTo>
                      <a:pt x="139" y="189"/>
                    </a:lnTo>
                    <a:lnTo>
                      <a:pt x="139" y="201"/>
                    </a:lnTo>
                    <a:lnTo>
                      <a:pt x="145" y="196"/>
                    </a:lnTo>
                    <a:lnTo>
                      <a:pt x="142" y="189"/>
                    </a:lnTo>
                    <a:lnTo>
                      <a:pt x="145" y="185"/>
                    </a:lnTo>
                    <a:lnTo>
                      <a:pt x="150" y="189"/>
                    </a:lnTo>
                    <a:lnTo>
                      <a:pt x="152" y="188"/>
                    </a:lnTo>
                    <a:lnTo>
                      <a:pt x="123" y="152"/>
                    </a:lnTo>
                    <a:lnTo>
                      <a:pt x="123" y="139"/>
                    </a:lnTo>
                    <a:lnTo>
                      <a:pt x="131" y="139"/>
                    </a:lnTo>
                    <a:lnTo>
                      <a:pt x="131" y="146"/>
                    </a:lnTo>
                    <a:lnTo>
                      <a:pt x="160" y="178"/>
                    </a:lnTo>
                    <a:lnTo>
                      <a:pt x="160" y="188"/>
                    </a:lnTo>
                    <a:lnTo>
                      <a:pt x="172" y="202"/>
                    </a:lnTo>
                    <a:lnTo>
                      <a:pt x="169" y="205"/>
                    </a:lnTo>
                    <a:lnTo>
                      <a:pt x="178" y="215"/>
                    </a:lnTo>
                    <a:lnTo>
                      <a:pt x="191" y="200"/>
                    </a:lnTo>
                    <a:lnTo>
                      <a:pt x="183" y="191"/>
                    </a:lnTo>
                    <a:lnTo>
                      <a:pt x="191" y="182"/>
                    </a:lnTo>
                    <a:lnTo>
                      <a:pt x="202" y="182"/>
                    </a:lnTo>
                    <a:lnTo>
                      <a:pt x="207" y="177"/>
                    </a:lnTo>
                    <a:lnTo>
                      <a:pt x="214" y="177"/>
                    </a:lnTo>
                    <a:lnTo>
                      <a:pt x="205" y="164"/>
                    </a:lnTo>
                    <a:lnTo>
                      <a:pt x="210" y="158"/>
                    </a:lnTo>
                    <a:lnTo>
                      <a:pt x="210" y="137"/>
                    </a:lnTo>
                    <a:lnTo>
                      <a:pt x="219" y="126"/>
                    </a:lnTo>
                    <a:lnTo>
                      <a:pt x="223" y="130"/>
                    </a:lnTo>
                    <a:lnTo>
                      <a:pt x="232" y="130"/>
                    </a:lnTo>
                    <a:lnTo>
                      <a:pt x="228" y="136"/>
                    </a:lnTo>
                    <a:lnTo>
                      <a:pt x="236" y="145"/>
                    </a:lnTo>
                    <a:lnTo>
                      <a:pt x="241" y="137"/>
                    </a:lnTo>
                    <a:lnTo>
                      <a:pt x="247" y="137"/>
                    </a:lnTo>
                    <a:lnTo>
                      <a:pt x="247" y="134"/>
                    </a:lnTo>
                    <a:lnTo>
                      <a:pt x="244" y="134"/>
                    </a:lnTo>
                    <a:lnTo>
                      <a:pt x="239" y="130"/>
                    </a:lnTo>
                    <a:lnTo>
                      <a:pt x="252" y="114"/>
                    </a:lnTo>
                    <a:lnTo>
                      <a:pt x="252" y="137"/>
                    </a:lnTo>
                    <a:lnTo>
                      <a:pt x="255" y="137"/>
                    </a:lnTo>
                    <a:lnTo>
                      <a:pt x="255" y="0"/>
                    </a:lnTo>
                    <a:lnTo>
                      <a:pt x="168" y="0"/>
                    </a:lnTo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" name="Freeform 24"/>
              <p:cNvSpPr/>
              <p:nvPr/>
            </p:nvSpPr>
            <p:spPr>
              <a:xfrm>
                <a:off x="5670720" y="644400"/>
                <a:ext cx="1728720" cy="1220760"/>
              </a:xfrm>
              <a:custGeom>
                <a:avLst/>
                <a:gdLst/>
                <a:ahLst/>
                <a:rect l="l" t="t" r="r" b="b"/>
                <a:pathLst>
                  <a:path w="1089" h="769">
                    <a:moveTo>
                      <a:pt x="0" y="226"/>
                    </a:moveTo>
                    <a:lnTo>
                      <a:pt x="32" y="202"/>
                    </a:lnTo>
                    <a:lnTo>
                      <a:pt x="62" y="156"/>
                    </a:lnTo>
                    <a:lnTo>
                      <a:pt x="99" y="134"/>
                    </a:lnTo>
                    <a:lnTo>
                      <a:pt x="137" y="160"/>
                    </a:lnTo>
                    <a:lnTo>
                      <a:pt x="142" y="181"/>
                    </a:lnTo>
                    <a:lnTo>
                      <a:pt x="133" y="181"/>
                    </a:lnTo>
                    <a:lnTo>
                      <a:pt x="118" y="179"/>
                    </a:lnTo>
                    <a:lnTo>
                      <a:pt x="137" y="202"/>
                    </a:lnTo>
                    <a:lnTo>
                      <a:pt x="216" y="172"/>
                    </a:lnTo>
                    <a:lnTo>
                      <a:pt x="206" y="149"/>
                    </a:lnTo>
                    <a:lnTo>
                      <a:pt x="240" y="110"/>
                    </a:lnTo>
                    <a:lnTo>
                      <a:pt x="262" y="111"/>
                    </a:lnTo>
                    <a:lnTo>
                      <a:pt x="241" y="124"/>
                    </a:lnTo>
                    <a:lnTo>
                      <a:pt x="223" y="153"/>
                    </a:lnTo>
                    <a:lnTo>
                      <a:pt x="223" y="172"/>
                    </a:lnTo>
                    <a:lnTo>
                      <a:pt x="255" y="193"/>
                    </a:lnTo>
                    <a:lnTo>
                      <a:pt x="301" y="133"/>
                    </a:lnTo>
                    <a:lnTo>
                      <a:pt x="461" y="63"/>
                    </a:lnTo>
                    <a:lnTo>
                      <a:pt x="460" y="23"/>
                    </a:lnTo>
                    <a:lnTo>
                      <a:pt x="533" y="8"/>
                    </a:lnTo>
                    <a:lnTo>
                      <a:pt x="574" y="29"/>
                    </a:lnTo>
                    <a:lnTo>
                      <a:pt x="671" y="0"/>
                    </a:lnTo>
                    <a:lnTo>
                      <a:pt x="701" y="15"/>
                    </a:lnTo>
                    <a:lnTo>
                      <a:pt x="766" y="85"/>
                    </a:lnTo>
                    <a:lnTo>
                      <a:pt x="840" y="71"/>
                    </a:lnTo>
                    <a:lnTo>
                      <a:pt x="886" y="96"/>
                    </a:lnTo>
                    <a:lnTo>
                      <a:pt x="1001" y="91"/>
                    </a:lnTo>
                    <a:lnTo>
                      <a:pt x="1088" y="118"/>
                    </a:lnTo>
                    <a:lnTo>
                      <a:pt x="1080" y="156"/>
                    </a:lnTo>
                    <a:lnTo>
                      <a:pt x="1006" y="181"/>
                    </a:lnTo>
                    <a:lnTo>
                      <a:pt x="1019" y="206"/>
                    </a:lnTo>
                    <a:lnTo>
                      <a:pt x="987" y="220"/>
                    </a:lnTo>
                    <a:lnTo>
                      <a:pt x="985" y="270"/>
                    </a:lnTo>
                    <a:lnTo>
                      <a:pt x="957" y="304"/>
                    </a:lnTo>
                    <a:lnTo>
                      <a:pt x="945" y="273"/>
                    </a:lnTo>
                    <a:lnTo>
                      <a:pt x="961" y="244"/>
                    </a:lnTo>
                    <a:lnTo>
                      <a:pt x="958" y="184"/>
                    </a:lnTo>
                    <a:lnTo>
                      <a:pt x="929" y="215"/>
                    </a:lnTo>
                    <a:lnTo>
                      <a:pt x="906" y="232"/>
                    </a:lnTo>
                    <a:lnTo>
                      <a:pt x="884" y="205"/>
                    </a:lnTo>
                    <a:lnTo>
                      <a:pt x="868" y="273"/>
                    </a:lnTo>
                    <a:lnTo>
                      <a:pt x="885" y="273"/>
                    </a:lnTo>
                    <a:lnTo>
                      <a:pt x="881" y="318"/>
                    </a:lnTo>
                    <a:lnTo>
                      <a:pt x="861" y="366"/>
                    </a:lnTo>
                    <a:lnTo>
                      <a:pt x="837" y="385"/>
                    </a:lnTo>
                    <a:lnTo>
                      <a:pt x="857" y="417"/>
                    </a:lnTo>
                    <a:lnTo>
                      <a:pt x="844" y="439"/>
                    </a:lnTo>
                    <a:lnTo>
                      <a:pt x="839" y="420"/>
                    </a:lnTo>
                    <a:lnTo>
                      <a:pt x="839" y="413"/>
                    </a:lnTo>
                    <a:lnTo>
                      <a:pt x="823" y="402"/>
                    </a:lnTo>
                    <a:lnTo>
                      <a:pt x="797" y="416"/>
                    </a:lnTo>
                    <a:lnTo>
                      <a:pt x="820" y="469"/>
                    </a:lnTo>
                    <a:lnTo>
                      <a:pt x="828" y="496"/>
                    </a:lnTo>
                    <a:lnTo>
                      <a:pt x="801" y="569"/>
                    </a:lnTo>
                    <a:lnTo>
                      <a:pt x="751" y="589"/>
                    </a:lnTo>
                    <a:lnTo>
                      <a:pt x="710" y="585"/>
                    </a:lnTo>
                    <a:lnTo>
                      <a:pt x="730" y="615"/>
                    </a:lnTo>
                    <a:lnTo>
                      <a:pt x="732" y="657"/>
                    </a:lnTo>
                    <a:lnTo>
                      <a:pt x="703" y="706"/>
                    </a:lnTo>
                    <a:lnTo>
                      <a:pt x="670" y="679"/>
                    </a:lnTo>
                    <a:lnTo>
                      <a:pt x="665" y="708"/>
                    </a:lnTo>
                    <a:lnTo>
                      <a:pt x="690" y="732"/>
                    </a:lnTo>
                    <a:lnTo>
                      <a:pt x="711" y="768"/>
                    </a:lnTo>
                    <a:lnTo>
                      <a:pt x="676" y="747"/>
                    </a:lnTo>
                    <a:lnTo>
                      <a:pt x="634" y="626"/>
                    </a:lnTo>
                    <a:lnTo>
                      <a:pt x="583" y="593"/>
                    </a:lnTo>
                    <a:lnTo>
                      <a:pt x="545" y="596"/>
                    </a:lnTo>
                    <a:lnTo>
                      <a:pt x="497" y="665"/>
                    </a:lnTo>
                    <a:lnTo>
                      <a:pt x="503" y="689"/>
                    </a:lnTo>
                    <a:lnTo>
                      <a:pt x="487" y="738"/>
                    </a:lnTo>
                    <a:lnTo>
                      <a:pt x="471" y="738"/>
                    </a:lnTo>
                    <a:lnTo>
                      <a:pt x="416" y="636"/>
                    </a:lnTo>
                    <a:lnTo>
                      <a:pt x="416" y="592"/>
                    </a:lnTo>
                    <a:lnTo>
                      <a:pt x="404" y="608"/>
                    </a:lnTo>
                    <a:lnTo>
                      <a:pt x="373" y="607"/>
                    </a:lnTo>
                    <a:lnTo>
                      <a:pt x="385" y="580"/>
                    </a:lnTo>
                    <a:lnTo>
                      <a:pt x="336" y="545"/>
                    </a:lnTo>
                    <a:lnTo>
                      <a:pt x="275" y="545"/>
                    </a:lnTo>
                    <a:lnTo>
                      <a:pt x="223" y="510"/>
                    </a:lnTo>
                    <a:lnTo>
                      <a:pt x="220" y="545"/>
                    </a:lnTo>
                    <a:lnTo>
                      <a:pt x="263" y="577"/>
                    </a:lnTo>
                    <a:lnTo>
                      <a:pt x="278" y="576"/>
                    </a:lnTo>
                    <a:lnTo>
                      <a:pt x="234" y="620"/>
                    </a:lnTo>
                    <a:lnTo>
                      <a:pt x="190" y="630"/>
                    </a:lnTo>
                    <a:lnTo>
                      <a:pt x="190" y="605"/>
                    </a:lnTo>
                    <a:lnTo>
                      <a:pt x="127" y="518"/>
                    </a:lnTo>
                    <a:lnTo>
                      <a:pt x="119" y="495"/>
                    </a:lnTo>
                    <a:lnTo>
                      <a:pt x="153" y="467"/>
                    </a:lnTo>
                    <a:lnTo>
                      <a:pt x="149" y="432"/>
                    </a:lnTo>
                    <a:lnTo>
                      <a:pt x="149" y="393"/>
                    </a:lnTo>
                    <a:lnTo>
                      <a:pt x="166" y="385"/>
                    </a:lnTo>
                    <a:lnTo>
                      <a:pt x="149" y="366"/>
                    </a:lnTo>
                    <a:lnTo>
                      <a:pt x="149" y="226"/>
                    </a:lnTo>
                    <a:lnTo>
                      <a:pt x="61" y="226"/>
                    </a:lnTo>
                    <a:lnTo>
                      <a:pt x="86" y="193"/>
                    </a:lnTo>
                    <a:lnTo>
                      <a:pt x="84" y="181"/>
                    </a:lnTo>
                    <a:lnTo>
                      <a:pt x="55" y="210"/>
                    </a:lnTo>
                    <a:lnTo>
                      <a:pt x="45" y="226"/>
                    </a:lnTo>
                    <a:lnTo>
                      <a:pt x="0" y="226"/>
                    </a:lnTo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" name="Freeform 25"/>
              <p:cNvSpPr/>
              <p:nvPr/>
            </p:nvSpPr>
            <p:spPr>
              <a:xfrm>
                <a:off x="7034040" y="1143000"/>
                <a:ext cx="149400" cy="249120"/>
              </a:xfrm>
              <a:custGeom>
                <a:avLst/>
                <a:gdLst/>
                <a:ahLst/>
                <a:rect l="l" t="t" r="r" b="b"/>
                <a:pathLst>
                  <a:path w="94" h="157">
                    <a:moveTo>
                      <a:pt x="63" y="0"/>
                    </a:moveTo>
                    <a:lnTo>
                      <a:pt x="63" y="20"/>
                    </a:lnTo>
                    <a:lnTo>
                      <a:pt x="55" y="33"/>
                    </a:lnTo>
                    <a:lnTo>
                      <a:pt x="57" y="54"/>
                    </a:lnTo>
                    <a:lnTo>
                      <a:pt x="47" y="82"/>
                    </a:lnTo>
                    <a:lnTo>
                      <a:pt x="31" y="108"/>
                    </a:lnTo>
                    <a:lnTo>
                      <a:pt x="7" y="125"/>
                    </a:lnTo>
                    <a:lnTo>
                      <a:pt x="0" y="154"/>
                    </a:lnTo>
                    <a:lnTo>
                      <a:pt x="10" y="156"/>
                    </a:lnTo>
                    <a:lnTo>
                      <a:pt x="10" y="129"/>
                    </a:lnTo>
                    <a:lnTo>
                      <a:pt x="44" y="127"/>
                    </a:lnTo>
                    <a:lnTo>
                      <a:pt x="69" y="109"/>
                    </a:lnTo>
                    <a:lnTo>
                      <a:pt x="69" y="72"/>
                    </a:lnTo>
                    <a:lnTo>
                      <a:pt x="77" y="58"/>
                    </a:lnTo>
                    <a:lnTo>
                      <a:pt x="64" y="34"/>
                    </a:lnTo>
                    <a:lnTo>
                      <a:pt x="82" y="27"/>
                    </a:lnTo>
                    <a:lnTo>
                      <a:pt x="93" y="8"/>
                    </a:lnTo>
                    <a:lnTo>
                      <a:pt x="69" y="11"/>
                    </a:lnTo>
                    <a:lnTo>
                      <a:pt x="63" y="0"/>
                    </a:lnTo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Freeform 26"/>
              <p:cNvSpPr/>
              <p:nvPr/>
            </p:nvSpPr>
            <p:spPr>
              <a:xfrm>
                <a:off x="6470640" y="1808280"/>
                <a:ext cx="30240" cy="56880"/>
              </a:xfrm>
              <a:custGeom>
                <a:avLst/>
                <a:gdLst/>
                <a:ahLst/>
                <a:rect l="l" t="t" r="r" b="b"/>
                <a:pathLst>
                  <a:path w="19" h="36">
                    <a:moveTo>
                      <a:pt x="9" y="0"/>
                    </a:moveTo>
                    <a:lnTo>
                      <a:pt x="0" y="16"/>
                    </a:lnTo>
                    <a:lnTo>
                      <a:pt x="6" y="35"/>
                    </a:lnTo>
                    <a:lnTo>
                      <a:pt x="18" y="21"/>
                    </a:lnTo>
                    <a:lnTo>
                      <a:pt x="9" y="0"/>
                    </a:lnTo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Freeform 27"/>
              <p:cNvSpPr/>
              <p:nvPr/>
            </p:nvSpPr>
            <p:spPr>
              <a:xfrm>
                <a:off x="6697800" y="1868400"/>
                <a:ext cx="349200" cy="149400"/>
              </a:xfrm>
              <a:custGeom>
                <a:avLst/>
                <a:gdLst/>
                <a:ahLst/>
                <a:rect l="l" t="t" r="r" b="b"/>
                <a:pathLst>
                  <a:path w="220" h="94">
                    <a:moveTo>
                      <a:pt x="0" y="0"/>
                    </a:moveTo>
                    <a:lnTo>
                      <a:pt x="33" y="7"/>
                    </a:lnTo>
                    <a:lnTo>
                      <a:pt x="82" y="41"/>
                    </a:lnTo>
                    <a:lnTo>
                      <a:pt x="75" y="60"/>
                    </a:lnTo>
                    <a:lnTo>
                      <a:pt x="115" y="77"/>
                    </a:lnTo>
                    <a:lnTo>
                      <a:pt x="219" y="77"/>
                    </a:lnTo>
                    <a:lnTo>
                      <a:pt x="106" y="93"/>
                    </a:lnTo>
                    <a:lnTo>
                      <a:pt x="75" y="60"/>
                    </a:lnTo>
                    <a:lnTo>
                      <a:pt x="46" y="5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Freeform 28"/>
              <p:cNvSpPr/>
              <p:nvPr/>
            </p:nvSpPr>
            <p:spPr>
              <a:xfrm>
                <a:off x="6975360" y="1992240"/>
                <a:ext cx="374760" cy="351000"/>
              </a:xfrm>
              <a:custGeom>
                <a:avLst/>
                <a:gdLst/>
                <a:ahLst/>
                <a:rect l="l" t="t" r="r" b="b"/>
                <a:pathLst>
                  <a:path w="236" h="221">
                    <a:moveTo>
                      <a:pt x="196" y="215"/>
                    </a:moveTo>
                    <a:lnTo>
                      <a:pt x="190" y="216"/>
                    </a:lnTo>
                    <a:lnTo>
                      <a:pt x="185" y="220"/>
                    </a:lnTo>
                    <a:lnTo>
                      <a:pt x="179" y="212"/>
                    </a:lnTo>
                    <a:lnTo>
                      <a:pt x="158" y="202"/>
                    </a:lnTo>
                    <a:lnTo>
                      <a:pt x="154" y="187"/>
                    </a:lnTo>
                    <a:lnTo>
                      <a:pt x="147" y="182"/>
                    </a:lnTo>
                    <a:lnTo>
                      <a:pt x="130" y="182"/>
                    </a:lnTo>
                    <a:lnTo>
                      <a:pt x="130" y="170"/>
                    </a:lnTo>
                    <a:lnTo>
                      <a:pt x="124" y="167"/>
                    </a:lnTo>
                    <a:lnTo>
                      <a:pt x="123" y="157"/>
                    </a:lnTo>
                    <a:lnTo>
                      <a:pt x="110" y="155"/>
                    </a:lnTo>
                    <a:lnTo>
                      <a:pt x="98" y="152"/>
                    </a:lnTo>
                    <a:lnTo>
                      <a:pt x="87" y="155"/>
                    </a:lnTo>
                    <a:lnTo>
                      <a:pt x="87" y="157"/>
                    </a:lnTo>
                    <a:lnTo>
                      <a:pt x="62" y="165"/>
                    </a:lnTo>
                    <a:lnTo>
                      <a:pt x="62" y="169"/>
                    </a:lnTo>
                    <a:lnTo>
                      <a:pt x="40" y="169"/>
                    </a:lnTo>
                    <a:lnTo>
                      <a:pt x="28" y="176"/>
                    </a:lnTo>
                    <a:lnTo>
                      <a:pt x="15" y="169"/>
                    </a:lnTo>
                    <a:lnTo>
                      <a:pt x="14" y="167"/>
                    </a:lnTo>
                    <a:lnTo>
                      <a:pt x="14" y="152"/>
                    </a:lnTo>
                    <a:lnTo>
                      <a:pt x="10" y="139"/>
                    </a:lnTo>
                    <a:lnTo>
                      <a:pt x="5" y="127"/>
                    </a:lnTo>
                    <a:lnTo>
                      <a:pt x="8" y="118"/>
                    </a:lnTo>
                    <a:lnTo>
                      <a:pt x="3" y="114"/>
                    </a:lnTo>
                    <a:lnTo>
                      <a:pt x="0" y="93"/>
                    </a:lnTo>
                    <a:lnTo>
                      <a:pt x="3" y="79"/>
                    </a:lnTo>
                    <a:lnTo>
                      <a:pt x="16" y="68"/>
                    </a:lnTo>
                    <a:lnTo>
                      <a:pt x="44" y="60"/>
                    </a:lnTo>
                    <a:lnTo>
                      <a:pt x="51" y="51"/>
                    </a:lnTo>
                    <a:lnTo>
                      <a:pt x="48" y="41"/>
                    </a:lnTo>
                    <a:lnTo>
                      <a:pt x="55" y="38"/>
                    </a:lnTo>
                    <a:lnTo>
                      <a:pt x="57" y="43"/>
                    </a:lnTo>
                    <a:lnTo>
                      <a:pt x="60" y="35"/>
                    </a:lnTo>
                    <a:lnTo>
                      <a:pt x="77" y="22"/>
                    </a:lnTo>
                    <a:lnTo>
                      <a:pt x="87" y="28"/>
                    </a:lnTo>
                    <a:lnTo>
                      <a:pt x="98" y="25"/>
                    </a:lnTo>
                    <a:lnTo>
                      <a:pt x="102" y="13"/>
                    </a:lnTo>
                    <a:lnTo>
                      <a:pt x="113" y="10"/>
                    </a:lnTo>
                    <a:lnTo>
                      <a:pt x="110" y="2"/>
                    </a:lnTo>
                    <a:lnTo>
                      <a:pt x="125" y="8"/>
                    </a:lnTo>
                    <a:lnTo>
                      <a:pt x="138" y="5"/>
                    </a:lnTo>
                    <a:lnTo>
                      <a:pt x="145" y="34"/>
                    </a:lnTo>
                    <a:lnTo>
                      <a:pt x="154" y="43"/>
                    </a:lnTo>
                    <a:lnTo>
                      <a:pt x="163" y="43"/>
                    </a:lnTo>
                    <a:lnTo>
                      <a:pt x="167" y="25"/>
                    </a:lnTo>
                    <a:lnTo>
                      <a:pt x="165" y="16"/>
                    </a:lnTo>
                    <a:lnTo>
                      <a:pt x="167" y="2"/>
                    </a:lnTo>
                    <a:lnTo>
                      <a:pt x="172" y="0"/>
                    </a:lnTo>
                    <a:lnTo>
                      <a:pt x="179" y="18"/>
                    </a:lnTo>
                    <a:lnTo>
                      <a:pt x="185" y="22"/>
                    </a:lnTo>
                    <a:lnTo>
                      <a:pt x="189" y="38"/>
                    </a:lnTo>
                    <a:lnTo>
                      <a:pt x="196" y="60"/>
                    </a:lnTo>
                    <a:lnTo>
                      <a:pt x="206" y="66"/>
                    </a:lnTo>
                    <a:lnTo>
                      <a:pt x="219" y="83"/>
                    </a:lnTo>
                    <a:lnTo>
                      <a:pt x="221" y="91"/>
                    </a:lnTo>
                    <a:lnTo>
                      <a:pt x="232" y="101"/>
                    </a:lnTo>
                    <a:lnTo>
                      <a:pt x="235" y="119"/>
                    </a:lnTo>
                    <a:lnTo>
                      <a:pt x="235" y="133"/>
                    </a:lnTo>
                    <a:lnTo>
                      <a:pt x="232" y="155"/>
                    </a:lnTo>
                    <a:lnTo>
                      <a:pt x="221" y="169"/>
                    </a:lnTo>
                    <a:lnTo>
                      <a:pt x="217" y="187"/>
                    </a:lnTo>
                    <a:lnTo>
                      <a:pt x="217" y="202"/>
                    </a:lnTo>
                    <a:lnTo>
                      <a:pt x="206" y="205"/>
                    </a:lnTo>
                    <a:lnTo>
                      <a:pt x="196" y="215"/>
                    </a:lnTo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Freeform 29"/>
              <p:cNvSpPr/>
              <p:nvPr/>
            </p:nvSpPr>
            <p:spPr>
              <a:xfrm>
                <a:off x="7273800" y="2362320"/>
                <a:ext cx="28800" cy="42840"/>
              </a:xfrm>
              <a:custGeom>
                <a:avLst/>
                <a:gdLst/>
                <a:ahLst/>
                <a:rect l="l" t="t" r="r" b="b"/>
                <a:pathLst>
                  <a:path w="18" h="27">
                    <a:moveTo>
                      <a:pt x="9" y="23"/>
                    </a:moveTo>
                    <a:lnTo>
                      <a:pt x="3" y="19"/>
                    </a:lnTo>
                    <a:lnTo>
                      <a:pt x="3" y="15"/>
                    </a:lnTo>
                    <a:lnTo>
                      <a:pt x="3" y="11"/>
                    </a:lnTo>
                    <a:lnTo>
                      <a:pt x="2" y="7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9" y="4"/>
                    </a:lnTo>
                    <a:lnTo>
                      <a:pt x="12" y="3"/>
                    </a:lnTo>
                    <a:lnTo>
                      <a:pt x="13" y="3"/>
                    </a:lnTo>
                    <a:lnTo>
                      <a:pt x="17" y="0"/>
                    </a:lnTo>
                    <a:lnTo>
                      <a:pt x="17" y="11"/>
                    </a:lnTo>
                    <a:lnTo>
                      <a:pt x="15" y="15"/>
                    </a:lnTo>
                    <a:lnTo>
                      <a:pt x="13" y="19"/>
                    </a:lnTo>
                    <a:lnTo>
                      <a:pt x="13" y="22"/>
                    </a:lnTo>
                    <a:lnTo>
                      <a:pt x="12" y="23"/>
                    </a:lnTo>
                    <a:lnTo>
                      <a:pt x="12" y="26"/>
                    </a:lnTo>
                    <a:lnTo>
                      <a:pt x="9" y="23"/>
                    </a:lnTo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Freeform 30"/>
              <p:cNvSpPr/>
              <p:nvPr/>
            </p:nvSpPr>
            <p:spPr>
              <a:xfrm>
                <a:off x="5967360" y="1960560"/>
                <a:ext cx="41400" cy="168120"/>
              </a:xfrm>
              <a:custGeom>
                <a:avLst/>
                <a:gdLst/>
                <a:ahLst/>
                <a:rect l="l" t="t" r="r" b="b"/>
                <a:pathLst>
                  <a:path w="26" h="106">
                    <a:moveTo>
                      <a:pt x="3" y="37"/>
                    </a:moveTo>
                    <a:lnTo>
                      <a:pt x="13" y="28"/>
                    </a:lnTo>
                    <a:lnTo>
                      <a:pt x="20" y="0"/>
                    </a:lnTo>
                    <a:lnTo>
                      <a:pt x="25" y="42"/>
                    </a:lnTo>
                    <a:lnTo>
                      <a:pt x="17" y="94"/>
                    </a:lnTo>
                    <a:lnTo>
                      <a:pt x="0" y="105"/>
                    </a:lnTo>
                    <a:lnTo>
                      <a:pt x="0" y="80"/>
                    </a:lnTo>
                    <a:lnTo>
                      <a:pt x="5" y="64"/>
                    </a:lnTo>
                    <a:lnTo>
                      <a:pt x="3" y="37"/>
                    </a:lnTo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5" name="Rectangle 36"/>
          <p:cNvSpPr/>
          <p:nvPr/>
        </p:nvSpPr>
        <p:spPr>
          <a:xfrm>
            <a:off x="0" y="6477120"/>
            <a:ext cx="9131400" cy="3682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3300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Rectangle 37"/>
          <p:cNvSpPr/>
          <p:nvPr/>
        </p:nvSpPr>
        <p:spPr>
          <a:xfrm>
            <a:off x="1001520" y="6529320"/>
            <a:ext cx="724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NEX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7" name="Picture 38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685800" y="6519960"/>
            <a:ext cx="306360" cy="30456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2394aa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dt" idx="4"/>
          </p:nvPr>
        </p:nvSpPr>
        <p:spPr>
          <a:xfrm>
            <a:off x="75960" y="14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ftr" idx="5"/>
          </p:nvPr>
        </p:nvSpPr>
        <p:spPr>
          <a:xfrm>
            <a:off x="2971440" y="14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sldNum" idx="6"/>
          </p:nvPr>
        </p:nvSpPr>
        <p:spPr>
          <a:xfrm>
            <a:off x="7162560" y="14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6DFD7-480B-407F-9CD4-38291D12AF4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808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ffffcc"/>
                </a:solidFill>
                <a:latin typeface="Times New Roman"/>
              </a:rPr>
              <a:t>Chapter 3</a:t>
            </a:r>
            <a:endParaRPr b="0" lang="en-US" sz="10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380880" y="4343400"/>
            <a:ext cx="838224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Arial"/>
              </a:rPr>
              <a:t>Newton’s Law</a:t>
            </a: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12760" y="169560"/>
            <a:ext cx="7772400" cy="67140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cc"/>
                </a:solidFill>
                <a:latin typeface="Times New Roman"/>
              </a:rPr>
              <a:t>The Law of Gravity</a:t>
            </a:r>
            <a:endParaRPr b="0" lang="en-US" sz="6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5238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very mass exerts a force of attraction on every other mas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math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4" name="Object 5"/>
              <p:cNvSpPr txBox="1"/>
              <p:nvPr/>
            </p:nvSpPr>
            <p:spPr>
              <a:xfrm>
                <a:off x="3352680" y="3657600"/>
                <a:ext cx="2175120" cy="12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Gmm</m:t>
                        </m:r>
                        <m:r>
                          <m:t xml:space="preserve">'</m:t>
                        </m:r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5" name="Text Box 6"/>
          <p:cNvSpPr/>
          <p:nvPr/>
        </p:nvSpPr>
        <p:spPr>
          <a:xfrm>
            <a:off x="1066680" y="5181480"/>
            <a:ext cx="716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ffffff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 = 6.67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10-11  N·m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/kg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8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3" dur="5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68544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cc"/>
                </a:solidFill>
                <a:latin typeface="Times New Roman"/>
              </a:rPr>
              <a:t>Gravity Questions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d the Moon exert a gravitational force on the Apollo astronaut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kind of objects can exert a gravitational force on other object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cc"/>
                </a:solidFill>
                <a:latin typeface="Times New Roman"/>
              </a:rPr>
              <a:t>Gravity Questions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constant G is a rather small number.  What kind of objects can exert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strong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gravitational forces?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 the distance between two objects in space is doubled, then what happens to the gravitational force between them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7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2" dur="5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cc"/>
                </a:solidFill>
                <a:latin typeface="Times New Roman"/>
              </a:rPr>
              <a:t>Weight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weight of an object F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is the gravitational force acting downward on the objec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W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= m 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9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4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cc"/>
                </a:solidFill>
                <a:latin typeface="Times New Roman"/>
              </a:rPr>
              <a:t>Tension </a:t>
            </a:r>
            <a:br>
              <a:rPr sz="6000"/>
            </a:b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(Tensile Force)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4300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nsion is the force in a string, chain or tendon that is applied tending to stretch i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T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1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6" dur="5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cc"/>
                </a:solidFill>
                <a:latin typeface="Times New Roman"/>
              </a:rPr>
              <a:t>Normal Force 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normal force on an object that is being supported by a surface is the component of the supporting force that is perpendicular to the surfac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N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3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8" dur="5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cc"/>
                </a:solidFill>
                <a:latin typeface="Times New Roman"/>
              </a:rPr>
              <a:t>Coefficient of Friction 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inetic Fri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f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=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F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N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atic Fri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f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F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N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 most cases,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k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&lt;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5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0" dur="5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5" dur="5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0" dur="500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5" dur="500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62120" y="5851440"/>
            <a:ext cx="7773840" cy="100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Times New Roman"/>
              </a:rPr>
              <a:t>On to problems...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randomBar dir="vert"/>
    <p:sndAc>
      <p:stSnd>
        <p:snd r:embed="rId2" name="CHIMES.WAV"/>
      </p:stSnd>
    </p:sndAc>
  </p:transition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imes New Roman"/>
              </a:rPr>
              <a:t>Newton’s Laws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65744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wton’s First La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2394aa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aw of Inert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wton’s Second La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2394aa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= m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wton’s Third La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2394aa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ction Rea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aw of Universal Gravit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Object 4"/>
              <p:cNvSpPr txBox="1"/>
              <p:nvPr/>
            </p:nvSpPr>
            <p:spPr>
              <a:xfrm>
                <a:off x="3124080" y="5105520"/>
                <a:ext cx="2175120" cy="12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Gmm</m:t>
                        </m:r>
                        <m:r>
                          <m:t xml:space="preserve">'</m:t>
                        </m:r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" dur="5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" dur="5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" dur="500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5" dur="500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cc"/>
                </a:solidFill>
                <a:latin typeface="Times New Roman"/>
              </a:rPr>
              <a:t>Mass</a:t>
            </a:r>
            <a:endParaRPr b="0" lang="en-US" sz="8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190512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s measured in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kilogram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s the measure of th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inerti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of an objec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Inerti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is the natural tendency of a body resist changes in mo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7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2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7" dur="5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cc"/>
                </a:solidFill>
                <a:latin typeface="Times New Roman"/>
              </a:rPr>
              <a:t>Force</a:t>
            </a:r>
            <a:endParaRPr b="0" lang="en-US" sz="8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133360" y="1828800"/>
            <a:ext cx="5257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agency of chang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anges the velocit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s a vector quantit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..measured in Newton’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4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9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4" dur="5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9" dur="500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12760" y="25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cc"/>
                </a:solidFill>
                <a:latin typeface="Times New Roman"/>
              </a:rPr>
              <a:t>Newton’s First Law</a:t>
            </a:r>
            <a:endParaRPr b="0" lang="en-US" sz="6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624560" y="1535040"/>
            <a:ext cx="4519440" cy="211320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 fontScale="68000"/>
          </a:bodyPr>
          <a:p>
            <a:pPr marL="233280" indent="-233280">
              <a:spcBef>
                <a:spcPts val="799"/>
              </a:spcBef>
              <a:buClr>
                <a:srgbClr val="ffffcc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aw of Inert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332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33280" indent="-233280">
              <a:spcBef>
                <a:spcPts val="799"/>
              </a:spcBef>
              <a:buClr>
                <a:srgbClr val="ffffcc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body remains at rest or moves in a straight line at a constant speed unless acted upon by a force.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33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7" name="Object 4"/>
          <p:cNvGraphicFramePr/>
          <p:nvPr/>
        </p:nvGraphicFramePr>
        <p:xfrm>
          <a:off x="1460520" y="1790640"/>
          <a:ext cx="2901960" cy="35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60520" y="1790640"/>
                    <a:ext cx="2901960" cy="35560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7819" dir="2700000" blurRad="0" rotWithShape="0">
                      <a:srgbClr val="000000"/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139" name="Object 5"/>
          <p:cNvGraphicFramePr/>
          <p:nvPr/>
        </p:nvGraphicFramePr>
        <p:xfrm>
          <a:off x="685800" y="4191120"/>
          <a:ext cx="1380960" cy="1962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0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5800" y="4191120"/>
                    <a:ext cx="1380960" cy="196200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7819" dir="2700000" blurRad="0" rotWithShape="0">
                      <a:srgbClr val="000000"/>
                    </a:outerShdw>
                  </a:effectLst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4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9" dur="5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Newton’s First Law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2" name="Rectangle 5"/>
          <p:cNvSpPr/>
          <p:nvPr/>
        </p:nvSpPr>
        <p:spPr>
          <a:xfrm>
            <a:off x="304920" y="1523880"/>
            <a:ext cx="84582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No mention of chemical composi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No mention of terrestrial or celestial realm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Force required when object changes mo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Acceleration is the observable consequence of forces actin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12760" y="25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cc"/>
                </a:solidFill>
                <a:latin typeface="Times New Roman"/>
              </a:rPr>
              <a:t>Newton’s Second Law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44" name="Object 4"/>
          <p:cNvGraphicFramePr/>
          <p:nvPr/>
        </p:nvGraphicFramePr>
        <p:xfrm>
          <a:off x="1460520" y="1790640"/>
          <a:ext cx="2901960" cy="35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60520" y="1790640"/>
                    <a:ext cx="2901960" cy="35560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7819" dir="2700000" blurRad="0" rotWithShape="0">
                      <a:srgbClr val="000000"/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146" name="Object 5"/>
          <p:cNvGraphicFramePr/>
          <p:nvPr/>
        </p:nvGraphicFramePr>
        <p:xfrm>
          <a:off x="762120" y="4191120"/>
          <a:ext cx="1380960" cy="1962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7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4191120"/>
                    <a:ext cx="1380960" cy="196200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7819" dir="2700000" blurRad="0" rotWithShape="0">
                      <a:srgbClr val="000000"/>
                    </a:outerShdw>
                  </a:effectLst>
                </p:spPr>
              </p:pic>
            </p:oleObj>
          </a:graphicData>
        </a:graphic>
      </p:graphicFrame>
      <p:sp>
        <p:nvSpPr>
          <p:cNvPr id="148" name="Rectangle 7"/>
          <p:cNvSpPr/>
          <p:nvPr/>
        </p:nvSpPr>
        <p:spPr>
          <a:xfrm>
            <a:off x="4724280" y="1828800"/>
            <a:ext cx="4419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Sum of the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ces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cting on a body is proportional to the acceleration that the body experien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Rectangle 9"/>
          <p:cNvSpPr/>
          <p:nvPr/>
        </p:nvSpPr>
        <p:spPr>
          <a:xfrm>
            <a:off x="5029200" y="4191120"/>
            <a:ext cx="2971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SzPct val="75000"/>
              <a:buFont typeface="Symbol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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= (mass)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2" dur="20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7" dur="20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50" name="Object 2"/>
              <p:cNvSpPr txBox="1"/>
              <p:nvPr/>
            </p:nvSpPr>
            <p:spPr>
              <a:xfrm>
                <a:off x="990720" y="609480"/>
                <a:ext cx="1828800" cy="72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Object 3"/>
              <p:cNvSpPr txBox="1"/>
              <p:nvPr/>
            </p:nvSpPr>
            <p:spPr>
              <a:xfrm>
                <a:off x="5029200" y="2362320"/>
                <a:ext cx="2600280" cy="82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a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Object 4"/>
              <p:cNvSpPr txBox="1"/>
              <p:nvPr/>
            </p:nvSpPr>
            <p:spPr>
              <a:xfrm>
                <a:off x="4952880" y="3657600"/>
                <a:ext cx="2651400" cy="86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a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53" name="Line 6"/>
          <p:cNvSpPr/>
          <p:nvPr/>
        </p:nvSpPr>
        <p:spPr>
          <a:xfrm flipH="1" flipV="1">
            <a:off x="1218960" y="1295280"/>
            <a:ext cx="685800" cy="1524240"/>
          </a:xfrm>
          <a:prstGeom prst="line">
            <a:avLst/>
          </a:prstGeom>
          <a:ln cap="sq" w="3816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Text Box 7"/>
          <p:cNvSpPr/>
          <p:nvPr/>
        </p:nvSpPr>
        <p:spPr>
          <a:xfrm>
            <a:off x="1372320" y="2743200"/>
            <a:ext cx="139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et For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Object 8"/>
              <p:cNvSpPr txBox="1"/>
              <p:nvPr/>
            </p:nvSpPr>
            <p:spPr>
              <a:xfrm>
                <a:off x="4952880" y="5029200"/>
                <a:ext cx="2600280" cy="77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a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2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cc"/>
                </a:solidFill>
                <a:latin typeface="Times New Roman"/>
              </a:rPr>
              <a:t>Newton’s Third Law</a:t>
            </a:r>
            <a:endParaRPr b="0" lang="en-US" sz="6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806720" y="1620720"/>
            <a:ext cx="4336920" cy="302760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Action-Rea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r every action force there is an equal and opposite reaction for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8" name="Object 4"/>
          <p:cNvGraphicFramePr/>
          <p:nvPr/>
        </p:nvGraphicFramePr>
        <p:xfrm>
          <a:off x="1460520" y="1790640"/>
          <a:ext cx="2901960" cy="35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60520" y="1790640"/>
                    <a:ext cx="2901960" cy="35560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7819" dir="2700000" blurRad="0" rotWithShape="0">
                      <a:srgbClr val="000000"/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160" name="Object 5"/>
          <p:cNvGraphicFramePr/>
          <p:nvPr/>
        </p:nvGraphicFramePr>
        <p:xfrm>
          <a:off x="838080" y="4191120"/>
          <a:ext cx="1381320" cy="1962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1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8080" y="4191120"/>
                    <a:ext cx="1381320" cy="196200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7819" dir="2700000" blurRad="0" rotWithShape="0">
                      <a:srgbClr val="000000"/>
                    </a:outerShdw>
                  </a:effectLst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1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6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30T21:00:26Z</dcterms:created>
  <dc:creator>Dr. Dan Bruton</dc:creator>
  <dc:description/>
  <dc:language>en-US</dc:language>
  <cp:lastModifiedBy>RomaK</cp:lastModifiedBy>
  <dcterms:modified xsi:type="dcterms:W3CDTF">2015-09-03T12:29:03Z</dcterms:modified>
  <cp:revision>27</cp:revision>
  <dc:subject/>
  <dc:title>Physics 108</dc:title>
</cp:coreProperties>
</file>