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54DA-7633-485A-A201-152C0AADA06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vaneh, Shelby &amp; Marle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rvaneh, Shelby &amp; Marlee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lescop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Microwaves used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, transmitting information, remote sen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microwaves used for remote sen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mote sensing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pierce through all cloud covering 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micr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at are Microwaves used for?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eating, transmitting information, remote sens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orter microwaves used for remote sens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oppler rad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ctive remote sensing syste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pierce through all cloud covering of earth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atellite imag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e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loon Bor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quality CMB data with unmatched sky cove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ve results on CMB anisotropy 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bed for data analysis to be used in PLAN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urnal.archeops.org/First_results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rcheop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igh quality CMB data with unmatched sky coverag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etitive results on CMB anisotropy measure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stbed for data analysis to be used in PLANC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journal.archeops.org/First_results/index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mer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loon bor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. 29, 1998 – Jan. 9, 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5 days around antarct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0,000 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m primary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sky at 4 frequen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, 150, 240, 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ered 1800 square degrees (3% of sk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mb.phys.cwru.edu/boomerang/press_images/cmbfacts/cmbfac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omera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c. 29, 1998 – Jan. 9, 199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0.5 days around antarc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20,000 f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2 m primary mirro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d sky at 4 frequenci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90, 150, 240, 40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vered 1800 square degrees (3% of sky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mb.phys.cwru.edu/boomerang/press_images/cmbfacts/cmbfact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background Im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 to study CMB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he statistical properties on angular scales from 5 arc minutes to one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 element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eld of view – 44 arc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lution – 4.5-10 arc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at fore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solved sources measured by 40 m telescope in Owens Valley Radio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caltech.edu/~tjp/CBI/pictures/cbi-frontview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smic background Imag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adio telescope to study CMB radi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 the statistical properties on angular scales from 5 arc minutes to one degre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3 element interferomete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ield of view – 44 arcm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solution – 4.5-10 arcm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oks at foreground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resolved sources measured by 40 m telescope in Owens Valley Radio Observator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stro.caltech.edu/~tjp/CBI/pictures/cbi-frontview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das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Angular Scale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 elemental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emp and angular power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d over l range of 160-170 or .25-1.15 deg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 includes rotation of aperture plane along line of s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SI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gree Angular Scale Interfer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3 elemental interfer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 temp and angular power spectr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ampled over l range of 160-170 or .25-1.15 degre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ount includes rotation of aperture plane along line of sigh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kinson Microwave Anisotropy Pr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2001 to map CMB radiation with higher resolution, sensitivity, and accuracy than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m_mm/sg_earlyuniv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MAP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kinson Microwave Anisotropy Pr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unched 2001 to map CMB radiation with higher resolution, sensitivity, and accuracy than C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m_mm/sg_earlyuniv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smology.berkeley.edu/group/cmb/image/maxima_map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meter Anisotropy eXperiment Imaging Ar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power spectrum with a unique set of "acoustic peaks" between the angular scales of 2 degrees and 10'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provide precise estimates of cosmological consta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XIM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mage/maxima_map.gif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llimeter Anisotropy eXperiment Imaging Arr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gular power spectrum with a unique set of "acoustic peaks" between the angular scales of 2 degrees and 10'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an provide precise estimates of cosmological constant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the first European mission to study the “birth” of the Unive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on to be finished in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the same rocket with Herschel in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the Cosmic Microwave Background (left over radiation from the Big Ba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rt of the first European mission to study the “birth” of the Univers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ruction to be finished in 200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unched in the same rocket with Herschel in 200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l observe the Cosmic Microwave Background (left over radiation from the Big Bang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ci.esa.int/science-e/www/object/index.cfm?fobjectid=348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sri.dk/planck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paceflightnow.com/news/n0006/13planck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sci.esa.int/science-e/www/object/index.cfm?fobjectid=3487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dsri.dk/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spaceflightnow.com/news/n0006/13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 Pole Telescope (SP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8-meter precision submillimeter-wave telescop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t galaxy clusters through detection of their Sunyaev-Zel’dovich effect (SZ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Energy will be observed in great de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000 Bolometers (heat detectors) measure the temperature differences up to 10 millionths of a degre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large areas of the sky will be very beneficial to modern astron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outh Pole Telescope (SPT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 8-meter precision submillimeter-wave telescop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tant galaxy clusters through detection of their Sunyaev-Zel’dovich effect (SZE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rk Energy will be observed in great detai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,000 Bolometers (heat detectors) measure the temperature differences up to 10 millionths of a degre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pping large areas of the sky will be very beneficial to modern astronome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mestic u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have wavelengths range from centimeters to those closer to a foot in 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are for heating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waves Doppler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were first utilized by British the 1940s during WW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r John Randall and Dr. H. A. Boot, invented a device called a magnetron (Radar) using microwaves to detect Nazi warpla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5, examining the magnetron, Percy Spencer’s candy bar mel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was marketed, thank goodness Percy was a chocolate l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abers.org/STELLA%20CANDY%20BAR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covery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(domestic use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have wavelengths range from centimeters to those closer to a foot in length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nger are for heating food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orter waves Doppler rad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were first utilized by British the 1940s during WWII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ir John Randall and Dr. H. A. Boot, invented a device called a magnetron (Radar) using microwaves to detect Nazi warplane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945, examining the magnetron, Percy Spencer’s candy bar melt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duct was marketed, thank goodness Percy was a chocolate lover!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abers.org/STELLA%20CANDY%20BAR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 Pol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sp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aceflightnow.com/news/n0301/29polescop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outh Pole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spt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spaceflightnow.com/news/n0301/29polescope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ry Small Array (V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 built as an Inferometer, due to the changing weather patterns and the basic noise of the instruments that are experie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radio signals received by each anten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on finished in 1999 now in Tenerif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rao.cam.ac.uk/telescopes/vs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Very Small Array (VSA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l be built as an Inferometer, due to the changing weather patterns and the basic noise of the instruments that are experienc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radio signals received by each anten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ruction finished in 1999 now in Tenerif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mrao.cam.ac.uk/telescopes/vsa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mall Ar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jb.man.ac.uk/tech/ technology/array-top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rao.cam.ac.uk/ telescopes/vsa/ext-array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pifr-bonn.mpg.de/.../ teleskope/vsa_art1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ery Small Arr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jb.man.ac.uk/tech/ technology/array-top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mrao.cam.ac.uk/ telescopes/vsa/ext-array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mpifr-bonn.mpg.de/.../ teleskope/vsa_art1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rcheops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mb.phys.cwru.edu/boomera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caltech.edu/~tjp/CB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das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smology.berkeley.edu/group/cmb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micr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ins &amp; Kaufmann III, Discovering the Universe;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ether.lbl.gov/www/projects/cobe/COBE_Home/DMR_Imag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m_uni/uni_101bbtest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nacho.princeton.edu/fowler/Talks/Brazosport_2001/slide30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deafinder.com/history/inventions/story068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ibliograph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rcheops.or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mb.phys.cwru.edu/boomeran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stro.caltech.edu/~tjp/CB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ndex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ins &amp; Kaufmann III, Discovering the Universe; 200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ether.lbl.gov/www/projects/cobe/COBE_Home/DMR_Imag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m_uni/uni_101bbtest3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nacho.princeton.edu/fowler/Talks/Brazosport_2001/slide30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ideafinder.com/history/inventions/story068.ht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Microwave Background (CM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0's at scientists at Bell Laboratories detected background noise using a special “low noise” anten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atic noise came from every direction and did not vary in int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s soon realized they had discovered the cosmic microwave background radi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adiation, which fills the entire Universe, is believed to be a clue to it's beginning, something known as the Big Bang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smic Microwave Background (CMB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960's at scientists at Bell Laboratories detected background noise using a special “low noise” antenna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is static noise came from every direction and did not vary in intensity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cientists soon realized they had discovered the cosmic microwave background radiation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is radiation, which fills the entire Universe, is believed to be a clue to it's beginning, something known as the Big Bang.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a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e was once much smaller, hotter, and den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ff of Einstein’s theory of general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the universe – 19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uterium, helium, lith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www.internet2.edu/apps/html/archiv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ig Bang Mode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verse was once much smaller, hotter, and dens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sed off of Einstein’s theory of general relativit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pansion of the universe – 192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ightest ele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uterium, helium, lithi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ldwww.internet2.edu/apps/html/archiv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 CMB tells us about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ometry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ther the universe will expand or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matter there i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and nature of dark matter a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rate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igins of galaxies and galaxy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at the CMB tells us about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geometry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ether the universe will expand or collap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ow much matter there is in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mount and nature of dark matter and energ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pansion rate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ge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origins of galaxies and galaxy cluste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s of the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e cooled as expanded – became less 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variations affected temp. of ph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 regions = hot spots in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,000 years – cooled enough to for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ns traveled through – form relic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– 1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rigins of the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verse cooled as expanded – became less den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ity variations affected temp. of photon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e regions = hot spots in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00,000 years – cooled enough to form ato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hotons traveled through – form relic radi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ravitational collapse – 1 billion yea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reated galaxi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ef History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mic microwave background radiation is a remnant of the Big Bang and the fluctuations are the imprint of density contrast in the early univers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 (November 18, 1989- 199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t observations were made over 6 mo.  periods for 4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BE (Diffuse InfraRed Experiment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AS (Far-InfaRed Absolute Spectrophotome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R (Differential Microwave Radiometer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R Recei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ief History and C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cosmic microwave background radiation is a remnant of the Big Bang and the fluctuations are the imprint of density contrast in the early universe.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BE (November 18, 1989- 1993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requent observations were made over 6 mo.  periods for 4 year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RBE (Diffuse InfraRed Experiment)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IRAS (Far-InfaRed Absolute Spectrophotometer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MR (Differential Microwave Radiometers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MR Receive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Microwave Radi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tions in intensity of the cosmic microwave background, show the post-Big Bang matter and energy distrib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ity / Isotropic CMB (to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body curve (midd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hot and cold spot in the sky coming from our Solar System's motion through the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Ripples (botto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’s findings at different levels of contra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28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353 m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µ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fferential Microwave Radi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ariations in intensity of the cosmic microwave background, show the post-Big Bang matter and energy distribution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formity / Isotropic CMB (top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mperature of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lack body curve (middle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ne hot and cold spot in the sky coming from our Solar System's motion through the galaxy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ity Ripples (botto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BE’s findings at different levels of contrast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728 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353 m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8µ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3A9-829B-4CC7-BEC6-76D466F3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D06-2205-4CD8-A543-69502A54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12B4-E7E5-450A-B765-0ACFED07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434-F673-4EF4-9761-231351CE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CA55-AB8C-4871-A275-B9CDB9AB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7D92-23ED-444D-A4E3-823F6E78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0047-F198-4D31-88F7-CCBFBC9D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66B6-2697-42C2-A09A-7C71C180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F668-C845-4805-A15B-4D8F7764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26B3-490E-4C84-80F9-2CA1E354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A64C-73F8-4914-9622-7A85BFCC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82AE-5F4A-4EBC-8916-E0D089A0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0267-0326-45BC-947F-A6737424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045F-043C-4157-8F33-AB15F8CB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5232-64D2-4391-983D-C0577101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2C4E-B637-407B-B29A-485D626B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B9A2-6C84-4053-8E8B-CC9B4519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F8F-3DF2-4EB8-A905-1BEEA056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1A15-F929-40B5-A32F-067D46EF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4A84-F708-4342-B143-800F7BE3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D52-0F97-46DA-876D-DBFEE746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BAD-67B4-4E16-B465-2194194C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51C-D51C-4E9D-B507-76F1C588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C98-D702-48AC-B75D-F306B2C9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F09E-FA38-40A2-9FE1-DE4842E9A2B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9DC4-2731-476A-9321-2916628B546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stro.caltech.edu/~tjp/CBI/pictures/cbi-frontview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stro.uchicago.edu/dasi/DasiSunDog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dsri.dk/planck/first-l2-27jun97.gif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rao.cam.ac.uk/telescopes/vsa/ext-array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jb.man.ac.uk/tech/technology/array-top.jpg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rcheops.org/" TargetMode="External"/><Relationship Id="rId2" Type="http://schemas.openxmlformats.org/officeDocument/2006/relationships/hyperlink" Target="http://cmb.phys.cwru.edu/boomerang/" TargetMode="External"/><Relationship Id="rId3" Type="http://schemas.openxmlformats.org/officeDocument/2006/relationships/hyperlink" Target="http://www.astro.caltech.edu/~tjp/CB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94920" y="5257440"/>
            <a:ext cx="71629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838c"/>
                </a:solidFill>
                <a:latin typeface="바탕"/>
              </a:rPr>
              <a:t>Parvaneh, Shelby &amp; Marlee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4572000" y="914400"/>
          <a:ext cx="4191120" cy="30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914400"/>
                    <a:ext cx="419112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 txBox="1"/>
          <p:nvPr/>
        </p:nvSpPr>
        <p:spPr>
          <a:xfrm>
            <a:off x="812160" y="1269360"/>
            <a:ext cx="37854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8b3f"/>
                </a:solidFill>
                <a:latin typeface="Arial"/>
              </a:rPr>
              <a:t>Microwav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48320" y="1219320"/>
            <a:ext cx="419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724280" y="152388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c4558"/>
                </a:solidFill>
                <a:latin typeface="Arial"/>
              </a:rPr>
              <a:t>Telescopes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Microwaves used fo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43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ting, transmitting information, remote sen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rter microwaves used for remote sen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ppler rad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tive remote sensing syst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crowaves pierce through all cloud covering of ear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tellite imag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4" descr="Salt Lake City, Utah"/>
          <p:cNvPicPr/>
          <p:nvPr/>
        </p:nvPicPr>
        <p:blipFill>
          <a:blip r:embed="rId1"/>
          <a:stretch/>
        </p:blipFill>
        <p:spPr>
          <a:xfrm>
            <a:off x="6248520" y="3733920"/>
            <a:ext cx="2361960" cy="2514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733920" y="56386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34120" y="63244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che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Picture 3" descr="nacelle"/>
          <p:cNvPicPr/>
          <p:nvPr/>
        </p:nvPicPr>
        <p:blipFill>
          <a:blip r:embed="rId1"/>
          <a:stretch/>
        </p:blipFill>
        <p:spPr>
          <a:xfrm>
            <a:off x="380880" y="2286000"/>
            <a:ext cx="2857680" cy="4390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428640" y="2438280"/>
            <a:ext cx="53341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quality CMB data with unmatched sky cover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etitive results on CMB anisotropy measur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stbed for data analysis to be used in PLAN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32448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journal.archeops.org/First_results/index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omera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. 29, 1998 – Jan. 9, 199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.5 days around antarc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20,000 f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2 m primary mirr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asured sky at 4 frequen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0, 150, 240, 4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vered 1800 square degrees (3% of sk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Picture 4" descr="track_final"/>
          <p:cNvPicPr/>
          <p:nvPr/>
        </p:nvPicPr>
        <p:blipFill>
          <a:blip r:embed="rId1"/>
          <a:stretch/>
        </p:blipFill>
        <p:spPr>
          <a:xfrm>
            <a:off x="6095880" y="1676520"/>
            <a:ext cx="2614680" cy="2666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095880" y="449568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http://cmb.phys.cwru.edu/boomerang/press_images/cmbfacts/cmbfacts.htm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bi-frontvi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2514600"/>
            <a:ext cx="5029200" cy="4152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smic background Imag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2437920"/>
            <a:ext cx="5181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dio telescope to study CMB radi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asure the statistical properties on angular scales from 5 arc minutes to one degre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3 element interferomete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eld of view – 44 arc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solution – 4.5-10 arc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0" y="4648320"/>
            <a:ext cx="39625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oks at foregroun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resolved sources measured by 40 m telescope in Owens Valley Radio Observa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25780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stro.caltech.edu/~tjp/CBI/pictures/cbi-frontview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S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0" name="Picture 3" descr="DasiSunDog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2590920"/>
            <a:ext cx="4686480" cy="3886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5181480" y="2819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astro.uchicago.edu/das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04920" y="2666880"/>
            <a:ext cx="5486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gree Angular Scale Interferome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3 elemental interferome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easure temp and angular power spectr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04920" y="434340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pled over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range of 160-170 or .25-1.15 degre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28600" y="556272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unt includes rotation of aperture plane along line of s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M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kinson Microwave Anisotropy Pro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unched 2001 to map CMB radiation with higher resolution, sensitivity, and accuracy than CO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4" descr="Cosmic Microwave Background Data from WMAP"/>
          <p:cNvPicPr/>
          <p:nvPr/>
        </p:nvPicPr>
        <p:blipFill>
          <a:blip r:embed="rId1"/>
          <a:stretch/>
        </p:blipFill>
        <p:spPr>
          <a:xfrm>
            <a:off x="3809880" y="3809880"/>
            <a:ext cx="4305600" cy="2152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4038480" y="617220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map.gsfc.nasa.gov/m_mm/sg_earlyuniv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XI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Picture 3" descr="maxima_map"/>
          <p:cNvPicPr/>
          <p:nvPr/>
        </p:nvPicPr>
        <p:blipFill>
          <a:blip r:embed="rId1"/>
          <a:stretch/>
        </p:blipFill>
        <p:spPr>
          <a:xfrm>
            <a:off x="6095880" y="3657600"/>
            <a:ext cx="2743200" cy="2376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6172200" y="60958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mage/maxima_map.gif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2666880"/>
            <a:ext cx="60195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llimet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sotropy 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imen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ing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ra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gular power spectrum with a unique set of "acoustic peaks" between the angular scales of 2 degrees and 10'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provide precise estimates of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mological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tant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 of the first European mission to study the “birth” of the Univer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on to be finished in 200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unched in the same rocket with Herschel in 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observe the Cosmic Microwave Background (left over radiation from the Big Ba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Picture 5" descr="The telescope frame mounted on the test fixture using thermally isolating struts. Image courtesy of and © 2004 Alcatel Space."/>
          <p:cNvPicPr/>
          <p:nvPr/>
        </p:nvPicPr>
        <p:blipFill>
          <a:blip r:embed="rId1"/>
          <a:stretch/>
        </p:blipFill>
        <p:spPr>
          <a:xfrm>
            <a:off x="457200" y="2362320"/>
            <a:ext cx="2892600" cy="3886200"/>
          </a:xfrm>
          <a:prstGeom prst="rect">
            <a:avLst/>
          </a:prstGeom>
          <a:ln w="22320">
            <a:solidFill>
              <a:srgbClr val="003366"/>
            </a:solidFill>
            <a:miter/>
          </a:ln>
        </p:spPr>
      </p:pic>
      <p:pic>
        <p:nvPicPr>
          <p:cNvPr id="177" name="Picture 6" descr="Click to get full image of FIRST/PLAN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2286000"/>
            <a:ext cx="2495520" cy="4286160"/>
          </a:xfrm>
          <a:prstGeom prst="rect">
            <a:avLst/>
          </a:prstGeom>
          <a:ln w="22320">
            <a:solidFill>
              <a:srgbClr val="006666"/>
            </a:solidFill>
            <a:miter/>
          </a:ln>
        </p:spPr>
      </p:pic>
      <p:sp>
        <p:nvSpPr>
          <p:cNvPr id="178" name="Rectangle 8"/>
          <p:cNvSpPr/>
          <p:nvPr/>
        </p:nvSpPr>
        <p:spPr>
          <a:xfrm>
            <a:off x="304920" y="6172200"/>
            <a:ext cx="373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sci.esa.int/science-e/www/object/index.cfm?fobjectid=3487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6393960" y="6172200"/>
            <a:ext cx="22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dsri.dk/planck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Picture 10" descr="Spacecraft"/>
          <p:cNvPicPr/>
          <p:nvPr/>
        </p:nvPicPr>
        <p:blipFill>
          <a:blip r:embed="rId4"/>
          <a:stretch/>
        </p:blipFill>
        <p:spPr>
          <a:xfrm>
            <a:off x="3352680" y="1828800"/>
            <a:ext cx="2982960" cy="2779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2"/>
          <p:cNvSpPr/>
          <p:nvPr/>
        </p:nvSpPr>
        <p:spPr>
          <a:xfrm>
            <a:off x="3429000" y="40384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paceflightnow.com/news/n0006/13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80920" y="1109520"/>
            <a:ext cx="74574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The South Pole Telescope (SPT)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8-meter precision submillimeter-wave telescop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ant galaxy clusters through detection of their Sunyaev-Zel’dovich effect (SZ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rk Energy will be observed in great deta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,000 Bolometers (heat detectors) measure the temperature differences up to 10 millionths of a degre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pping large areas of the sky will be very beneficial to modern astronom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overy</a:t>
            </a:r>
            <a:br>
              <a:rPr sz="36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(domestic use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5" descr="The radio range showing the radar bands L,S,C,X,K (from L to R)."/>
          <p:cNvPicPr/>
          <p:nvPr/>
        </p:nvPicPr>
        <p:blipFill>
          <a:blip r:embed="rId1"/>
          <a:stretch/>
        </p:blipFill>
        <p:spPr>
          <a:xfrm>
            <a:off x="3505320" y="685800"/>
            <a:ext cx="5029200" cy="1150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809880" y="2514600"/>
            <a:ext cx="50292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crowaves have wavelengths range from centimeters to those closer to a foot in length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nger are for heating food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horter waves Doppler rad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crowaves were first utilized by British the 1940s during WWII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r John Randall and Dr. H. A. Boot, invented a device called a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magnetron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Radar) using microwaves to detect Nazi warplan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945, examining the magnetron, Percy Spencer’s candy bar mel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duct was marketed, thank goodness Percy was a chocolate lover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8" descr="2003-06-19_Hershey_candy_bar"/>
          <p:cNvPicPr/>
          <p:nvPr/>
        </p:nvPicPr>
        <p:blipFill>
          <a:blip r:embed="rId2"/>
          <a:stretch/>
        </p:blipFill>
        <p:spPr>
          <a:xfrm>
            <a:off x="1371600" y="2514600"/>
            <a:ext cx="2009880" cy="3724200"/>
          </a:xfrm>
          <a:prstGeom prst="rect">
            <a:avLst/>
          </a:prstGeom>
          <a:ln cap="rnd" w="19080">
            <a:solidFill>
              <a:srgbClr val="006666"/>
            </a:solidFill>
            <a:custDash>
              <a:ds d="100000" sp="1000"/>
            </a:custDash>
            <a:miter/>
          </a:ln>
        </p:spPr>
      </p:pic>
      <p:sp>
        <p:nvSpPr>
          <p:cNvPr id="112" name="Text Box 10"/>
          <p:cNvSpPr/>
          <p:nvPr/>
        </p:nvSpPr>
        <p:spPr>
          <a:xfrm>
            <a:off x="1066680" y="624852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www.sabers.org/STELLA%20CANDY%20BAR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The South Pole Telescope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Picture 4" descr="spt-shields"/>
          <p:cNvPicPr/>
          <p:nvPr/>
        </p:nvPicPr>
        <p:blipFill>
          <a:blip r:embed="rId1"/>
          <a:stretch/>
        </p:blipFill>
        <p:spPr>
          <a:xfrm>
            <a:off x="457200" y="2592360"/>
            <a:ext cx="3276720" cy="2513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southpole"/>
          <p:cNvPicPr/>
          <p:nvPr/>
        </p:nvPicPr>
        <p:blipFill>
          <a:blip r:embed="rId2"/>
          <a:stretch/>
        </p:blipFill>
        <p:spPr>
          <a:xfrm>
            <a:off x="3809880" y="2400480"/>
            <a:ext cx="5029200" cy="3776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690120" y="518148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astro.uchicago.edu/spt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758040" y="6172200"/>
            <a:ext cx="53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www.spaceflightnow.com/news/n0301/29polescope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Very Small Array (VS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ill be built as an Inferometer, due to the changing weather patterns and the basic noise of the instruments that are experience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Uses radio signals received by each antenn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nstruction finished in 1999</a:t>
            </a:r>
            <a:r>
              <a:rPr b="0" lang="en-US" sz="26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now in Tenerife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Picture 4" descr="pics2"/>
          <p:cNvPicPr/>
          <p:nvPr/>
        </p:nvPicPr>
        <p:blipFill>
          <a:blip r:embed="rId1"/>
          <a:stretch/>
        </p:blipFill>
        <p:spPr>
          <a:xfrm>
            <a:off x="1523880" y="3809880"/>
            <a:ext cx="5791320" cy="30481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7315200" y="5105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mrao.cam.ac.uk/telescopes/vsa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ry Small Arra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4" name="Picture 4" descr="ext-array-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3526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Array top vie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666880"/>
            <a:ext cx="2800080" cy="3733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96" name="Picture 6" descr="vsa_art1"/>
          <p:cNvPicPr/>
          <p:nvPr/>
        </p:nvPicPr>
        <p:blipFill>
          <a:blip r:embed="rId5"/>
          <a:stretch/>
        </p:blipFill>
        <p:spPr>
          <a:xfrm>
            <a:off x="4876920" y="1143000"/>
            <a:ext cx="4267080" cy="2995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04920" y="472356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www.jb.man.ac.uk/tech/ technology/array-top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733920" y="624780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www.mrao.cam.ac.uk/ telescopes/vsa/ext-array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172200" y="4113720"/>
            <a:ext cx="350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www.mpifr-bonn.mpg.de/.../ teleskope/vsa_art1.jpg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bli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archeops.org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cmb.phys.cwru.edu/boomerang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www.astro.caltech.edu/~tjp/CB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map.gsfc.nasa.gov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cosmology.berkeley.edu/group/cmb/index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Comins &amp; Kaufmann III,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Unicode MS"/>
              </a:rPr>
              <a:t>Discovering the Universe</a:t>
            </a: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; 200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aether.lbl.gov/www/projects/cobe/COBE_Home/DMR_Images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map.gsfc.nasa.gov/m_uni/uni_101bbtest3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nacho.princeton.edu/fowler/Talks/Brazosport_2001/slide30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www.ideafinder.com/history/inventions/story068.ht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osmic 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icrowave 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ackground</a:t>
            </a: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(CMB)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990720" y="25146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10" descr="Flower-Power-1024"/>
          <p:cNvPicPr/>
          <p:nvPr/>
        </p:nvPicPr>
        <p:blipFill>
          <a:blip r:embed="rId1"/>
          <a:stretch/>
        </p:blipFill>
        <p:spPr>
          <a:xfrm>
            <a:off x="914400" y="2438280"/>
            <a:ext cx="7238880" cy="4241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6" name="Text Box 12"/>
          <p:cNvSpPr/>
          <p:nvPr/>
        </p:nvSpPr>
        <p:spPr>
          <a:xfrm>
            <a:off x="2057400" y="2743200"/>
            <a:ext cx="54864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960's at scientists at Bell Laboratories detected background noise using a special “low noise” antenna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is static noise came from every direction and did not vary in intens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scientists soon realized they had discovered the cosmic microwave background radiation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This radiation, which fills the entire Universe, is believed to be a clue to it's beginning, something known as the Big Bang.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 Bang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400" y="2361960"/>
            <a:ext cx="6019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verse was once much smaller, hotter, and den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sed off of Einstein’s theory of general relativ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ansion of the universe – 192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ghtest el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uterium, helium, lithiu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M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5" descr="runaway-universe"/>
          <p:cNvPicPr/>
          <p:nvPr/>
        </p:nvPicPr>
        <p:blipFill>
          <a:blip r:embed="rId1"/>
          <a:stretch/>
        </p:blipFill>
        <p:spPr>
          <a:xfrm>
            <a:off x="5410080" y="4648320"/>
            <a:ext cx="3429000" cy="2008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5334120" y="640080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ldwww.internet2.edu/apps/html/archiv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the CMB tells us about the Univer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geometry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ther the universe will expand or collap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uch matter there is in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ount and nature of dark matter and ener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ansion rate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ge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rigins of galaxies and galaxy clus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gins of the CM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400" y="2590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iverse cooled as expanded – became less de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nsity variations affected temp. of ph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nse regions = hot spots in CM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00,000 years – cooled enough to form ato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otons traveled through – form relic rad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vitational collapse – 1 billion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d galax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ief History and COB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25" descr="COBE_26_DMRrec"/>
          <p:cNvPicPr/>
          <p:nvPr/>
        </p:nvPicPr>
        <p:blipFill>
          <a:blip r:embed="rId1">
            <a:lum contrast="24000"/>
          </a:blip>
          <a:srcRect l="10166" t="840" r="6264" b="0"/>
          <a:stretch/>
        </p:blipFill>
        <p:spPr>
          <a:xfrm>
            <a:off x="5562720" y="3352680"/>
            <a:ext cx="3276360" cy="2743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838080" y="2590920"/>
            <a:ext cx="4800600" cy="40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The cosmic microwave background radiation is a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remnant of the Big Bang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and the fluctuations are the imprint of density contrast in the early universe.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B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ovember 18, 1989- 1993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requent observations were made over 6 mo.  periods for 4 year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RBE (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Diffuse InfraRed Experim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RAS (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Far-InfaRed Absolute Spectrophotome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MR (</a:t>
            </a: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Differential Microwave Radiometers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58672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MR Receiver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Object 29"/>
          <p:cNvGraphicFramePr/>
          <p:nvPr/>
        </p:nvGraphicFramePr>
        <p:xfrm>
          <a:off x="5638680" y="6248520"/>
          <a:ext cx="175284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6248520"/>
                    <a:ext cx="1752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4078E-006 C 0.00226 0.00904 0.00452 0.01831 -0.02187 -0.01089 C -0.04826 -0.04008 -0.15312 -0.12025 -0.15885 -0.17539 C -0.16458 -0.23053 -0.09375 -0.31765 -0.05607 -0.34175 C -0.0184 -0.36584 0.04271 -0.28915 0.06719 -0.31997 C 0.09167 -0.35078 0.11511 -0.48262 0.09046 -0.52641 C 0.0658 -0.5702 -0.05156 -0.59406 -0.08073 -0.58317 C -0.10989 -0.57228 -0.10503 -0.48192 -0.08489 -0.46061 C -0.06475 -0.43929 0.01615 -0.42539 0.03976 -0.45528 C 0.06337 -0.48517 0.03889 -0.58688 0.05625 -0.63994 C 0.07362 -0.693 0.12535 -0.75208 0.14393 -0.7734 C 0.1625 -0.79471 0.16476 -0.78127 0.16719 -0.76784 E">
                                      <p:cBhvr>
                                        <p:cTn id="1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l Microwave Radiome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Object 21"/>
          <p:cNvGraphicFramePr/>
          <p:nvPr/>
        </p:nvGraphicFramePr>
        <p:xfrm>
          <a:off x="762120" y="2895480"/>
          <a:ext cx="22622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22622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8"/>
          <p:cNvSpPr/>
          <p:nvPr/>
        </p:nvSpPr>
        <p:spPr>
          <a:xfrm>
            <a:off x="5715000" y="2514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971800" y="2666880"/>
            <a:ext cx="617220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Variations in intensity of the cosmic microwave background, show the post-Big Bang matter and energy distribution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iformity / Isotropic CMB (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op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emperature of CM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lack body curve (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middl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ne hot and cold spot in the sky coming from our Solar System's motion through the galaxy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nsity Ripples (bottom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685800" y="236232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COBE’s findings at different levels of contrast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1219320" y="35812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728 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1143000" y="4724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353 m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1219320" y="5791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µ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990015b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85800" y="304920"/>
            <a:ext cx="8153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9:50:09Z</dcterms:created>
  <dc:creator>Lakeside Loaner</dc:creator>
  <dc:description/>
  <dc:language>en-US</dc:language>
  <cp:lastModifiedBy>RomaK</cp:lastModifiedBy>
  <dcterms:modified xsi:type="dcterms:W3CDTF">2015-09-03T12:31:35Z</dcterms:modified>
  <cp:revision>22</cp:revision>
  <dc:subject/>
  <dc:title>Microwave Telescopes</dc:title>
</cp:coreProperties>
</file>