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6C16-8518-46C6-A0B0-E091708B8C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, Force and Grav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– Amount of stuff (atoms/molecules) in an object. Measured in k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– Measures the gravitational pull on something.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s Gravitational Field Strength – 10N/kg. (The gravitational field strength at the surface of the Earth produces a force of approximately     10 N on every mass of 1 kg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, Force and Grav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– Amount of stuff (atoms/molecules) in an object. Measured in k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– Measures the gravitational pull on something.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s Gravitational Field Strength – 10N/kg. (The gravitational field strength at the surface of the Earth produces a force of approximately     10 N on every mass of 1 kg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ational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gravitational force makes the ball move down towards the centre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’s gravitational force makes the Earth move in an orbit around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ational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gravitational force makes the ball move down towards the centre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’s gravitational force makes the Earth move in an orbit around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– Is a measure of force pulling something to the ground due to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g on a minute…that sounds very familia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– Is a measure of force pulling something to the ground due to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g on a minute…that sounds very familia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is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is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calculate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an equation we already know to help u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(gravitational field strength) = force /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orce 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Mass x g (gravitational field strengt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: W = m X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calculate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an equation we already know to help u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(gravitational field strength) = force /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orce 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Mass x g (gravitational field strengt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: W = m X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CACD-BC5A-45EA-8671-2853ADB00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45D2-F261-454E-A5E2-923FDF5D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3904-D1AA-4177-8FEC-156037541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C47B-3361-4247-BBBA-71F25485E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5B01-0EBA-455B-BDF4-B4C09315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ECD2-2477-496A-9C99-BB167DA6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35D4-0539-4BF3-A6C5-7D0CB1BC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FF3F-DA18-42E8-840E-AB64995E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F313-DB33-44C0-B835-CE386587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D62E-1955-45FA-BC34-CD6E1C3B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BA31-A7D6-4B25-8FB5-44F92B30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38D5-5D6D-464B-B1C4-CA4EDFD8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7080-07E4-4F78-98C8-373CB315F18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ss, Force and Gravit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Ma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Amount of stuff (atoms/molecules) in an object. Measured in k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For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Measures the gravitational pull on something. Measured in N (newt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arths Gravitational Field Streng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10N/kg. (The gravitational field strength at the surface of the Earth produces a force of approximately     10 N on every mass of 1 k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vitational f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328320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5257800" y="1676520"/>
            <a:ext cx="3438360" cy="2981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228600" y="54864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arth’s gravitational force makes the ball move down towards the centre of the Ear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648320" y="48006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n’s gravitational force makes the Earth move in an orbit around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pple ha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ss (k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gets pulled to the ground at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is can be measured in Newt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arth’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ulls the apple toward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818B16FC66D44386927D789A9280BA5D"/>
          <p:cNvPicPr/>
          <p:nvPr/>
        </p:nvPicPr>
        <p:blipFill>
          <a:blip r:embed="rId1"/>
          <a:stretch/>
        </p:blipFill>
        <p:spPr>
          <a:xfrm>
            <a:off x="5003640" y="1628640"/>
            <a:ext cx="35290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Is a measure of force pulling something to the ground due to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Hang on a minute…that sounds very familia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eight =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ight is measured in N (newt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pple ha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ss (k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gets pulled to the ground at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is can be measured in Newtons) =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arth’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ulls the apple toward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818B16FC66D44386927D789A9280BA5D"/>
          <p:cNvPicPr/>
          <p:nvPr/>
        </p:nvPicPr>
        <p:blipFill>
          <a:blip r:embed="rId1"/>
          <a:stretch/>
        </p:blipFill>
        <p:spPr>
          <a:xfrm>
            <a:off x="5003640" y="1628640"/>
            <a:ext cx="35290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can we calculate we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826920" y="5157720"/>
            <a:ext cx="39610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can use an equation we already know to help 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= force /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Force  = 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ight = Mass x g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emorise: W = m X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0:34:30Z</dcterms:created>
  <dc:creator>CEC</dc:creator>
  <dc:description/>
  <dc:language>en-US</dc:language>
  <cp:lastModifiedBy>RomaK</cp:lastModifiedBy>
  <dcterms:modified xsi:type="dcterms:W3CDTF">2015-09-03T12:31:07Z</dcterms:modified>
  <cp:revision>8</cp:revision>
  <dc:subject/>
  <dc:title>The story so far…… </dc:title>
</cp:coreProperties>
</file>