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DB5A-F0AD-458E-A6B0-B131047930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7931-5980-40C2-8C83-805F7578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67A-384C-426B-8EB0-E1F6A9FB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B18-19E3-4833-AD00-C0085C97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D1F6-BC0E-42ED-B670-C8EC0E75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BA61-63BE-45F4-8F78-A831B29C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F17A-F46C-49EA-9A8E-6096306E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05E5-AD69-4940-9F9F-B9E5C6E2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B88-EBDC-4BA4-AC22-2DF6F899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0F28-6F43-4760-8E20-577DDAFA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FBC5-572A-4373-B73C-D90F5522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6B55-2583-4CC0-BBC5-10CD03A7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AB59-5C01-4C82-A7FA-6FF367AF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19E5-34B4-4B8F-967D-E53A814169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a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Amount of stuff (atoms/molecules) in an object. Measured in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or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Measures the gravitational pull on something. Measured in N (newt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arths 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10N/kg. (The gravitational field strength at the surface of the Earth produces a force of approximately     10 N on every mass of 1 k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2832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3438360" cy="2981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28600" y="54864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rth’s gravitational force makes the ball move down towards the centre of the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48320" y="4800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n’s gravitational force makes the Earth move in an orbit around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Is a measure of force pulling something to the ground due to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826920" y="5157720"/>
            <a:ext cx="39610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= force /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ight = Mass x 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0:34:30Z</dcterms:created>
  <dc:creator>CEC</dc:creator>
  <dc:description/>
  <dc:language>en-US</dc:language>
  <cp:lastModifiedBy>RomaK</cp:lastModifiedBy>
  <dcterms:modified xsi:type="dcterms:W3CDTF">2015-09-03T12:31:07Z</dcterms:modified>
  <cp:revision>8</cp:revision>
  <dc:subject/>
  <dc:title>The story so far…… </dc:title>
</cp:coreProperties>
</file>