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69BA-032A-4F54-82E1-8E3504EF3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– Amount of stuff (atoms/molecules) in an object. Measured in k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– Measures the gravitational pull on something.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s Gravitational Field Strength – 10N/kg. (The gravitational field strength at the surface of the Earth produces a force of approximately     10 N on every mass of 1 k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gravitational force makes the ball move down towards the centre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’s gravitational force makes the Earth move in an orbit around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– Is a measure of force pulling something to the ground due t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le has mass (k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ets pulled to the ground at a force (this can be measured in Newtons)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gravitational field strength pulls the apple towar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(gravitational field strength) = force /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= Mass x g (gravitational field strengt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3E1-D21B-4069-9B98-8D709E87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C4C-B479-4198-B379-46FB0BE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594-50C2-4BCD-A6D8-BB112063E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998-ACA7-4A1F-A809-26555A93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A45-34EC-4699-A368-90AC229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B9EB-B411-410C-8204-3E935BDC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77D-C386-4AD2-B486-2430BBDE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847-A631-4247-A810-E71FEAEF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46D-8561-4F82-B158-E0E1F85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C61-D30A-4685-9BE4-DDB621A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DE9-B056-443F-A482-4332746A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2DE9-5AD5-4D7A-8023-CB2B105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4EC5-06DE-409A-B8FF-D6B093D157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ss, Force and Grav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a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Amount of stuff (atoms/molecules) in an object. Measured in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o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Measures the gravitational pull on something. Measured in N (newt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arths 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10N/kg. (The gravitational field strength at the surface of the Earth produces a force of approximately     10 N on every mass of 1 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ational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283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257800" y="1676520"/>
            <a:ext cx="3438360" cy="2981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28600" y="54864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gravitational force makes the ball move down towards the centre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48320" y="4800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’s gravitational force makes the Earth move in an orbit around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Is a measure of force pulling something to the ground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Hang on a minute…that sounds very famili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eight =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 is measured in N (newt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pple ha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s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gets pulled to the ground at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is can be measured in Newtons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th’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lls the apple towar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818B16FC66D44386927D789A9280BA5D"/>
          <p:cNvPicPr/>
          <p:nvPr/>
        </p:nvPicPr>
        <p:blipFill>
          <a:blip r:embed="rId1"/>
          <a:stretch/>
        </p:blipFill>
        <p:spPr>
          <a:xfrm>
            <a:off x="5003640" y="1628640"/>
            <a:ext cx="35290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can we calculate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26920" y="5157720"/>
            <a:ext cx="39610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use an equation we already know to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force /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orce  =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ight = Mass x g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avitational field streng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morise: W = m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0:34:30Z</dcterms:created>
  <dc:creator>CEC</dc:creator>
  <dc:description/>
  <dc:language>en-US</dc:language>
  <cp:lastModifiedBy>RomaK</cp:lastModifiedBy>
  <dcterms:modified xsi:type="dcterms:W3CDTF">2015-09-03T12:31:07Z</dcterms:modified>
  <cp:revision>8</cp:revision>
  <dc:subject/>
  <dc:title>The story so far…… </dc:title>
</cp:coreProperties>
</file>