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E730-6043-48D7-8FE0-FF97C1BB6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152-D277-4FDB-A615-8546630E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FDC-7981-492D-91C9-D3ECF107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BCC-EA96-4688-9793-9618AA76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3AA-B395-4E0F-B915-6E1B8DB1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C037-1F64-4306-A93D-FD9E8C31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92C1-A419-4F83-A7A1-ACC1C812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A7D6-0FC0-4571-AA70-2A3754DE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CD7D-B564-4DDE-BE22-9AED6081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D138-D312-4E3E-B6F8-F20BF750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0591-9CC9-40B4-BAEC-2E9D11F8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6B54-8702-4A7A-A3E1-E409DB2D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3C9-A34C-4A8A-8835-AAB9D795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7DFD-7578-4D9A-96D2-7A2E360A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9DF7-2BC9-4462-B834-64697C68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20A6-9902-4BEC-ACCF-65D457CE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775F-7868-46C6-94B1-0528DC45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48CD-BD74-4ACE-A3B6-FAB4720E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0B1-BFD1-41A4-B1DC-6F5854C5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BA1-7B95-46A1-8485-07800958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F7A-8D90-4041-8DA5-05B068F2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32E-B515-4969-8748-E0391082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0E8-4C9F-444C-995F-489523D4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1C5-B334-4DD1-A571-75B18568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BD1-A2B7-42D1-BAE9-428861D8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BFFE-8D73-4217-99A3-2F13BDE01F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DD32-5243-4871-AC04-1BA02A47E3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vex lenses bring rays to a focus.The more curved the lens , the quicker the rays are focusse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cave lenses make rays spread out.The more curved the lens ,the more the rays spread ou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Tahoma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rectified by putting a convex lens in front of the ey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Short sighted people can only focus on nearby objects.The eye works normal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With nearby objects, the lens brings the rays to a focus before the retina.This is corrected by putting a concave lens in front of the ey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focal length of a lens is the length from the middle of the lens where the rays come to a focu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ibre optical cables are cold light sources because no heat energy is produced in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0:33Z</dcterms:modified>
  <cp:revision>30</cp:revision>
  <dc:subject/>
  <dc:title>lenses</dc:title>
</cp:coreProperties>
</file>