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E23E-FF98-41A1-A1A9-81F6651AA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F2C-62F8-4C1E-8080-4C40AF23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231-0A46-4F86-B8C7-4F090C5B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CF6-1882-4B35-A258-386F0648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7DA-F7CD-4CBE-A885-8EA9FB36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13E9-13A7-4FBC-B6C1-D4BE1BD2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5FB5-1869-4DFB-9AE3-7A1BFCFC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D011-612E-4A67-814B-A3A13CB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BE4B-3B1E-478C-B0F7-23CFF94D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E214-79F7-491B-B771-1B2F39E5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13AF-3BA5-48F8-9B66-3FCBD333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B620-1D04-4D70-9D54-DE7D48E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300-A282-42A8-ACF8-70B3FA80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CB60-38C0-4EEB-BD07-B9862BC8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EB1A-CADF-441F-AADF-059C1C3A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07D2-9064-49BC-9583-3BBC9C8B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5BC7-5F90-46BE-BB3D-E6303C0F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5B9F-1DE5-4EDC-901E-28735706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038-5739-42BA-AACA-2B7AE7DC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494-3C71-4DF6-9E0B-6F832147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EBF-1E57-4F43-93E8-7CFDCBAC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3C2-1438-4FC4-95B9-40901A33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B6A-DBAA-4652-BD0B-87931540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8EB-0E46-4145-ABCB-DE890BA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718-7D58-4ECD-B6A4-5219E45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BE25-3E5A-4C3E-B6F7-9B7D5A6F5C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A785-2DE4-47DD-BDF9-FE86B09AD5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vex lenses bring rays to a focus.The more curved the lens , the quicker the rays are focuss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cave lenses make rays spread out.The more curved the lens ,the more the rays spread o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ahoma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rectified by putting a convex lens in front of the ey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Short sighted people can only focus on nearby objects.The eye works normal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With nearby objects, the lens brings the rays to a focus before the retina.This is corrected by putting a concave lens in front of the ey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focal length of a lens is the length from the middle of the lens where the rays come to a foc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ibre optical cables are cold light sources because no heat energy is produced in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0:33Z</dcterms:modified>
  <cp:revision>30</cp:revision>
  <dc:subject/>
  <dc:title>lenses</dc:title>
</cp:coreProperties>
</file>