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CAF1-F81D-40F3-BD3F-E98E09F1961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ving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iving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also a huge nuclear accident at the Chernobyl Nuclear Power station in the former USSR in 198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mage to the power station was extensive but the radiation effects over a wide area were consider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lso a huge nuclear accident at the Chernobyl Nuclear Power station in the former USSR in 19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to the power station was extensive but the radiation effects over a wide area were consider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 000 people were removed from an area within a radius of 30 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moke and radioactive debris reached a height of 1200 m and travelled across Russia, Poland and Scandinav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 000 people were removed from an area within a radius of 3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oke and radioactive debris reached a height of 1200 m and travelled across Russia, Poland and Scandina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ffects take longer to become apparent and can be caused by much lower level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ium miners tended to get lung cancer due to breathing in gases which emitted alpha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painted the dials of clocks with luminous paint developed one cancer from using their lips to make points on the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long-term effects of radiation is that of cancer in various parts of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take longer to become apparent and can be caused by much lower level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miners tended to get lung cancer due to breathing in gases which emitted alpha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painted the dials of clocks with luminous paint developed one cancer from using their lips to make points on the brus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long-term effects of radiation is that of cancer in various parts of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sure to ionising radiation does not necessarily cause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damage can be caused to cells by radiation, including cells which are involved in re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ionising radiation does not necessarily cause canc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amage can be caused to cells by radiation, including cells which are involved in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radiation have different effects on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Q, allows the effects that different radiations have on living cells to be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radiation have different effects on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Q, allows the effects that different radiations have on living cells to be comp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for each type of radiation is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it can be seen that alpha radiation is the most ionising radiation out of the three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for each type of radiation is show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it can be seen that alpha radiation is the most ionising radiation out of the thre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se Equiv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Equi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measured in sieverts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measured in sieverts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precisely who would die, or when they would die, or what illness they would die of, cannot be predi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ecisely who would die, or when they would die, or what illness they would die of, cannot be predi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and for the exam, you should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energy may be absorbed in the medium through which it p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the dose equivalent is measured in sieve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energy may be absorbed in the medium through which it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the dose equivalent is measured in sieve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is all around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 is radiation that is naturally occur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all around 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 is radiation that is naturally occu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Made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Risk -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isk - 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s of radiation are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onising radiation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radiation are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onising radiation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may be absorbed by the medium it passe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iving things contain living cells.  We have many different types of cells which perform different functions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 blood cells (they transport oxygen around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ite blood cells (they fight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cl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ay be absorbed by the medium it passes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ving things contain living cells.  We have many different types of cells which perform different function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blood cells (they transport oxygen around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blood cells (they fight inf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rv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cl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sing radiation can kill or change the nature of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the damage inflicted by the ionising radiation m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severe and cause immediate effect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become apparent for a long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Ionising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can kill or change the nature of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the damage inflicted by the ionising radiation m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evere and cause immediate effects, 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become apparent for a lo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usually occur when there’s a large amount of exposure to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usually occur when there’s a large amount of exposure to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econd World War, two atomic bombs were dropped on Hiroshima and Nagasaki in Ja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se people died within a few weeks.  Those people who were exposed to a smaller dose recovered from such immediate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2 – Hiroshima and Nag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cond World War, two atomic bombs were dropped on Hiroshima and Nagasaki in Jap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eople died within a few weeks.  Those people who were exposed to a smaller dose recovered from such immediate eff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2 – Hiroshima and Nagasak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149D5-4850-400E-BD84-E7FE33EA0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4F9E8-6050-4F08-9709-CCF40BFF5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34050-DB31-4A68-BD99-6ECD19FEA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63896-3EB0-44B9-BA9A-3708695A1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FF51-32D8-465E-BDA6-2A6476016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D438F-21B7-488B-BC0A-D6F486092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F7A00-C0A6-4581-88A1-D9A8BDB2C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E337-00D8-4D44-A225-5BE475205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05D39-2409-4921-825B-7766D4768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A511-F931-4A68-B7E1-89DD5B407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BEF9-08DE-4B87-BBC5-B094B1661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FF89-0F1B-49FE-8350-6472FDA95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BCA8-C0CD-4253-B313-009CE2C547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9"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50"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6"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68"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0"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1"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2"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gtEl>
                                        <p:attrNameLst>
                                          <p:attrName>style.visibility</p:attrName>
                                        </p:attrNameLst>
                                      </p:cBhvr>
                                      <p:to>
                                        <p:strVal val="visible"/>
                                      </p:to>
                                    </p:set>
                                    <p:animEffect filter="dissolve"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2"/>
                                        </p:tgtEl>
                                        <p:attrNameLst>
                                          <p:attrName>style.visibility</p:attrName>
                                        </p:attrNameLst>
                                      </p:cBhvr>
                                      <p:to>
                                        <p:strVal val="visible"/>
                                      </p:to>
                                    </p:set>
                                    <p:animEffect filter="dissolve" transition="in">
                                      <p:cBhvr additive="repl">
                                        <p:cTn id="97" dur="500"/>
                                        <p:tgtEl>
                                          <p:spTgt spid="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71"/>
                                        </p:tgtEl>
                                        <p:attrNameLst>
                                          <p:attrName>style.visibility</p:attrName>
                                        </p:attrNameLst>
                                      </p:cBhvr>
                                      <p:to>
                                        <p:strVal val="visible"/>
                                      </p:to>
                                    </p:set>
                                    <p:animEffect filter="dissolve" transition="in">
                                      <p:cBhvr additive="repl">
                                        <p:cTn id="10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74"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75"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3"/>
                                        </p:tgtEl>
                                        <p:attrNameLst>
                                          <p:attrName>style.visibility</p:attrName>
                                        </p:attrNameLst>
                                      </p:cBhvr>
                                      <p:to>
                                        <p:strVal val="visible"/>
                                      </p:to>
                                    </p:set>
                                    <p:animEffect filter="dissolve" transition="in">
                                      <p:cBhvr additive="repl">
                                        <p:cTn id="109" dur="500"/>
                                        <p:tgtEl>
                                          <p:spTgt spid="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4"/>
                                        </p:tgtEl>
                                        <p:attrNameLst>
                                          <p:attrName>style.visibility</p:attrName>
                                        </p:attrNameLst>
                                      </p:cBhvr>
                                      <p:to>
                                        <p:strVal val="visible"/>
                                      </p:to>
                                    </p:set>
                                    <p:animEffect filter="dissolve" transition="in">
                                      <p:cBhvr additive="repl">
                                        <p:cTn id="114" dur="500"/>
                                        <p:tgtEl>
                                          <p:spTgt spid="7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5"/>
                                        </p:tgtEl>
                                        <p:attrNameLst>
                                          <p:attrName>style.visibility</p:attrName>
                                        </p:attrNameLst>
                                      </p:cBhvr>
                                      <p:to>
                                        <p:strVal val="visible"/>
                                      </p:to>
                                    </p:set>
                                    <p:animEffect filter="dissolve" transition="in">
                                      <p:cBhvr additive="repl">
                                        <p:cTn id="1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77"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78"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79"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76"/>
                                        </p:tgtEl>
                                        <p:attrNameLst>
                                          <p:attrName>style.visibility</p:attrName>
                                        </p:attrNameLst>
                                      </p:cBhvr>
                                      <p:to>
                                        <p:strVal val="visible"/>
                                      </p:to>
                                    </p:set>
                                    <p:animEffect filter="dissolve"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77"/>
                                        </p:tgtEl>
                                        <p:attrNameLst>
                                          <p:attrName>style.visibility</p:attrName>
                                        </p:attrNameLst>
                                      </p:cBhvr>
                                      <p:to>
                                        <p:strVal val="visible"/>
                                      </p:to>
                                    </p:set>
                                    <p:animEffect filter="dissolve" transition="in">
                                      <p:cBhvr additive="repl">
                                        <p:cTn id="131" dur="500"/>
                                        <p:tgtEl>
                                          <p:spTgt spid="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78"/>
                                        </p:tgtEl>
                                        <p:attrNameLst>
                                          <p:attrName>style.visibility</p:attrName>
                                        </p:attrNameLst>
                                      </p:cBhvr>
                                      <p:to>
                                        <p:strVal val="visible"/>
                                      </p:to>
                                    </p:set>
                                    <p:animEffect filter="dissolve"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1"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82"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0"/>
                                        </p:tgtEl>
                                        <p:attrNameLst>
                                          <p:attrName>style.visibility</p:attrName>
                                        </p:attrNameLst>
                                      </p:cBhvr>
                                      <p:to>
                                        <p:strVal val="visible"/>
                                      </p:to>
                                    </p:set>
                                    <p:animEffect filter="dissolve" transition="in">
                                      <p:cBhvr additive="repl">
                                        <p:cTn id="14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85"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86"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4"/>
                                        </p:tgtEl>
                                        <p:attrNameLst>
                                          <p:attrName>style.visibility</p:attrName>
                                        </p:attrNameLst>
                                      </p:cBhvr>
                                      <p:to>
                                        <p:strVal val="visible"/>
                                      </p:to>
                                    </p:set>
                                    <p:animEffect filter="dissolve" transition="in">
                                      <p:cBhvr additive="repl">
                                        <p:cTn id="155" dur="500"/>
                                        <p:tgtEl>
                                          <p:spTgt spid="8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6"/>
                                        </p:tgtEl>
                                        <p:attrNameLst>
                                          <p:attrName>style.visibility</p:attrName>
                                        </p:attrNameLst>
                                      </p:cBhvr>
                                      <p:to>
                                        <p:strVal val="visible"/>
                                      </p:to>
                                    </p:set>
                                    <p:animEffect filter="dissolve" transition="in">
                                      <p:cBhvr additive="repl">
                                        <p:cTn id="160" dur="500"/>
                                        <p:tgtEl>
                                          <p:spTgt spid="8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8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87"/>
                                        </p:tgtEl>
                                        <p:attrNameLst>
                                          <p:attrName>style.visibility</p:attrName>
                                        </p:attrNameLst>
                                      </p:cBhvr>
                                      <p:to>
                                        <p:strVal val="visible"/>
                                      </p:to>
                                    </p:set>
                                    <p:animEffect filter="dissolve" transition="in">
                                      <p:cBhvr additive="repl">
                                        <p:cTn id="17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89"/>
                                        </p:tgtEl>
                                        <p:attrNameLst>
                                          <p:attrName>style.visibility</p:attrName>
                                        </p:attrNameLst>
                                      </p:cBhvr>
                                      <p:to>
                                        <p:strVal val="visible"/>
                                      </p:to>
                                    </p:set>
                                    <p:animEffect filter="dissolve" transition="in">
                                      <p:cBhvr additive="repl">
                                        <p:cTn id="18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91"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90"/>
                                        </p:tgtEl>
                                        <p:attrNameLst>
                                          <p:attrName>style.visibility</p:attrName>
                                        </p:attrNameLst>
                                      </p:cBhvr>
                                      <p:to>
                                        <p:strVal val="visible"/>
                                      </p:to>
                                    </p:set>
                                    <p:animEffect filter="dissolve" transition="in">
                                      <p:cBhvr additive="repl">
                                        <p:cTn id="191" dur="500"/>
                                        <p:tgtEl>
                                          <p:spTgt spid="9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93" name=""/>
          <p:cNvGraphicFramePr/>
          <p:nvPr/>
        </p:nvGraphicFramePr>
        <p:xfrm>
          <a:off x="533520" y="1447920"/>
          <a:ext cx="8229600" cy="4057560"/>
        </p:xfrm>
        <a:graphic>
          <a:graphicData uri="http://schemas.openxmlformats.org/drawingml/2006/table">
            <a:tbl>
              <a:tblPr/>
              <a:tblGrid>
                <a:gridCol w="5638680"/>
                <a:gridCol w="25909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95"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97" name=""/>
          <p:cNvGraphicFramePr/>
          <p:nvPr/>
        </p:nvGraphicFramePr>
        <p:xfrm>
          <a:off x="457200" y="1397160"/>
          <a:ext cx="8153280" cy="4144680"/>
        </p:xfrm>
        <a:graphic>
          <a:graphicData uri="http://schemas.openxmlformats.org/drawingml/2006/table">
            <a:tbl>
              <a:tblPr/>
              <a:tblGrid>
                <a:gridCol w="4076640"/>
                <a:gridCol w="407664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53"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54"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6"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7"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6"/>
                                        </p:tgtEl>
                                        <p:attrNameLst>
                                          <p:attrName>style.visibility</p:attrName>
                                        </p:attrNameLst>
                                      </p:cBhvr>
                                      <p:to>
                                        <p:strVal val="visible"/>
                                      </p:to>
                                    </p:set>
                                    <p:animEffect filter="dissolv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9"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60"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0"/>
                                        </p:tgtEl>
                                        <p:attrNameLst>
                                          <p:attrName>style.visibility</p:attrName>
                                        </p:attrNameLst>
                                      </p:cBhvr>
                                      <p:to>
                                        <p:strVal val="visible"/>
                                      </p:to>
                                    </p:set>
                                    <p:animEffect filter="dissolve" transition="in">
                                      <p:cBhvr additive="repl">
                                        <p:cTn id="58" dur="500"/>
                                        <p:tgtEl>
                                          <p:spTgt spid="6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2"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RomaK</cp:lastModifiedBy>
  <dcterms:modified xsi:type="dcterms:W3CDTF">2015-09-03T12:30:25Z</dcterms:modified>
  <cp:revision>22</cp:revision>
  <dc:subject/>
  <dc:title>PowerPoint Presentation</dc:title>
</cp:coreProperties>
</file>