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6.jpeg" ContentType="image/jpeg"/>
  <Override PartName="/ppt/media/image5.jpeg" ContentType="image/jpeg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.jpeg" ContentType="image/jpe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A89C0-A03C-40D1-B567-17CAE4A403B4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rea, Scott, and Martí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rea, Scott, and Martí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galax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 of particles around star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stellar molecu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galax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of particles around star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bula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stellar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uds of Dust and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bodies of matter in space are hidden behind huge clouds of dust particles or ga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include the centers of galaxies and clouds containing forming stars and planet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allow scientists to view these regions much more easil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bodies of matter in space are hidden behind huge clouds of dust particles or ga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include the centers of galaxies and clouds containing forming stars and planet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allow scientists to view these regions much more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arly Univer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niverse is constantly expand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this, most of the radiation emitted from distant stars is in the infrared spectrum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views of these distant bodies of matter in space actually show us how they looked a long, long time ag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arly Univer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niverse is constantly exp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ecause of this, most of the radiation emitted from distant stars is in the infrared spectru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views of these distant bodies of matter in space actually show us how they looked a long, long time ag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gain a greater knowledge about bodies of matter in space, we need information about all of the different forms of radiation that they emit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gain a greater knowledge about bodies of matter in space, we need information about all of the different forms of radiation that they emi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irborne Observato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uces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begin observing in 20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borne Observa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duces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ll begin observing in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FIA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47SP Airc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5 meter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telescope put in an aircraf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FI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47SP 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5 meter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telescope put in an aircra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KI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rth-b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infrared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cated on Mauna Kea in Hawa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8 meter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ot of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I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-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frared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Mauna Kea in Hawa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.8 meter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lot of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 Space Telesco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st infrared telescope in sp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 atmospheric inter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85 m ref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ryogenically cooled so not to interfere with sig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 Space Telesc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rgest infrared telescope in sp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 atmospheric interfer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.85 m refl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ogenically cooled so not to interfere with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’s Cryost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s mostly heat waves, Spitzer is cool so its own heat does not interfere with sign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4 degrees kelv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’s Cryost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is mostly heat waves, Spitzer is cool so its own heat does not interfere with sign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4 degrees kelv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itzer Im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itzer Im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…wait what?!?!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s a certain region in the light spectr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ges from .7µ to 1000µ or .1m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 into near, mid, and far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step up on the light spectrum from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 of he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…wait what?!?!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is a certain region in the light spectr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nges from .7µ to 1000µ or .1m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roken into near, mid, and far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step up on the light spectrum from 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asure of he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ofia.arc.nasa.gov/Sofia/sofia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itzer.caltech.edu/about/index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jach.hawaii.edu/JACpublic/UKIRT/home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ofia.arc.nasa.gov/Sofia/sofia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about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jach.hawaii.edu/JACpublic/UKIRT/home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work much like visible light tele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hits parabolic mirr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sent to focal poi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ght is recorded by computer and translated into visible ligh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work much like visible light telescop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hits parabolic 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sent to focal poi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ght is recorded by computer and translated into visible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rty years ago images were created by crude temperature readings and simple recording devi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1980’s the military dedicated the first large sum of money towards infrared advancement (high background infra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ently scientists have changed the technology to focus on lower background heat and high sensitivity to fit the applications needed for astronom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istory of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ty years ago images were created by crude temperature readings and simple recording de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1980’s the military dedicated the first large sum of money towards infrared advancement (high background infr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ntly scientists have changed the technology to focus on lower background heat and high sensitivity to fit the applications needed for astronom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lems with 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9% of infrared rays are absorbed by water in our atmosp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use of airplanes, weather balloons, and space bound telescopes help to solve these proble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blems with 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9% of infrared rays are absorbed by water in our 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use of airplanes, weather balloons, and space bound telescopes help to solve these probl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ther Problem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n the universe above absolute zero radiates heat (infrare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he heat from the telescope may interfere with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rything is cooled to almost absolute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other Problem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n the universe above absolute zero radiates heat (infrar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e heat from the telescope may interfere with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cooled to almost absolute 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Do We Need Infrared Telescope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telescopes allow astronomers to gain information about regions in space that might otherwise remain invisibl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ir_tutorial/psc_allsky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We Need Infrared Telescop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rared telescopes allow astronomers to gain information about regions in space that might otherwise remain invisibl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psc_allsky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regions includ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gions obscured by clouds of dust or gas p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regions includ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s obscured by clouds of dust or gas partic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solid bodies in space vary in temperature from 3 Kelvin’s to 1500 Kelvin'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means that extremely cool objects undetectable to the human eye can be studied using infrared telescop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an include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solid bodies in space vary in temperature from 3 Kelvin’s to 1500 Kelvin'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means that extremely cool objects undetectable to the human eye can be studied using infrared telescop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can includ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F643-1741-4A4C-BA8F-1EE072EB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AFD6-A021-4927-A659-0096501E2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A0148-415D-4F49-BBCA-F6257D3F9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E00-2A04-4657-873C-6FBFB986F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5C7D6-A023-45B8-8BF5-660F66BD0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BD1E-E67D-4BDA-AF2C-049E48FBF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153D-83E5-48F6-891B-0E8F5505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5BE9-28FE-43A3-A29B-40AE1CE86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9A49-3199-4DC8-9849-6DCEAF71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CAA4-5C38-4E33-9941-2B234045C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48CE-E6F0-484E-94B1-96D49C34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30131-37D4-4DF5-AB69-478A47DC1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0532-0866-4EC5-83BC-C48E17DE8C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Picture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Infrared Tele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drea, Scott, and Mart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í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17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52 0 L 0.089 -0.04926 L 0.125 0 L 0.177 0 L 0.177 0.06924 L 0.213 0.1185 L 0.177 0.16644 L 0.177 0.23567 L 0.125 0.23567 L 0.089 0.28361 L 0.052 0.23567 L 0 0.23567 L 0 0.16644 L -0.037 0.1185 L 0 0.06924 L 0 0 Z">
                                      <p:cBhvr>
                                        <p:cTn id="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" dur="2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990360" y="2286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galax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uds of particles around st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bula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stellar molecu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rown dwar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stars"/>
          <p:cNvPicPr/>
          <p:nvPr/>
        </p:nvPicPr>
        <p:blipFill>
          <a:blip r:embed="rId1"/>
          <a:stretch/>
        </p:blipFill>
        <p:spPr>
          <a:xfrm>
            <a:off x="5867280" y="1981080"/>
            <a:ext cx="2876760" cy="2376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8"/>
          <p:cNvSpPr/>
          <p:nvPr/>
        </p:nvSpPr>
        <p:spPr>
          <a:xfrm>
            <a:off x="5696280" y="4419720"/>
            <a:ext cx="344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swtrekking.com/photo_gallery/images/stars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0" descr="arp220image"/>
          <p:cNvPicPr/>
          <p:nvPr/>
        </p:nvPicPr>
        <p:blipFill>
          <a:blip r:embed="rId2"/>
          <a:stretch/>
        </p:blipFill>
        <p:spPr>
          <a:xfrm>
            <a:off x="3200400" y="3962520"/>
            <a:ext cx="2317680" cy="236196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13"/>
          <p:cNvSpPr/>
          <p:nvPr/>
        </p:nvSpPr>
        <p:spPr>
          <a:xfrm>
            <a:off x="4883760" y="6400800"/>
            <a:ext cx="40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.tohoku.ac.jp/~tohru/AGgroup/arp220image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15" descr="M16WF2"/>
          <p:cNvPicPr/>
          <p:nvPr/>
        </p:nvPicPr>
        <p:blipFill>
          <a:blip r:embed="rId3"/>
          <a:stretch/>
        </p:blipFill>
        <p:spPr>
          <a:xfrm>
            <a:off x="380880" y="4343400"/>
            <a:ext cx="2286000" cy="224640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6"/>
          <p:cNvSpPr/>
          <p:nvPr/>
        </p:nvSpPr>
        <p:spPr>
          <a:xfrm>
            <a:off x="5400" y="6583320"/>
            <a:ext cx="345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map.gsfc.nasa.gov/ContentMedia/M16WF2.jp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18" descr="crab_infrared_lg"/>
          <p:cNvPicPr/>
          <p:nvPr/>
        </p:nvPicPr>
        <p:blipFill>
          <a:blip r:embed="rId4"/>
          <a:stretch/>
        </p:blipFill>
        <p:spPr>
          <a:xfrm>
            <a:off x="5638680" y="152280"/>
            <a:ext cx="2514600" cy="14860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9"/>
          <p:cNvSpPr/>
          <p:nvPr/>
        </p:nvSpPr>
        <p:spPr>
          <a:xfrm>
            <a:off x="5115600" y="1676520"/>
            <a:ext cx="352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iras.ucalgary.ca/~volk/crab_infrared_lg.gi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32004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bodies of matter in space are hidden behind huge clouds of dust particles or g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Galactic Center"/>
          <p:cNvPicPr/>
          <p:nvPr/>
        </p:nvPicPr>
        <p:blipFill>
          <a:blip r:embed="rId1"/>
          <a:stretch/>
        </p:blipFill>
        <p:spPr>
          <a:xfrm>
            <a:off x="3429000" y="838080"/>
            <a:ext cx="5715000" cy="428652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3200400" y="5334120"/>
            <a:ext cx="5715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nclude the centers of galaxies and clouds containing forming stars and plane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609480" y="5105520"/>
            <a:ext cx="1371600" cy="12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1"/>
          <p:cNvSpPr/>
          <p:nvPr/>
        </p:nvSpPr>
        <p:spPr>
          <a:xfrm>
            <a:off x="457200" y="4343400"/>
            <a:ext cx="25146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telescopes allow scientists to view these regions much more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Early Univer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84872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niverse is constantly expa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cause of this, most of the radiation emitted from distant stars is in the infrared spectrum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ur views of these distant bodies of matter in space actually show us how they looked a long, long time ag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redshift"/>
          <p:cNvPicPr/>
          <p:nvPr/>
        </p:nvPicPr>
        <p:blipFill>
          <a:blip r:embed="rId1"/>
          <a:stretch/>
        </p:blipFill>
        <p:spPr>
          <a:xfrm>
            <a:off x="609480" y="4343400"/>
            <a:ext cx="8153640" cy="17478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7"/>
          <p:cNvSpPr/>
          <p:nvPr/>
        </p:nvSpPr>
        <p:spPr>
          <a:xfrm>
            <a:off x="1600200" y="6316560"/>
            <a:ext cx="579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cosmic_reference/redshift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85800" y="2742840"/>
            <a:ext cx="784872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o gain a greater knowledge about bodies of matter in space, we need information about all of the different forms of radiation that they emi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borne Observ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duces Atmospheric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ll begin observing in 200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5029200" y="4114800"/>
            <a:ext cx="3784680" cy="2376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5029200" y="1523880"/>
            <a:ext cx="3174840" cy="24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IA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34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47SP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5 meter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telescope put in an aircra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143000" y="4343400"/>
            <a:ext cx="3174840" cy="21337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4724280" y="4267080"/>
            <a:ext cx="4038840" cy="21988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3"/>
          <a:stretch/>
        </p:blipFill>
        <p:spPr>
          <a:xfrm>
            <a:off x="4724280" y="1600200"/>
            <a:ext cx="403884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KI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41148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th-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rgest infrared tele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ocated on Mauna Kea in Hawa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8 meter refl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lot of atmospheric interfer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4495680" y="1905120"/>
            <a:ext cx="4419720" cy="250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 Space Telescop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952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st infrared telescope in sp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atmospheric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85 m ref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ryogenically cooled so not to interfere with sig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095880" y="2133720"/>
            <a:ext cx="1905120" cy="29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’s Cryost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4419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rared is mostly heat waves, Spitzer is cool so its own heat does not interfere with sign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4 degrees kelv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5334120" y="1981080"/>
            <a:ext cx="2933640" cy="35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itzer Imag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762120" y="1600200"/>
            <a:ext cx="4022640" cy="5029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"/>
          <p:cNvPicPr/>
          <p:nvPr/>
        </p:nvPicPr>
        <p:blipFill>
          <a:blip r:embed="rId2"/>
          <a:stretch/>
        </p:blipFill>
        <p:spPr>
          <a:xfrm>
            <a:off x="4876920" y="1600200"/>
            <a:ext cx="39621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red…wait what?!?!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 is a certain region in the light spectr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nges from .7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µ to 1000µ or .1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oken into near, mid, and far 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step up on the light spectrum from visible 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asure of he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Picture 8" descr="spectrum"/>
          <p:cNvPicPr/>
          <p:nvPr/>
        </p:nvPicPr>
        <p:blipFill>
          <a:blip r:embed="rId1"/>
          <a:stretch/>
        </p:blipFill>
        <p:spPr>
          <a:xfrm>
            <a:off x="457200" y="4114800"/>
            <a:ext cx="8458200" cy="26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ofia.arc.nasa.gov/Sofia/sofia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Times New Roman"/>
              </a:rPr>
              <a:t>http://www.spitzer.caltech.edu/about/index.s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jach.hawaii.edu/JACpublic/UKIRT/home.htm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rared Telesco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09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telescopes work much like visible light telescop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hits parabolic mi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is sent to focal po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ght is recorded by computer and translated into visible l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7" descr="ITTT"/>
          <p:cNvPicPr/>
          <p:nvPr/>
        </p:nvPicPr>
        <p:blipFill>
          <a:blip r:embed="rId1"/>
          <a:stretch/>
        </p:blipFill>
        <p:spPr>
          <a:xfrm>
            <a:off x="4419720" y="1982880"/>
            <a:ext cx="472428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y of Infr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ty years ago images were created by crude temperature readings and simple recording de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80’s the military dedicated the first large sum of money towards infrared advancement (high background infra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ntly scientists have changed the technology to focus on lower background heat and high sensitivity to fit the applications needed for astronom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lems with Infrar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99% of infrared rays are absorbed by water in our atmosp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use of airplanes, weather balloons, and space bound telescopes help to solve these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Picture 6" descr="p57c"/>
          <p:cNvPicPr/>
          <p:nvPr/>
        </p:nvPicPr>
        <p:blipFill>
          <a:blip r:embed="rId1"/>
          <a:srcRect l="41941" t="20316" r="22579" b="0"/>
          <a:stretch/>
        </p:blipFill>
        <p:spPr>
          <a:xfrm>
            <a:off x="4648320" y="1523880"/>
            <a:ext cx="4495680" cy="5334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7162920" y="35812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8"/>
          <p:cNvSpPr/>
          <p:nvPr/>
        </p:nvSpPr>
        <p:spPr>
          <a:xfrm flipH="1">
            <a:off x="6019920" y="3886200"/>
            <a:ext cx="1218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other Problem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n the universe above absolute zero radiates heat (infrare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e heat from the telescope may interfere with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erything is cooled to almost absolute 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Picture 7" descr="cold2"/>
          <p:cNvPicPr/>
          <p:nvPr/>
        </p:nvPicPr>
        <p:blipFill>
          <a:blip r:embed="rId1"/>
          <a:stretch/>
        </p:blipFill>
        <p:spPr>
          <a:xfrm>
            <a:off x="4800600" y="1600200"/>
            <a:ext cx="35812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Why Do We Need Infrared Telescop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rared telescopes allow astronomers to gain information about regions in space that might otherwise remain invisi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Picture 5" descr="psc_allsky"/>
          <p:cNvPicPr/>
          <p:nvPr/>
        </p:nvPicPr>
        <p:blipFill>
          <a:blip r:embed="rId1"/>
          <a:stretch/>
        </p:blipFill>
        <p:spPr>
          <a:xfrm>
            <a:off x="1371600" y="3276720"/>
            <a:ext cx="6019920" cy="29700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7"/>
          <p:cNvSpPr/>
          <p:nvPr/>
        </p:nvSpPr>
        <p:spPr>
          <a:xfrm>
            <a:off x="1447920" y="6276960"/>
            <a:ext cx="662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psc_allsky.htm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se regions includ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Cool states of ma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s obscured by clouds of dust or gas parti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orion"/>
          <p:cNvPicPr/>
          <p:nvPr/>
        </p:nvPicPr>
        <p:blipFill>
          <a:blip r:embed="rId2"/>
          <a:stretch/>
        </p:blipFill>
        <p:spPr>
          <a:xfrm>
            <a:off x="685800" y="2666880"/>
            <a:ext cx="7924680" cy="34340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7"/>
          <p:cNvSpPr/>
          <p:nvPr/>
        </p:nvSpPr>
        <p:spPr>
          <a:xfrm>
            <a:off x="1828800" y="624852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coolcosmos.ipac.caltech.edu/cosmic_classroom/ir_tutorial/animation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ol States of Matt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st solid bodies in space vary in temperature from 3 Kelvin’s to 1500 Kelvin'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means that extremely cool objects undetectable to the human eye can be studied using infrared telescop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se can include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6" descr="Latest Spitzer Images"/>
          <p:cNvPicPr/>
          <p:nvPr/>
        </p:nvPicPr>
        <p:blipFill>
          <a:blip r:embed="rId1"/>
          <a:stretch/>
        </p:blipFill>
        <p:spPr>
          <a:xfrm>
            <a:off x="4648320" y="1447920"/>
            <a:ext cx="3781440" cy="37814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8"/>
          <p:cNvSpPr/>
          <p:nvPr/>
        </p:nvSpPr>
        <p:spPr>
          <a:xfrm>
            <a:off x="4658760" y="5410080"/>
            <a:ext cx="36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spitzer.caltech.edu/picturegallery/index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30:04Z</dcterms:modified>
  <cp:revision>18</cp:revision>
  <dc:subject/>
  <dc:title>PowerPoint Presentation</dc:title>
</cp:coreProperties>
</file>