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gif" ContentType="image/gif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B45C8-7C0E-4817-8CC6-1E8D9910544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Lightning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rks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ning transfers electrons from the atmosphere to Ear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s build up in clouds because wind causes them to rub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gether (Charging by friction)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egative charges in the clouds push the negative charges in the ground away leaving positive charges on the surface (Charging by induction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ce enough negative charge builds up in a cloud, it repels so strongly (second Law of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 Charges) that it jumps through the air (an insulator) and strikes the positivel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rged ground or the nearest object (first Law of Electric Charges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Lightning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s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ning transfers electrons from the atmosphere to Ear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s build up in clouds because wind causes them to rub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gether (Charging by friction)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gative charges in the clouds push the negative charges in the ground away leaving positive charges on the surface (Charging by induction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enough negative charge builds up in a cloud, it repels so strongly (second Law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 Charges) that it jumps through the air (an insulator) and strikes the positivel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ged ground or the nearest object (first Law of Electric Charge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figure shows how a lightning rod can protect a house from a lightning strik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metal rod is attached to the highest part of the building.  A conductor is connected from the metal rod to a metal plate in the grou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lightning strikes the rod, the conductor carries the negative charges safely into the grou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ning Ro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igure shows how a lightning rod can protect a house from a lightning strik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etal rod is attached to the highest part of the building.  A conductor is connected from the metal rod to a metal plate in the gr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lightning strikes the rod, the conductor carries the negative charges safely into the gr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ning R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4EBD-FA6E-4EF3-8D9A-40052D4C9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EFC0-A60A-484D-9CCA-F0FB8470D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B903-E113-4E1A-819A-E79627137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5F47-1695-4F09-8100-6494601C8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64F2-0004-4DDC-8255-7292D04CC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1424-5F66-490C-AE3C-1D1A265EC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418C-8683-4503-A4F0-CA28513DF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8C84-2893-43F9-A195-577A2AF8F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7C65-640F-4D85-8339-C24C98A4F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3CDE-2680-4908-B38D-A31036EDF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2F9B-F31C-4691-B06D-0C429E3DB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130F-0CC9-4311-B32F-730F7899B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D0C7F-AB5E-47B0-8261-AF140987B4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4800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CA" sz="4400" spc="-1" strike="noStrike">
                <a:solidFill>
                  <a:srgbClr val="ffffff"/>
                </a:solidFill>
                <a:latin typeface="Arial"/>
              </a:rPr>
              <a:t>How Lightning </a:t>
            </a:r>
            <a:br>
              <a:rPr sz="4400"/>
            </a:br>
            <a:r>
              <a:rPr b="0" lang="en-CA" sz="4400" spc="-1" strike="noStrike">
                <a:solidFill>
                  <a:srgbClr val="ffffff"/>
                </a:solidFill>
                <a:latin typeface="Arial"/>
              </a:rPr>
              <a:t>Works</a:t>
            </a:r>
            <a:r>
              <a:rPr b="0" lang="en-CA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MPj04004600000[1]"/>
          <p:cNvPicPr/>
          <p:nvPr/>
        </p:nvPicPr>
        <p:blipFill>
          <a:blip r:embed="rId1"/>
          <a:stretch/>
        </p:blipFill>
        <p:spPr>
          <a:xfrm>
            <a:off x="5029200" y="152280"/>
            <a:ext cx="3886200" cy="2286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8"/>
          <p:cNvSpPr/>
          <p:nvPr/>
        </p:nvSpPr>
        <p:spPr>
          <a:xfrm>
            <a:off x="822240" y="1865160"/>
            <a:ext cx="3292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2"/>
          <p:cNvSpPr/>
          <p:nvPr/>
        </p:nvSpPr>
        <p:spPr>
          <a:xfrm>
            <a:off x="108000" y="2438280"/>
            <a:ext cx="9036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Lightning transfers electrons from the atmosphere to Ear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Electrons build up in clouds because wind causes them to ru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together (Charging by friction)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The negative charges in the clouds push the negative charges in the ground away leaving positive charges on the surface (Charging by induction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Once enough negative charge builds up in a cloud, it repels so strongly (second Law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Electric Charges) that it jumps through the air (an insulator) and strikes the positivel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charged ground or the nearest object (first Law of Electric Charg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SN00110.wav" descr=""/>
          <p:cNvPicPr/>
          <p:nvPr/>
        </p:nvPicPr>
        <p:blipFill>
          <a:blip r:embed="rId2"/>
          <a:stretch/>
        </p:blipFill>
        <p:spPr>
          <a:xfrm>
            <a:off x="914400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" dur="4173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lgtng-hits-tre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lightnin"/>
          <p:cNvPicPr/>
          <p:nvPr/>
        </p:nvPicPr>
        <p:blipFill>
          <a:blip r:embed="rId1"/>
          <a:stretch/>
        </p:blipFill>
        <p:spPr>
          <a:xfrm>
            <a:off x="609480" y="271440"/>
            <a:ext cx="8153640" cy="621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4343400" y="1066680"/>
            <a:ext cx="4648320" cy="5562720"/>
          </a:xfrm>
          <a:prstGeom prst="rect">
            <a:avLst/>
          </a:prstGeom>
          <a:ln w="0">
            <a:noFill/>
          </a:ln>
        </p:spPr>
      </p:pic>
      <p:sp>
        <p:nvSpPr>
          <p:cNvPr id="56" name="Text Box 5"/>
          <p:cNvSpPr/>
          <p:nvPr/>
        </p:nvSpPr>
        <p:spPr>
          <a:xfrm>
            <a:off x="517680" y="1103400"/>
            <a:ext cx="3749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This figure shows how a lightning rod can protect a house from a lightning strik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A metal rod is attached to the highest part of the building.  A conductor is connected from the metal rod to a metal plate in the grou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If lightning strikes the rod, the conductor carries the negative charges safely into the grou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0" y="2286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Arial"/>
              </a:rPr>
              <a:t>Lightning R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j038110.wav" descr=""/>
          <p:cNvPicPr/>
          <p:nvPr/>
        </p:nvPicPr>
        <p:blipFill>
          <a:blip r:embed="rId2"/>
          <a:stretch/>
        </p:blipFill>
        <p:spPr>
          <a:xfrm>
            <a:off x="914400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7" dur="1084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june14tower.wmv" descr=""/>
          <p:cNvPicPr/>
          <p:nvPr/>
        </p:nvPicPr>
        <p:blipFill>
          <a:blip r:embed="rId1"/>
          <a:stretch/>
        </p:blipFill>
        <p:spPr>
          <a:xfrm>
            <a:off x="152280" y="114480"/>
            <a:ext cx="8991720" cy="67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4" dur="41832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106" nodeType="clickEffect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9" dur="1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ncl-041004a.wmv" descr=""/>
          <p:cNvPicPr/>
          <p:nvPr/>
        </p:nvPicPr>
        <p:blipFill>
          <a:blip r:embed="rId1"/>
          <a:stretch/>
        </p:blipFill>
        <p:spPr>
          <a:xfrm>
            <a:off x="152280" y="114480"/>
            <a:ext cx="8991720" cy="674352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5" dur="92799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117" nodeType="clickEffect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0" dur="1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9T04:33:01Z</dcterms:created>
  <dc:creator>Demetrios Xeroulis</dc:creator>
  <dc:description/>
  <dc:language>en-US</dc:language>
  <cp:lastModifiedBy>RomaK</cp:lastModifiedBy>
  <dcterms:modified xsi:type="dcterms:W3CDTF">2015-09-03T12:29:56Z</dcterms:modified>
  <cp:revision>18</cp:revision>
  <dc:subject/>
  <dc:title>How Lightning Works  </dc:title>
</cp:coreProperties>
</file>