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10.jpeg" ContentType="image/jpeg"/>
  <Override PartName="/ppt/media/image5.png" ContentType="image/png"/>
  <Override PartName="/ppt/media/image9.png" ContentType="image/png"/>
  <Override PartName="/ppt/media/image7.png" ContentType="image/png"/>
  <Override PartName="/ppt/media/image18.jpeg" ContentType="image/jpeg"/>
  <Override PartName="/ppt/media/image16.png" ContentType="image/png"/>
  <Override PartName="/ppt/media/image15.jpeg" ContentType="image/jpeg"/>
  <Override PartName="/ppt/media/type.wav" ContentType="audio/x-wav"/>
  <Override PartName="/ppt/media/image14.png" ContentType="image/png"/>
  <Override PartName="/ppt/media/image1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jpeg" ContentType="image/jpeg"/>
  <Override PartName="/ppt/media/image8.png" ContentType="image/png"/>
  <Override PartName="/ppt/media/image11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29C75-4FF9-480D-8620-475E40907BD5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apter 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ing Electricity in the Ho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hapter 5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Using Electricity in the Hom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usehold Wiring is in Paralle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Household Wiring is in Parallel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ternating Current Freque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North America, the current alternates back and forth in what we call cycles per seco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cycle/second = 1 Hertz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al frequency in North America = 60 Hz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lternating Current Frequency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n North America, the current alternates back and forth in what we call cycles per second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 cycle/second = 1 Hertz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lectrical frequency in North America = 60 Hz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ervice Pane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nce the service panel has black, red, and white wires, the total voltage is 120 + 120 = 240 vol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ervice panel usually contains circuit breakers.  The breakers have either a red or a black wire attached to the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ervice panel provides electricity for the branch circui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Service Panel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ince the service panel has black, red, and white wires, the total voltage is 120 + 120 = 240 volts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service panel usually contains circuit breakers.  The breakers have either a red or a black wire attached to them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service panel provides electricity for the branch circuits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ually 15 amp break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0 amps or gre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Usually 15 amp break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0 amps or great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werful Devi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owerful Device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eutral Wire (Whit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eutral wire is the grou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ounds protect us from electroc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rvice Panel has a ground wi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prong plug – the circular, bottom hole leads to the ground buried outsid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Neutral Wire (White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neutral wire is the ground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Grounds protect us from electrocut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ervice Panel has a ground wir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 prong plug – the circular, bottom hole leads to the ground buried outside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eutral Wire (Whit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eutral wire is _____________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ounds protect us from __________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rvice Panel has a ______________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prong plug – the circular, bottom hole _________________________________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Neutral Wire (White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neutral wire is _____________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Grounds protect us from __________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ervice Panel has a ______________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 prong plug – the circular, bottom hole _________________________________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ree Prong Plu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ree Prong Plu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ircuit Break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ircuit breakers open the circuit when a current in a house wire exceeds the rated current for that circui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ircuit breaker protects people from being electrocuted to death and protects us from burning down the hou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ircuit overloads cause the generation of hea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ircuit Breaker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ircuit breakers open the circuit when a current in a house wire exceeds the rated current for that circuit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circuit breaker protects people from being electrocuted to death and protects us from burning down the house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ircuit overloads cause the generation of heat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rk = force (Newtons) X distance (m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order to do work a force must move through a distanc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inetic energy involves movement or u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tential energy means that it can be us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 Earth we can convert our weight in kilograms to Newtons by multiplying by 10    i.e.. One kilogram becomes 10 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ork = force (Newtons) X distance (m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n order to do work a force must move through a distance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Kinetic energy involves movement or us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otential energy means that it can be used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On Earth we can convert our weight in kilograms to Newtons by multiplying by 10    i.e.. One kilogram becomes 10 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ircuit breakers - Detai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rdinary breakers are rated as 15 amp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are bigger breakers provided for such circuits that require 240 volts – e.g.. Dryers and water heat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stead of circuit breakers some electrical devices have fuses.  Often electric stoves have fus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ircuit breakers - Detail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Ordinary breakers are rated as 15 amps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re are bigger breakers provided for such circuits that require 240 volts – e.g.. Dryers and water heaters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nstead of circuit breakers some electrical devices have fuses.  Often electric stoves have fuses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ses are Older than Circuit of Break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Fuses are Older than Circuit of Breaker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FCI – Ground Fault Circuit Interrup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tects current differences in the neutral and hot wi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ould be sa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not, the internal breaker goes immediate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 res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 near water sources – where safety is concer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throom, outdoor outle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GFCI – Ground Fault Circuit Interrupt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etects current differences in the neutral and hot wir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hould be sam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f not, the internal breaker goes immediately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an rese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Use near water sources – where safety is concer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athroom, outdoor outlet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use Hold Wir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use hold circuits are 120 volts and are alternating current.  Appliances are usually connected in paralle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ircuits are polarized.  That is, the black wire is connected in a certain way and the neutral wire is connected in a certain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larized plugs reduce the risk of an electrical shock by forcing electricity to flow in one general dir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House Hold Wirin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House hold circuits are 120 volts and are alternating current.  Appliances are usually connected in parallel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circuits are polarized.  That is, the black wire is connected in a certain way and the neutral wire is connected in a certain way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olarized plugs reduce the risk of an electrical shock by forcing electricity to flow in one general direct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ypes of Plugs Used in the Ho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rier Plug or Stove Plu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Ground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mp Plug or Hair Dry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Polarized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ypes of Plugs Used in the Hom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ier Plug or Stove Plu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(Ground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mp Plug or Hair Dr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(Polarized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ree Prong Plu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ree Prong Plu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ree pronged plu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ound prong is the grou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onger hole is connected to the white wire (neutral).  We need this wire to complete the circui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horter hole is connected to the black wire.(hot – 120 Volt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grounded plug is safer than a two pronged plu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ree pronged plu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round prong is the ground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longer hole is connected to the white wire (neutral).  We need this wire to complete the circuit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shorter hole is connected to the black wire.(hot – 120 Volts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grounded plug is safer than a two pronged plug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ounding the Curr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ervice panel is connected to a long metal stake that buried outside the hou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a person is electrocuted most of the current will go to groun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much older houses the wiring is grounded on the copper water pip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Grounding the Curren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service panel is connected to a long metal stake that buried outside the house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f a person is electrocuted most of the current will go to ground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n much older houses the wiring is grounded on the copper water pipes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ound Wi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Ground Wir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= Voltage X Current X 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units for energy are joules (J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wer = energy / 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wer = Voltage (v)  X Current (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nergy = Voltage X Current X tim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units for energy are joules (J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ower = energy / tim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ower = Voltage (v)  X Current (I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properly Grounded Appliance with Short  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e milliampere:    tingling sensa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n milliamperes:   nerves and muscles overload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0 milliamperes:   potentially fatal; heart fibrilla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00 -1000 milliamperes:  not necessarily fatal; heart will restart -- One ampere or more:  burn ali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mproperly Grounded Appliance with Short  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One milliampere:    tingling sensa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en milliamperes:   nerves and muscles overload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00 milliamperes:   potentially fatal; heart fibrilla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500 -1000 milliamperes:  not necessarily fatal; heart will restart -- One ampere or more:  burn aliv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ounded Applianc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Grounded Appliance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ound Plugs Prevent You fro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coming the Shortest, Easiest Path to the Ground!!  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Ground Plugs Prevent You fro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coming the Shortest, Easiest Path to the Ground!!  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void! Or.. Thou Shalt Not! 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ayed electrical wir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ctopus outle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ter and electrical wir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ug receptacles to protect small childr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ver loading electrical circui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void! Or.. Thou Shalt Not! …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Frayed electrical wire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Octopus outlet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ater and electrical wire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lug receptacles to protect small childre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Over loading electrical circuit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use Hold Energy Consump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ydro bills are established by finding out how many kilowatt hours of electricity your household has used in a given tim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kWh = kilowatts X time (hour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kWh = 1 000 Watts X 1 hou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kWh = 1 000 W X 3 600 seco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House Hold Energy Consumpt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Hydro bills are established by finding out how many kilowatt hours of electricity your household has used in a given time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 kWh = kilowatts X time (hours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 kWh = 1 000 Watts X 1 hou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 kWh = 1 000 W X 3 600 seco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ding the Meter – always use the smallest numb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eading the Meter – always use the smallest numb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reading should be 8876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is reading should be 88762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fficie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a comparison of the amount of energy obtained as compared to the amount of energy put into the syst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fficiency = energy output / energy inpu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convert it to a percentage just multiply the answer by 100 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is is a comparison of the amount of energy obtained as compared to the amount of energy put into the syste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fficiency = energy output / energy inpu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o convert it to a percentage just multiply the answer by 100 %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use Hold Wir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wires coming into a house include a black, a red and a wh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black and the red wires are “hot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white wire is neutral – leading to a grou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black is rated as being 120 v from the neutr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ed is rated as being 120 v from the neutr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House Hold Wirin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wires coming into a house include a black, a red and a white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black and the red wires are “hot”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white wire is neutral – leading to a ground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black is rated as being 120 v from the neutral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red is rated as being 120 v from the neutral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ity Entering Your Hou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d = In at 120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lack = Out at 120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tential difference = 240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lectricity Entering Your Hous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ed = In at 120V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lack = Out at 120V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otential difference = 240V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18084-133B-476B-BD6D-AEF66DD59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73F48-9C05-4980-8E8F-BBCCA325F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3CE7C-EC53-4AE5-85BC-45850806E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EF067-901F-4CD0-A75A-224BE6C83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CC8E8-1B4B-40FE-B321-9C96BB890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65AFB-EF1F-40B4-B980-8ED4C2E66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345F7-4040-4A38-A2BF-A50180216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8BBBE-BC63-468E-915F-12840A2BC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4AEDB-134F-4826-A067-2F77541EC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D73CB-D4B2-4802-BCB4-EAAE55832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FF4EE-5105-48A5-9E72-E1194050B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36103-62CC-42FD-B4DD-278321BE2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75F73-3F63-4398-BEB0-D95E758BD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F2887-DBB6-4591-BB00-E81AE2978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14BAC-0A99-4FCD-86BE-12D551399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F0903-0244-4593-B048-131FE6018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1E75A-965C-4E20-8EC4-D8F2ADE7D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C6C94-1AAA-4F8B-9CEF-33B5CC8B2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C87C6-B129-45BA-BB2B-51DF27A65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BE8BB-5467-4FBB-8734-8B520BB07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11872-7F59-42FB-80A8-570EA6D64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35684-7FE0-4A2F-93B7-24187CA60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69040-CA4E-4A45-A571-55AAAF5B8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1E717-B901-403E-A014-88BFB813A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C8FB2-B370-4666-97CE-37D110CAB5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1026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1027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Rectangle 1028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1029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1030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Rectangle 1031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1032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1033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34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035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22F16-3EB8-4CBF-9202-2D7288693FFA}" type="slidenum"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thebarn.virtualave.net/ex/electrical/gfci.jpg" TargetMode="Externa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hapter 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Using Electricity in the Hom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8" name="Picture 5" descr="beetlejuice4-2"/>
          <p:cNvPicPr/>
          <p:nvPr/>
        </p:nvPicPr>
        <p:blipFill>
          <a:blip r:embed="rId1"/>
          <a:stretch/>
        </p:blipFill>
        <p:spPr>
          <a:xfrm>
            <a:off x="4800600" y="457200"/>
            <a:ext cx="2619360" cy="34383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ousehold Wiring is in Paralle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152280" y="2149560"/>
          <a:ext cx="8839440" cy="4098960"/>
        </p:xfrm>
        <a:graphic>
          <a:graphicData uri="http://schemas.openxmlformats.org/drawingml/2006/table">
            <a:tbl>
              <a:tblPr/>
              <a:tblGrid>
                <a:gridCol w="3154320"/>
                <a:gridCol w="5685120"/>
              </a:tblGrid>
              <a:tr h="409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16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                             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hich connecting wire, A, B, C, 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D, or E, will be the first to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become dangerously hot  if too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many appliances are turned on?</a:t>
                      </a:r>
                      <a:br>
                        <a:rPr sz="2400"/>
                      </a:b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ow can overheating be prevented,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ven if all the appliances in the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ouse are turned 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0" name="Picture 6" descr="housewiring"/>
          <p:cNvPicPr/>
          <p:nvPr/>
        </p:nvPicPr>
        <p:blipFill>
          <a:blip r:embed="rId1"/>
          <a:stretch/>
        </p:blipFill>
        <p:spPr>
          <a:xfrm>
            <a:off x="852480" y="2195640"/>
            <a:ext cx="2438280" cy="26668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lternating Current Frequenc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North America, the current alternates back and forth in what we call cycles per 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Tahoma"/>
              </a:rPr>
              <a:t>1 cycle/second = 1 Hert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ical frequency in North America = </a:t>
            </a:r>
            <a:r>
              <a:rPr b="0" lang="en-US" sz="2800" spc="-1" strike="noStrike">
                <a:solidFill>
                  <a:srgbClr val="cc3300"/>
                </a:solidFill>
                <a:latin typeface="Tahoma"/>
              </a:rPr>
              <a:t>60 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Service Pane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ce the service panel has black, red, and white wires, the total voltage is 120 + 120 = 240 volt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service panel usually contains circuit breakers.  The breakers have either a red or a black wire attached to them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service panel provides electricity for the branch circuit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5143680" cy="6858000"/>
          </a:xfrm>
          <a:prstGeom prst="rect">
            <a:avLst/>
          </a:prstGeom>
          <a:ln w="0">
            <a:noFill/>
          </a:ln>
        </p:spPr>
      </p:pic>
      <p:sp>
        <p:nvSpPr>
          <p:cNvPr id="136" name="Line 5"/>
          <p:cNvSpPr/>
          <p:nvPr/>
        </p:nvSpPr>
        <p:spPr>
          <a:xfrm flipV="1">
            <a:off x="3505320" y="1447560"/>
            <a:ext cx="2286000" cy="990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Text Box 6"/>
          <p:cNvSpPr/>
          <p:nvPr/>
        </p:nvSpPr>
        <p:spPr>
          <a:xfrm>
            <a:off x="5562720" y="1143000"/>
            <a:ext cx="2895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sually 15 amp break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Line 7"/>
          <p:cNvSpPr/>
          <p:nvPr/>
        </p:nvSpPr>
        <p:spPr>
          <a:xfrm flipV="1">
            <a:off x="3505320" y="3047760"/>
            <a:ext cx="2286000" cy="10666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Text Box 8"/>
          <p:cNvSpPr/>
          <p:nvPr/>
        </p:nvSpPr>
        <p:spPr>
          <a:xfrm>
            <a:off x="5715000" y="266688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30 amps or gre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werful Devic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41" name="Picture 5" descr="hot-tub-deck"/>
          <p:cNvPicPr/>
          <p:nvPr/>
        </p:nvPicPr>
        <p:blipFill>
          <a:blip r:embed="rId1"/>
          <a:stretch/>
        </p:blipFill>
        <p:spPr>
          <a:xfrm>
            <a:off x="304920" y="2438280"/>
            <a:ext cx="4495680" cy="30178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8" descr="stove"/>
          <p:cNvPicPr/>
          <p:nvPr/>
        </p:nvPicPr>
        <p:blipFill>
          <a:blip r:embed="rId2"/>
          <a:stretch/>
        </p:blipFill>
        <p:spPr>
          <a:xfrm>
            <a:off x="5410080" y="1905120"/>
            <a:ext cx="2952720" cy="41148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Neutral Wire (Whit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4920" y="2017800"/>
            <a:ext cx="8650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neutral wire is the 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rounds protect us from electrocu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rvice Panel has a ground wi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 prong plug – the circular, bottom hole leads to the ground buried outsid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Neutral Wire (Whit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4920" y="2286000"/>
            <a:ext cx="8650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neutral wire is _____________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rounds protect us from __________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rvice Panel has a ______________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 prong plug – the circular, bottom hole _________________________________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ree Prong Plu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48" name="Object 3"/>
          <p:cNvGraphicFramePr/>
          <p:nvPr/>
        </p:nvGraphicFramePr>
        <p:xfrm>
          <a:off x="2209680" y="2133720"/>
          <a:ext cx="4934160" cy="362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2133720"/>
                    <a:ext cx="4934160" cy="36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5" descr="service"/>
          <p:cNvPicPr/>
          <p:nvPr/>
        </p:nvPicPr>
        <p:blipFill>
          <a:blip r:embed="rId1"/>
          <a:stretch/>
        </p:blipFill>
        <p:spPr>
          <a:xfrm>
            <a:off x="2133720" y="0"/>
            <a:ext cx="5195880" cy="6858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ircuit Break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breakers open the circuit when a current in a house wire exceeds the rated current for that circui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ircuit breaker protects people from being electrocuted to death and protects us from burning down the hous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overloads cause the generation of hea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ork = force (Newtons) X distance (m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order to do work a force must </a:t>
            </a:r>
            <a:r>
              <a:rPr b="0" lang="en-US" sz="2800" spc="-1" strike="noStrike">
                <a:solidFill>
                  <a:srgbClr val="cc3300"/>
                </a:solidFill>
                <a:latin typeface="Tahoma"/>
              </a:rPr>
              <a:t>move through a dist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inetic energy involves movement or u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tential energy means that it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 Earth we can convert our weight in kilograms </a:t>
            </a:r>
            <a:r>
              <a:rPr b="0" lang="en-US" sz="2800" spc="-1" strike="noStrike">
                <a:solidFill>
                  <a:srgbClr val="990099"/>
                </a:solidFill>
                <a:latin typeface="Tahoma"/>
              </a:rPr>
              <a:t>to Newtons by multiplying by 1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i.e.. One kilogram becomes 10 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5" descr="thermc1"/>
          <p:cNvPicPr/>
          <p:nvPr/>
        </p:nvPicPr>
        <p:blipFill>
          <a:blip r:embed="rId1"/>
          <a:stretch/>
        </p:blipFill>
        <p:spPr>
          <a:xfrm>
            <a:off x="2432160" y="0"/>
            <a:ext cx="4363920" cy="6858000"/>
          </a:xfrm>
          <a:prstGeom prst="rect">
            <a:avLst/>
          </a:prstGeom>
          <a:ln w="0">
            <a:noFill/>
          </a:ln>
        </p:spPr>
      </p:pic>
      <p:sp>
        <p:nvSpPr>
          <p:cNvPr id="154" name="AutoShape 7"/>
          <p:cNvSpPr/>
          <p:nvPr/>
        </p:nvSpPr>
        <p:spPr>
          <a:xfrm>
            <a:off x="2514600" y="4267080"/>
            <a:ext cx="1371600" cy="381240"/>
          </a:xfrm>
          <a:prstGeom prst="rightArrow">
            <a:avLst>
              <a:gd name="adj1" fmla="val 50000"/>
              <a:gd name="adj2" fmla="val 89943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ircuit breakers - Detail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28600" y="2209680"/>
            <a:ext cx="872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dinary breakers are rated as </a:t>
            </a:r>
            <a:r>
              <a:rPr b="0" lang="en-US" sz="3200" spc="-1" strike="noStrike">
                <a:solidFill>
                  <a:srgbClr val="990099"/>
                </a:solidFill>
                <a:latin typeface="Tahoma"/>
              </a:rPr>
              <a:t>15 amp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are bigger breakers provided for such circuits that require </a:t>
            </a:r>
            <a:r>
              <a:rPr b="0" lang="en-US" sz="3200" spc="-1" strike="noStrike">
                <a:solidFill>
                  <a:srgbClr val="cc3300"/>
                </a:solidFill>
                <a:latin typeface="Tahoma"/>
              </a:rPr>
              <a:t>240 volts – e.g.. Dryers and water heater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ead of circuit breakers some electrical devices have fuses.  Often electric stoves have </a:t>
            </a:r>
            <a:r>
              <a:rPr b="1" lang="en-US" sz="3200" spc="-1" strike="noStrike">
                <a:solidFill>
                  <a:srgbClr val="009900"/>
                </a:solidFill>
                <a:latin typeface="Tahoma"/>
              </a:rPr>
              <a:t>fu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18" descr="fuse"/>
          <p:cNvPicPr/>
          <p:nvPr/>
        </p:nvPicPr>
        <p:blipFill>
          <a:blip r:embed="rId1"/>
          <a:stretch/>
        </p:blipFill>
        <p:spPr>
          <a:xfrm>
            <a:off x="1828800" y="1981080"/>
            <a:ext cx="3076560" cy="262908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8105760" cy="153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ses are Older than Circuit of Break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533520" y="1828800"/>
          <a:ext cx="7391160" cy="5029200"/>
        </p:xfrm>
        <a:graphic>
          <a:graphicData uri="http://schemas.openxmlformats.org/drawingml/2006/table">
            <a:tbl>
              <a:tblPr/>
              <a:tblGrid>
                <a:gridCol w="7391160"/>
              </a:tblGrid>
              <a:tr h="5029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6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                                  </a:t>
                      </a:r>
                      <a:br>
                        <a:rPr sz="2400"/>
                      </a:br>
                      <a:br>
                        <a:rPr sz="2500"/>
                      </a:b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hen ribbon carries too much current,</a:t>
                      </a:r>
                      <a:br>
                        <a:rPr sz="2500"/>
                      </a:b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 </a:t>
                      </a:r>
                      <a:r>
                        <a:rPr b="1" lang="en-US" sz="25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melts</a:t>
                      </a: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, interrupting the current.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0" name="Rectangle 27"/>
          <p:cNvSpPr/>
          <p:nvPr/>
        </p:nvSpPr>
        <p:spPr>
          <a:xfrm>
            <a:off x="1788480" y="5493240"/>
            <a:ext cx="29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GFCI – Ground Fault Circuit Interrupter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62" name="Picture 5" descr="gfci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900080" y="1905120"/>
            <a:ext cx="2337120" cy="457200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7"/>
          <p:cNvSpPr/>
          <p:nvPr/>
        </p:nvSpPr>
        <p:spPr>
          <a:xfrm>
            <a:off x="4572000" y="1905120"/>
            <a:ext cx="4191120" cy="580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000000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s current differences in the neutral and hot wi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s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, the internal breaker goes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re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near water sources – where safety is concer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throom, outdoor outl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93280" cy="770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ouse Hold Wi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0" y="198072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use hold circuits are </a:t>
            </a:r>
            <a:r>
              <a:rPr b="1" lang="en-US" sz="2800" spc="-1" strike="noStrike">
                <a:solidFill>
                  <a:srgbClr val="990099"/>
                </a:solidFill>
                <a:latin typeface="Tahoma"/>
              </a:rPr>
              <a:t>120 volt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are </a:t>
            </a:r>
            <a:r>
              <a:rPr b="0" lang="en-US" sz="2800" spc="-1" strike="noStrike">
                <a:solidFill>
                  <a:srgbClr val="009900"/>
                </a:solidFill>
                <a:latin typeface="Tahoma"/>
              </a:rPr>
              <a:t>alternating curr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  Appliances are usually connected in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ralle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ircuits are </a:t>
            </a:r>
            <a:r>
              <a:rPr b="1" lang="en-US" sz="2800" spc="-1" strike="noStrike" u="sng">
                <a:solidFill>
                  <a:srgbClr val="cc3300"/>
                </a:solidFill>
                <a:uFillTx/>
                <a:latin typeface="Tahoma"/>
              </a:rPr>
              <a:t>polarize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  That is, the black wire is connected in a certain way and the neutral wire is connected in a certain wa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larized plugs reduce the risk of an electrical shock by forcing electricity to flow in one general 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5" descr="a_408_1_1"/>
          <p:cNvPicPr/>
          <p:nvPr/>
        </p:nvPicPr>
        <p:blipFill>
          <a:blip r:embed="rId1"/>
          <a:stretch/>
        </p:blipFill>
        <p:spPr>
          <a:xfrm>
            <a:off x="0" y="0"/>
            <a:ext cx="5670720" cy="685800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7"/>
          <p:cNvSpPr/>
          <p:nvPr/>
        </p:nvSpPr>
        <p:spPr>
          <a:xfrm>
            <a:off x="5867280" y="380880"/>
            <a:ext cx="2819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Types of Plugs Used in the Ho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Line 8"/>
          <p:cNvSpPr/>
          <p:nvPr/>
        </p:nvSpPr>
        <p:spPr>
          <a:xfrm flipV="1">
            <a:off x="2133720" y="3809880"/>
            <a:ext cx="4572000" cy="10670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Text Box 9"/>
          <p:cNvSpPr/>
          <p:nvPr/>
        </p:nvSpPr>
        <p:spPr>
          <a:xfrm>
            <a:off x="6629400" y="3505320"/>
            <a:ext cx="2286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Drier Plug or Stove Plu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(Groun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Text Box 10"/>
          <p:cNvSpPr/>
          <p:nvPr/>
        </p:nvSpPr>
        <p:spPr>
          <a:xfrm>
            <a:off x="6324480" y="2057400"/>
            <a:ext cx="2286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Lamp Plug or Hair Dr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(Polariz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Line 11"/>
          <p:cNvSpPr/>
          <p:nvPr/>
        </p:nvSpPr>
        <p:spPr>
          <a:xfrm>
            <a:off x="3352680" y="1523880"/>
            <a:ext cx="2971800" cy="6858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ree Prong Plu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73" name="Object 4"/>
          <p:cNvGraphicFramePr/>
          <p:nvPr/>
        </p:nvGraphicFramePr>
        <p:xfrm>
          <a:off x="2209680" y="2133720"/>
          <a:ext cx="4934160" cy="362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2133720"/>
                    <a:ext cx="4934160" cy="36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ree pronged plu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2017440"/>
            <a:ext cx="8421480" cy="445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round prong is the </a:t>
            </a:r>
            <a:r>
              <a:rPr b="1" lang="en-US" sz="3200" spc="-1" strike="noStrike" u="sng">
                <a:solidFill>
                  <a:srgbClr val="3333cc"/>
                </a:solidFill>
                <a:uFillTx/>
                <a:latin typeface="Tahoma"/>
              </a:rPr>
              <a:t>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longer hole is connected to the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Tahoma"/>
              </a:rPr>
              <a:t>whit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wire (neutral).  We need this wire to complete the circui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shorter hole is connected to th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black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wire.(hot – </a:t>
            </a:r>
            <a:r>
              <a:rPr b="0" lang="en-US" sz="3200" spc="-1" strike="noStrike">
                <a:solidFill>
                  <a:srgbClr val="990099"/>
                </a:solidFill>
                <a:latin typeface="Tahoma"/>
              </a:rPr>
              <a:t>120 Volt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grounded plug is safer than a two pronged plug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rounding the Curr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80520" y="2017440"/>
            <a:ext cx="8574120" cy="438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service panel is connected to a 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ong metal stake that buried outside the hous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a person is electrocuted most of the current will go to groun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much older houses the wiring is grounded on the </a:t>
            </a:r>
            <a:r>
              <a:rPr b="0" lang="en-US" sz="3200" spc="-1" strike="noStrike">
                <a:solidFill>
                  <a:srgbClr val="cc3300"/>
                </a:solidFill>
                <a:latin typeface="Tahoma"/>
              </a:rPr>
              <a:t>copper water pip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9" name="Object 9"/>
          <p:cNvGraphicFramePr/>
          <p:nvPr/>
        </p:nvGraphicFramePr>
        <p:xfrm>
          <a:off x="1295280" y="0"/>
          <a:ext cx="582156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0"/>
                    <a:ext cx="582156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1" name="Line 12"/>
          <p:cNvSpPr/>
          <p:nvPr/>
        </p:nvSpPr>
        <p:spPr>
          <a:xfrm>
            <a:off x="4648320" y="5410080"/>
            <a:ext cx="380880" cy="76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AutoShape 13"/>
          <p:cNvSpPr/>
          <p:nvPr/>
        </p:nvSpPr>
        <p:spPr>
          <a:xfrm rot="19368000">
            <a:off x="5486400" y="3276360"/>
            <a:ext cx="3124080" cy="990360"/>
          </a:xfrm>
          <a:prstGeom prst="leftArrow">
            <a:avLst>
              <a:gd name="adj1" fmla="val 50000"/>
              <a:gd name="adj2" fmla="val 78862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Text Box 14"/>
          <p:cNvSpPr/>
          <p:nvPr/>
        </p:nvSpPr>
        <p:spPr>
          <a:xfrm>
            <a:off x="4952880" y="5181480"/>
            <a:ext cx="24386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ahoma"/>
              </a:rPr>
              <a:t>Ground Wi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299999982118607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nergy = Voltage X Current X tim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units for energy are joules (J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99"/>
                </a:solidFill>
                <a:latin typeface="Tahoma"/>
              </a:rPr>
              <a:t>Power = energy / 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ahoma"/>
              </a:rPr>
              <a:t>Power = Voltage (v)  X Current (I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4"/>
          <p:cNvSpPr/>
          <p:nvPr/>
        </p:nvSpPr>
        <p:spPr>
          <a:xfrm>
            <a:off x="386640" y="151560"/>
            <a:ext cx="769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mproperly Grounded Appliance with Shor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 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Picture 6" descr="washerwithshort"/>
          <p:cNvPicPr/>
          <p:nvPr/>
        </p:nvPicPr>
        <p:blipFill>
          <a:blip r:embed="rId1"/>
          <a:stretch/>
        </p:blipFill>
        <p:spPr>
          <a:xfrm>
            <a:off x="0" y="762120"/>
            <a:ext cx="8839080" cy="381456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21"/>
          <p:cNvSpPr/>
          <p:nvPr/>
        </p:nvSpPr>
        <p:spPr>
          <a:xfrm>
            <a:off x="0" y="4419720"/>
            <a:ext cx="914400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ne milliampere:    tingling sensation</a:t>
            </a:r>
            <a:br>
              <a:rPr sz="2400"/>
            </a:br>
            <a:r>
              <a:rPr b="1" lang="en-US" sz="2400" spc="-1" strike="noStrike">
                <a:solidFill>
                  <a:srgbClr val="990099"/>
                </a:solidFill>
                <a:latin typeface="Tahoma"/>
              </a:rPr>
              <a:t>Ten milliamperes:   nerves and muscles overloaded</a:t>
            </a:r>
            <a:br>
              <a:rPr sz="2400"/>
            </a:b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200 milliamperes:   potentially fatal; heart fibrillation</a:t>
            </a:r>
            <a:br>
              <a:rPr sz="2400"/>
            </a:br>
            <a:r>
              <a:rPr b="1" lang="en-US" sz="2400" spc="-1" strike="noStrike">
                <a:solidFill>
                  <a:srgbClr val="009900"/>
                </a:solidFill>
                <a:latin typeface="Tahoma"/>
              </a:rPr>
              <a:t>500 -1000 milliamperes:  not necessarily fatal; heart will restart -- One ampere or more: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 burn al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299999982118607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5" descr="gfci-figure2"/>
          <p:cNvPicPr/>
          <p:nvPr/>
        </p:nvPicPr>
        <p:blipFill>
          <a:blip r:embed="rId1"/>
          <a:stretch/>
        </p:blipFill>
        <p:spPr>
          <a:xfrm>
            <a:off x="1219320" y="0"/>
            <a:ext cx="6476760" cy="6858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4"/>
          <p:cNvSpPr/>
          <p:nvPr/>
        </p:nvSpPr>
        <p:spPr>
          <a:xfrm>
            <a:off x="1143000" y="1112040"/>
            <a:ext cx="439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Grounded Applianc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1698480" y="2119320"/>
          <a:ext cx="5747040" cy="3078000"/>
        </p:xfrm>
        <a:graphic>
          <a:graphicData uri="http://schemas.openxmlformats.org/drawingml/2006/table">
            <a:tbl>
              <a:tblPr/>
              <a:tblGrid>
                <a:gridCol w="5747040"/>
              </a:tblGrid>
              <a:tr h="34444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17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                                                                    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91" name="Picture 6" descr="washerwithground"/>
          <p:cNvPicPr/>
          <p:nvPr/>
        </p:nvPicPr>
        <p:blipFill>
          <a:blip r:embed="rId1"/>
          <a:stretch/>
        </p:blipFill>
        <p:spPr>
          <a:xfrm>
            <a:off x="152280" y="1828800"/>
            <a:ext cx="8991720" cy="45435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15600" cy="1455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Ground Plugs Prevent You from </a:t>
            </a:r>
            <a:br>
              <a:rPr sz="3200"/>
            </a:b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becoming the Shortest, Easiest Path to the Ground!!  </a:t>
            </a:r>
            <a:r>
              <a:rPr b="1" lang="en-US" sz="3200" spc="-1" strike="noStrike">
                <a:solidFill>
                  <a:srgbClr val="333399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93" name="Picture 5" descr="washerwithoutshort"/>
          <p:cNvPicPr/>
          <p:nvPr/>
        </p:nvPicPr>
        <p:blipFill>
          <a:blip r:embed="rId1"/>
          <a:stretch/>
        </p:blipFill>
        <p:spPr>
          <a:xfrm>
            <a:off x="0" y="1852560"/>
            <a:ext cx="9144000" cy="46245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4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4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void! Or.. Thou Shalt Not! 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rayed electrical wi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ctopus outle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ater and electrical wi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ug receptacles to protect small childr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 loading electrical circui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ouse Hold Energy Consump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ydro bills are established by finding out how many kilowatt hours of electricity your household has used in a given tim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1 kWh = kilowatts X time (hour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1 kWh = 1 000 Watts X 1 hou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1 kWh = 1 000 W X 3 600 secon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ading the Meter – always use the smallest numb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6" name="Picture 3" descr=""/>
          <p:cNvPicPr/>
          <p:nvPr/>
        </p:nvPicPr>
        <p:blipFill>
          <a:blip r:embed="rId1"/>
          <a:stretch/>
        </p:blipFill>
        <p:spPr>
          <a:xfrm>
            <a:off x="47520" y="2743200"/>
            <a:ext cx="9096480" cy="19256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reading should be </a:t>
            </a:r>
            <a:r>
              <a:rPr b="0" lang="en-US" sz="4400" spc="-1" strike="noStrike">
                <a:solidFill>
                  <a:srgbClr val="cc3300"/>
                </a:solidFill>
                <a:latin typeface="Tahoma"/>
              </a:rPr>
              <a:t>8876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8" name="Picture 3" descr=""/>
          <p:cNvPicPr/>
          <p:nvPr/>
        </p:nvPicPr>
        <p:blipFill>
          <a:blip r:embed="rId1"/>
          <a:stretch/>
        </p:blipFill>
        <p:spPr>
          <a:xfrm>
            <a:off x="685800" y="2819520"/>
            <a:ext cx="7800840" cy="16509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fficienc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33160" y="2017800"/>
            <a:ext cx="8421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s is a comparison of the amount of energy obtained as compared to the amount of energy put into the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ahoma"/>
              </a:rPr>
              <a:t>Efficiency = energy output / energy inpu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convert it to a percentage just multiply the answer by 100 %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ouse Hold Wi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2017800"/>
            <a:ext cx="8650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wires coming into a house include a black, a red and a whit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lac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the </a:t>
            </a:r>
            <a:r>
              <a:rPr b="1" lang="en-US" sz="2800" spc="-1" strike="noStrike">
                <a:solidFill>
                  <a:srgbClr val="cc3300"/>
                </a:solidFill>
                <a:latin typeface="Tahoma"/>
              </a:rPr>
              <a:t>re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res are “</a:t>
            </a:r>
            <a:r>
              <a:rPr b="0" lang="en-US" sz="2800" spc="-1" strike="noStrike">
                <a:solidFill>
                  <a:srgbClr val="990099"/>
                </a:solidFill>
                <a:latin typeface="Tahoma"/>
              </a:rPr>
              <a:t>ho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white wire is neutral – leading to a grou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black is rated as being 120 v from the neut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red is rated as being 120 v from the neut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3" name="Object 4"/>
          <p:cNvGraphicFramePr/>
          <p:nvPr/>
        </p:nvGraphicFramePr>
        <p:xfrm>
          <a:off x="152280" y="685800"/>
          <a:ext cx="9144000" cy="6326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685800"/>
                    <a:ext cx="9144000" cy="632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90360" y="-360"/>
            <a:ext cx="7792920" cy="61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Electricity Entering Your House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Text Box 7"/>
          <p:cNvSpPr/>
          <p:nvPr/>
        </p:nvSpPr>
        <p:spPr>
          <a:xfrm>
            <a:off x="5029200" y="83808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Text Box 8"/>
          <p:cNvSpPr/>
          <p:nvPr/>
        </p:nvSpPr>
        <p:spPr>
          <a:xfrm>
            <a:off x="4800600" y="838080"/>
            <a:ext cx="4343400" cy="14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Tahoma"/>
              </a:rPr>
              <a:t>Red = In at 120V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Black = Out at 120V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Tahoma"/>
              </a:rPr>
              <a:t>Potential difference = 240V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9T04:02:24Z</dcterms:created>
  <dc:creator>William  Irwin</dc:creator>
  <dc:description/>
  <dc:language>en-US</dc:language>
  <cp:lastModifiedBy>RomaK</cp:lastModifiedBy>
  <dcterms:modified xsi:type="dcterms:W3CDTF">2015-09-03T12:29:45Z</dcterms:modified>
  <cp:revision>69</cp:revision>
  <dc:subject/>
  <dc:title>Chapter 5</dc:title>
</cp:coreProperties>
</file>