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0.jpeg" ContentType="image/jpeg"/>
  <Override PartName="/ppt/media/image5.png" ContentType="image/png"/>
  <Override PartName="/ppt/media/image9.png" ContentType="image/png"/>
  <Override PartName="/ppt/media/image7.png" ContentType="image/png"/>
  <Override PartName="/ppt/media/image18.jpeg" ContentType="image/jpeg"/>
  <Override PartName="/ppt/media/image16.png" ContentType="image/png"/>
  <Override PartName="/ppt/media/image15.jpeg" ContentType="image/jpeg"/>
  <Override PartName="/ppt/media/type.wav" ContentType="audio/x-wav"/>
  <Override PartName="/ppt/media/image14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8.png" ContentType="image/png"/>
  <Override PartName="/ppt/media/image11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07259-510E-48A6-B7C2-9654486BF8A7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pter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ing Electricity in the Ho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 5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sing Electricity in the Hom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usehold Wiring is in Parall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ousehold Wiring is in Paralle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ternating Current Freque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North America, the current alternates back and forth in what we call cycles per seco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cycle/second = 1 Hertz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al frequency in North America = 60 Hz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ternating Current Frequenc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 North America, the current alternates back and forth in what we call cycles per secon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 cycle/second = 1 Hertz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lectrical frequency in North America = 60 Hz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ervice Pan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ce the service panel has black, red, and white wires, the total voltage is 120 + 120 = 240 vol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ervice panel usually contains circuit breakers.  The breakers have either a red or a black wire attached to th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ervice panel provides electricity for the branch circui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Service Pane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ince the service panel has black, red, and white wires, the total voltage is 120 + 120 = 240 volt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service panel usually contains circuit breakers.  The breakers have either a red or a black wire attached to them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service panel provides electricity for the branch circuit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ually 15 amp break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0 amps or gre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sually 15 amp break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0 amps or great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werful Devi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owerful Devic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eutral Wire (Whit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eutral wire is the grou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unds protect us from electroc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rvice Panel has a ground wi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prong plug – the circular, bottom hole leads to the ground buried outsi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Neutral Wire (White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neutral wire is the groun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Grounds protect us from electrocu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ervice Panel has a ground wir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 prong plug – the circular, bottom hole leads to the ground buried outsid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eutral Wire (Whit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eutral wire is _______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unds protect us from ____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rvice Panel has a ________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prong plug – the circular, bottom hole _________________________________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Neutral Wire (White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neutral wire is _____________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Grounds protect us from __________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ervice Panel has a ______________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 prong plug – the circular, bottom hole _________________________________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ee Prong Plu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ree Prong Plu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ircuit Break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ircuit breakers open the circuit when a current in a house wire exceeds the rated current for that circu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ircuit breaker protects people from being electrocuted to death and protects us from burning down the hou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ircuit overloads cause the generation of hea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ircuit Breake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ircuit breakers open the circuit when a current in a house wire exceeds the rated current for that circuit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circuit breaker protects people from being electrocuted to death and protects us from burning down the hous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ircuit overloads cause the generation of heat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rk = force (Newtons) X distance (m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order to do work a force must move through a distanc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inetic energy involves movement or 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tential energy means that it can be us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Earth we can convert our weight in kilograms to Newtons by multiplying by 10    i.e.. One kilogram becomes 1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ork = force (Newtons) X distance (m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 order to do work a force must move through a distance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Kinetic energy involves movement or u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otential energy means that it can be use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n Earth we can convert our weight in kilograms to Newtons by multiplying by 10    i.e.. One kilogram becomes 10 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ircuit breakers - Detai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dinary breakers are rated as 15 amp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bigger breakers provided for such circuits that require 240 volts – e.g.. Dryers and water heat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stead of circuit breakers some electrical devices have fuses.  Often electric stoves have fus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ircuit breakers - Detail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rdinary breakers are rated as 15 amp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re are bigger breakers provided for such circuits that require 240 volts – e.g.. Dryers and water heater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stead of circuit breakers some electrical devices have fuses.  Often electric stoves have fuse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ses are Older than Circuit of Break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uses are Older than Circuit of Breake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FCI – Ground Fault Circuit Interrup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tects current differences in the neutral and hot wi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uld be s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not, the internal breaker goes immediate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res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 near water sources – where safety is concer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throom, outdoor outl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GFCI – Ground Fault Circuit Interrupt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etects current differences in the neutral and hot wir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hould be sam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f not, the internal breaker goes immediatel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an rese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se near water sources – where safety is concer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athroom, outdoor outlet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use Hold Wi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use hold circuits are 120 volts and are alternating current.  Appliances are usually connected in paralle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ircuits are polarized.  That is, the black wire is connected in a certain way and the neutral wire is connected in a certain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arized plugs reduce the risk of an electrical shock by forcing electricity to flow in one general dir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ouse Hold Wirin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ouse hold circuits are 120 volts and are alternating current.  Appliances are usually connected in parallel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circuits are polarized.  That is, the black wire is connected in a certain way and the neutral wire is connected in a certain way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olarized plugs reduce the risk of an electrical shock by forcing electricity to flow in one general direc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ypes of Plugs Used in the Ho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ier Plug or Stove Plu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Groun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mp Plug or Hair Dry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Polarize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ypes of Plugs Used in the Hom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ier Plug or Stove Plu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(Ground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mp Plug or Hair Dr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(Polarized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ee Prong Plu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ree Prong Plu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ee pronged plu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ound prong is the grou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onger hole is connected to the white wire (neutral).  We need this wire to complete the circu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horter hole is connected to the black wire.(hot – 120 Volt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rounded plug is safer than a two pronged plu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ree pronged plu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round prong is the groun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longer hole is connected to the white wire (neutral).  We need this wire to complete the circuit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shorter hole is connected to the black wire.(hot – 120 Volts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grounded plug is safer than a two pronged plug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unding the Curr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ervice panel is connected to a long metal stake that buried outside the hou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a person is electrocuted most of the current will go to grou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much older houses the wiring is grounded on the copper water pip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Grounding the Curren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service panel is connected to a long metal stake that buried outside the hous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f a person is electrocuted most of the current will go to groun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 much older houses the wiring is grounded on the copper water pipe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und Wi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Ground Wir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= Voltage X Current X 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units for energy are joules (J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wer = energy / 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wer = Voltage (v)  X Current (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nergy = Voltage X Current X tim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units for energy are joules (J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ower = energy / tim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ower = Voltage (v)  X Current (I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roperly Grounded Appliance with Short 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milliampere:    tingling sens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n milliamperes:   nerves and muscles overload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0 milliamperes:   potentially fatal; heart fibrill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0 -1000 milliamperes:  not necessarily fatal; heart will restart -- One ampere or more:  burn al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mproperly Grounded Appliance with Short  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ne milliampere:    tingling sens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en milliamperes:   nerves and muscles overload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00 milliamperes:   potentially fatal; heart fibrill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500 -1000 milliamperes:  not necessarily fatal; heart will restart -- One ampere or more:  burn aliv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unded Applianc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Grounded Appliance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und Plugs Prevent You fro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oming the Shortest, Easiest Path to the Ground!!  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Ground Plugs Prevent You fro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coming the Shortest, Easiest Path to the Ground!!  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void! Or.. Thou Shalt Not!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ayed electrical wi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ctopus outl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 and electrical wi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ug receptacles to protect small childr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ver loading electrical circu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void! Or.. Thou Shalt Not! …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rayed electrical wir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ctopus outlet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ater and electrical wir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lug receptacles to protect small childre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ver loading electrical circuit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use Hold Energy Consump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dro bills are established by finding out how many kilowatt hours of electricity your household has used in a given ti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kWh = kilowatts X time (hour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kWh = 1 000 Watts X 1 hou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kWh = 1 000 W X 3 600 sec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ouse Hold Energy Consump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ydro bills are established by finding out how many kilowatt hours of electricity your household has used in a given tim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 kWh = kilowatts X time (hours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 kWh = 1 000 Watts X 1 hou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 kWh = 1 000 W X 3 600 seco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ding the Meter – always use the smallest numb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ading the Meter – always use the smallest numb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reading should be 8876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is reading should be 88762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fficie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a comparison of the amount of energy obtained as compared to the amount of energy put into the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fficiency = energy output / energy inp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convert it to a percentage just multiply the answer by 100 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is is a comparison of the amount of energy obtained as compared to the amount of energy put into the syste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fficiency = energy output / energy inpu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o convert it to a percentage just multiply the answer by 100 %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use Hold Wi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ires coming into a house include a black, a red and a wh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lack and the red wires are “hot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hite wire is neutral – leading to a grou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lack is rated as being 120 v from the neutr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d is rated as being 120 v from the neutr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ouse Hold Wirin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wires coming into a house include a black, a red and a whit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black and the red wires are “hot”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white wire is neutral – leading to a groun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black is rated as being 120 v from the neutra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red is rated as being 120 v from the neutra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ity Entering Your Ho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 = In at 120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lack = Out at 120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tential difference = 240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lectricity Entering Your Hou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d = In at 120V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lack = Out at 120V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otential difference = 240V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A8F4-2104-4266-8181-D571B59AF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778E-9BDD-4D7F-AD97-55B680981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F834-5AF6-4DA3-ADDE-BE73E6277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67C4-FCAC-4C8C-8FA3-167612DB1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10C61-8531-4924-84E6-1A4B08F94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A9270-A04D-48A1-B167-2DD897D18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E57E2-EE0D-4843-B42B-04B19A732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7F3DE-606F-4EDF-A107-418B48943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817A2-014C-41AE-B11E-0C7C120F5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027C4-071C-4A87-A5FD-0A1881847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1DB88-0532-4C48-A19B-0AC8C7452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7398-5B67-4E50-AEE4-5ACBC50DE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7A649-0143-41DF-B93A-607D92AC2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E6D5E-BDA4-4A5F-B56A-AABAEED65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F1D44-CD3D-4176-B6BD-C2FF8B1B2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3D694-CFFA-4D1F-8028-03604855E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67B40-5B20-49E2-9EEB-AA6EF22D9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BEF3-2065-436D-8CA2-613AFE6EA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2C45-772A-46E7-BC9D-FE965209A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6FA8-42AC-40F1-AC88-B65645BF7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7470-FC3C-4E1A-B7DE-D0635AF4F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604A-5AF2-4035-9AB2-58A007EEA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CDD6-B568-4CBF-BDFF-D41631E86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37DA-81F6-43FB-9F88-67EDD767C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F26D8-00B2-4288-96D1-EE1683BA75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1026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1027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1028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1029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1030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Rectangle 1031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1032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1033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34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035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9760C-E667-40F4-8E4D-7C5BA5F01111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thebarn.virtualave.net/ex/electrical/gfci.jpg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hapter 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Using Electricity in the Hom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8" name="Picture 5" descr="beetlejuice4-2"/>
          <p:cNvPicPr/>
          <p:nvPr/>
        </p:nvPicPr>
        <p:blipFill>
          <a:blip r:embed="rId1"/>
          <a:stretch/>
        </p:blipFill>
        <p:spPr>
          <a:xfrm>
            <a:off x="4800600" y="457200"/>
            <a:ext cx="2619360" cy="3438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ousehold Wiring is in Paralle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52280" y="2149560"/>
          <a:ext cx="8839440" cy="4098960"/>
        </p:xfrm>
        <a:graphic>
          <a:graphicData uri="http://schemas.openxmlformats.org/drawingml/2006/table">
            <a:tbl>
              <a:tblPr/>
              <a:tblGrid>
                <a:gridCol w="3154320"/>
                <a:gridCol w="5685120"/>
              </a:tblGrid>
              <a:tr h="409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16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                             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hich connecting wire, A, B, C,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D, or E, will be the first to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become dangerously hot  if too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many appliances are turned on?</a:t>
                      </a:r>
                      <a:br>
                        <a:rPr sz="2400"/>
                      </a:b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ow can overheating be prevented,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ven if all the appliances in the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ouse are turned 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0" name="Picture 6" descr="housewiring"/>
          <p:cNvPicPr/>
          <p:nvPr/>
        </p:nvPicPr>
        <p:blipFill>
          <a:blip r:embed="rId1"/>
          <a:stretch/>
        </p:blipFill>
        <p:spPr>
          <a:xfrm>
            <a:off x="852480" y="2195640"/>
            <a:ext cx="2438280" cy="2666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lternating Current Frequenc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North America, the current alternates back and forth in what we call cycles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ahoma"/>
              </a:rPr>
              <a:t>1 cycle/second = 1 Hert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 frequency in North America = </a:t>
            </a:r>
            <a:r>
              <a:rPr b="0" lang="en-US" sz="2800" spc="-1" strike="noStrike">
                <a:solidFill>
                  <a:srgbClr val="cc3300"/>
                </a:solidFill>
                <a:latin typeface="Tahoma"/>
              </a:rPr>
              <a:t>60 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Service Pane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he service panel has black, red, and white wires, the total voltage is 120 + 120 = 240 volt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service panel usually contains circuit breakers.  The breakers have either a red or a black wire attached to them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service panel provides electricity for the branch circuit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Line 5"/>
          <p:cNvSpPr/>
          <p:nvPr/>
        </p:nvSpPr>
        <p:spPr>
          <a:xfrm flipV="1">
            <a:off x="3505320" y="1447560"/>
            <a:ext cx="2286000" cy="990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5562720" y="1143000"/>
            <a:ext cx="28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sually 15 amp brea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Line 7"/>
          <p:cNvSpPr/>
          <p:nvPr/>
        </p:nvSpPr>
        <p:spPr>
          <a:xfrm flipV="1">
            <a:off x="3505320" y="3047760"/>
            <a:ext cx="2286000" cy="10666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Text Box 8"/>
          <p:cNvSpPr/>
          <p:nvPr/>
        </p:nvSpPr>
        <p:spPr>
          <a:xfrm>
            <a:off x="5715000" y="26668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30 amps or gre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werful Devic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1" name="Picture 5" descr="hot-tub-deck"/>
          <p:cNvPicPr/>
          <p:nvPr/>
        </p:nvPicPr>
        <p:blipFill>
          <a:blip r:embed="rId1"/>
          <a:stretch/>
        </p:blipFill>
        <p:spPr>
          <a:xfrm>
            <a:off x="304920" y="2438280"/>
            <a:ext cx="4495680" cy="30178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8" descr="stove"/>
          <p:cNvPicPr/>
          <p:nvPr/>
        </p:nvPicPr>
        <p:blipFill>
          <a:blip r:embed="rId2"/>
          <a:stretch/>
        </p:blipFill>
        <p:spPr>
          <a:xfrm>
            <a:off x="5410080" y="1905120"/>
            <a:ext cx="2952720" cy="4114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Neutral Wire (Whit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2017800"/>
            <a:ext cx="8650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neutral wire is the 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rounds protect us from electrocu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rvice Panel has a ground wi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 prong plug – the circular, bottom hole leads to the ground buried outsid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Neutral Wire (Whit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2286000"/>
            <a:ext cx="8650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neutral wire is _____________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rounds protect us from __________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rvice Panel has a ______________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 prong plug – the circular, bottom hole _________________________________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ree Prong Plu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48" name="Object 3"/>
          <p:cNvGraphicFramePr/>
          <p:nvPr/>
        </p:nvGraphicFramePr>
        <p:xfrm>
          <a:off x="2209680" y="2133720"/>
          <a:ext cx="4934160" cy="36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2133720"/>
                    <a:ext cx="4934160" cy="36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5" descr="service"/>
          <p:cNvPicPr/>
          <p:nvPr/>
        </p:nvPicPr>
        <p:blipFill>
          <a:blip r:embed="rId1"/>
          <a:stretch/>
        </p:blipFill>
        <p:spPr>
          <a:xfrm>
            <a:off x="2133720" y="0"/>
            <a:ext cx="519588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ircuit Break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breakers open the circuit when a current in a house wire exceeds the rated current for that circui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ircuit breaker protects people from being electrocuted to death and protects us from burning down the hous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overloads cause the generation of hea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ork = force (Newtons) X distance (m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 to do work a force must </a:t>
            </a:r>
            <a:r>
              <a:rPr b="0" lang="en-US" sz="2800" spc="-1" strike="noStrike">
                <a:solidFill>
                  <a:srgbClr val="cc3300"/>
                </a:solidFill>
                <a:latin typeface="Tahoma"/>
              </a:rPr>
              <a:t>move through a dist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inetic energy involves movement or u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energy means that it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Earth we can convert our weight in kilograms </a:t>
            </a:r>
            <a:r>
              <a:rPr b="0" lang="en-US" sz="2800" spc="-1" strike="noStrike">
                <a:solidFill>
                  <a:srgbClr val="990099"/>
                </a:solidFill>
                <a:latin typeface="Tahoma"/>
              </a:rPr>
              <a:t>to Newtons by multiplying by 1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i.e.. One kilogram becomes 10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5" descr="thermc1"/>
          <p:cNvPicPr/>
          <p:nvPr/>
        </p:nvPicPr>
        <p:blipFill>
          <a:blip r:embed="rId1"/>
          <a:stretch/>
        </p:blipFill>
        <p:spPr>
          <a:xfrm>
            <a:off x="2432160" y="0"/>
            <a:ext cx="436392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AutoShape 7"/>
          <p:cNvSpPr/>
          <p:nvPr/>
        </p:nvSpPr>
        <p:spPr>
          <a:xfrm>
            <a:off x="2514600" y="4267080"/>
            <a:ext cx="1371600" cy="381240"/>
          </a:xfrm>
          <a:prstGeom prst="rightArrow">
            <a:avLst>
              <a:gd name="adj1" fmla="val 50000"/>
              <a:gd name="adj2" fmla="val 89943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ircuit breakers - Detai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600" y="2209680"/>
            <a:ext cx="872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dinary breakers are rated as </a:t>
            </a:r>
            <a:r>
              <a:rPr b="0" lang="en-US" sz="3200" spc="-1" strike="noStrike">
                <a:solidFill>
                  <a:srgbClr val="990099"/>
                </a:solidFill>
                <a:latin typeface="Tahoma"/>
              </a:rPr>
              <a:t>15 amp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are bigger breakers provided for such circuits that require </a:t>
            </a:r>
            <a:r>
              <a:rPr b="0" lang="en-US" sz="3200" spc="-1" strike="noStrike">
                <a:solidFill>
                  <a:srgbClr val="cc3300"/>
                </a:solidFill>
                <a:latin typeface="Tahoma"/>
              </a:rPr>
              <a:t>240 volts – e.g.. Dryers and water heater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ead of circuit breakers some electrical devices have fuses.  Often electric stoves have </a:t>
            </a:r>
            <a:r>
              <a:rPr b="1" lang="en-US" sz="3200" spc="-1" strike="noStrike">
                <a:solidFill>
                  <a:srgbClr val="009900"/>
                </a:solidFill>
                <a:latin typeface="Tahoma"/>
              </a:rPr>
              <a:t>fu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18" descr="fuse"/>
          <p:cNvPicPr/>
          <p:nvPr/>
        </p:nvPicPr>
        <p:blipFill>
          <a:blip r:embed="rId1"/>
          <a:stretch/>
        </p:blipFill>
        <p:spPr>
          <a:xfrm>
            <a:off x="1828800" y="1981080"/>
            <a:ext cx="3076560" cy="262908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8105760" cy="153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ses are Older than Circuit of Break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533520" y="1828800"/>
          <a:ext cx="7391160" cy="5029200"/>
        </p:xfrm>
        <a:graphic>
          <a:graphicData uri="http://schemas.openxmlformats.org/drawingml/2006/table">
            <a:tbl>
              <a:tblPr/>
              <a:tblGrid>
                <a:gridCol w="7391160"/>
              </a:tblGrid>
              <a:tr h="502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6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                                  </a:t>
                      </a:r>
                      <a:br>
                        <a:rPr sz="2400"/>
                      </a:br>
                      <a:br>
                        <a:rPr sz="2500"/>
                      </a:b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hen ribbon carries too much current,</a:t>
                      </a:r>
                      <a:br>
                        <a:rPr sz="2500"/>
                      </a:b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 </a:t>
                      </a:r>
                      <a:r>
                        <a:rPr b="1" lang="en-US" sz="25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melts</a:t>
                      </a: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, interrupting the current.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0" name="Rectangle 27"/>
          <p:cNvSpPr/>
          <p:nvPr/>
        </p:nvSpPr>
        <p:spPr>
          <a:xfrm>
            <a:off x="1788480" y="549324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GFCI – Ground Fault Circuit Interrupter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2" name="Picture 5" descr="gfci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00080" y="1905120"/>
            <a:ext cx="2337120" cy="457200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7"/>
          <p:cNvSpPr/>
          <p:nvPr/>
        </p:nvSpPr>
        <p:spPr>
          <a:xfrm>
            <a:off x="4572000" y="1905120"/>
            <a:ext cx="4191120" cy="580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000000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s current differences in the neutral and hot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s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the internal breaker goes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re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near water sources – where safety is conc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hroom, outdoor outl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93280" cy="77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ouse Hold Wi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use hold circuits are </a:t>
            </a:r>
            <a:r>
              <a:rPr b="1" lang="en-US" sz="2800" spc="-1" strike="noStrike">
                <a:solidFill>
                  <a:srgbClr val="990099"/>
                </a:solidFill>
                <a:latin typeface="Tahoma"/>
              </a:rPr>
              <a:t>120 volt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re </a:t>
            </a:r>
            <a:r>
              <a:rPr b="0" lang="en-US" sz="2800" spc="-1" strike="noStrike">
                <a:solidFill>
                  <a:srgbClr val="009900"/>
                </a:solidFill>
                <a:latin typeface="Tahoma"/>
              </a:rPr>
              <a:t>alternating curr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  Appliances are usually connected in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ralle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ircuits are </a:t>
            </a:r>
            <a:r>
              <a:rPr b="1" lang="en-US" sz="2800" spc="-1" strike="noStrike" u="sng">
                <a:solidFill>
                  <a:srgbClr val="cc3300"/>
                </a:solidFill>
                <a:uFillTx/>
                <a:latin typeface="Tahoma"/>
              </a:rPr>
              <a:t>polarize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  That is, the black wire is connected in a certain way and the neutral wire is connected in a certain wa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ized plugs reduce the risk of an electrical shock by forcing electricity to flow in one general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5" descr="a_408_1_1"/>
          <p:cNvPicPr/>
          <p:nvPr/>
        </p:nvPicPr>
        <p:blipFill>
          <a:blip r:embed="rId1"/>
          <a:stretch/>
        </p:blipFill>
        <p:spPr>
          <a:xfrm>
            <a:off x="0" y="0"/>
            <a:ext cx="567072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7"/>
          <p:cNvSpPr/>
          <p:nvPr/>
        </p:nvSpPr>
        <p:spPr>
          <a:xfrm>
            <a:off x="5867280" y="380880"/>
            <a:ext cx="281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Types of Plugs Used in the Ho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Line 8"/>
          <p:cNvSpPr/>
          <p:nvPr/>
        </p:nvSpPr>
        <p:spPr>
          <a:xfrm flipV="1">
            <a:off x="2133720" y="3809880"/>
            <a:ext cx="4572000" cy="10670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Text Box 9"/>
          <p:cNvSpPr/>
          <p:nvPr/>
        </p:nvSpPr>
        <p:spPr>
          <a:xfrm>
            <a:off x="6629400" y="3505320"/>
            <a:ext cx="2286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Drier Plug or Stove Plu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(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Text Box 10"/>
          <p:cNvSpPr/>
          <p:nvPr/>
        </p:nvSpPr>
        <p:spPr>
          <a:xfrm>
            <a:off x="6324480" y="2057400"/>
            <a:ext cx="2286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Lamp Plug or Hair Dr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(Polariz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Line 11"/>
          <p:cNvSpPr/>
          <p:nvPr/>
        </p:nvSpPr>
        <p:spPr>
          <a:xfrm>
            <a:off x="3352680" y="1523880"/>
            <a:ext cx="2971800" cy="6858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ree Prong Plu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73" name="Object 4"/>
          <p:cNvGraphicFramePr/>
          <p:nvPr/>
        </p:nvGraphicFramePr>
        <p:xfrm>
          <a:off x="2209680" y="2133720"/>
          <a:ext cx="4934160" cy="36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2133720"/>
                    <a:ext cx="4934160" cy="36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ree pronged plu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2017440"/>
            <a:ext cx="8421480" cy="445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round prong is the </a:t>
            </a:r>
            <a:r>
              <a:rPr b="1" lang="en-US" sz="3200" spc="-1" strike="noStrike" u="sng">
                <a:solidFill>
                  <a:srgbClr val="3333cc"/>
                </a:solidFill>
                <a:uFillTx/>
                <a:latin typeface="Tahoma"/>
              </a:rPr>
              <a:t>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longer hole is connected to the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Tahoma"/>
              </a:rPr>
              <a:t>whit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wire (neutral).  We need this wire to complete the circui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shorter hole is connected to t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black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wire.(hot – </a:t>
            </a:r>
            <a:r>
              <a:rPr b="0" lang="en-US" sz="3200" spc="-1" strike="noStrike">
                <a:solidFill>
                  <a:srgbClr val="990099"/>
                </a:solidFill>
                <a:latin typeface="Tahoma"/>
              </a:rPr>
              <a:t>120 Vol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grounded plug is safer than a two pronged plug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ounding the Curr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520" y="2017440"/>
            <a:ext cx="8574120" cy="43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service panel is connected to a 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ong metal stake that buried outside the hous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a person is electrocuted most of the current will go to groun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much older houses the wiring is grounded on the </a:t>
            </a:r>
            <a:r>
              <a:rPr b="0" lang="en-US" sz="3200" spc="-1" strike="noStrike">
                <a:solidFill>
                  <a:srgbClr val="cc3300"/>
                </a:solidFill>
                <a:latin typeface="Tahoma"/>
              </a:rPr>
              <a:t>copper water pip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9" name="Object 9"/>
          <p:cNvGraphicFramePr/>
          <p:nvPr/>
        </p:nvGraphicFramePr>
        <p:xfrm>
          <a:off x="1295280" y="0"/>
          <a:ext cx="582156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0"/>
                    <a:ext cx="582156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Line 12"/>
          <p:cNvSpPr/>
          <p:nvPr/>
        </p:nvSpPr>
        <p:spPr>
          <a:xfrm>
            <a:off x="4648320" y="5410080"/>
            <a:ext cx="380880" cy="76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AutoShape 13"/>
          <p:cNvSpPr/>
          <p:nvPr/>
        </p:nvSpPr>
        <p:spPr>
          <a:xfrm rot="19368000">
            <a:off x="5486400" y="3276360"/>
            <a:ext cx="3124080" cy="990360"/>
          </a:xfrm>
          <a:prstGeom prst="leftArrow">
            <a:avLst>
              <a:gd name="adj1" fmla="val 50000"/>
              <a:gd name="adj2" fmla="val 78862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Text Box 14"/>
          <p:cNvSpPr/>
          <p:nvPr/>
        </p:nvSpPr>
        <p:spPr>
          <a:xfrm>
            <a:off x="4952880" y="5181480"/>
            <a:ext cx="24386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ahoma"/>
              </a:rPr>
              <a:t>Ground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299999982118607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nergy = Voltage X Current X tim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units for energy are joules (J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Tahoma"/>
              </a:rPr>
              <a:t>Power = energy / 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ahoma"/>
              </a:rPr>
              <a:t>Power = Voltage (v)  X Current (I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4"/>
          <p:cNvSpPr/>
          <p:nvPr/>
        </p:nvSpPr>
        <p:spPr>
          <a:xfrm>
            <a:off x="386640" y="151560"/>
            <a:ext cx="769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mproperly Grounded Appliance with Sho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 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Picture 6" descr="washerwithshort"/>
          <p:cNvPicPr/>
          <p:nvPr/>
        </p:nvPicPr>
        <p:blipFill>
          <a:blip r:embed="rId1"/>
          <a:stretch/>
        </p:blipFill>
        <p:spPr>
          <a:xfrm>
            <a:off x="0" y="762120"/>
            <a:ext cx="8839080" cy="381456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21"/>
          <p:cNvSpPr/>
          <p:nvPr/>
        </p:nvSpPr>
        <p:spPr>
          <a:xfrm>
            <a:off x="0" y="4419720"/>
            <a:ext cx="914400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ne milliampere:    tingling sensation</a:t>
            </a:r>
            <a:br>
              <a:rPr sz="2400"/>
            </a:br>
            <a:r>
              <a:rPr b="1" lang="en-US" sz="2400" spc="-1" strike="noStrike">
                <a:solidFill>
                  <a:srgbClr val="990099"/>
                </a:solidFill>
                <a:latin typeface="Tahoma"/>
              </a:rPr>
              <a:t>Ten milliamperes:   nerves and muscles overloaded</a:t>
            </a:r>
            <a:br>
              <a:rPr sz="2400"/>
            </a:b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200 milliamperes:   potentially fatal; heart fibrillation</a:t>
            </a:r>
            <a:br>
              <a:rPr sz="2400"/>
            </a:br>
            <a:r>
              <a:rPr b="1" lang="en-US" sz="2400" spc="-1" strike="noStrike">
                <a:solidFill>
                  <a:srgbClr val="009900"/>
                </a:solidFill>
                <a:latin typeface="Tahoma"/>
              </a:rPr>
              <a:t>500 -1000 milliamperes:  not necessarily fatal; heart will restart -- One ampere or more: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 burn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299999982118607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5" descr="gfci-figure2"/>
          <p:cNvPicPr/>
          <p:nvPr/>
        </p:nvPicPr>
        <p:blipFill>
          <a:blip r:embed="rId1"/>
          <a:stretch/>
        </p:blipFill>
        <p:spPr>
          <a:xfrm>
            <a:off x="1219320" y="0"/>
            <a:ext cx="647676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4"/>
          <p:cNvSpPr/>
          <p:nvPr/>
        </p:nvSpPr>
        <p:spPr>
          <a:xfrm>
            <a:off x="1143000" y="1112040"/>
            <a:ext cx="439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Grounded Applianc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1698480" y="2119320"/>
          <a:ext cx="5747040" cy="3078000"/>
        </p:xfrm>
        <a:graphic>
          <a:graphicData uri="http://schemas.openxmlformats.org/drawingml/2006/table">
            <a:tbl>
              <a:tblPr/>
              <a:tblGrid>
                <a:gridCol w="5747040"/>
              </a:tblGrid>
              <a:tr h="3444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17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                                                                    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91" name="Picture 6" descr="washerwithground"/>
          <p:cNvPicPr/>
          <p:nvPr/>
        </p:nvPicPr>
        <p:blipFill>
          <a:blip r:embed="rId1"/>
          <a:stretch/>
        </p:blipFill>
        <p:spPr>
          <a:xfrm>
            <a:off x="152280" y="1828800"/>
            <a:ext cx="8991720" cy="4543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715600" cy="1455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Ground Plugs Prevent You from </a:t>
            </a:r>
            <a:br>
              <a:rPr sz="3200"/>
            </a:b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becoming the Shortest, Easiest Path to the Ground!!  </a:t>
            </a:r>
            <a:r>
              <a:rPr b="1" lang="en-US" sz="3200" spc="-1" strike="noStrike">
                <a:solidFill>
                  <a:srgbClr val="333399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93" name="Picture 5" descr="washerwithoutshort"/>
          <p:cNvPicPr/>
          <p:nvPr/>
        </p:nvPicPr>
        <p:blipFill>
          <a:blip r:embed="rId1"/>
          <a:stretch/>
        </p:blipFill>
        <p:spPr>
          <a:xfrm>
            <a:off x="0" y="1852560"/>
            <a:ext cx="9144000" cy="4624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4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4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void! Or.. Thou Shalt Not! 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ayed electrical wi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ctopus outle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ter and electrical wi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ug receptacles to protect small childr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 loading electrical circui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ouse Hold Energy Consump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ydro bills are established by finding out how many kilowatt hours of electricity your household has used in a given tim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1 kWh = kilowatts X time (hour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1 kWh = 1 000 Watts X 1 hou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1 kWh = 1 000 W X 3 600 secon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ading the Meter – always use the smallest numb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6" name="Picture 3" descr=""/>
          <p:cNvPicPr/>
          <p:nvPr/>
        </p:nvPicPr>
        <p:blipFill>
          <a:blip r:embed="rId1"/>
          <a:stretch/>
        </p:blipFill>
        <p:spPr>
          <a:xfrm>
            <a:off x="47520" y="2743200"/>
            <a:ext cx="9096480" cy="1925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reading should be </a:t>
            </a:r>
            <a:r>
              <a:rPr b="0" lang="en-US" sz="4400" spc="-1" strike="noStrike">
                <a:solidFill>
                  <a:srgbClr val="cc3300"/>
                </a:solidFill>
                <a:latin typeface="Tahoma"/>
              </a:rPr>
              <a:t>8876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1"/>
          <a:stretch/>
        </p:blipFill>
        <p:spPr>
          <a:xfrm>
            <a:off x="685800" y="2819520"/>
            <a:ext cx="7800840" cy="16509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fficienc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160" y="2017800"/>
            <a:ext cx="8421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s is a comparison of the amount of energy obtained as compared to the amount of energy put into the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ahoma"/>
              </a:rPr>
              <a:t>Efficiency = energy output / energy inpu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convert it to a percentage just multiply the answer by 100 %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ouse Hold Wi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2017800"/>
            <a:ext cx="8650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wires coming into a house include a black, a red and a whit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lac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the </a:t>
            </a:r>
            <a:r>
              <a:rPr b="1" lang="en-US" sz="2800" spc="-1" strike="noStrike">
                <a:solidFill>
                  <a:srgbClr val="cc3300"/>
                </a:solidFill>
                <a:latin typeface="Tahoma"/>
              </a:rPr>
              <a:t>re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res are “</a:t>
            </a:r>
            <a:r>
              <a:rPr b="0" lang="en-US" sz="2800" spc="-1" strike="noStrike">
                <a:solidFill>
                  <a:srgbClr val="990099"/>
                </a:solidFill>
                <a:latin typeface="Tahoma"/>
              </a:rPr>
              <a:t>ho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white wire is neutral – leading to a g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black is rated as being 120 v from the neut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red is rated as being 120 v from the neut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Object 4"/>
          <p:cNvGraphicFramePr/>
          <p:nvPr/>
        </p:nvGraphicFramePr>
        <p:xfrm>
          <a:off x="152280" y="685800"/>
          <a:ext cx="9144000" cy="632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685800"/>
                    <a:ext cx="9144000" cy="632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7792920" cy="61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Electricity Entering Your House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5029200" y="83808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4800600" y="838080"/>
            <a:ext cx="434340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ahoma"/>
              </a:rPr>
              <a:t>Red = In at 120V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Black = Out at 120V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Tahoma"/>
              </a:rPr>
              <a:t>Potential difference = 240V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9T04:02:24Z</dcterms:created>
  <dc:creator>William  Irwin</dc:creator>
  <dc:description/>
  <dc:language>en-US</dc:language>
  <cp:lastModifiedBy>RomaK</cp:lastModifiedBy>
  <dcterms:modified xsi:type="dcterms:W3CDTF">2015-09-03T12:29:45Z</dcterms:modified>
  <cp:revision>69</cp:revision>
  <dc:subject/>
  <dc:title>Chapter 5</dc:title>
</cp:coreProperties>
</file>