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move the slide</a:t>
            </a:r>
            <a:endParaRPr b="1" lang="en-US" sz="3900" spc="-1" strike="noStrike">
              <a:solidFill>
                <a:srgbClr val="ffffff"/>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CBCAB-72BB-408E-B31F-878D8B23B9C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Trans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20,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at Transf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ch 20, 200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orde supersonic airplane is 20 cm longer when in flight.  Explain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orde supersonic airplane is 20 cm longer when in flight.  Explain w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jet flies, it experiences a huge amount of friction, which heats it up significantly.  This causes thermal expansion, and the plane length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the jet flies, it experiences a huge amount of friction, which heats it up significantly.  This causes thermal expansion, and the plane length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emperature a measure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emperature a measure o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kinetic energy of the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verage kinetic energy of the partic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drop a hot rock into a pail of water, the temperature of the rock and the water will change until both are equal.  The rock will cool and the water will warm.  Is this true if the rock is dropped into the Atlantic Oce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drop a hot rock into a pail of water, the temperature of the rock and the water will change until both are equal.  The rock will cool and the water will warm.  Is this true if the rock is dropped into the Atlantic Oce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s, yes, yes!!!  Even though the Atlantic ocean is huge, the heat that leaves the rock enters the water (law of conservation of energy).  This means that the temperature will increase.  Since the ocean is a huge body of water, it will be an incredibly small change, but a change noneth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 yes, yes!!!  Even though the Atlantic ocean is huge, the heat that leaves the rock enters the water (law of conservation of energy).  This means that the temperature will increase.  Since the ocean is a huge body of water, it will be an incredibly small change, but a change nonethel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step out of a swimming pool on a hot, dry day, you feel quite chilly.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step out of a swimming pool on a hot, dry day, you feel quite chilly.  W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ter will start evaporating in the air.  Evaporation requires energy (heat) and that heat will come from your body.  Since you are losing heat, you will feel co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ater will start evaporating in the air.  Evaporation requires energy (heat) and that heat will come from your body.  Since you are losing heat, you will feel c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 gas give off or absorb energy when it turns into a so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 a gas give off or absorb energy when it turns into a so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gives off energy, because it is going from high energy to low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gives off energy, because it is going from high energy to low ener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m-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ap a fur coat around a thermometer.  Will its temperature rise?  Explain why or why n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old one end of a metal nail against a piece of ice, the end in your hand soon becomes cold.  Does cold flow from the ice to your hand?  Expl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rm-u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ap a fur coat around a thermometer.  Will its temperature rise?  Explain why or why no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hold one end of a metal nail against a piece of ice, the end in your hand soon becomes cold.  Does cold flow from the ice to your hand?  Expl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es blowing over hot soup cool the so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does blowing over hot soup cool the sou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 cooling is a very effective method of heat trans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vection cooling is a very effective method of heat transf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still room, smoke will sometimes rise only so far, never reaching the ceiling.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still room, smoke will sometimes rise only so far, never reaching the ceiling.  W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oke will be initially hot.  Since hot air is less dense than cool air it will rise.  However, it will cool as it rises until its density is the same as the density of the air in the room.  At that point, it will stop ri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moke will be initially hot.  Since hot air is less dense than cool air it will rise.  However, it will cool as it rises until its density is the same as the density of the air in the room.  At that point, it will stop ris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cool cup of water is floated inside of a pot of water that is already boiling, will the water in the cup ever bo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cool cup of water is floated inside of a pot of water that is already boiling, will the water in the cup ever boi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Heat will transfer from the boiling water to the cool water until the two are the same temperature.  At that point, there will be no more net heat transfer.  In order for the water in the cup to boil, it needs more heat after it reaches 100 degrees Celsi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Heat will transfer from the boiling water to the cool water until the two are the same temperature.  At that point, there will be no more net heat transfer.  In order for the water in the cup to boil, it needs more heat after it reaches 100 degrees Celsi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the thermometer will not heat up because it is the same temperature as the coat.  There has to be a difference in temperature in order for heat transfer to take pl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cold does not flow.  Heat flows from your hand to the nail to the ice.  Since your hand is losing heat, it feels cold.  HEAT is the only thing that flo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the thermometer will not heat up because it is the same temperature as the coat.  There has to be a difference in temperature in order for heat transfer to take pla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cold does not flow.  Heat flows from your hand to the nail to the ice.  Since your hand is losing heat, it feels cold.  HEAT is the only thing that flo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why “firewalkers” can walk safely across a bed of red-hot coals in bare fe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plain why “firewalkers” can walk safely across a bed of red-hot coals in bare fee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 rate of heat transfer is slow, because coals are not very good conductors.  If they walk fast enough, there is only a small amount of heat transferred to their feet, and they do not b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the rate of heat transfer is slow, because coals are not very good conductors.  If they walk fast enough, there is only a small amount of heat transferred to their feet, and they do not bur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heat transfers from hot to cold, and stops when the two objects reach the same temperature, explain why it is possible for the inside of your car to be hotter than the air outside on a hot summer 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eat transfers from hot to cold, and stops when the two objects reach the same temperature, explain why it is possible for the inside of your car to be hotter than the air outside on a hot summer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nhouse effect.  Electromagnetic waves from the sun enter your car through the windows and are absorbed by the seats and other objects in the car.  They then re-emit electromagnetic radiation of a different wavelength that cannot pass through glass.  All of that energy is therefore trapped inside the car, causing the temperature to r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enhouse effect.  Electromagnetic waves from the sun enter your car through the windows and are absorbed by the seats and other objects in the car.  They then re-emit electromagnetic radiation of a different wavelength that cannot pass through glass.  All of that energy is therefore trapped inside the car, causing the temperature to ri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a hot cup of tea cools more rapidly than a lukewarm cup of tea, would it be correct to say that a hot cup of tea will cool to room temperature before a lukewarm cup of tea w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a hot cup of tea cools more rapidly than a lukewarm cup of tea, would it be correct to say that a hot cup of tea will cool to room temperature before a lukewarm cup of tea wi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because as it cools, the rate of heat transfer slows down until it is just as slow as the lukewarm cup of tea.  The only way to make it cool faster is by introducing convection.  (mpemba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because as it cools, the rate of heat transfer slows down until it is just as slow as the lukewarm cup of tea.  The only way to make it cool faster is by introducing convection.  (mpemba effec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9595D-E835-43DD-B2B3-A310A8D154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106C5-7AD9-4438-98E0-B65F75D27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C18210-14B3-460A-93F9-A801C43246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DAF5D0-365D-49DD-933F-F9C3BE3168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F641EC-30C8-4006-9C2A-5DC056A970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B554DB-CEAD-499A-8F81-876FE6C033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37E8BA-EC3A-4967-BD3F-ACEA583A9F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A0E995-8E3A-484B-9B68-8BA3BE6368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345F45-6559-48F9-A618-981DC268F1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09E9BB-4053-4F76-BD6B-C169FC9549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B784C-5795-4E5A-8C82-5D3330C3EC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95B0C-378B-4845-941D-58E6D9765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7BFF0D-6E65-4493-B17C-B5609758D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45CA3-EE2F-4D8C-BBFD-B5CB56C5F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0886F8-07DA-4903-A041-CE8A0EE9D6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7CA250-253F-4A69-9409-1C61B46CA0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65487B-87DA-4DF0-8079-EC3685E1CC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35DA7-2B63-46A6-A254-979794954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4A8F5-23A0-41D7-A97C-AF9FA5DCA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51536-C852-4248-BE64-E57DA6174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05B9E-0465-4133-93F3-0A3C56E0A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60782-2996-47BD-AF1D-60B51FCAD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7153B-C440-49E7-837B-AC399F262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EB073-D69C-4EDC-A4FF-32A09299B4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6949"/>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edit the title text format</a:t>
            </a:r>
            <a:endParaRPr b="1" lang="en-US" sz="3900" spc="-1" strike="noStrike">
              <a:solidFill>
                <a:srgbClr val="ffffff"/>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92280" indent="-347760">
              <a:spcBef>
                <a:spcPts val="7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87480" indent="-29376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598760" indent="-316080">
              <a:spcBef>
                <a:spcPts val="751"/>
              </a:spcBef>
              <a:buClr>
                <a:srgbClr val="a45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048DB-B648-4CF5-991F-5608C243A7B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832104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Oval 11"/>
            <p:cNvSpPr/>
            <p:nvPr/>
          </p:nvSpPr>
          <p:spPr>
            <a:xfrm>
              <a:off x="848916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Oval 12"/>
            <p:cNvSpPr/>
            <p:nvPr/>
          </p:nvSpPr>
          <p:spPr>
            <a:xfrm>
              <a:off x="815328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Oval 13"/>
            <p:cNvSpPr/>
            <p:nvPr/>
          </p:nvSpPr>
          <p:spPr>
            <a:xfrm>
              <a:off x="832104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Oval 14"/>
            <p:cNvSpPr/>
            <p:nvPr/>
          </p:nvSpPr>
          <p:spPr>
            <a:xfrm>
              <a:off x="848916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Oval 15"/>
            <p:cNvSpPr/>
            <p:nvPr/>
          </p:nvSpPr>
          <p:spPr>
            <a:xfrm>
              <a:off x="8657280" y="320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Oval 16"/>
            <p:cNvSpPr/>
            <p:nvPr/>
          </p:nvSpPr>
          <p:spPr>
            <a:xfrm>
              <a:off x="815328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Oval 17"/>
            <p:cNvSpPr/>
            <p:nvPr/>
          </p:nvSpPr>
          <p:spPr>
            <a:xfrm>
              <a:off x="832104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Oval 18"/>
            <p:cNvSpPr/>
            <p:nvPr/>
          </p:nvSpPr>
          <p:spPr>
            <a:xfrm>
              <a:off x="8489160" y="488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8657280" y="488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8825400" y="48816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8153280" y="65592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8321040" y="65592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8489160" y="65592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8657280" y="65592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8153280" y="824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Oval 26"/>
            <p:cNvSpPr/>
            <p:nvPr/>
          </p:nvSpPr>
          <p:spPr>
            <a:xfrm>
              <a:off x="8321040" y="824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Oval 27"/>
            <p:cNvSpPr/>
            <p:nvPr/>
          </p:nvSpPr>
          <p:spPr>
            <a:xfrm>
              <a:off x="8489160" y="82404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Oval 28"/>
            <p:cNvSpPr/>
            <p:nvPr/>
          </p:nvSpPr>
          <p:spPr>
            <a:xfrm>
              <a:off x="8657280" y="82404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Oval 29"/>
            <p:cNvSpPr/>
            <p:nvPr/>
          </p:nvSpPr>
          <p:spPr>
            <a:xfrm>
              <a:off x="8825400" y="824040"/>
              <a:ext cx="119880" cy="119880"/>
            </a:xfrm>
            <a:prstGeom prst="ellipse">
              <a:avLst/>
            </a:prstGeom>
            <a:solidFill>
              <a:srgbClr val="a452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Oval 30"/>
            <p:cNvSpPr/>
            <p:nvPr/>
          </p:nvSpPr>
          <p:spPr>
            <a:xfrm>
              <a:off x="8153280" y="992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Oval 31"/>
            <p:cNvSpPr/>
            <p:nvPr/>
          </p:nvSpPr>
          <p:spPr>
            <a:xfrm>
              <a:off x="8321040" y="99216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Oval 32"/>
            <p:cNvSpPr/>
            <p:nvPr/>
          </p:nvSpPr>
          <p:spPr>
            <a:xfrm>
              <a:off x="8489160" y="99216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Oval 33"/>
            <p:cNvSpPr/>
            <p:nvPr/>
          </p:nvSpPr>
          <p:spPr>
            <a:xfrm>
              <a:off x="8657280" y="992160"/>
              <a:ext cx="119880" cy="119880"/>
            </a:xfrm>
            <a:prstGeom prst="ellipse">
              <a:avLst/>
            </a:prstGeom>
            <a:solidFill>
              <a:srgbClr val="a452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Oval 34"/>
            <p:cNvSpPr/>
            <p:nvPr/>
          </p:nvSpPr>
          <p:spPr>
            <a:xfrm>
              <a:off x="8153280" y="1159920"/>
              <a:ext cx="119880" cy="119520"/>
            </a:xfrm>
            <a:prstGeom prst="ellipse">
              <a:avLst/>
            </a:prstGeom>
            <a:solidFill>
              <a:srgbClr val="cc66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8321040" y="1159920"/>
              <a:ext cx="119880" cy="119520"/>
            </a:xfrm>
            <a:prstGeom prst="ellipse">
              <a:avLst/>
            </a:prstGeom>
            <a:solidFill>
              <a:srgbClr val="cc66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8489160" y="115992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8657280" y="115992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8321040" y="132804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8657280" y="132804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6949"/>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10"/>
            <p:cNvSpPr/>
            <p:nvPr/>
          </p:nvSpPr>
          <p:spPr>
            <a:xfrm>
              <a:off x="777708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11"/>
            <p:cNvSpPr/>
            <p:nvPr/>
          </p:nvSpPr>
          <p:spPr>
            <a:xfrm>
              <a:off x="806112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12"/>
            <p:cNvSpPr/>
            <p:nvPr/>
          </p:nvSpPr>
          <p:spPr>
            <a:xfrm>
              <a:off x="749304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13"/>
            <p:cNvSpPr/>
            <p:nvPr/>
          </p:nvSpPr>
          <p:spPr>
            <a:xfrm>
              <a:off x="777708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14"/>
            <p:cNvSpPr/>
            <p:nvPr/>
          </p:nvSpPr>
          <p:spPr>
            <a:xfrm>
              <a:off x="806112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15"/>
            <p:cNvSpPr/>
            <p:nvPr/>
          </p:nvSpPr>
          <p:spPr>
            <a:xfrm>
              <a:off x="8345160" y="327672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16"/>
            <p:cNvSpPr/>
            <p:nvPr/>
          </p:nvSpPr>
          <p:spPr>
            <a:xfrm>
              <a:off x="749304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17"/>
            <p:cNvSpPr/>
            <p:nvPr/>
          </p:nvSpPr>
          <p:spPr>
            <a:xfrm>
              <a:off x="777708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18"/>
            <p:cNvSpPr/>
            <p:nvPr/>
          </p:nvSpPr>
          <p:spPr>
            <a:xfrm>
              <a:off x="8061120" y="356076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19"/>
            <p:cNvSpPr/>
            <p:nvPr/>
          </p:nvSpPr>
          <p:spPr>
            <a:xfrm>
              <a:off x="8345160" y="356076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20"/>
            <p:cNvSpPr/>
            <p:nvPr/>
          </p:nvSpPr>
          <p:spPr>
            <a:xfrm>
              <a:off x="8629560" y="356076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21"/>
            <p:cNvSpPr/>
            <p:nvPr/>
          </p:nvSpPr>
          <p:spPr>
            <a:xfrm>
              <a:off x="7493040" y="3843360"/>
              <a:ext cx="201240" cy="203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22"/>
            <p:cNvSpPr/>
            <p:nvPr/>
          </p:nvSpPr>
          <p:spPr>
            <a:xfrm>
              <a:off x="7777080" y="3843360"/>
              <a:ext cx="201240" cy="2030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23"/>
            <p:cNvSpPr/>
            <p:nvPr/>
          </p:nvSpPr>
          <p:spPr>
            <a:xfrm>
              <a:off x="8061120" y="3843360"/>
              <a:ext cx="201240" cy="2030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24"/>
            <p:cNvSpPr/>
            <p:nvPr/>
          </p:nvSpPr>
          <p:spPr>
            <a:xfrm>
              <a:off x="8345160" y="3843360"/>
              <a:ext cx="201240" cy="20304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25"/>
            <p:cNvSpPr/>
            <p:nvPr/>
          </p:nvSpPr>
          <p:spPr>
            <a:xfrm>
              <a:off x="749304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26"/>
            <p:cNvSpPr/>
            <p:nvPr/>
          </p:nvSpPr>
          <p:spPr>
            <a:xfrm>
              <a:off x="777708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27"/>
            <p:cNvSpPr/>
            <p:nvPr/>
          </p:nvSpPr>
          <p:spPr>
            <a:xfrm>
              <a:off x="8061120" y="4127400"/>
              <a:ext cx="201240" cy="2034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28"/>
            <p:cNvSpPr/>
            <p:nvPr/>
          </p:nvSpPr>
          <p:spPr>
            <a:xfrm>
              <a:off x="8345160" y="4127400"/>
              <a:ext cx="201240" cy="2034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29"/>
            <p:cNvSpPr/>
            <p:nvPr/>
          </p:nvSpPr>
          <p:spPr>
            <a:xfrm>
              <a:off x="8629560" y="4127400"/>
              <a:ext cx="201240" cy="2034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30"/>
            <p:cNvSpPr/>
            <p:nvPr/>
          </p:nvSpPr>
          <p:spPr>
            <a:xfrm>
              <a:off x="7493040" y="441180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31"/>
            <p:cNvSpPr/>
            <p:nvPr/>
          </p:nvSpPr>
          <p:spPr>
            <a:xfrm>
              <a:off x="7777080" y="441180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32"/>
            <p:cNvSpPr/>
            <p:nvPr/>
          </p:nvSpPr>
          <p:spPr>
            <a:xfrm>
              <a:off x="8061120" y="441180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33"/>
            <p:cNvSpPr/>
            <p:nvPr/>
          </p:nvSpPr>
          <p:spPr>
            <a:xfrm>
              <a:off x="8345160" y="441180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34"/>
            <p:cNvSpPr/>
            <p:nvPr/>
          </p:nvSpPr>
          <p:spPr>
            <a:xfrm>
              <a:off x="7493040" y="469584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35"/>
            <p:cNvSpPr/>
            <p:nvPr/>
          </p:nvSpPr>
          <p:spPr>
            <a:xfrm>
              <a:off x="7777080" y="469584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36"/>
            <p:cNvSpPr/>
            <p:nvPr/>
          </p:nvSpPr>
          <p:spPr>
            <a:xfrm>
              <a:off x="8061120" y="469584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37"/>
            <p:cNvSpPr/>
            <p:nvPr/>
          </p:nvSpPr>
          <p:spPr>
            <a:xfrm>
              <a:off x="8345160" y="469584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38"/>
            <p:cNvSpPr/>
            <p:nvPr/>
          </p:nvSpPr>
          <p:spPr>
            <a:xfrm>
              <a:off x="7777080" y="497988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39"/>
            <p:cNvSpPr/>
            <p:nvPr/>
          </p:nvSpPr>
          <p:spPr>
            <a:xfrm>
              <a:off x="8345160" y="497988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7" name="Line 40"/>
          <p:cNvSpPr/>
          <p:nvPr/>
        </p:nvSpPr>
        <p:spPr>
          <a:xfrm>
            <a:off x="304920" y="2819520"/>
            <a:ext cx="82296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edit the title text format</a:t>
            </a:r>
            <a:endParaRPr b="1" lang="en-US" sz="3900" spc="-1" strike="noStrike">
              <a:solidFill>
                <a:srgbClr val="ffffff"/>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92280" indent="-347760">
              <a:spcBef>
                <a:spcPts val="7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87480" indent="-29376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598760" indent="-316080">
              <a:spcBef>
                <a:spcPts val="751"/>
              </a:spcBef>
              <a:buClr>
                <a:srgbClr val="a45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9915A-6F6F-4D24-9F9A-12B53D5A748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Heat Transfer</a:t>
            </a:r>
            <a:endParaRPr b="1" lang="en-US" sz="4800" spc="-1" strike="noStrike">
              <a:solidFill>
                <a:srgbClr val="ffffff"/>
              </a:solidFill>
              <a:latin typeface="Arial"/>
            </a:endParaRPr>
          </a:p>
        </p:txBody>
      </p:sp>
      <p:sp>
        <p:nvSpPr>
          <p:cNvPr id="157"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ch 20, 200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Question</a:t>
            </a:r>
            <a:endParaRPr b="1" lang="en-US" sz="3900" spc="-1" strike="noStrike">
              <a:solidFill>
                <a:srgbClr val="ffffff"/>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Concorde supersonic airplane is 20 cm longer when in flight.  Explain wh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 the jet flies, it experiences a huge amount of friction, which heats it up significantly.  This causes thermal expansion, and the plane lengthe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Question</a:t>
            </a:r>
            <a:endParaRPr b="1" lang="en-US" sz="3900" spc="-1" strike="noStrike">
              <a:solidFill>
                <a:srgbClr val="ffffff"/>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at is temperature a measure of?</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average kinetic energy of the particle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8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f you drop a hot rock into a pail of water, the temperature of the rock and the water will change until both are equal.  The rock will cool and the water will warm.  Is this true if the rock is dropped into the Atlantic Ocea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Yes, yes, yes!!!  Even though the Atlantic ocean is huge, the heat that leaves the rock enters the water (law of conservation of energy).  This means that the temperature will increase.  Since the ocean is a huge body of water, it will be an incredibly small change, but a change nonetheles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en you step out of a swimming pool on a hot, dry day, you feel quite chilly.  Wh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8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water will start evaporating in the air.  Evaporation requires energy (heat) and that heat will come from your body.  Since you are losing heat, you will feel col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9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es a gas give off or absorb energy when it turns into a soli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9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gives off energy, because it is going from high energy to low energ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Warm-up</a:t>
            </a:r>
            <a:endParaRPr b="1" lang="en-US" sz="3900" spc="-1" strike="noStrike">
              <a:solidFill>
                <a:srgbClr val="ffffff"/>
              </a:solidFill>
              <a:latin typeface="Arial"/>
            </a:endParaRPr>
          </a:p>
        </p:txBody>
      </p:sp>
      <p:sp>
        <p:nvSpPr>
          <p:cNvPr id="15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rap a fur coat around a thermometer.  Will its temperature rise?  Explain why or why not.</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f you hold one end of a metal nail against a piece of ice, the end in your hand soon becomes cold.  Does cold flow from the ice to your hand?  Explai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9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y does blowing over hot soup cool the soup?</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9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vection cooling is a very effective method of heat transfer.</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 a still room, smoke will sometimes rise only so far, never reaching the ceiling.  Wh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20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smoke will be initially hot.  Since hot air is less dense than cool air it will rise.  However, it will cool as it rises until its density is the same as the density of the air in the room.  At that point, it will stop rising.</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Question</a:t>
            </a:r>
            <a:endParaRPr b="1" lang="en-US" sz="3900" spc="-1" strike="noStrike">
              <a:solidFill>
                <a:srgbClr val="ffffff"/>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f a cool cup of water is floated inside of a pot of water that is already boiling, will the water in the cup ever boil?</a:t>
            </a:r>
            <a:endParaRPr b="0" lang="en-US" sz="3000" spc="-1" strike="noStrike">
              <a:solidFill>
                <a:srgbClr val="ffffff"/>
              </a:solidFill>
              <a:latin typeface="Arial"/>
            </a:endParaRPr>
          </a:p>
        </p:txBody>
      </p:sp>
      <p:sp>
        <p:nvSpPr>
          <p:cNvPr id="204" name="Rectangle 4"/>
          <p:cNvSpPr/>
          <p:nvPr/>
        </p:nvSpPr>
        <p:spPr>
          <a:xfrm>
            <a:off x="2133720" y="3886200"/>
            <a:ext cx="4190760" cy="1905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Rectangle 6"/>
          <p:cNvSpPr/>
          <p:nvPr/>
        </p:nvSpPr>
        <p:spPr>
          <a:xfrm>
            <a:off x="2133720" y="4267080"/>
            <a:ext cx="4190760" cy="152424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Rectangle 5"/>
          <p:cNvSpPr/>
          <p:nvPr/>
        </p:nvSpPr>
        <p:spPr>
          <a:xfrm>
            <a:off x="3733920" y="3809880"/>
            <a:ext cx="76176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7"/>
          <p:cNvSpPr/>
          <p:nvPr/>
        </p:nvSpPr>
        <p:spPr>
          <a:xfrm>
            <a:off x="2438280" y="5638680"/>
            <a:ext cx="152640" cy="152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8"/>
          <p:cNvSpPr/>
          <p:nvPr/>
        </p:nvSpPr>
        <p:spPr>
          <a:xfrm>
            <a:off x="2819520" y="4724280"/>
            <a:ext cx="152280" cy="152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9"/>
          <p:cNvSpPr/>
          <p:nvPr/>
        </p:nvSpPr>
        <p:spPr>
          <a:xfrm>
            <a:off x="3124080" y="502920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10"/>
          <p:cNvSpPr/>
          <p:nvPr/>
        </p:nvSpPr>
        <p:spPr>
          <a:xfrm>
            <a:off x="3048120" y="5410080"/>
            <a:ext cx="152280" cy="152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11"/>
          <p:cNvSpPr/>
          <p:nvPr/>
        </p:nvSpPr>
        <p:spPr>
          <a:xfrm>
            <a:off x="3276720" y="55627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12"/>
          <p:cNvSpPr/>
          <p:nvPr/>
        </p:nvSpPr>
        <p:spPr>
          <a:xfrm>
            <a:off x="2438280" y="487692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13"/>
          <p:cNvSpPr/>
          <p:nvPr/>
        </p:nvSpPr>
        <p:spPr>
          <a:xfrm>
            <a:off x="2590920" y="51055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14"/>
          <p:cNvSpPr/>
          <p:nvPr/>
        </p:nvSpPr>
        <p:spPr>
          <a:xfrm>
            <a:off x="2590920" y="53341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15"/>
          <p:cNvSpPr/>
          <p:nvPr/>
        </p:nvSpPr>
        <p:spPr>
          <a:xfrm>
            <a:off x="4572000" y="48769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Oval 16"/>
          <p:cNvSpPr/>
          <p:nvPr/>
        </p:nvSpPr>
        <p:spPr>
          <a:xfrm>
            <a:off x="2590920" y="51055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Oval 17"/>
          <p:cNvSpPr/>
          <p:nvPr/>
        </p:nvSpPr>
        <p:spPr>
          <a:xfrm>
            <a:off x="4724280" y="525780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Oval 18"/>
          <p:cNvSpPr/>
          <p:nvPr/>
        </p:nvSpPr>
        <p:spPr>
          <a:xfrm>
            <a:off x="4724280" y="464832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Oval 19"/>
          <p:cNvSpPr/>
          <p:nvPr/>
        </p:nvSpPr>
        <p:spPr>
          <a:xfrm>
            <a:off x="4572000" y="55627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0"/>
          <p:cNvSpPr/>
          <p:nvPr/>
        </p:nvSpPr>
        <p:spPr>
          <a:xfrm>
            <a:off x="3733920" y="4343400"/>
            <a:ext cx="76176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r>
              <a:rPr b="1" lang="en-US" sz="3900" spc="-1" strike="noStrike">
                <a:solidFill>
                  <a:srgbClr val="ffffff"/>
                </a:solidFill>
                <a:latin typeface="Arial"/>
              </a:rPr>
              <a:t>	</a:t>
            </a:r>
            <a:r>
              <a:rPr b="1" lang="en-US" sz="3900" spc="-1" strike="noStrike">
                <a:solidFill>
                  <a:srgbClr val="ffffff"/>
                </a:solidFill>
                <a:latin typeface="Arial"/>
              </a:rPr>
              <a:t> </a:t>
            </a:r>
            <a:endParaRPr b="1" lang="en-US" sz="3900" spc="-1" strike="noStrike">
              <a:solidFill>
                <a:srgbClr val="ffffff"/>
              </a:solidFill>
              <a:latin typeface="Arial"/>
            </a:endParaRPr>
          </a:p>
        </p:txBody>
      </p:sp>
      <p:sp>
        <p:nvSpPr>
          <p:cNvPr id="22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Heat will transfer from the boiling water to the cool water until the two are the same temperature.  At that point, there will be no more net heat transfer.  In order for the water in the cup to boil, it needs more heat after it reaches 100 degrees Celsius.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6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the thermometer will not heat up because it is the same temperature as the coat.  There has to be a difference in temperature in order for heat transfer to take place</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cold does not flow.  Heat flows from your hand to the nail to the ice.  Since your hand is losing heat, it feels cold.  HEAT is the only thing that flows.</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Question</a:t>
            </a:r>
            <a:endParaRPr b="1" lang="en-US" sz="3900" spc="-1" strike="noStrike">
              <a:solidFill>
                <a:srgbClr val="ffffff"/>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plain why “firewalkers” can walk safely across a bed of red-hot coals in bare fee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6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cause the rate of heat transfer is slow, because coals are not very good conductors.  If they walk fast enough, there is only a small amount of heat transferred to their feet, and they do not bur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Question</a:t>
            </a:r>
            <a:endParaRPr b="1" lang="en-US" sz="3900" spc="-1" strike="noStrike">
              <a:solidFill>
                <a:srgbClr val="ffffff"/>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f heat transfers from hot to cold, and stops when the two objects reach the same temperature, explain why it is possible for the inside of your car to be hotter than the air outside on a hot summer da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greenhouse effect.  Electromagnetic waves from the sun enter your car through the windows and are absorbed by the seats and other objects in the car.  They then re-emit electromagnetic radiation of a different wavelength that cannot pass through glass.  All of that energy is therefore trapped inside the car, causing the temperature to ris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Question</a:t>
            </a:r>
            <a:endParaRPr b="1" lang="en-US" sz="3900" spc="-1" strike="noStrike">
              <a:solidFill>
                <a:srgbClr val="ffffff"/>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nce a hot cup of tea cools more rapidly than a lukewarm cup of tea, would it be correct to say that a hot cup of tea will cool to room temperature before a lukewarm cup of tea will?</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because as it cools, the rate of heat transfer slows down until it is just as slow as the lukewarm cup of tea.  The only way to make it cool faster is by introducing convection.  (mpemba effec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0T00:06:33Z</dcterms:created>
  <dc:creator>MDS</dc:creator>
  <dc:description/>
  <dc:language>en-US</dc:language>
  <cp:lastModifiedBy>RomaK</cp:lastModifiedBy>
  <dcterms:modified xsi:type="dcterms:W3CDTF">2015-09-03T12:29:35Z</dcterms:modified>
  <cp:revision>10</cp:revision>
  <dc:subject/>
  <dc:title>Heat Transfer</dc:title>
</cp:coreProperties>
</file>