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explode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5225F-9DEE-447F-B32B-C9D17BF51E3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HEA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 of energy and measured in JO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icles move about more and take up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room if heated – this is why thing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and if he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also why substances change from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ids         liquids         gase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he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AT ENERG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is HEAT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rm of energy and measured in JOU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articles move about more and take up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re room if heated – this is why things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pand if heat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t is also why substances change from: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lids         liquids         gases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en heat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isit www.worldofteaching.com for more free power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s place in material where particles can move around inside the material, i.e. liquid or 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eat is carried by the particles themselves moving               Convectio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rr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cur because an area with warm particles expands and becomes less dense than the cooler areas nearby. The warm area rises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oler particles fall into the space left by the warm particles and convection current is set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ve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akes place in material where particles can move around inside the material, i.e. liquid or ga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heat is carried by the particles themselves moving               Convection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urr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ccur because an area with warm particles expands and becomes less dense than the cooler areas nearby. The warm area rises.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oler particles fall into the space left by the warm particles and convection current is set u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ction Curr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t liquids and gases expand and rise while the cooler liquid or gas fa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Hot air ri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Goes acro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Then do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And acro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vection Curr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ot liquids and gases expand and rise while the cooler liquid or gas fall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. Hot air ris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. Goes acros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. Then dow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4. And acros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ction cont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 can cause large convection currents  - WI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daytime the land warms up more than the sea.  The warm air rises over the land and cool air falls over the sea. So we feel a sea breez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sing convection currents can be uses by glider pilots to keep their planes in the air and by birds to stay alof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vection cont…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sun can cause large convection currents  - WIND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uring daytime the land warms up more than the sea.  The warm air rises over the land and cool air falls over the sea. So we feel a sea breez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ising convection currents can be uses by glider pilots to keep their planes in the air and by birds to stay aloft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fer of heat directly form the source to the object by a wave, travelling as ray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 radiation is also known as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objects that are hotter than their surroundings give out heat as infra-red rad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 transfer by radiation does not need particles to occur and is the only way energy can be transferred across empty sp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RA-RED RAD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adi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ransfer of heat directly form the source to the object by a wave, travelling as ray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at radiation is also known as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l objects that are hotter than their surroundings give out heat as infra-red radi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at transfer by radiation does not need particles to occur and is the only way energy can be transferred across empty spa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FRA-RED RADI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t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tter objects emit (give out) he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surfaces emit heat at different sp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ull black surfaces loses energy more quickly – it is a good radi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bright shiny or white surface is a poor radi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athon runners need to keep warm at the end of races, covering in shiny blankets reduces radiation and therefore heat lo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mitt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otter objects emit (give out) hea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ifferent surfaces emit heat at different speed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dull black surfaces loses energy more quickly – it is a good radia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bright shiny or white surface is a poor radia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rathon runners need to keep warm at the end of races, covering in shiny blankets reduces radiation and therefore heat los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tters of he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ght shiny ca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or radi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ll black ca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od Radi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mitters of hea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right shiny can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oor radia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ull black can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ood Radia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or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oler objects absorb (take in) he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tances absorb heat at different sp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ll, black surfaces absorb heat quick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ght, shiny surfaces absorb heat slow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hot countries, people wear bright white clothes and paint their houses white to reduce absorption of energy from the su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trol storage tanks sprayed silver to reflect sun’s 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bsorb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oler objects absorb (take in) hea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ubstances absorb heat at different speed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ull, black surfaces absorb heat quickl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right, shiny surfaces absorb heat slowl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 hot countries, people wear bright white clothes and paint their houses white to reduce absorption of energy from the sun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etrol storage tanks sprayed silver to reflect sun’s ray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or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iny, bright ca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or absor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ll black ca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od absor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bsorb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hiny, bright can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oor absorb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ull black can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ood absorb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y Wor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ul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du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t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or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Key Word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a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adi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ve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du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l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sula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duc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emperatu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mit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bsorb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ransf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 and Temper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emperature of an object tells us how HOT i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ed in degrees Celsius - °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NOT the same as heat energy although the two quantities are related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 a beaker of water at 60 °C is hotte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n a bath of water at 40 °C BUT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th contains more joules of heat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at and Temperatu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temperature of an object tells us how HOT it 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asured in degrees Celsius - °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t is NOT the same as heat energy although the two quantities are related.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.g. a beaker of water at 60 °C is hotter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an a bath of water at 40 °C BUT the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ath contains more joules of heat energ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ing and Coo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n object has become hotter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means that it has gained heat energ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n object cools down, it means it ha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st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ating and Cool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f an object has become hotter,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t means that it has gained heat energ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f an object cools down, it means it has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ost energ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ing and Cooling cont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 energy always moves from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HOT object                           COOLER object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Cup of water at 20 °C in a room at 30°C - gains heat energy and heats up – its temperature ri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p of water at 20 °C in a room at 10°C loses heat energy and cools down – its temperature will f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ating and Cooling cont…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at energy always moves from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HOT object                           COOLER object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.g.Cup of water at 20 °C in a room at 30°C - gains heat energy and heats up – its temperature ris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up of water at 20 °C in a room at 10°C loses heat energy and cools down – its temperature will fall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transfe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Conduc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Convec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Rad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HEAT ENERG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Energy transfer </a:t>
            </a:r>
            <a:br>
              <a:rPr sz="1200"/>
            </a:b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  Conduction</a:t>
            </a:r>
            <a:br>
              <a:rPr sz="1200"/>
            </a:b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  Convection</a:t>
            </a:r>
            <a:br>
              <a:rPr sz="1200"/>
            </a:b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Radi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 is transferred through a material by being passed from one particle to the n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icles at the warm end move faster and this then causes the next particles to move faster and so 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is way heat in an object travels from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OT en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ld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du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at is transferred through a material by being passed from one particle to the nex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articles at the warm end move faster and this then causes the next particles to move faster and so on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 this way heat in an object travels from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HOT end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cold en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duction cont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curs by the particles hitting each other and so energy is transferr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happen in solids, liquids and gase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ppens best in solids-particles very close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duction does not occur very quickly in liquids or g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duction cont…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ccurs by the particles hitting each other and so energy is transferr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n happen in solids, liquids and gases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appens best in solids-particles very close togeth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duction does not occur very quickly in liquids or gas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du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erials that conduct heat quickly are called condu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metals are good conductors of he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per is a very good conductor of he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ns for cooking are usually made with a copper or aluminium bottom and plastic hand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ducto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terials that conduct heat quickly are called conducto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l metals are good conductors of hea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pper is a very good conductor of hea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ans for cooking are usually made with a copper or aluminium bottom and plastic hand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ulators/poor condu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erials that conduct heat slowly or poorly are called insul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ss, wood, plastic and rubber are poor conductors (good insulato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arly all liquids including water are poor conductors (good insulato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es, including air are poor conductors,e.g., wool feels warm because it traps a lot of 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ridge has insulation material round it to keep it cold – reduces amount of heat conducted to inside from the warmer ro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sulators/poor conducto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terials that conduct heat slowly or poorly are called insulato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lass, wood, plastic and rubber are poor conductors (good insulator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arly all liquids including water are poor conductors (good insulator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ases, including air are poor conductors,e.g., wool feels warm because it traps a lot of ai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fridge has insulation material round it to keep it cold – reduces amount of heat conducted to inside from the warmer ro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F31E-E0AC-41F9-84DD-8F6F7012D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5732-4C63-4ED5-86A4-8DF5D190E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1836-C098-4F01-90C3-022BC0F99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9411-DF26-4B31-B9A1-54EEC4026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C2003-32F2-4583-A4E4-38ED5DF9D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A4482-A8EF-4B4C-92BF-D245EA6BF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B1F77-BEBA-4032-8D7F-71E2993D3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CD1B1-D521-4335-9D06-01316F9F8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1F358-E1F9-4694-9950-2CDD4CF46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D51DB-B51E-4264-9219-D19C603CC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DF64A-4B3F-44FB-BC40-AFCCF9764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A8E6-FD66-4E10-B904-F85EF2B9F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382BC-31F6-41D4-BC4E-5AE53D73D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DCB61-582A-44CB-8C46-A43FE66E2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5C395-A884-45AD-A2C8-A1F03E535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C3E22-66D9-439F-984E-8679D44B7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8B775-53A4-4038-94DA-8B891DB3E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B440-0F77-4332-AAFF-74E6ADDEE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C418-2ED2-4B8A-A31C-9809F1F53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6C21-25A1-4FBF-92B9-54068720C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1A46-13E8-4B81-B0EA-C79E24EE2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3D6C-3C53-4B2B-AC40-143009E22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B025-95C6-474B-AD71-7B7997EFC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3BA5-1C2F-4963-98EE-C542AE314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1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cap="sq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90AF5-4577-4B3C-8550-B4BD1790F458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026"/>
          <p:cNvGrpSpPr/>
          <p:nvPr/>
        </p:nvGrpSpPr>
        <p:grpSpPr>
          <a:xfrm>
            <a:off x="-7758000" y="1463760"/>
            <a:ext cx="16902000" cy="10794960"/>
            <a:chOff x="-7758000" y="1463760"/>
            <a:chExt cx="16902000" cy="10794960"/>
          </a:xfrm>
        </p:grpSpPr>
        <p:sp>
          <p:nvSpPr>
            <p:cNvPr id="45" name="Freeform 1027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1028"/>
            <p:cNvSpPr/>
            <p:nvPr/>
          </p:nvSpPr>
          <p:spPr>
            <a:xfrm>
              <a:off x="-7758000" y="1463760"/>
              <a:ext cx="13452480" cy="1079496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2731" y="-1"/>
                    <a:pt x="23861" y="88"/>
                    <a:pt x="24979" y="265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2731" y="-1"/>
                    <a:pt x="23861" y="88"/>
                    <a:pt x="24979" y="265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cap="sq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662B3-173A-4E6A-BF55-68C44968C7F4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HEAT ENERG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447560" y="1904760"/>
            <a:ext cx="708660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What is HEAT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orm of energy and measured in JOU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articles move about more and take up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ore room if heated – this is why things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xpand if hea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is also why substances change from: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olids         liquids         gases 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when hea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AutoShape 12"/>
          <p:cNvSpPr/>
          <p:nvPr/>
        </p:nvSpPr>
        <p:spPr>
          <a:xfrm>
            <a:off x="4419720" y="4876920"/>
            <a:ext cx="457200" cy="304560"/>
          </a:xfrm>
          <a:prstGeom prst="rightArrow">
            <a:avLst>
              <a:gd name="adj1" fmla="val 50000"/>
              <a:gd name="adj2" fmla="val 37530"/>
            </a:avLst>
          </a:prstGeom>
          <a:solidFill>
            <a:srgbClr val="00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AutoShape 13"/>
          <p:cNvSpPr/>
          <p:nvPr/>
        </p:nvSpPr>
        <p:spPr>
          <a:xfrm>
            <a:off x="6172200" y="4876920"/>
            <a:ext cx="457200" cy="304560"/>
          </a:xfrm>
          <a:prstGeom prst="rightArrow">
            <a:avLst>
              <a:gd name="adj1" fmla="val 50000"/>
              <a:gd name="adj2" fmla="val 37530"/>
            </a:avLst>
          </a:prstGeom>
          <a:solidFill>
            <a:srgbClr val="00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Convec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akes place in material where particles can move around inside the material, i.e. liquid or g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heat is carried by the particles themselves moving               Convection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urr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ccur because an area with warm particles expands and becomes less dense than the cooler areas nearby. The warm area rises.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ooler particles fall into the space left by the warm particles and convection current is set u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6553080" y="449568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AutoShape 14"/>
          <p:cNvSpPr/>
          <p:nvPr/>
        </p:nvSpPr>
        <p:spPr>
          <a:xfrm>
            <a:off x="2438280" y="3276720"/>
            <a:ext cx="1143000" cy="457200"/>
          </a:xfrm>
          <a:prstGeom prst="rightArrow">
            <a:avLst>
              <a:gd name="adj1" fmla="val 50000"/>
              <a:gd name="adj2" fmla="val 6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Convection Current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256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Hot liquids and gases expand and rise while the cooler liquid or gas fal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AutoShape 7"/>
          <p:cNvSpPr/>
          <p:nvPr/>
        </p:nvSpPr>
        <p:spPr>
          <a:xfrm>
            <a:off x="3429000" y="3429000"/>
            <a:ext cx="2286000" cy="2819520"/>
          </a:xfrm>
          <a:prstGeom prst="can">
            <a:avLst>
              <a:gd name="adj" fmla="val 25000"/>
            </a:avLst>
          </a:prstGeom>
          <a:solidFill>
            <a:srgbClr val="00cc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6553080" y="449568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Text Box 9"/>
          <p:cNvSpPr/>
          <p:nvPr/>
        </p:nvSpPr>
        <p:spPr>
          <a:xfrm>
            <a:off x="6324480" y="4724280"/>
            <a:ext cx="2133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ot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ir ri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Freeform 10"/>
          <p:cNvSpPr/>
          <p:nvPr/>
        </p:nvSpPr>
        <p:spPr>
          <a:xfrm>
            <a:off x="5559480" y="4368960"/>
            <a:ext cx="3240" cy="1422360"/>
          </a:xfrm>
          <a:custGeom>
            <a:avLst/>
            <a:gdLst/>
            <a:ahLst/>
            <a:rect l="l" t="t" r="r" b="b"/>
            <a:pathLst>
              <a:path w="2" h="896">
                <a:moveTo>
                  <a:pt x="2" y="896"/>
                </a:moveTo>
                <a:lnTo>
                  <a:pt x="0" y="0"/>
                </a:lnTo>
              </a:path>
            </a:pathLst>
          </a:custGeom>
          <a:solidFill>
            <a:srgbClr val="000000"/>
          </a:solidFill>
          <a:ln w="2844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Line 11"/>
          <p:cNvSpPr/>
          <p:nvPr/>
        </p:nvSpPr>
        <p:spPr>
          <a:xfrm flipH="1">
            <a:off x="3809880" y="4343400"/>
            <a:ext cx="15242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Line 12"/>
          <p:cNvSpPr/>
          <p:nvPr/>
        </p:nvSpPr>
        <p:spPr>
          <a:xfrm>
            <a:off x="3733920" y="4368960"/>
            <a:ext cx="0" cy="1422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Line 13"/>
          <p:cNvSpPr/>
          <p:nvPr/>
        </p:nvSpPr>
        <p:spPr>
          <a:xfrm>
            <a:off x="3885480" y="5791320"/>
            <a:ext cx="1523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Text Box 14"/>
          <p:cNvSpPr/>
          <p:nvPr/>
        </p:nvSpPr>
        <p:spPr>
          <a:xfrm>
            <a:off x="3505320" y="2819520"/>
            <a:ext cx="2057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. Goes acro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Text Box 15"/>
          <p:cNvSpPr/>
          <p:nvPr/>
        </p:nvSpPr>
        <p:spPr>
          <a:xfrm>
            <a:off x="990720" y="4343400"/>
            <a:ext cx="19047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3. Then dow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Text Box 16"/>
          <p:cNvSpPr/>
          <p:nvPr/>
        </p:nvSpPr>
        <p:spPr>
          <a:xfrm>
            <a:off x="1905120" y="6095880"/>
            <a:ext cx="2057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4. And acro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Convection cont…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sun can cause large convection currents  - WIN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During daytime the land warms up more than the sea.  The warm air rises over the land and cool air falls over the sea. So we feel a sea breez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Rising convection currents can be uses by glider pilots to keep their planes in the air and by birds to stay alof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Radia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44956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ransfer of heat directly form the source to the object by a wave, travelling as ray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Heat radiation is also known as </a:t>
            </a:r>
            <a:br>
              <a:rPr sz="3200"/>
            </a:b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ll objects that are hotter than their surroundings give out heat as infra-red radi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Heat transfer by radiation does not need particles to occur and is the only way energy can be transferred across empty sp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2133720" y="3048120"/>
            <a:ext cx="47098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INFRA-RED RADI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Emitter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610840" cy="4572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Hotter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objects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emit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(give out) he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Different surfaces emit heat at different spee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dull black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surfaces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loses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energy more quickly – it is a 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good radi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bright shiny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or 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white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surface is a 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poor radi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arathon runners need to keep warm at the end of races, covering in shiny blankets reduces radiation and therefore heat los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Emitters of he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AutoShape 5"/>
          <p:cNvSpPr/>
          <p:nvPr/>
        </p:nvSpPr>
        <p:spPr>
          <a:xfrm>
            <a:off x="1600200" y="2209680"/>
            <a:ext cx="1600200" cy="2133720"/>
          </a:xfrm>
          <a:prstGeom prst="can">
            <a:avLst>
              <a:gd name="adj" fmla="val 25000"/>
            </a:avLst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AutoShape 8"/>
          <p:cNvSpPr/>
          <p:nvPr/>
        </p:nvSpPr>
        <p:spPr>
          <a:xfrm>
            <a:off x="5765760" y="2209680"/>
            <a:ext cx="1473120" cy="2210040"/>
          </a:xfrm>
          <a:prstGeom prst="can">
            <a:avLst>
              <a:gd name="adj" fmla="val 25000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Text Box 9"/>
          <p:cNvSpPr/>
          <p:nvPr/>
        </p:nvSpPr>
        <p:spPr>
          <a:xfrm>
            <a:off x="838080" y="480060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Bright shiny can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or radia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Text Box 11"/>
          <p:cNvSpPr/>
          <p:nvPr/>
        </p:nvSpPr>
        <p:spPr>
          <a:xfrm>
            <a:off x="5029200" y="487692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Text Box 12"/>
          <p:cNvSpPr/>
          <p:nvPr/>
        </p:nvSpPr>
        <p:spPr>
          <a:xfrm>
            <a:off x="5181480" y="480060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ull black can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Good Radia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AutoShape 14"/>
          <p:cNvSpPr/>
          <p:nvPr/>
        </p:nvSpPr>
        <p:spPr>
          <a:xfrm>
            <a:off x="3429000" y="281952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AutoShape 16"/>
          <p:cNvSpPr/>
          <p:nvPr/>
        </p:nvSpPr>
        <p:spPr>
          <a:xfrm>
            <a:off x="3429000" y="335268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AutoShape 19"/>
          <p:cNvSpPr/>
          <p:nvPr/>
        </p:nvSpPr>
        <p:spPr>
          <a:xfrm>
            <a:off x="7391520" y="320040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AutoShape 20"/>
          <p:cNvSpPr/>
          <p:nvPr/>
        </p:nvSpPr>
        <p:spPr>
          <a:xfrm>
            <a:off x="7391520" y="358128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AutoShape 21"/>
          <p:cNvSpPr/>
          <p:nvPr/>
        </p:nvSpPr>
        <p:spPr>
          <a:xfrm>
            <a:off x="7391520" y="396252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AutoShape 22"/>
          <p:cNvSpPr/>
          <p:nvPr/>
        </p:nvSpPr>
        <p:spPr>
          <a:xfrm>
            <a:off x="7391520" y="281952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AutoShape 23"/>
          <p:cNvSpPr/>
          <p:nvPr/>
        </p:nvSpPr>
        <p:spPr>
          <a:xfrm>
            <a:off x="7391520" y="243828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AutoShape 24"/>
          <p:cNvSpPr/>
          <p:nvPr/>
        </p:nvSpPr>
        <p:spPr>
          <a:xfrm>
            <a:off x="1066680" y="2819520"/>
            <a:ext cx="381240" cy="228600"/>
          </a:xfrm>
          <a:prstGeom prst="leftArrow">
            <a:avLst>
              <a:gd name="adj1" fmla="val 50000"/>
              <a:gd name="adj2" fmla="val 41693"/>
            </a:avLst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AutoShape 25"/>
          <p:cNvSpPr/>
          <p:nvPr/>
        </p:nvSpPr>
        <p:spPr>
          <a:xfrm>
            <a:off x="1066680" y="3352680"/>
            <a:ext cx="381240" cy="228600"/>
          </a:xfrm>
          <a:prstGeom prst="leftArrow">
            <a:avLst>
              <a:gd name="adj1" fmla="val 50000"/>
              <a:gd name="adj2" fmla="val 41693"/>
            </a:avLst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AutoShape 26"/>
          <p:cNvSpPr/>
          <p:nvPr/>
        </p:nvSpPr>
        <p:spPr>
          <a:xfrm>
            <a:off x="5181480" y="2438280"/>
            <a:ext cx="381240" cy="228600"/>
          </a:xfrm>
          <a:prstGeom prst="leftArrow">
            <a:avLst>
              <a:gd name="adj1" fmla="val 50000"/>
              <a:gd name="adj2" fmla="val 41693"/>
            </a:avLst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AutoShape 27"/>
          <p:cNvSpPr/>
          <p:nvPr/>
        </p:nvSpPr>
        <p:spPr>
          <a:xfrm>
            <a:off x="5181480" y="3962520"/>
            <a:ext cx="381240" cy="228600"/>
          </a:xfrm>
          <a:prstGeom prst="leftArrow">
            <a:avLst>
              <a:gd name="adj1" fmla="val 50000"/>
              <a:gd name="adj2" fmla="val 41693"/>
            </a:avLst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AutoShape 28"/>
          <p:cNvSpPr/>
          <p:nvPr/>
        </p:nvSpPr>
        <p:spPr>
          <a:xfrm>
            <a:off x="5181480" y="2819520"/>
            <a:ext cx="381240" cy="228600"/>
          </a:xfrm>
          <a:prstGeom prst="leftArrow">
            <a:avLst>
              <a:gd name="adj1" fmla="val 50000"/>
              <a:gd name="adj2" fmla="val 41693"/>
            </a:avLst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AutoShape 29"/>
          <p:cNvSpPr/>
          <p:nvPr/>
        </p:nvSpPr>
        <p:spPr>
          <a:xfrm>
            <a:off x="5181480" y="3200400"/>
            <a:ext cx="381240" cy="228600"/>
          </a:xfrm>
          <a:prstGeom prst="leftArrow">
            <a:avLst>
              <a:gd name="adj1" fmla="val 50000"/>
              <a:gd name="adj2" fmla="val 41693"/>
            </a:avLst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AutoShape 30"/>
          <p:cNvSpPr/>
          <p:nvPr/>
        </p:nvSpPr>
        <p:spPr>
          <a:xfrm>
            <a:off x="5181480" y="3581280"/>
            <a:ext cx="381240" cy="228600"/>
          </a:xfrm>
          <a:prstGeom prst="leftArrow">
            <a:avLst>
              <a:gd name="adj1" fmla="val 50000"/>
              <a:gd name="adj2" fmla="val 41693"/>
            </a:avLst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Absorber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609480" y="1523880"/>
            <a:ext cx="8077320" cy="53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ooler objects absorb (take in) he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bstances absorb heat at different spee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Dull, black surfaces absorb heat quick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Bright, shiny surfaces absorb heat slow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n hot countries, people wear bright white clothes and paint their houses white to reduce absorption of energy from the su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etrol storage tanks sprayed silver to reflect sun’s ray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Absorber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3" name="AutoShape 3"/>
          <p:cNvSpPr/>
          <p:nvPr/>
        </p:nvSpPr>
        <p:spPr>
          <a:xfrm>
            <a:off x="3276720" y="1066680"/>
            <a:ext cx="2133360" cy="18288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AutoShape 5"/>
          <p:cNvSpPr/>
          <p:nvPr/>
        </p:nvSpPr>
        <p:spPr>
          <a:xfrm>
            <a:off x="1447920" y="2819520"/>
            <a:ext cx="1295280" cy="2438280"/>
          </a:xfrm>
          <a:prstGeom prst="can">
            <a:avLst>
              <a:gd name="adj" fmla="val 25000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AutoShape 6"/>
          <p:cNvSpPr/>
          <p:nvPr/>
        </p:nvSpPr>
        <p:spPr>
          <a:xfrm>
            <a:off x="5943600" y="2819520"/>
            <a:ext cx="1295280" cy="2438280"/>
          </a:xfrm>
          <a:prstGeom prst="can">
            <a:avLst>
              <a:gd name="adj" fmla="val 25000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AutoShape 8"/>
          <p:cNvSpPr/>
          <p:nvPr/>
        </p:nvSpPr>
        <p:spPr>
          <a:xfrm>
            <a:off x="3048120" y="335268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AutoShape 9"/>
          <p:cNvSpPr/>
          <p:nvPr/>
        </p:nvSpPr>
        <p:spPr>
          <a:xfrm>
            <a:off x="838080" y="3352680"/>
            <a:ext cx="381240" cy="304920"/>
          </a:xfrm>
          <a:prstGeom prst="leftArrow">
            <a:avLst>
              <a:gd name="adj1" fmla="val 50000"/>
              <a:gd name="adj2" fmla="val 31257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AutoShape 10"/>
          <p:cNvSpPr/>
          <p:nvPr/>
        </p:nvSpPr>
        <p:spPr>
          <a:xfrm>
            <a:off x="838080" y="4267080"/>
            <a:ext cx="381240" cy="304920"/>
          </a:xfrm>
          <a:prstGeom prst="leftArrow">
            <a:avLst>
              <a:gd name="adj1" fmla="val 50000"/>
              <a:gd name="adj2" fmla="val 31257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AutoShape 11"/>
          <p:cNvSpPr/>
          <p:nvPr/>
        </p:nvSpPr>
        <p:spPr>
          <a:xfrm>
            <a:off x="5334120" y="4419720"/>
            <a:ext cx="380880" cy="304560"/>
          </a:xfrm>
          <a:prstGeom prst="leftArrow">
            <a:avLst>
              <a:gd name="adj1" fmla="val 50000"/>
              <a:gd name="adj2" fmla="val 31265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AutoShape 12"/>
          <p:cNvSpPr/>
          <p:nvPr/>
        </p:nvSpPr>
        <p:spPr>
          <a:xfrm>
            <a:off x="5334120" y="4114800"/>
            <a:ext cx="380880" cy="304920"/>
          </a:xfrm>
          <a:prstGeom prst="leftArrow">
            <a:avLst>
              <a:gd name="adj1" fmla="val 50000"/>
              <a:gd name="adj2" fmla="val 31228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AutoShape 13"/>
          <p:cNvSpPr/>
          <p:nvPr/>
        </p:nvSpPr>
        <p:spPr>
          <a:xfrm>
            <a:off x="5334120" y="3733920"/>
            <a:ext cx="380880" cy="304560"/>
          </a:xfrm>
          <a:prstGeom prst="leftArrow">
            <a:avLst>
              <a:gd name="adj1" fmla="val 50000"/>
              <a:gd name="adj2" fmla="val 31265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AutoShape 14"/>
          <p:cNvSpPr/>
          <p:nvPr/>
        </p:nvSpPr>
        <p:spPr>
          <a:xfrm>
            <a:off x="5334120" y="3276720"/>
            <a:ext cx="380880" cy="304560"/>
          </a:xfrm>
          <a:prstGeom prst="leftArrow">
            <a:avLst>
              <a:gd name="adj1" fmla="val 50000"/>
              <a:gd name="adj2" fmla="val 31265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AutoShape 15"/>
          <p:cNvSpPr/>
          <p:nvPr/>
        </p:nvSpPr>
        <p:spPr>
          <a:xfrm>
            <a:off x="5334120" y="4800600"/>
            <a:ext cx="380880" cy="304920"/>
          </a:xfrm>
          <a:prstGeom prst="leftArrow">
            <a:avLst>
              <a:gd name="adj1" fmla="val 50000"/>
              <a:gd name="adj2" fmla="val 31228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AutoShape 16"/>
          <p:cNvSpPr/>
          <p:nvPr/>
        </p:nvSpPr>
        <p:spPr>
          <a:xfrm>
            <a:off x="7391520" y="411480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AutoShape 17"/>
          <p:cNvSpPr/>
          <p:nvPr/>
        </p:nvSpPr>
        <p:spPr>
          <a:xfrm>
            <a:off x="7391520" y="3733920"/>
            <a:ext cx="380880" cy="304560"/>
          </a:xfrm>
          <a:prstGeom prst="rightArrow">
            <a:avLst>
              <a:gd name="adj1" fmla="val 50000"/>
              <a:gd name="adj2" fmla="val 31265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AutoShape 18"/>
          <p:cNvSpPr/>
          <p:nvPr/>
        </p:nvSpPr>
        <p:spPr>
          <a:xfrm>
            <a:off x="7391520" y="335268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AutoShape 19"/>
          <p:cNvSpPr/>
          <p:nvPr/>
        </p:nvSpPr>
        <p:spPr>
          <a:xfrm>
            <a:off x="3048120" y="434340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AutoShape 20"/>
          <p:cNvSpPr/>
          <p:nvPr/>
        </p:nvSpPr>
        <p:spPr>
          <a:xfrm>
            <a:off x="7391520" y="4876920"/>
            <a:ext cx="380880" cy="304560"/>
          </a:xfrm>
          <a:prstGeom prst="rightArrow">
            <a:avLst>
              <a:gd name="adj1" fmla="val 50000"/>
              <a:gd name="adj2" fmla="val 31265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AutoShape 21"/>
          <p:cNvSpPr/>
          <p:nvPr/>
        </p:nvSpPr>
        <p:spPr>
          <a:xfrm>
            <a:off x="7391520" y="449568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Text Box 22"/>
          <p:cNvSpPr/>
          <p:nvPr/>
        </p:nvSpPr>
        <p:spPr>
          <a:xfrm>
            <a:off x="914400" y="541008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hiny, bright can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or absor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Text Box 23"/>
          <p:cNvSpPr/>
          <p:nvPr/>
        </p:nvSpPr>
        <p:spPr>
          <a:xfrm>
            <a:off x="5257800" y="579132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Text Box 24"/>
          <p:cNvSpPr/>
          <p:nvPr/>
        </p:nvSpPr>
        <p:spPr>
          <a:xfrm>
            <a:off x="5334120" y="5410080"/>
            <a:ext cx="266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ull black can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Good absor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Key Words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Oval 13"/>
          <p:cNvSpPr/>
          <p:nvPr/>
        </p:nvSpPr>
        <p:spPr>
          <a:xfrm>
            <a:off x="2057400" y="2819520"/>
            <a:ext cx="1828800" cy="990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Oval 14"/>
          <p:cNvSpPr/>
          <p:nvPr/>
        </p:nvSpPr>
        <p:spPr>
          <a:xfrm>
            <a:off x="5181480" y="2438280"/>
            <a:ext cx="1828800" cy="9907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Oval 15"/>
          <p:cNvSpPr/>
          <p:nvPr/>
        </p:nvSpPr>
        <p:spPr>
          <a:xfrm>
            <a:off x="4495680" y="3784680"/>
            <a:ext cx="2438640" cy="13208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Text Box 16"/>
          <p:cNvSpPr/>
          <p:nvPr/>
        </p:nvSpPr>
        <p:spPr>
          <a:xfrm>
            <a:off x="2133720" y="30481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He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Text Box 17"/>
          <p:cNvSpPr/>
          <p:nvPr/>
        </p:nvSpPr>
        <p:spPr>
          <a:xfrm>
            <a:off x="5334120" y="26668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Radi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Text Box 18"/>
          <p:cNvSpPr/>
          <p:nvPr/>
        </p:nvSpPr>
        <p:spPr>
          <a:xfrm>
            <a:off x="4724280" y="4267080"/>
            <a:ext cx="188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Conve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Text Box 19"/>
          <p:cNvSpPr/>
          <p:nvPr/>
        </p:nvSpPr>
        <p:spPr>
          <a:xfrm>
            <a:off x="990720" y="4572000"/>
            <a:ext cx="277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Condu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Oval 20"/>
          <p:cNvSpPr/>
          <p:nvPr/>
        </p:nvSpPr>
        <p:spPr>
          <a:xfrm>
            <a:off x="838080" y="4343400"/>
            <a:ext cx="266724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Text Box 21"/>
          <p:cNvSpPr/>
          <p:nvPr/>
        </p:nvSpPr>
        <p:spPr>
          <a:xfrm>
            <a:off x="3657600" y="1447920"/>
            <a:ext cx="20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Col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Oval 22"/>
          <p:cNvSpPr/>
          <p:nvPr/>
        </p:nvSpPr>
        <p:spPr>
          <a:xfrm>
            <a:off x="4191120" y="838080"/>
            <a:ext cx="1066680" cy="17528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Text Box 23"/>
          <p:cNvSpPr/>
          <p:nvPr/>
        </p:nvSpPr>
        <p:spPr>
          <a:xfrm>
            <a:off x="609480" y="2209680"/>
            <a:ext cx="21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Insula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Oval 24"/>
          <p:cNvSpPr/>
          <p:nvPr/>
        </p:nvSpPr>
        <p:spPr>
          <a:xfrm>
            <a:off x="533520" y="1981080"/>
            <a:ext cx="228600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Text Box 25"/>
          <p:cNvSpPr/>
          <p:nvPr/>
        </p:nvSpPr>
        <p:spPr>
          <a:xfrm>
            <a:off x="3200400" y="5562720"/>
            <a:ext cx="24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Conduc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Oval 26"/>
          <p:cNvSpPr/>
          <p:nvPr/>
        </p:nvSpPr>
        <p:spPr>
          <a:xfrm>
            <a:off x="3276720" y="5334120"/>
            <a:ext cx="2057400" cy="990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Text Box 27"/>
          <p:cNvSpPr/>
          <p:nvPr/>
        </p:nvSpPr>
        <p:spPr>
          <a:xfrm>
            <a:off x="6324480" y="91440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Temperat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Oval 28"/>
          <p:cNvSpPr/>
          <p:nvPr/>
        </p:nvSpPr>
        <p:spPr>
          <a:xfrm>
            <a:off x="6172200" y="533520"/>
            <a:ext cx="2286000" cy="12189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Text Box 29"/>
          <p:cNvSpPr/>
          <p:nvPr/>
        </p:nvSpPr>
        <p:spPr>
          <a:xfrm>
            <a:off x="609480" y="57913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Emit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Text Box 30"/>
          <p:cNvSpPr/>
          <p:nvPr/>
        </p:nvSpPr>
        <p:spPr>
          <a:xfrm>
            <a:off x="6172200" y="55627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Absor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Oval 31"/>
          <p:cNvSpPr/>
          <p:nvPr/>
        </p:nvSpPr>
        <p:spPr>
          <a:xfrm>
            <a:off x="1066680" y="5638680"/>
            <a:ext cx="129564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Oval 32"/>
          <p:cNvSpPr/>
          <p:nvPr/>
        </p:nvSpPr>
        <p:spPr>
          <a:xfrm>
            <a:off x="6400800" y="5410080"/>
            <a:ext cx="1676520" cy="9907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Text Box 33"/>
          <p:cNvSpPr/>
          <p:nvPr/>
        </p:nvSpPr>
        <p:spPr>
          <a:xfrm>
            <a:off x="609480" y="32767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Transf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Oval 34"/>
          <p:cNvSpPr/>
          <p:nvPr/>
        </p:nvSpPr>
        <p:spPr>
          <a:xfrm>
            <a:off x="609480" y="2971800"/>
            <a:ext cx="1371600" cy="1295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Heat and Temperatur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80042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temperature of an object tells us how </a:t>
            </a:r>
            <a:r>
              <a:rPr b="1" lang="en-GB" sz="3200" spc="-1" strike="noStrike">
                <a:solidFill>
                  <a:srgbClr val="f61b0a"/>
                </a:solidFill>
                <a:latin typeface="Times New Roman"/>
              </a:rPr>
              <a:t>HOT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it 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easured in degrees Celsius -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t is 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NOT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the same as heat energy although the two quantities are related.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.g. a beaker of water at 60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C is hotter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an a bath of water at 40 °C 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T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he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th contains more joules of heat ener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21000">
    <p:checker dir="horz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Heating and Cooling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256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f an object has become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hotter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t means that it has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gained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heat energ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f an object </a:t>
            </a:r>
            <a:r>
              <a:rPr b="0" lang="en-GB" sz="3200" spc="-1" strike="noStrike">
                <a:solidFill>
                  <a:srgbClr val="00ccff"/>
                </a:solidFill>
                <a:latin typeface="Times New Roman"/>
              </a:rPr>
              <a:t>cools down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, it means it has </a:t>
            </a:r>
            <a:br>
              <a:rPr sz="3200"/>
            </a:br>
            <a:r>
              <a:rPr b="0" lang="en-GB" sz="3200" spc="-1" strike="noStrike">
                <a:solidFill>
                  <a:srgbClr val="00ccff"/>
                </a:solidFill>
                <a:latin typeface="Times New Roman"/>
              </a:rPr>
              <a:t>lost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ener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Heating and Cooling cont…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Heat energy always moves from:</a:t>
            </a:r>
            <a:br>
              <a:rPr sz="2800"/>
            </a:b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HOT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object                           </a:t>
            </a:r>
            <a:r>
              <a:rPr b="0" lang="en-GB" sz="2800" spc="-1" strike="noStrike">
                <a:solidFill>
                  <a:srgbClr val="00ccff"/>
                </a:solidFill>
                <a:latin typeface="Times New Roman"/>
              </a:rPr>
              <a:t>COOLER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object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.g.Cup of water at 20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C in a room at 30°C - gains heat energy and heats up – its temperature ri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p of water at 20 °C in a room at 10°C loses heat energy and cools down – its temperature will fa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AutoShape 4"/>
          <p:cNvSpPr/>
          <p:nvPr/>
        </p:nvSpPr>
        <p:spPr>
          <a:xfrm>
            <a:off x="3809880" y="2514600"/>
            <a:ext cx="1828800" cy="91440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f0033"/>
              </a:gs>
              <a:gs pos="100000">
                <a:srgbClr val="0000ff"/>
              </a:gs>
            </a:gsLst>
            <a:lin ang="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HEAT ENERG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447560" y="2133360"/>
            <a:ext cx="563868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lvl="1" marL="457200"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Energy transfer 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  Conduction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  Convection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Radi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Conduc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Heat is transferred through a material by being passed from one particle to the nex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articles at the warm end move faster and this then causes the next particles to move faster and so 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n this way heat in an object travels from:</a:t>
            </a:r>
            <a:br>
              <a:rPr sz="3200"/>
            </a:b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HOT end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cold e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AutoShape 6"/>
          <p:cNvSpPr/>
          <p:nvPr/>
        </p:nvSpPr>
        <p:spPr>
          <a:xfrm>
            <a:off x="3429000" y="5105520"/>
            <a:ext cx="1828800" cy="91440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f0033"/>
              </a:gs>
              <a:gs pos="100000">
                <a:srgbClr val="0000ff"/>
              </a:gs>
            </a:gsLst>
            <a:lin ang="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21000">
    <p:checker dir="horz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Conduction cont…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ccurs by the particles hitting each other and so energy is transferr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an happen in solids, liquids and gases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Happens 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best in solids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-particles very close togeth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onduction does not occur very quickly in liquids or ga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21000">
    <p:checker dir="horz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Conductor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aterials that conduct heat quickly are called conducto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ll metals are good conductors of he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opper is a very good conductor of he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ans for cooking are usually made with a copper or aluminium bottom and plastic hand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Insulators/poor conductor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aterials that conduct heat slowly or poorly are called insulat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Glass, wood, plastic and rubber are poor conductors (good insulator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early all liquids including water are poor conductors (good insulator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Gases, including air are poor conductors,e.g., wool feels warm because it traps a lot of ai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 fridge has insulation material round it to keep it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cold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– reduces amount of heat conducted to inside from the warmer ro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3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3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1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7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2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7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2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1T11:23:49Z</dcterms:created>
  <dc:creator>NINEuser</dc:creator>
  <dc:description/>
  <dc:language>en-US</dc:language>
  <cp:lastModifiedBy>RomaK</cp:lastModifiedBy>
  <dcterms:modified xsi:type="dcterms:W3CDTF">2015-09-03T12:29:26Z</dcterms:modified>
  <cp:revision>20</cp:revision>
  <dc:subject/>
  <dc:title>HEAT ENERGY</dc:title>
</cp:coreProperties>
</file>