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5F4E-215E-4406-B5D1-651A145C8A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HEA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of energy and measured in JO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move about more and take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oom if heated – this is why thing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 if h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lso why substances change fro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s         liquids         gas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HEA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 of energy and measured in JO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icles move about more and take up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room if heated – this is why things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and if he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also why substances change from: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ds         liquids         gase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he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sit www.worldofteaching.com for more free power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ur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Cur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Hot air 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oes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en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And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 Cur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Hot air ri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Goes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Then d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And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can cause large convection currents  -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un can cause large convection currents  - WIN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radiation is also known as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-RED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radiation is also known as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RA-RED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 objects emit (give out)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rfaces emit heat at different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ull black surfaces loses energy more quickly – it is a good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ight shiny or white surface is a poor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ter objects emit (give out)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surfaces emit heat at different sp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dull black surfaces loses energy more quickly – it is a good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bright shiny or white surface is a poor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 shiny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ght shiny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objects absorb (take in)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s absorb heat at different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, black surfaces absorb heat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, shiny surfaces absorb heat slow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rol storage tanks sprayed silver to reflect sun’s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ler objects absorb (take in)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stances absorb heat at different sp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, black surfaces absorb heat quick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ght, shiny surfaces absorb heat slow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trol storage tanks sprayed silver to reflect sun’s r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ny, bright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iny, bright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or 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od 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Wo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ey Word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ul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f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and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an object tells us how HOT i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in degrees Celsius - 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NOT the same as heat energy although the two quantities are relate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a beaker of water at 60 °C is hot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a bath of water at 40 °C BU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h contains more joules of 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and 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emperature of an object tells us how HOT it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d in degrees Celsius - °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NOT the same as heat energy although the two quantities are related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g. a beaker of water at 60 °C is hotter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an a bath of water at 40 °C BUT the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th contains more joules of 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and C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bject has become hotter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eans that it has gained heat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bject cools down, it means it h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ing and Coo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object has become hotter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means that it has gained heat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object cools down, it means it ha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s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and Cooling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 always move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HOT object                           COOLER objec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Cup of water at 20 °C in a room at 30°C - gains heat energy and heats up – its temperature 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p of water at 20 °C in a room at 10°C loses heat energy and cools down – its temperature will f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ing and Cooling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energy always move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HOT object                           COOLER object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g.Cup of water at 20 °C in a room at 30°C - gains heat energy and heats up – its temperature ri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up of water at 20 °C in a room at 10°C loses heat energy and cools down – its temperature will fall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Condu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Conv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Energy transfer 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Conduc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Convec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way heat in an object travel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T e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d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is way heat in an object travel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HOT end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ld 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by the particles hitting each other and so energy is transfer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happen in solids, liquids and gas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ens best in solids-particles very close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 does not occur very quickly in liquids or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s by the particles hitting each other and so energy is transferr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happen in solids, liquids and gase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ppens best in solids-particles very close toge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 does not occur very quickly in liquids or g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 that conduct heat quickly are called 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metals are good conductor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is a very good conductor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erials that conduct heat quickly are called 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metals are good conductor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per is a very good conductor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ors/poor 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 that conduct heat slowly or poorly are called ins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, wood, plastic and rubber are poor conductors (good insulat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all liquids including water are poor conductors (good insulat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idge has insulation material round it to keep it cold – reduces amount of heat conducted to inside from the warmer 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ulators/poor 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erials that conduct heat slowly or poorly are called insul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lass, wood, plastic and rubber are poor conductors (good insulat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ly all liquids including water are poor conductors (good insulat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fridge has insulation material round it to keep it cold – reduces amount of heat conducted to inside from the warmer ro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C6C1-2861-4C49-B896-18F14461E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436E-B4F3-4DFD-A05E-100DF063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DBA8-32CD-44FE-BB8D-58F26C79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1945-8FDC-4EE4-AC2B-3487A575A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3D95-7BB5-4202-950E-B2CDF588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8154-74F1-46FA-B092-FBAC0A9A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D3D3-14B1-4946-931D-610BF397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4EED-0210-46FF-968C-ED86FAC4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8861-2E94-4C95-B96C-67181E08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82F4-9C8F-4488-B878-3DF8A222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4263-09BE-4C57-8029-0FA58B8F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BF54-628B-4EEA-8D80-7A9CD605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B9F6-7729-4B58-8230-EDBD6C00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CEE3-D3F8-4357-B387-908C269E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BC8A-7BD1-43F7-BEDE-9E233292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FBB4-85ED-4AE8-9151-FDECA6E80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A8FD-CC55-43FF-BA59-B51B353A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9933-E512-4E72-9641-396D6F66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31CF-03B1-4115-8333-D39013FA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7F46-53C7-4262-AA4A-E291F062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F2B0-7564-47B5-9E94-87B599F6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7B02-8513-414E-958A-40333996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68B3-5403-4D5C-A174-02BA6CCC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0A6C-ECB7-4004-84AB-3F453C24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28BF-3B3A-4C2C-8018-B6590D6DF56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82C8-E0DA-41B4-9D4A-BF8D1CDF986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ENER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560" y="1904760"/>
            <a:ext cx="7086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is HEA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m of energy and measured in JO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rticles move about more and take up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e room if heated – this is why thing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and if h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is also why substances change from: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lids         liquids         gases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n h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4419720" y="48769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6172200" y="48769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urr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553080" y="4495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14"/>
          <p:cNvSpPr/>
          <p:nvPr/>
        </p:nvSpPr>
        <p:spPr>
          <a:xfrm>
            <a:off x="2438280" y="327672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 Curr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256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3429000" y="3429000"/>
            <a:ext cx="2286000" cy="2819520"/>
          </a:xfrm>
          <a:prstGeom prst="can">
            <a:avLst>
              <a:gd name="adj" fmla="val 25000"/>
            </a:avLst>
          </a:prstGeom>
          <a:solidFill>
            <a:srgbClr val="00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553080" y="4495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324480" y="4724280"/>
            <a:ext cx="2133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r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Freeform 10"/>
          <p:cNvSpPr/>
          <p:nvPr/>
        </p:nvSpPr>
        <p:spPr>
          <a:xfrm>
            <a:off x="5559480" y="4368960"/>
            <a:ext cx="3240" cy="1422360"/>
          </a:xfrm>
          <a:custGeom>
            <a:avLst/>
            <a:gdLst/>
            <a:ahLst/>
            <a:rect l="l" t="t" r="r" b="b"/>
            <a:pathLst>
              <a:path w="2" h="896">
                <a:moveTo>
                  <a:pt x="2" y="896"/>
                </a:moveTo>
                <a:lnTo>
                  <a:pt x="0" y="0"/>
                </a:lnTo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3809880" y="434340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3733920" y="4368960"/>
            <a:ext cx="0" cy="142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3885480" y="57913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3505320" y="2819520"/>
            <a:ext cx="205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 Goes acr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990720" y="4343400"/>
            <a:ext cx="1904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 Then d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1905120" y="6095880"/>
            <a:ext cx="205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 And acr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sun can cause large convection currents  - WI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adi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radiation is also known as 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2133720" y="3048120"/>
            <a:ext cx="4709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INFRA-RED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mitt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Hott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bjects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emi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give out)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fferent surfaces emit heat at different sp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ull black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rface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os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energy more quickly – it is a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bright shiny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whi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rface is a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mitters of he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1600200" y="2209680"/>
            <a:ext cx="1600200" cy="213372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5765760" y="2209680"/>
            <a:ext cx="1473120" cy="221004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838080" y="48006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right shiny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5029200" y="48769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5181480" y="48006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14"/>
          <p:cNvSpPr/>
          <p:nvPr/>
        </p:nvSpPr>
        <p:spPr>
          <a:xfrm>
            <a:off x="3429000" y="2819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16"/>
          <p:cNvSpPr/>
          <p:nvPr/>
        </p:nvSpPr>
        <p:spPr>
          <a:xfrm>
            <a:off x="3429000" y="3352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19"/>
          <p:cNvSpPr/>
          <p:nvPr/>
        </p:nvSpPr>
        <p:spPr>
          <a:xfrm>
            <a:off x="7391520" y="32004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7391520" y="3581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21"/>
          <p:cNvSpPr/>
          <p:nvPr/>
        </p:nvSpPr>
        <p:spPr>
          <a:xfrm>
            <a:off x="7391520" y="3962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22"/>
          <p:cNvSpPr/>
          <p:nvPr/>
        </p:nvSpPr>
        <p:spPr>
          <a:xfrm>
            <a:off x="7391520" y="2819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23"/>
          <p:cNvSpPr/>
          <p:nvPr/>
        </p:nvSpPr>
        <p:spPr>
          <a:xfrm>
            <a:off x="7391520" y="2438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24"/>
          <p:cNvSpPr/>
          <p:nvPr/>
        </p:nvSpPr>
        <p:spPr>
          <a:xfrm>
            <a:off x="1066680" y="2819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1066680" y="33526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26"/>
          <p:cNvSpPr/>
          <p:nvPr/>
        </p:nvSpPr>
        <p:spPr>
          <a:xfrm>
            <a:off x="5181480" y="24382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5181480" y="3962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28"/>
          <p:cNvSpPr/>
          <p:nvPr/>
        </p:nvSpPr>
        <p:spPr>
          <a:xfrm>
            <a:off x="5181480" y="2819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5181480" y="320040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AutoShape 30"/>
          <p:cNvSpPr/>
          <p:nvPr/>
        </p:nvSpPr>
        <p:spPr>
          <a:xfrm>
            <a:off x="5181480" y="35812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bsorb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09480" y="1523880"/>
            <a:ext cx="807732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oler objects absorb (take in)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bstances absorb heat at different sp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ull, black surfaces absorb heat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right, shiny surfaces absorb heat slow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etrol storage tanks sprayed silver to reflect sun’s r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bsorb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3276720" y="1066680"/>
            <a:ext cx="2133360" cy="18288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447920" y="2819520"/>
            <a:ext cx="1295280" cy="243828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943600" y="2819520"/>
            <a:ext cx="1295280" cy="243828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3048120" y="3352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9"/>
          <p:cNvSpPr/>
          <p:nvPr/>
        </p:nvSpPr>
        <p:spPr>
          <a:xfrm>
            <a:off x="838080" y="33526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838080" y="42670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11"/>
          <p:cNvSpPr/>
          <p:nvPr/>
        </p:nvSpPr>
        <p:spPr>
          <a:xfrm>
            <a:off x="5334120" y="44197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12"/>
          <p:cNvSpPr/>
          <p:nvPr/>
        </p:nvSpPr>
        <p:spPr>
          <a:xfrm>
            <a:off x="5334120" y="41148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AutoShape 13"/>
          <p:cNvSpPr/>
          <p:nvPr/>
        </p:nvSpPr>
        <p:spPr>
          <a:xfrm>
            <a:off x="5334120" y="37339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14"/>
          <p:cNvSpPr/>
          <p:nvPr/>
        </p:nvSpPr>
        <p:spPr>
          <a:xfrm>
            <a:off x="5334120" y="32767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15"/>
          <p:cNvSpPr/>
          <p:nvPr/>
        </p:nvSpPr>
        <p:spPr>
          <a:xfrm>
            <a:off x="5334120" y="48006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16"/>
          <p:cNvSpPr/>
          <p:nvPr/>
        </p:nvSpPr>
        <p:spPr>
          <a:xfrm>
            <a:off x="7391520" y="41148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AutoShape 17"/>
          <p:cNvSpPr/>
          <p:nvPr/>
        </p:nvSpPr>
        <p:spPr>
          <a:xfrm>
            <a:off x="7391520" y="37339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AutoShape 18"/>
          <p:cNvSpPr/>
          <p:nvPr/>
        </p:nvSpPr>
        <p:spPr>
          <a:xfrm>
            <a:off x="7391520" y="3352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AutoShape 19"/>
          <p:cNvSpPr/>
          <p:nvPr/>
        </p:nvSpPr>
        <p:spPr>
          <a:xfrm>
            <a:off x="3048120" y="43434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20"/>
          <p:cNvSpPr/>
          <p:nvPr/>
        </p:nvSpPr>
        <p:spPr>
          <a:xfrm>
            <a:off x="7391520" y="48769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AutoShape 21"/>
          <p:cNvSpPr/>
          <p:nvPr/>
        </p:nvSpPr>
        <p:spPr>
          <a:xfrm>
            <a:off x="7391520" y="4495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914400" y="5410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hiny, bright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or 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5257800" y="57913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5334120" y="54100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ood 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Key Words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2057400" y="2819520"/>
            <a:ext cx="1828800" cy="99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Oval 14"/>
          <p:cNvSpPr/>
          <p:nvPr/>
        </p:nvSpPr>
        <p:spPr>
          <a:xfrm>
            <a:off x="5181480" y="2438280"/>
            <a:ext cx="182880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Oval 15"/>
          <p:cNvSpPr/>
          <p:nvPr/>
        </p:nvSpPr>
        <p:spPr>
          <a:xfrm>
            <a:off x="4495680" y="3784680"/>
            <a:ext cx="2438640" cy="1320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2133720" y="3048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334120" y="2666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4724280" y="426708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v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990720" y="4572000"/>
            <a:ext cx="27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Oval 20"/>
          <p:cNvSpPr/>
          <p:nvPr/>
        </p:nvSpPr>
        <p:spPr>
          <a:xfrm>
            <a:off x="838080" y="4343400"/>
            <a:ext cx="266724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3657600" y="1447920"/>
            <a:ext cx="20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Oval 22"/>
          <p:cNvSpPr/>
          <p:nvPr/>
        </p:nvSpPr>
        <p:spPr>
          <a:xfrm>
            <a:off x="4191120" y="838080"/>
            <a:ext cx="1066680" cy="1752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609480" y="2209680"/>
            <a:ext cx="21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Insul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Oval 24"/>
          <p:cNvSpPr/>
          <p:nvPr/>
        </p:nvSpPr>
        <p:spPr>
          <a:xfrm>
            <a:off x="533520" y="1981080"/>
            <a:ext cx="22860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3200400" y="556272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d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Oval 26"/>
          <p:cNvSpPr/>
          <p:nvPr/>
        </p:nvSpPr>
        <p:spPr>
          <a:xfrm>
            <a:off x="3276720" y="5334120"/>
            <a:ext cx="2057400" cy="99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27"/>
          <p:cNvSpPr/>
          <p:nvPr/>
        </p:nvSpPr>
        <p:spPr>
          <a:xfrm>
            <a:off x="6324480" y="9144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emp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Oval 28"/>
          <p:cNvSpPr/>
          <p:nvPr/>
        </p:nvSpPr>
        <p:spPr>
          <a:xfrm>
            <a:off x="6172200" y="533520"/>
            <a:ext cx="2286000" cy="1218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29"/>
          <p:cNvSpPr/>
          <p:nvPr/>
        </p:nvSpPr>
        <p:spPr>
          <a:xfrm>
            <a:off x="609480" y="5791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Emi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0"/>
          <p:cNvSpPr/>
          <p:nvPr/>
        </p:nvSpPr>
        <p:spPr>
          <a:xfrm>
            <a:off x="6172200" y="5562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Oval 31"/>
          <p:cNvSpPr/>
          <p:nvPr/>
        </p:nvSpPr>
        <p:spPr>
          <a:xfrm>
            <a:off x="1066680" y="5638680"/>
            <a:ext cx="12956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Oval 32"/>
          <p:cNvSpPr/>
          <p:nvPr/>
        </p:nvSpPr>
        <p:spPr>
          <a:xfrm>
            <a:off x="6400800" y="5410080"/>
            <a:ext cx="167652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33"/>
          <p:cNvSpPr/>
          <p:nvPr/>
        </p:nvSpPr>
        <p:spPr>
          <a:xfrm>
            <a:off x="60948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rans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Oval 34"/>
          <p:cNvSpPr/>
          <p:nvPr/>
        </p:nvSpPr>
        <p:spPr>
          <a:xfrm>
            <a:off x="609480" y="2971800"/>
            <a:ext cx="1371600" cy="12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and Tempera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8004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temperature of an object tells us how </a:t>
            </a:r>
            <a:r>
              <a:rPr b="1" lang="en-GB" sz="3200" spc="-1" strike="noStrike">
                <a:solidFill>
                  <a:srgbClr val="f61b0a"/>
                </a:solidFill>
                <a:latin typeface="Times New Roman"/>
              </a:rPr>
              <a:t>HO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t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easured in degrees Celsius -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is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he same as heat energy although the two quantities are related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.g. a beaker of water at 60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 is hotter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n a bath of water at 40 °C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h contains more joules of heat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ing and Cool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object has become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hott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means that it has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gained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energ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object </a:t>
            </a:r>
            <a:r>
              <a:rPr b="0" lang="en-GB" sz="3200" spc="-1" strike="noStrike">
                <a:solidFill>
                  <a:srgbClr val="00ccff"/>
                </a:solidFill>
                <a:latin typeface="Times New Roman"/>
              </a:rPr>
              <a:t>cools down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it means it has </a:t>
            </a:r>
            <a:br>
              <a:rPr sz="3200"/>
            </a:br>
            <a:r>
              <a:rPr b="0" lang="en-GB" sz="3200" spc="-1" strike="noStrike">
                <a:solidFill>
                  <a:srgbClr val="00ccff"/>
                </a:solidFill>
                <a:latin typeface="Times New Roman"/>
              </a:rPr>
              <a:t>los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ing and Cooling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eat energy always moves from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HO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                           </a:t>
            </a:r>
            <a:r>
              <a:rPr b="0" lang="en-GB" sz="2800" spc="-1" strike="noStrike">
                <a:solidFill>
                  <a:srgbClr val="00ccff"/>
                </a:solidFill>
                <a:latin typeface="Times New Roman"/>
              </a:rPr>
              <a:t>COOLE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.g.Cup of water at 20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 in a room at 30°C - gains heat energy and heats up – its temperature r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p of water at 20 °C in a room at 10°C loses heat energy and cools down – its temperature will f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3809880" y="251460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0033"/>
              </a:gs>
              <a:gs pos="100000">
                <a:srgbClr val="0000ff"/>
              </a:gs>
            </a:gsLst>
            <a:lin ang="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ENER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47560" y="2133360"/>
            <a:ext cx="56386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Energy transfer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Conduction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Convection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Rad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this way heat in an object travels from: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HOT end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cold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3429000" y="510552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0033"/>
              </a:gs>
              <a:gs pos="100000">
                <a:srgbClr val="0000ff"/>
              </a:gs>
            </a:gsLst>
            <a:lin ang="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ion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ccurs by the particles hitting each other and so energy is transfer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happen in solids, liquids and gase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appens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best in solid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-particles very close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duction does not occur very quickly in liquids or g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terials that conduct heat quickly are called condu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metals are good conductors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pper is a very good conductor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Insulators/poor condu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terials that conduct heat slowly or poorly are called insu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lass, wood, plastic and rubber are poor conductors (good insula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arly all liquids including water are poor conductors (good insula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fridge has insulation material round it to keep it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col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– reduces amount of heat conducted to inside from the warmer 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11:23:49Z</dcterms:created>
  <dc:creator>NINEuser</dc:creator>
  <dc:description/>
  <dc:language>en-US</dc:language>
  <cp:lastModifiedBy>RomaK</cp:lastModifiedBy>
  <dcterms:modified xsi:type="dcterms:W3CDTF">2015-09-03T12:29:26Z</dcterms:modified>
  <cp:revision>20</cp:revision>
  <dc:subject/>
  <dc:title>HEAT ENERGY</dc:title>
</cp:coreProperties>
</file>