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0164-1D97-4122-A8BA-F06CD9BF81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t www.worldofteaching.com for more free power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EBF-BB68-4231-958C-6F321C50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7BA2-7049-4C4D-8120-8AA97BE1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1A1-A288-43A8-965A-A7439BC6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B54-0E93-406C-80C0-FD3AD432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45CE-E0ED-42A3-B4A0-6B89BD37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56CF-722E-4EA4-B290-7FDB7347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23AF-7652-47D6-8F5E-ACB1339C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E4F0-C940-417D-96E5-929E0D59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6688-DDC6-4446-9D6E-F13DE75F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7509-F2ED-4EDF-9872-420D05F0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5CE5-6D9B-4EB9-BFB8-FC58023C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07E-E262-4FA6-BBE6-3282DFD0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C20D-63F3-440F-A105-A6547F53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3154-5FC7-4B73-8E7F-83B6B672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C9F0-0EBB-4152-A827-2625FC29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39AD-88C5-49FB-A96E-90B6AE37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B18A-4AFB-428A-93CF-CA713B9D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C99-321F-4F2B-BB14-13342BB6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78A-9750-4618-AC8F-850B0329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168-2D01-454F-B27F-D735E8A6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461-3A51-4D59-A80F-56C82F9F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DC3-89C2-4BFC-B41D-74D3F26C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01E-56D9-49E2-A8E0-E43033E5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E92-CD29-4E46-8305-264E28E2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F9AE-A37A-4AD5-B022-39161C5F068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7240-7B41-436E-B12A-94F63FD119D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441972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17220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438280" y="3276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urr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429000" y="3429000"/>
            <a:ext cx="2286000" cy="28195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324480" y="472428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5559480" y="4368960"/>
            <a:ext cx="3240" cy="1422360"/>
          </a:xfrm>
          <a:custGeom>
            <a:avLst/>
            <a:gdLst/>
            <a:ahLst/>
            <a:rect l="l" t="t" r="r" b="b"/>
            <a:pathLst>
              <a:path w="2" h="896">
                <a:moveTo>
                  <a:pt x="2" y="896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3809880" y="434340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733920" y="4368960"/>
            <a:ext cx="0" cy="142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885480" y="5791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05320" y="281952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990720" y="43434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905120" y="60958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133720" y="3048120"/>
            <a:ext cx="47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give out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ull black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os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 more quickly – it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right shi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 of he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600200" y="2209680"/>
            <a:ext cx="1600200" cy="21337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765760" y="2209680"/>
            <a:ext cx="1473120" cy="22100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080" y="4800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029200" y="4876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181480" y="4800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342900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7391520" y="3200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7391520" y="3581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739152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739152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73915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10666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1066680" y="33526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5181480" y="2438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5181480" y="3962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51814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5181480" y="32004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5181480" y="3581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480" y="1523880"/>
            <a:ext cx="807732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76720" y="1066680"/>
            <a:ext cx="213336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4792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94360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0481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38080" y="3352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38080" y="42670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334120" y="4419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5334120" y="4114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5334120" y="3733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334120" y="3276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5334120" y="4800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739152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7391520" y="3733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73915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304812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7391520" y="4876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7391520" y="4495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914400" y="5410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257800" y="5791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4120" y="5410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ey Word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2057400" y="2819520"/>
            <a:ext cx="18288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5181480" y="2438280"/>
            <a:ext cx="18288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4495680" y="3784680"/>
            <a:ext cx="2438640" cy="1320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13372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334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724280" y="42670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90720" y="4572000"/>
            <a:ext cx="27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838080" y="4343400"/>
            <a:ext cx="266724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657600" y="144792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4191120" y="838080"/>
            <a:ext cx="106668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09480" y="220968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s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533520" y="1981080"/>
            <a:ext cx="22860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200400" y="55627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6"/>
          <p:cNvSpPr/>
          <p:nvPr/>
        </p:nvSpPr>
        <p:spPr>
          <a:xfrm>
            <a:off x="3276720" y="5334120"/>
            <a:ext cx="20574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63244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6172200" y="533520"/>
            <a:ext cx="2286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09480" y="5791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mi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6172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1066680" y="5638680"/>
            <a:ext cx="1295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6400800" y="5410080"/>
            <a:ext cx="167652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6094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609480" y="2971800"/>
            <a:ext cx="13716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and Temper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mperature of an object tells us how </a:t>
            </a:r>
            <a:r>
              <a:rPr b="1" lang="en-GB" sz="3200" spc="-1" strike="noStrike">
                <a:solidFill>
                  <a:srgbClr val="f61b0a"/>
                </a:solidFill>
                <a:latin typeface="Times New Roman"/>
              </a:rPr>
              <a:t>H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asured in degrees Celsius -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e same as heat energy although the two quantities are related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 a beaker of water at 60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s hott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 a bath of water at 40 °C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h contains more joules of heat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has becom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means that it ha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gaine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</a:t>
            </a: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cools dow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it means it has 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los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                          </a:t>
            </a:r>
            <a:r>
              <a:rPr b="0" lang="en-GB" sz="2800" spc="-1" strike="noStrike">
                <a:solidFill>
                  <a:srgbClr val="00ccff"/>
                </a:solidFill>
                <a:latin typeface="Times New Roman"/>
              </a:rPr>
              <a:t>COOL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Cup of water at 20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n a room at 30°C - gains heat energy and heats up – its temperature 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p of water at 20 °C in a room at 10°C loses heat energy and cools down – its temperature will f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9880" y="25146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5638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29000" y="51055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ppen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est in solid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particles very clos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nsulators/poor 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reduces amount of heat conducted to inside from the warm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1:23:49Z</dcterms:created>
  <dc:creator>NINEuser</dc:creator>
  <dc:description/>
  <dc:language>en-US</dc:language>
  <cp:lastModifiedBy>RomaK</cp:lastModifiedBy>
  <dcterms:modified xsi:type="dcterms:W3CDTF">2015-09-03T12:29:26Z</dcterms:modified>
  <cp:revision>20</cp:revision>
  <dc:subject/>
  <dc:title>HEAT ENERGY</dc:title>
</cp:coreProperties>
</file>