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705F-28B9-4B59-A8E5-5DC42BF806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estimate that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your best guess at figuring out the RED side in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out using a calculator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a piece of paper 1 to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your answers on a piece of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timate tha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your best guess at figuring out the RED side in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using a calculato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 piece of paper 1 to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your answers on a piece of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2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2.3 + 72.4 + 128.6+153.2 + 28.7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.3 + 72.4 + 128.6+153.2 + 28.7= 425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clos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.3 + 72.4 + 128.6+153.2 + 28.7= 42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the clos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up all your numbers  ignoring neg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up all your numbers  ignoring neg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5B4-E7AA-4F89-A78B-FED8DCEB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E84-3978-4796-8E21-8DCCD09A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96D-4E33-425F-94F8-778CBD35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3D84-CD22-40DF-84A3-56429895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738-7A5A-49F5-8418-C3F721C8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666-5ADF-481E-8A59-9FE4A4F1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968B-1A19-4684-8272-0B2895D9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394-9F5B-4492-8898-6ECF01BC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ABA-148C-449D-99B6-461CF22F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A6FF-4B75-4870-A9B7-FE2389F9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C68-969B-4557-AF15-597ACC27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BE1-79B6-4A10-BD6E-79523918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0B04-CE21-4CC5-815A-7C2C4394C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timate that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your best guess at figuring out the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de in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out using a calculator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a piece of paper 1 t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answers on a piece of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8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4648320" y="44197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3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6095880" y="190476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8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666880" y="2666880"/>
            <a:ext cx="23623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4343400" y="36576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343400" y="3581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9528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5715000" y="3505320"/>
            <a:ext cx="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3341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 + 72.4 + 128.6+153.2 + 28.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 + 72.4 + 128.6+153.2 + 28.7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2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 is the clos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5638680" y="182880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 flipH="1">
            <a:off x="2895480" y="373392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4648320" y="44197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 flipV="1">
            <a:off x="6095880" y="190476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666880" y="2666880"/>
            <a:ext cx="23623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4343400" y="36576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4343400" y="3581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9528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715000" y="3505320"/>
            <a:ext cx="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3341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up all your numbers  ignoring neg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V="1">
            <a:off x="5638680" y="182880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H="1">
            <a:off x="2895480" y="373392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7:29:32Z</dcterms:created>
  <dc:creator>administrator</dc:creator>
  <dc:description/>
  <dc:language>en-US</dc:language>
  <cp:lastModifiedBy>RomaK</cp:lastModifiedBy>
  <dcterms:modified xsi:type="dcterms:W3CDTF">2015-09-03T12:28:25Z</dcterms:modified>
  <cp:revision>5</cp:revision>
  <dc:subject/>
  <dc:title>Guestimate that side</dc:title>
</cp:coreProperties>
</file>