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4DB9-CAAA-4B19-A9A0-3393C0F4F6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796-6B42-4783-9216-F2780B92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497-7C12-4E93-B4CB-E3AEB18E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0EF-E41E-4E01-988A-7387262C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784-3C69-4988-9BF6-9644BA21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445-A98C-4F56-AEF8-E0E3512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05F-2787-47AD-92A3-60E1049E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2D8-2E60-4420-9D29-5934E002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9F4-902F-42D3-938C-694B32FB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035-010C-4782-AFDC-2686A992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4FB-7CD5-4655-910D-367D23AA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C7B-E898-414D-AA13-4CEBB72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5A1-C802-4EFA-9976-D7340922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564-900D-444A-97C9-7C8B753F0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best guess at figuring out the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i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using a calculator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2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 is the clos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29:32Z</dcterms:created>
  <dc:creator>administrator</dc:creator>
  <dc:description/>
  <dc:language>en-US</dc:language>
  <cp:lastModifiedBy>RomaK</cp:lastModifiedBy>
  <dcterms:modified xsi:type="dcterms:W3CDTF">2015-09-03T12:28:25Z</dcterms:modified>
  <cp:revision>5</cp:revision>
  <dc:subject/>
  <dc:title>Guestimate that side</dc:title>
</cp:coreProperties>
</file>