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E60B-857F-4954-BBB4-AA79E03AD9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force that pulls all objects toward the center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force that pulls all objects toward the center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ll or a push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ll or a push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cy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cy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ll at the same rate of speed, but the marble has more mass (weight) and so gravity makes it fall harder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a stronger force on things with more mas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ll at the same rate of speed, but the marble has more mass (weight) and so gravity makes it fall harder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a stronger force on things with more mas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was harder to throw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was harder to throw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AB4B-410C-41E0-AF87-1CF892DA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A01-AEF3-4EE7-B834-D869E66B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E64-43DB-4CCC-8CB2-0C077877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CAB4-3D0D-40BA-B688-FF6035EE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20B9-E7F6-4AC2-858B-00D6E266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C4B3-D6A5-41C6-908D-7090995F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FFD-BE2D-4C9F-8705-94DB2BBF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D49-C3D5-4B3A-AD8D-91C63D97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DE34-DE9B-4596-9CFF-4FB943FE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7A63-90C8-41BB-A02F-D4614118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313-725F-4C38-A390-C4CB4AD9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F8A-6652-4477-99D2-1E45F8EA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5522-9B10-4A54-AF1E-FF73FF044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Bard"/>
              </a:rPr>
              <a:t>Gravity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8640" y="236196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rd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33287 L -3.33333E-006 -3.81415E-006 E">
                                      <p:cBhvr>
                                        <p:cTn id="11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ink LET"/>
              </a:rPr>
              <a:t>Gravity</a:t>
            </a:r>
            <a:r>
              <a:rPr b="0" lang="en-US" sz="4400" spc="-1" strike="noStrike">
                <a:solidFill>
                  <a:srgbClr val="000000"/>
                </a:solidFill>
                <a:latin typeface="Boink LET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Boink LET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Boink LET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nnerD"/>
              </a:rPr>
              <a:t>A natural </a:t>
            </a:r>
            <a:r>
              <a:rPr b="0" lang="en-US" sz="2800" spc="-1" strike="noStrike">
                <a:solidFill>
                  <a:srgbClr val="ffffff"/>
                </a:solidFill>
                <a:latin typeface="BinnerD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BinnerD"/>
              </a:rPr>
              <a:t> that pulls all objects toward the center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j0219084"/>
          <p:cNvPicPr/>
          <p:nvPr/>
        </p:nvPicPr>
        <p:blipFill>
          <a:blip r:embed="rId1"/>
          <a:stretch/>
        </p:blipFill>
        <p:spPr>
          <a:xfrm>
            <a:off x="6019920" y="3581280"/>
            <a:ext cx="1203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ard"/>
              </a:rPr>
              <a:t>WHAT IS A FORC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HAS1335.WAV" descr=""/>
          <p:cNvPicPr/>
          <p:nvPr/>
        </p:nvPicPr>
        <p:blipFill>
          <a:blip r:embed="rId1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2133720" y="1523880"/>
            <a:ext cx="4952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EnviroD"/>
              </a:rPr>
              <a:t>A pull or a push on an objec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00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u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19720" y="28954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030560" y="3429000"/>
            <a:ext cx="32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371600" y="1905120"/>
            <a:ext cx="7010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99cc00"/>
                </a:solidFill>
                <a:latin typeface="Americana BT"/>
              </a:rPr>
              <a:t>Try It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4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They fall at the same rate of speed,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but</a:t>
            </a: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 the marble has more mass (weight) and so gravity makes it fall harder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Gravity has a stronger force on things with more ma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447920" y="2057400"/>
            <a:ext cx="556236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09480" y="4648320"/>
            <a:ext cx="822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981080" y="4648320"/>
            <a:ext cx="51055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riba Arriba LET"/>
              </a:rPr>
              <a:t>Which one was harder to throw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324000" y="6000840"/>
          <a:ext cx="5713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000840"/>
                    <a:ext cx="571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verb" presetID="0">
                                  <p:stCondLst>
                                    <p:cond delay="500"/>
                                  </p:stCondLst>
                                  <p:childTnLst>
                                    <p:cmd type="call" cmd="">
                                      <p:cBhvr>
                                        <p:cTn id="85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0:01:11Z</dcterms:created>
  <dc:creator>Inst </dc:creator>
  <dc:description/>
  <dc:language>en-US</dc:language>
  <cp:lastModifiedBy>RomaK</cp:lastModifiedBy>
  <dcterms:modified xsi:type="dcterms:W3CDTF">2015-09-03T12:27:38Z</dcterms:modified>
  <cp:revision>10</cp:revision>
  <dc:subject/>
  <dc:title>Gravity</dc:title>
</cp:coreProperties>
</file>