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D4B1-1E0B-4C41-BE0B-47455C6813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Ideas 7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romat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Ideas 7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ensitive - small quantities of substances detected, explosives, drug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pure substances for col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connected to mass spectrometer for direct identification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ensitive - small quantities of substances detected, explosives, drug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pure substances for col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connected to mass spectrometer for direct identification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princi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– to separate and identify components of mix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different types - paper, thin layer, gas-liqu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use the principle of “partition” - affinity between two phases, to separate mixtures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ary phase &amp;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greatest affinity for mobile phase travel fur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princi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– to separate and identify components of mix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different types - paper, thin layer, gas-liqu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use the principle of “partition” - affinity between two phases, to separate mixtures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ary phase &amp;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greatest affinity for mobile phase travel fur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hromatography need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material – stationary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(or carrier gas) –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hromatography need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material – stationary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(or carrier gas) –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Layer Chromatography - t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spots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samples in mixture with known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Rf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ed compounds &amp; colourless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Layer Chromatography - t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spots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samples in mixture with known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Rf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ed compounds &amp; colourless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paration and ident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and ident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s - Liquid Chromatography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- Liquid Chromatography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in pract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that have high affinity for mobile phase emerge first, (most volati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ogram charts recorder response agains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mponent - separat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ention time – characteristic of the compound under given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in pract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that have high affinity for mobile phase emerge first, (most volati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ogram charts recorder response agains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mponent - separat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ention time – characteristic of the compound under given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retention t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ing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 rat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of colum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retention t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ing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 rat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of colum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reting the t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bration – known compounds are added to the column and conditions kept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substance – area under peak / peak he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proportions can be determ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reting the t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bration – known compounds are added to the column and conditions kept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substance – area under peak / peak he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proportions can be determ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10C5-DAB6-4642-9C6D-E7C69F59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DD0F-23CA-4C4D-8014-8E30C90E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AD69-B5AD-4ED6-9461-2CE6BA201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6529-3A88-4EC7-90C0-8E1F69ADF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4CA3-06B2-42E2-833D-3B7A5591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6032-E4D6-4174-884B-6596200C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38C6-96AC-4190-80E7-6CEDE169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6D7A-C570-491F-A3E7-C64CCB95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7213-EEAE-4D62-86DF-41276802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19C2-6FCC-4F6D-A17B-A927CE60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49C5-4289-4686-B215-5D580BF3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4B6A-3833-4D4B-BDF5-2DD9BCF6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0505-5E61-46D2-8A25-9E718CF625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emical Ideas 7.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romat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es of G.l.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ery sensitive - small quantities of substances detected, explosives, drugs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paration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u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ubstances for coll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n be connected to mass spectrometer for direct identification of sub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9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general princip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se – to separate and identify components of mix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everal different types - paper, thin layer, gas-liq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ll use the principle of “partition” - affinity between two phases, to separate mixtures of sub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tationary phase &amp; mobile ph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ompounds with greatest affinity for mobile phase travel fur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All chromatography needs</a:t>
            </a:r>
            <a:r>
              <a:rPr b="0" lang="en-GB" sz="3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8"/>
          <p:cNvGraphicFramePr/>
          <p:nvPr/>
        </p:nvGraphicFramePr>
        <p:xfrm>
          <a:off x="838080" y="2944800"/>
          <a:ext cx="7696440" cy="363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944800"/>
                    <a:ext cx="7696440" cy="36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upport material – stationary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olvent (or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carrier ga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) – mobile ph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2" descr="thin layer"/>
          <p:cNvPicPr/>
          <p:nvPr/>
        </p:nvPicPr>
        <p:blipFill>
          <a:blip r:embed="rId1"/>
          <a:stretch/>
        </p:blipFill>
        <p:spPr>
          <a:xfrm>
            <a:off x="457200" y="2133720"/>
            <a:ext cx="4343400" cy="3232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in Layer Chromatography - t.l.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ries of spots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are samples in mixture with known sub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asure 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loured compounds &amp; colourless comp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paration and identific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phases"/>
          <p:cNvPicPr/>
          <p:nvPr/>
        </p:nvPicPr>
        <p:blipFill>
          <a:blip r:embed="rId1"/>
          <a:stretch/>
        </p:blipFill>
        <p:spPr>
          <a:xfrm>
            <a:off x="609480" y="2057400"/>
            <a:ext cx="4191120" cy="3513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rf value"/>
          <p:cNvPicPr/>
          <p:nvPr/>
        </p:nvPicPr>
        <p:blipFill>
          <a:blip r:embed="rId2"/>
          <a:stretch/>
        </p:blipFill>
        <p:spPr>
          <a:xfrm>
            <a:off x="4952880" y="2057400"/>
            <a:ext cx="37339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8" descr="glc"/>
          <p:cNvPicPr/>
          <p:nvPr/>
        </p:nvPicPr>
        <p:blipFill>
          <a:blip r:embed="rId1"/>
          <a:stretch/>
        </p:blipFill>
        <p:spPr>
          <a:xfrm>
            <a:off x="380880" y="2057400"/>
            <a:ext cx="4724640" cy="2690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as - Liquid Chromatography G.l.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16"/>
          <p:cNvGrpSpPr/>
          <p:nvPr/>
        </p:nvGrpSpPr>
        <p:grpSpPr>
          <a:xfrm>
            <a:off x="4724280" y="1676520"/>
            <a:ext cx="4038840" cy="3787560"/>
            <a:chOff x="4724280" y="1676520"/>
            <a:chExt cx="4038840" cy="3787560"/>
          </a:xfrm>
        </p:grpSpPr>
        <p:sp>
          <p:nvSpPr>
            <p:cNvPr id="65" name="Text Box 8"/>
            <p:cNvSpPr/>
            <p:nvPr/>
          </p:nvSpPr>
          <p:spPr>
            <a:xfrm>
              <a:off x="4724280" y="1676520"/>
              <a:ext cx="373860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Courier New"/>
                </a:rPr>
                <a:t>Sample 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introduced by syrin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9"/>
            <p:cNvSpPr/>
            <p:nvPr/>
          </p:nvSpPr>
          <p:spPr>
            <a:xfrm>
              <a:off x="4724280" y="2514600"/>
              <a:ext cx="403884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Courier New"/>
                </a:rPr>
                <a:t>Column </a:t>
              </a: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separates component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(Heated in ove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0"/>
            <p:cNvSpPr/>
            <p:nvPr/>
          </p:nvSpPr>
          <p:spPr>
            <a:xfrm>
              <a:off x="4724280" y="3505320"/>
              <a:ext cx="4038840" cy="79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Courier New"/>
                </a:rPr>
                <a:t>Detector</a:t>
              </a: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 monitors compounds emerging from outle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11"/>
            <p:cNvSpPr/>
            <p:nvPr/>
          </p:nvSpPr>
          <p:spPr>
            <a:xfrm>
              <a:off x="4876920" y="4800600"/>
              <a:ext cx="365760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Courier New"/>
                </a:rPr>
                <a:t>Recorder</a:t>
              </a: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 plots signals as a chromatogram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2"/>
            <p:cNvSpPr/>
            <p:nvPr/>
          </p:nvSpPr>
          <p:spPr>
            <a:xfrm>
              <a:off x="6318360" y="2075040"/>
              <a:ext cx="144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3"/>
            <p:cNvSpPr/>
            <p:nvPr/>
          </p:nvSpPr>
          <p:spPr>
            <a:xfrm>
              <a:off x="6324480" y="3200400"/>
              <a:ext cx="180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4"/>
            <p:cNvSpPr/>
            <p:nvPr/>
          </p:nvSpPr>
          <p:spPr>
            <a:xfrm>
              <a:off x="6324480" y="4343400"/>
              <a:ext cx="180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happens in practi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ompounds that have </a:t>
            </a: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high affinity for mobile pha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emerge first,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(most volati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hromatogram charts recorder response agains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ach component - separate pe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Retention tim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– characteristic of the compound under given con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Factors affecting retention tim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Courier New"/>
              </a:rPr>
              <a:t>length of colum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ourier New"/>
              </a:rPr>
              <a:t>packing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8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8000"/>
                </a:solidFill>
                <a:latin typeface="Courier New"/>
              </a:rPr>
              <a:t>type of carrier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Courier New"/>
              </a:rPr>
              <a:t>flow rate of carrier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ourier New"/>
              </a:rPr>
              <a:t>temperature of colum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glc print"/>
          <p:cNvPicPr/>
          <p:nvPr/>
        </p:nvPicPr>
        <p:blipFill>
          <a:blip r:embed="rId1"/>
          <a:stretch/>
        </p:blipFill>
        <p:spPr>
          <a:xfrm>
            <a:off x="1066680" y="1143000"/>
            <a:ext cx="7391520" cy="2502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preting the t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alibratio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– known compounds are added to the column and conditions kept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mount of substance – area under peak / peak he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urier New"/>
              </a:rPr>
              <a:t>Relative proportion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can be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2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18:32:10Z</dcterms:created>
  <dc:creator>M Tyrrell</dc:creator>
  <dc:description/>
  <dc:language>en-US</dc:language>
  <cp:lastModifiedBy>RomaK</cp:lastModifiedBy>
  <cp:lastPrinted>2002-03-13T20:23:37Z</cp:lastPrinted>
  <dcterms:modified xsi:type="dcterms:W3CDTF">2015-09-01T16:21:39Z</dcterms:modified>
  <cp:revision>19</cp:revision>
  <dc:subject/>
  <dc:title>chromatography</dc:title>
</cp:coreProperties>
</file>