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F51D-6157-410A-9F94-3915442399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pure substances for col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pure substances for col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– to separate and identify components of mix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different types - paper, thin layer, gas-liq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the principle of “partition” - affinity between two phases, to separate mixtures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ary phase &amp;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greatest affinity for mobile phase travel fur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– to separate and identify components of mix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different types - paper, thin layer, gas-liq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the principle of “partition” - affinity between two phases, to separate mixtures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ary phase &amp;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greatest affinity for mobile phase travel fur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romatography nee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material – stationary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(or carrier gas) –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romatography nee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material – stationary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(or carrier gas) –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Rf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Rf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that have high affinity for mobile phase emerge first, (most volat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m charts recorder response again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- separat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ntion time – characteristic of the compound under given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that have high affinity for mobile phase emerge first, (most volat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m charts recorder response again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- separat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ntion time – characteristic of the compound under given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retentio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 rat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of 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retentio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 rat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of 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bration – known compounds are added to the column and conditions kept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substance – area under peak / peak he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roportions can be deter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bration – known compounds are added to the column and conditions kept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substance – area under peak / peak he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roportions can be deter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A1EB-D017-4794-BC09-94084A38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E67-5E39-45B5-B02D-B5526708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A62-AC53-49B9-AD90-98F90C47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EE76-C77C-4589-9C3F-6AE4D0C1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EE8-4538-4947-BF62-C9C74BD6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4D72-E169-4E29-AACD-2B2E50C1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34A2-439D-46AF-99B1-FF63BAFC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939B-6926-4686-A77C-52FAD847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96E0-8CBE-4A6E-9C4E-D2152983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C159-CB8A-40B0-9FAD-F78BAD81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C7B7-0327-41D6-B3D1-23E62DFC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A792-2903-4077-85AF-1E3CAFCE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4A7B-412D-4B4C-8803-C76CD6B1E3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paration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u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ubstances for col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se – to separate and identify components of mix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veral different types - paper, thin layer, gas-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ll use the principle of “partition” - affinity between two phases, to separate mixtures of sub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tationary phase &amp; mobile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mpounds with greatest affinity for mobile phase travel fur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All chromatography needs</a:t>
            </a:r>
            <a:r>
              <a:rPr b="0" lang="en-GB" sz="3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8"/>
          <p:cNvGraphicFramePr/>
          <p:nvPr/>
        </p:nvGraphicFramePr>
        <p:xfrm>
          <a:off x="838080" y="2944800"/>
          <a:ext cx="7696440" cy="363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44800"/>
                    <a:ext cx="769644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upport material – stationary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olvent (or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carrier ga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) – mobile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thin layer"/>
          <p:cNvPicPr/>
          <p:nvPr/>
        </p:nvPicPr>
        <p:blipFill>
          <a:blip r:embed="rId1"/>
          <a:stretch/>
        </p:blipFill>
        <p:spPr>
          <a:xfrm>
            <a:off x="457200" y="2133720"/>
            <a:ext cx="4343400" cy="3232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asure 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phases"/>
          <p:cNvPicPr/>
          <p:nvPr/>
        </p:nvPicPr>
        <p:blipFill>
          <a:blip r:embed="rId1"/>
          <a:stretch/>
        </p:blipFill>
        <p:spPr>
          <a:xfrm>
            <a:off x="609480" y="2057400"/>
            <a:ext cx="4191120" cy="351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rf value"/>
          <p:cNvPicPr/>
          <p:nvPr/>
        </p:nvPicPr>
        <p:blipFill>
          <a:blip r:embed="rId2"/>
          <a:stretch/>
        </p:blipFill>
        <p:spPr>
          <a:xfrm>
            <a:off x="4952880" y="2057400"/>
            <a:ext cx="37339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8" descr="glc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2690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6"/>
          <p:cNvGrpSpPr/>
          <p:nvPr/>
        </p:nvGrpSpPr>
        <p:grpSpPr>
          <a:xfrm>
            <a:off x="4724280" y="1676520"/>
            <a:ext cx="4038840" cy="3787560"/>
            <a:chOff x="4724280" y="1676520"/>
            <a:chExt cx="4038840" cy="3787560"/>
          </a:xfrm>
        </p:grpSpPr>
        <p:sp>
          <p:nvSpPr>
            <p:cNvPr id="65" name="Text Box 8"/>
            <p:cNvSpPr/>
            <p:nvPr/>
          </p:nvSpPr>
          <p:spPr>
            <a:xfrm>
              <a:off x="4724280" y="1676520"/>
              <a:ext cx="37386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Sample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introduced by syrin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4724280" y="2514600"/>
              <a:ext cx="403884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Column 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separates component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(Heated in ov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0"/>
            <p:cNvSpPr/>
            <p:nvPr/>
          </p:nvSpPr>
          <p:spPr>
            <a:xfrm>
              <a:off x="4724280" y="3505320"/>
              <a:ext cx="4038840" cy="79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Detector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 monitors compounds emerging from outle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1"/>
            <p:cNvSpPr/>
            <p:nvPr/>
          </p:nvSpPr>
          <p:spPr>
            <a:xfrm>
              <a:off x="4876920" y="4800600"/>
              <a:ext cx="365760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Recorder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 plots signals as a chromatogram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6318360" y="2075040"/>
              <a:ext cx="14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6324480" y="3200400"/>
              <a:ext cx="180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>
              <a:off x="6324480" y="4343400"/>
              <a:ext cx="180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mpounds that have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high affinity for mobile pha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emerge first,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(most volati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hromatogram charts recorder response agains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ach component - separate p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Retention tim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– characteristic of the compound under given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Factors affecting retention tim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Courier New"/>
              </a:rPr>
              <a:t>length of colum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ourier New"/>
              </a:rPr>
              <a:t>packing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8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8000"/>
                </a:solidFill>
                <a:latin typeface="Courier New"/>
              </a:rPr>
              <a:t>type of carrier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Courier New"/>
              </a:rPr>
              <a:t>flow rate of carrier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ourier New"/>
              </a:rPr>
              <a:t>temperature of colum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glc print"/>
          <p:cNvPicPr/>
          <p:nvPr/>
        </p:nvPicPr>
        <p:blipFill>
          <a:blip r:embed="rId1"/>
          <a:stretch/>
        </p:blipFill>
        <p:spPr>
          <a:xfrm>
            <a:off x="1066680" y="1143000"/>
            <a:ext cx="7391520" cy="2502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alibratio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– known compounds are added to the column and conditions kept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mount of substance – area under peak / peak h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Relative proportion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can be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8:32:10Z</dcterms:created>
  <dc:creator>M Tyrrell</dc:creator>
  <dc:description/>
  <dc:language>en-US</dc:language>
  <cp:lastModifiedBy>RomaK</cp:lastModifiedBy>
  <cp:lastPrinted>2002-03-13T20:23:37Z</cp:lastPrinted>
  <dcterms:modified xsi:type="dcterms:W3CDTF">2015-09-01T16:21:39Z</dcterms:modified>
  <cp:revision>19</cp:revision>
  <dc:subject/>
  <dc:title>chromatography</dc:title>
</cp:coreProperties>
</file>