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explode.wav" ContentType="audio/x-wav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D0251-E7A7-4EBC-80F4-53DA6BF5210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and Circular Motion Revis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QA syllabus A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tion 13.3.1-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a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SE EQUATIONS 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-1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10 ms-1, g = 10 ms-2, r = ?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= g so r = v2/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= 102/10 = 10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-Gm1m2/r2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ST BE LEARNED!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vector sig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Universal Gravitational Consta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about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1 and m2 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two gravitating mass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distance between their centres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force per unit mass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F/m in Nkg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ial Fiel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GM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re M is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ass of the plane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vitational Potential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 = -GM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the field strength g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qual to the magnitude of the Potential gradien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 = -ΔV/Δ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Field strength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ollows an inverse square law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ades linearly to zero at the centre of grav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si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mo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wards the centre of the circ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Graph of Potential against distanc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Note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negativ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nfinity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otential graph is less steep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bit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v2/r = -Gm1m2/r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v2 = -Gm1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ore orbital mechanic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 = 2π /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d should be calculated i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econd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Exampl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-11 Nm2kg-2,  mass of Earth M = 6.00 x 1024 k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2π / T = 2π/(28x24x60x60) =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2.6 x 10-6 rads-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F = mω2r = -GMm/r2 s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3 = -GM/ω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Example continu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3 = 6.67 x 10-11 x 6.00 x 1024/(2.6x10-6)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= 5.92 x 10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ff"/>
                </a:solidFill>
                <a:latin typeface="Times New Roman"/>
              </a:rPr>
              <a:t>r = 3.90 x 108 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End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ith these equations we can reach the stars!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entripetal For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ngular speed can be measured in ms-1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ads-1 (radians per second)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Revs-1 (revolutions per second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Converting  to ω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v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ω = v/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o convert revs per second to ω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Multiply by 2π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cceleratio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v2/r O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a = ω2r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FEF5-FBC0-46CA-BF43-B43CD814F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347C-B917-4A74-A70D-32843D4D5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6B37-5252-4E69-8B38-76ADFD233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A481-A413-4EB0-BDCE-34D46BEA2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68A9-9DCF-4D91-9A38-1D6E4A5E2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ED27-B579-46CE-A720-0D9A5D8C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CBF9-95C9-4F65-BC72-FC366E2AE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48D5D-014E-4836-BEAE-860469FBD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6AD89-B817-40A8-90D4-C3DFAC79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D7C0-147D-4B16-A0C1-FDCFB6151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CECF7-530F-4F9A-A18D-4F6561FE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9C46-0D4C-4FDB-BC94-A87050C35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BWH 10/04                 AQA 13.3.1-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2E4C4-23BB-4B85-9E55-40183A5B25DB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explod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Gravity and Circular Motion Revision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AQA syllabus A </a:t>
            </a:r>
            <a:br>
              <a:rPr sz="4400"/>
            </a:br>
            <a:r>
              <a:rPr b="1" lang="en-GB" sz="4400" spc="-1" strike="noStrike">
                <a:solidFill>
                  <a:srgbClr val="ffff00"/>
                </a:solidFill>
                <a:latin typeface="Times New Roman"/>
              </a:rPr>
              <a:t>Section 13.3.1-6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B.W.Hugh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380880" y="4775040"/>
            <a:ext cx="1905120" cy="156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entripetal Forc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gener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a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o the centripetal force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SE EQUATIONS 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Gravity provides the accelerating force to keep objects in contact with a humpback bridge. What is the minimum radius of a bridge that a wheel will stay in contact with the road at 10 ms</a:t>
            </a:r>
            <a:r>
              <a:rPr b="0" lang="en-GB" sz="2800" spc="-1" strike="noStrike" baseline="30000">
                <a:solidFill>
                  <a:srgbClr val="ffffff"/>
                </a:solidFill>
                <a:latin typeface="Times New Roman"/>
              </a:rPr>
              <a:t>-1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g = 10 ms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, r = 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g so r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10 = 10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Newton’s Gravitation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wton’s Gravitation equatio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UST BE LEARNED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Negative sign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vector sig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Universal Gravitational Const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about the equ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m</a:t>
            </a:r>
            <a:r>
              <a:rPr b="1" lang="en-GB" sz="2800" spc="-1" strike="noStrike" baseline="-25000">
                <a:solidFill>
                  <a:srgbClr val="ffffff"/>
                </a:solidFill>
                <a:latin typeface="Times New Roman"/>
              </a:rPr>
              <a:t>2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two gravitating mass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distance between their centres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equation is an example of 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 gravitational field is an area of space subject to the force of gravity. Due to the inverse square law relationship, the strength of the field fades quickly with distan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field strength is defined 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force per unit mass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F/m in Nkg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Radial Fiel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lanets and other spherical objects exhibit radial fields, that is the field fades along the radius extending into space from the centre of the planet according to the equ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g = -GM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re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i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he mass of the plan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vitational Potentia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is a measure of the energy in the field at a point compared to an infinite distance awa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zero of potential is defined 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tential at a point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the work done to move unit mass from infinity to that point. It has a negative valu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The equation for potential in a radial field i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V = -GM/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di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 stronger gravitational fields, the potential graph is steeper. The potential gradient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the field strength 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qual to the magnitude of the Potential gradi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g = -ΔV/Δ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nodeType="clickEffect" fill="hold">
                      <p:stCondLst>
                        <p:cond delay="indefinite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Field strength </a:t>
            </a:r>
            <a:br>
              <a:rPr sz="4400"/>
            </a:b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3" name="Object 4"/>
          <p:cNvGraphicFramePr/>
          <p:nvPr/>
        </p:nvGraphicFramePr>
        <p:xfrm>
          <a:off x="1066680" y="228600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8600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Field strength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utside the planet field streng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ollows an inverse square la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nside the planet field streng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ades linearly to zero at the centre of grav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ield strength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si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ircular mo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hen an object undergoes circular motion it must experience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is produces an acceler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owards the centre of the circ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Graph of Potential against distance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118" name="Object 3"/>
          <p:cNvGraphicFramePr/>
          <p:nvPr/>
        </p:nvGraphicFramePr>
        <p:xfrm>
          <a:off x="1066680" y="2209680"/>
          <a:ext cx="7096320" cy="3714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209680"/>
                    <a:ext cx="7096320" cy="371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Potential Graph Not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is alway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nega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otential has zero value 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infinit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mpared to Field strength graph,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Potential graph is less stee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Orbi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ircular orbits follow the simple rules of gravitation and circular motion. We can put the force equations equal to each ot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F = m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So we can calculate 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= -Gm</a:t>
            </a:r>
            <a:r>
              <a:rPr b="1" lang="en-GB" sz="28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nodeType="clickEffect" fill="hold">
                      <p:stCondLst>
                        <p:cond delay="indefinite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More orbital mechanic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Period T is the time for a complete orbit, a year. It is given by the formula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T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/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should be calculated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econd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nodeType="clickEffect" fill="hold">
                      <p:stCondLst>
                        <p:cond delay="indefinite"/>
                      </p:stCondLst>
                      <p:childTnLst>
                        <p:par>
                          <p:cTn id="3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Moon orbits the Earth once every 28 days approximately. What is the approximate radius of its orbit? G = 6.67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N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kg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2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,  mass of Earth M = 6.00 x 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k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 / T = 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π/(28x24x60x60) =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2.6 x 10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6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 = m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 = -GMm/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3</a:t>
            </a:r>
            <a:r>
              <a:rPr b="1" lang="en-GB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= -GM/ω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Example continu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r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= 6.67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11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 x 6.00 x 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/(2.6x10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-6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GB" sz="28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= 5.92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5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 = 3.90 x 10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8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e End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With these equations we can reach the star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172200" y="0"/>
            <a:ext cx="2971800" cy="181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10"/>
          <p:cNvSpPr/>
          <p:nvPr/>
        </p:nvSpPr>
        <p:spPr>
          <a:xfrm>
            <a:off x="2400480" y="274320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Line 9"/>
          <p:cNvSpPr/>
          <p:nvPr/>
        </p:nvSpPr>
        <p:spPr>
          <a:xfrm flipH="1">
            <a:off x="2400480" y="274320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Line 8"/>
          <p:cNvSpPr/>
          <p:nvPr/>
        </p:nvSpPr>
        <p:spPr>
          <a:xfrm>
            <a:off x="3314880" y="2743200"/>
            <a:ext cx="0" cy="800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Oval 7"/>
          <p:cNvSpPr/>
          <p:nvPr/>
        </p:nvSpPr>
        <p:spPr>
          <a:xfrm>
            <a:off x="3200400" y="26290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Line 5"/>
          <p:cNvSpPr/>
          <p:nvPr/>
        </p:nvSpPr>
        <p:spPr>
          <a:xfrm>
            <a:off x="2400480" y="354348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Line 4"/>
          <p:cNvSpPr/>
          <p:nvPr/>
        </p:nvSpPr>
        <p:spPr>
          <a:xfrm flipV="1">
            <a:off x="4114800" y="354312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Line 3"/>
          <p:cNvSpPr/>
          <p:nvPr/>
        </p:nvSpPr>
        <p:spPr>
          <a:xfrm>
            <a:off x="3200400" y="434340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Line 2"/>
          <p:cNvSpPr/>
          <p:nvPr/>
        </p:nvSpPr>
        <p:spPr>
          <a:xfrm flipH="1">
            <a:off x="3428640" y="2857680"/>
            <a:ext cx="800280" cy="342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Rectangle 12"/>
          <p:cNvSpPr/>
          <p:nvPr/>
        </p:nvSpPr>
        <p:spPr>
          <a:xfrm>
            <a:off x="0" y="18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Rectangle 14"/>
          <p:cNvSpPr/>
          <p:nvPr/>
        </p:nvSpPr>
        <p:spPr>
          <a:xfrm>
            <a:off x="0" y="3314880"/>
            <a:ext cx="9144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685800" y="2057400"/>
            <a:ext cx="1676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Angular Spe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419720" y="2133720"/>
            <a:ext cx="205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Times New Roman"/>
              </a:rPr>
              <a:t>Centripetal For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Oval 6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Oval 5"/>
          <p:cNvSpPr/>
          <p:nvPr/>
        </p:nvSpPr>
        <p:spPr>
          <a:xfrm>
            <a:off x="228600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Line 4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Line 3"/>
          <p:cNvSpPr/>
          <p:nvPr/>
        </p:nvSpPr>
        <p:spPr>
          <a:xfrm flipH="1">
            <a:off x="2362320" y="4024440"/>
            <a:ext cx="38160" cy="10047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Line 2"/>
          <p:cNvSpPr/>
          <p:nvPr/>
        </p:nvSpPr>
        <p:spPr>
          <a:xfrm>
            <a:off x="2400480" y="402444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Rectangle 8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8"/>
          <p:cNvSpPr/>
          <p:nvPr/>
        </p:nvSpPr>
        <p:spPr>
          <a:xfrm>
            <a:off x="2400480" y="316692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Oval 7"/>
          <p:cNvSpPr/>
          <p:nvPr/>
        </p:nvSpPr>
        <p:spPr>
          <a:xfrm>
            <a:off x="3200400" y="465300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Line 6"/>
          <p:cNvSpPr/>
          <p:nvPr/>
        </p:nvSpPr>
        <p:spPr>
          <a:xfrm>
            <a:off x="2400480" y="396720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Line 5"/>
          <p:cNvSpPr/>
          <p:nvPr/>
        </p:nvSpPr>
        <p:spPr>
          <a:xfrm flipV="1">
            <a:off x="4114800" y="3852720"/>
            <a:ext cx="0" cy="114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Line 4"/>
          <p:cNvSpPr/>
          <p:nvPr/>
        </p:nvSpPr>
        <p:spPr>
          <a:xfrm flipH="1">
            <a:off x="3200400" y="316692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Line 3"/>
          <p:cNvSpPr/>
          <p:nvPr/>
        </p:nvSpPr>
        <p:spPr>
          <a:xfrm>
            <a:off x="3429000" y="4767120"/>
            <a:ext cx="10288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Line 2"/>
          <p:cNvSpPr/>
          <p:nvPr/>
        </p:nvSpPr>
        <p:spPr>
          <a:xfrm flipV="1">
            <a:off x="3314880" y="39668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0" y="1978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0" y="197820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Oval 8"/>
          <p:cNvSpPr/>
          <p:nvPr/>
        </p:nvSpPr>
        <p:spPr>
          <a:xfrm>
            <a:off x="2400480" y="3224160"/>
            <a:ext cx="1714320" cy="160020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Oval 7"/>
          <p:cNvSpPr/>
          <p:nvPr/>
        </p:nvSpPr>
        <p:spPr>
          <a:xfrm>
            <a:off x="4000680" y="3909960"/>
            <a:ext cx="228600" cy="228600"/>
          </a:xfrm>
          <a:prstGeom prst="ellipse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Line 6"/>
          <p:cNvSpPr/>
          <p:nvPr/>
        </p:nvSpPr>
        <p:spPr>
          <a:xfrm>
            <a:off x="2400480" y="4024440"/>
            <a:ext cx="0" cy="114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Line 5"/>
          <p:cNvSpPr/>
          <p:nvPr/>
        </p:nvSpPr>
        <p:spPr>
          <a:xfrm flipH="1">
            <a:off x="3200400" y="3224160"/>
            <a:ext cx="114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Line 4"/>
          <p:cNvSpPr/>
          <p:nvPr/>
        </p:nvSpPr>
        <p:spPr>
          <a:xfrm flipV="1">
            <a:off x="4114800" y="3110040"/>
            <a:ext cx="0" cy="799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Line 3"/>
          <p:cNvSpPr/>
          <p:nvPr/>
        </p:nvSpPr>
        <p:spPr>
          <a:xfrm>
            <a:off x="3314880" y="4824360"/>
            <a:ext cx="114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Line 2"/>
          <p:cNvSpPr/>
          <p:nvPr/>
        </p:nvSpPr>
        <p:spPr>
          <a:xfrm flipH="1">
            <a:off x="3200040" y="4024440"/>
            <a:ext cx="800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0" y="203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0" y="2035080"/>
            <a:ext cx="914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ngular speed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ngular speed can be measured in ms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-1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ad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adians per second)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Revs</a:t>
            </a:r>
            <a:r>
              <a:rPr b="1" lang="en-GB" sz="2400" spc="-1" strike="noStrike" baseline="30000">
                <a:solidFill>
                  <a:srgbClr val="ffff00"/>
                </a:solidFill>
                <a:latin typeface="Times New Roman"/>
              </a:rPr>
              <a:t>-1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 (revolutions per second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symbol for angular speed in radians per second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Converting  to </a:t>
            </a: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ω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v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 = v/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o convert revs per second to</a:t>
            </a:r>
            <a:r>
              <a:rPr b="1" lang="en-GB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ultiply by 2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ff"/>
                </a:solidFill>
                <a:uFillTx/>
                <a:latin typeface="Times New Roman"/>
              </a:rPr>
              <a:t>Acceler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he acceleration towards the centre of the circle 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v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/r O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Times New Roman"/>
              </a:rPr>
              <a:t>a = 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ω</a:t>
            </a:r>
            <a:r>
              <a:rPr b="1" lang="en-GB" sz="28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2</a:t>
            </a:r>
            <a:r>
              <a:rPr b="1" lang="en-GB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8:19:37Z</dcterms:created>
  <dc:creator>Hughes</dc:creator>
  <dc:description/>
  <dc:language>en-US</dc:language>
  <cp:lastModifiedBy>RomaK</cp:lastModifiedBy>
  <dcterms:modified xsi:type="dcterms:W3CDTF">2015-09-03T12:27:31Z</dcterms:modified>
  <cp:revision>24</cp:revision>
  <dc:subject/>
  <dc:title>Gravity and Circular Motion Revision</dc:title>
</cp:coreProperties>
</file>