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explode.wav" ContentType="audio/x-wav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E838-85E4-45B6-B0FD-F690523AC7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Circular Motion Revis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QA syllabus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3.3.1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W.Hug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and Circular Motion Revis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QA syllabus A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tion 13.3.1-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W.Hugh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force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centripetal force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v2/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 ω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QUATIONS MUST BE LEARN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ral force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the centripetal force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v2/r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 ω2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EQUATIONS MUST BE LEARNED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-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10 ms-1, g = 10 ms-2, r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2/r = g so r = v2/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102/10 =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-1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10 ms-1, g = 10 ms-2, r =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v2/r = g so r = v2/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 = 102/10 = 1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’s Gravita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’s Gravitation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-Gm1m2/r2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LEARN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sig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ctor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al Gravitational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Gravitation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Gravitation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-Gm1m2/r2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ST BE LEARNED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 sig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vector 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iversal Gravitational Const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bout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and m2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gravitating m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between their centres of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is an example o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squar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about th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1 and m2 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wo gravitating ma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tance between their centres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is an example of 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se square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eld strength is defin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 per unit mass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F/m in Nkg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eld strength is defined 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orce per unit mass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F/m in Nkg-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-GM/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M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the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-GM/r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M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ss of the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Pot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ero of potential is defin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at a poi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for potential in a radial fie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-GM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Pot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zero of potential is defined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at a poin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for potential in a radial field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-GM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ΔV/Δ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field strength g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 to the magnitude of the Potential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-ΔV/Δ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d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ΔV/Δ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field strength g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al to the magnitude of the Potential grad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-ΔV/Δ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ield streng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ph of Field strength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gainst dis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strength graph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the planet field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s an inverse squar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ide the planet field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des linearly to zero at the centre of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strength is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eld strength graph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side the planet field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llows an inverse square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ide the planet field streng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des linearly to zero at the centre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eld strength is al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object undergoes circular motion it must experienc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duces an accel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wards the centre of the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la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n object undergoes circular motion it must experience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roduces an accel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wards the centre of the cir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Potential against di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ph of Potential against dis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ph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is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has zero value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d to Field strength grap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ph is less st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ph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is al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has zero value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ared to Field strength graph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ph is less stee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v2/r = -Gm1m2/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can calculate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 = -Gm1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b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v2/r = -Gm1m2/r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we can calculate 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2 = -Gm1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orbital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2π /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hould be calculated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orbital mechan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= 2π /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should be calculated 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s the Earth once every 28 days approximately. What is the approximate radius of its orbit? G = 6.67 x 10-11 Nm2kg-2,  mass of Earth M = 6.00 x 1024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 = 2π / T = 2π/(28x24x60x60)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x 10-6 rad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ω2r = -GMm/r2 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 = -GM/ω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on orbits the Earth once every 28 days approximately. What is the approximate radius of its orbit? G = 6.67 x 10-11 Nm2kg-2,  mass of Earth M = 6.00 x 1024 k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 = 2π / T = 2π/(28x24x60x60)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6 x 10-6 rads-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ω2r = -GMm/r2 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3 = -GM/ω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ampl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3 = 6.67 x 10-11 x 6.00 x 1024/(2.6x10-6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= 5.92 x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 = 3.90 x 108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Example continu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r3 = 6.67 x 10-11 x 6.00 x 1024/(2.6x10-6)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= 5.92 x 10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r = 3.90 x 108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se equations we can reach the st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se equations we can reach the star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 can be measured in ms-1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s-1 (radians per second)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s-1 (revolutions per seco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mbol for angular speed in radians per secon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 can be measured in ms-1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s-1 (radians per second)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s-1 (revolutions per secon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ymbol for angular speed in radians per second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 to ω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nvert v to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 = v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nvert revs per second to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2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rting  to ω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onvert v to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 = v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onvert revs per second to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by 2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l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celeration towards the centre of the circl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2/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ω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cceleration towards the centre of the circle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v2/r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ω2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D5E2-3581-4A2B-89F7-280E0D3D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DDA-8818-4A21-BEE5-4F29DDE4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D8B-EE96-4F4E-981F-0CCB37D0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BB21-97A2-417E-B7E9-9EA151A0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E57-974F-428C-B1BA-8B287D51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4BA-3DFC-456F-A656-A7DFC7EF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7CF-2D45-4AE8-B971-90B696A9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CD1-9A70-4627-B6FB-0A7886C8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D90-D862-49CA-8817-AEFE00AD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A12E-AD37-49E5-A7F6-2FB15A3D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884-7698-4824-8ED5-8F3F9E3C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837A-B365-4D3D-B545-A68EEE90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WH 10/04                 AQA 13.3.1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B1C1-97BA-4DE6-905A-8475EC90D10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ravity and Circular Motion Revision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QA syllabus A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Section 13.3.1-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.W.Hug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80880" y="4775040"/>
            <a:ext cx="190512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entripetal Force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general force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 the centripetal force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SE EQUATIONS MUST BE LEARNE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</a:t>
            </a:r>
            <a:r>
              <a:rPr b="0" lang="en-GB" sz="2800" spc="-1" strike="noStrike" baseline="30000">
                <a:solidFill>
                  <a:srgbClr val="ffffff"/>
                </a:solidFill>
                <a:latin typeface="Times New Roman"/>
              </a:rPr>
              <a:t>-1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v = 10 m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, g = 10 m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, r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= g so r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 =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10 = 10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Newton’s Gravitation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wton’s Gravitation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UST BE LEARNE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gative sig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vector 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Universal Gravitational Con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More about the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two gravitating m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distance between their centres of 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equation is an example of 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nverse square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vitational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field strength is defined 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force per unit mass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 = F/m in Nkg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Radial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 = -GM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mass of the pla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vitational Potent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zero of potential is defined 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nfi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tential at a poin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e equation for potential in a radial field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V = -GM/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tential Gradi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V/Δ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e field strength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l to the magnitude of the Potential grad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 = -ΔV/Δ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ph of Field strength </a:t>
            </a:r>
            <a:br>
              <a:rPr sz="4400"/>
            </a:b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gainst distanc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066680" y="2286000"/>
          <a:ext cx="7096320" cy="37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70963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Field strength graph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utside the planet field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ollows an inverse square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ide the planet field streng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ades linearly to zero at the centre of 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eld strength is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ircular mo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an object undergoes circular motion it must experience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entripetal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produces an accel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owards the centre of the cir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ph of Potential against distanc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1066680" y="2209680"/>
          <a:ext cx="7096320" cy="37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70963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tential Graph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tential is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tential has zero value 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nfi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ared to Field strength graph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otential graph is less ste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Orbi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o we can calculate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More orbital mechan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 =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hould be calculated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co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oon orbits the Earth once every 28 days approximately. What is the approximate radius of its orbit? G = 6.67 x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Nm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kg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 mass of Earth M = 6.00 x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/ T =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/(28x24x60x6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6 x 10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6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rad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= mω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= -GMm/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-GM/ω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 continu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= 6.67 x 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x 6.00 x 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/(2.6x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= 5.92 x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 = 3.90 x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8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e End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With these equations we can reach the star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10"/>
          <p:cNvSpPr/>
          <p:nvPr/>
        </p:nvSpPr>
        <p:spPr>
          <a:xfrm>
            <a:off x="2400480" y="274320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2400480" y="27432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>
            <a:off x="3314880" y="2743200"/>
            <a:ext cx="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Oval 7"/>
          <p:cNvSpPr/>
          <p:nvPr/>
        </p:nvSpPr>
        <p:spPr>
          <a:xfrm>
            <a:off x="3200400" y="2629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2400480" y="354348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4114800" y="354312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3"/>
          <p:cNvSpPr/>
          <p:nvPr/>
        </p:nvSpPr>
        <p:spPr>
          <a:xfrm>
            <a:off x="3200400" y="434340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2"/>
          <p:cNvSpPr/>
          <p:nvPr/>
        </p:nvSpPr>
        <p:spPr>
          <a:xfrm flipH="1">
            <a:off x="3428640" y="2857680"/>
            <a:ext cx="800280" cy="34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0" y="3314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685800" y="205740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ngular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419720" y="213372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entripetal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6"/>
          <p:cNvSpPr/>
          <p:nvPr/>
        </p:nvSpPr>
        <p:spPr>
          <a:xfrm>
            <a:off x="2400480" y="322416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2286000" y="390996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4"/>
          <p:cNvSpPr/>
          <p:nvPr/>
        </p:nvSpPr>
        <p:spPr>
          <a:xfrm>
            <a:off x="2400480" y="402444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3"/>
          <p:cNvSpPr/>
          <p:nvPr/>
        </p:nvSpPr>
        <p:spPr>
          <a:xfrm flipH="1">
            <a:off x="2362320" y="4024440"/>
            <a:ext cx="38160" cy="1004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2"/>
          <p:cNvSpPr/>
          <p:nvPr/>
        </p:nvSpPr>
        <p:spPr>
          <a:xfrm>
            <a:off x="2400480" y="402444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2035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8"/>
          <p:cNvSpPr/>
          <p:nvPr/>
        </p:nvSpPr>
        <p:spPr>
          <a:xfrm>
            <a:off x="2400480" y="316692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7"/>
          <p:cNvSpPr/>
          <p:nvPr/>
        </p:nvSpPr>
        <p:spPr>
          <a:xfrm>
            <a:off x="3200400" y="4653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400480" y="396720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 flipV="1">
            <a:off x="4114800" y="385272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 flipH="1">
            <a:off x="3200400" y="316692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3"/>
          <p:cNvSpPr/>
          <p:nvPr/>
        </p:nvSpPr>
        <p:spPr>
          <a:xfrm>
            <a:off x="3429000" y="4767120"/>
            <a:ext cx="1028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2"/>
          <p:cNvSpPr/>
          <p:nvPr/>
        </p:nvSpPr>
        <p:spPr>
          <a:xfrm flipV="1">
            <a:off x="3314880" y="39668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0" y="1978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8"/>
          <p:cNvSpPr/>
          <p:nvPr/>
        </p:nvSpPr>
        <p:spPr>
          <a:xfrm>
            <a:off x="2400480" y="322416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Oval 7"/>
          <p:cNvSpPr/>
          <p:nvPr/>
        </p:nvSpPr>
        <p:spPr>
          <a:xfrm>
            <a:off x="4000680" y="390996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400480" y="402444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3200400" y="322416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4114800" y="3110040"/>
            <a:ext cx="0" cy="799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3"/>
          <p:cNvSpPr/>
          <p:nvPr/>
        </p:nvSpPr>
        <p:spPr>
          <a:xfrm>
            <a:off x="3314880" y="4824360"/>
            <a:ext cx="114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2"/>
          <p:cNvSpPr/>
          <p:nvPr/>
        </p:nvSpPr>
        <p:spPr>
          <a:xfrm flipH="1">
            <a:off x="3200040" y="4024440"/>
            <a:ext cx="800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2035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ngular spe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gular speed can be measured in ms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ad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(radians per second)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ev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(revolutions per secon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ymbol for angular speed in radians per second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onverting  to </a:t>
            </a: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ω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vert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 = v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vert revs per second to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ltiply by 2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ccel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acceleration towards the centre of the circle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8:19:37Z</dcterms:created>
  <dc:creator>Hughes</dc:creator>
  <dc:description/>
  <dc:language>en-US</dc:language>
  <cp:lastModifiedBy>RomaK</cp:lastModifiedBy>
  <dcterms:modified xsi:type="dcterms:W3CDTF">2015-09-03T12:27:31Z</dcterms:modified>
  <cp:revision>24</cp:revision>
  <dc:subject/>
  <dc:title>Gravity and Circular Motion Revision</dc:title>
</cp:coreProperties>
</file>