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5.jpeg" ContentType="image/jpeg"/>
  <Override PartName="/ppt/media/image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ACBE-1F7F-403F-AF1A-98A6FC31688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Wylie Ballinger and Sam Russ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ject Gam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Wylie Ballinger and Sam Russel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 EGR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ton Gamma Ray Observatory Energetic Gamma Ray Experiment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° Field of 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1991 as an Experimental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entered in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 EGRE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ompton Gamma Ray Observatory Energetic Gamma Ray Experiment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80° Field of View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unched in 1991 as an Experimental Progra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-entered in 2004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EGRET Discov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ding of a new class of objects--high energy gamma-ray emitting blazars, or graz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mission of high energy gamma-rays from a gamma ray burst for over an hour, with some gamma rays having energies over a GeV and two having energies over 10 GeV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servation of an increased fraction of pulsar electromagnetic radiation going into gamma rays as the age of the pulsar increases to a million ye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termination with high certainty that cosmic rays are galact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tailed mapping of the galactic diffuse radiation and the measurement of the pion bump in the high energy gamma-ray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bsence of microsecond bursts and its implication for certain unification theo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 trapping time of over ten hours for energetic solar particles following a fl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asurement of the diffuse, presumably extragalactic, high energy gamma ray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heawww.gsfc.nasa.gov/docs/gamcosray/EGRET/highlight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jor EGRET Discoveri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inding of a new class of objects--high energy gamma-ray emitting blazars, or grazar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emission of high energy gamma-rays from a gamma ray burst for over an hour, with some gamma rays having energies over a GeV and two having energies over 10 GeV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observation of an increased fraction of pulsar electromagnetic radiation going into gamma rays as the age of the pulsar increases to a million year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etermination with high certainty that cosmic rays are galactic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etailed mapping of the galactic diffuse radiation and the measurement of the pion bump in the high energy gamma-ray spectru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absence of microsecond bursts and its implication for certain unification theorie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long trapping time of over ten hours for energetic solar particles following a flare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measurement of the diffuse, presumably extragalactic, high energy gamma ray spectru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lheawww.gsfc.nasa.gov/docs/gamcosray/EGRET/highlight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G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tional Gamma-Ray Astrophysics 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ropean Space Agenc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ark, France, Germany, Italy, Spain and Switzer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Czech Republic and Po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help from Russia and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molecular cloud in the center of the galaxy that was just recently discov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TERGR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ternational Gamma-Ray Astrophysics Laborator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uropean Space Agency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emark, France, Germany, Italy, Spain and Switzerla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+ Czech Republic and Pola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th help from Russia and 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iant molecular cloud in the center of the galaxy that was just recently discover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Calibri"/>
              </a:rPr>
              <a:t>Gamma-Ray Burst over 40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Calibri"/>
              </a:rPr>
              <a:t>http://www.rssd.esa.int/Integral/integ_image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eaeaea"/>
                </a:solidFill>
                <a:latin typeface="Arial"/>
              </a:rPr>
              <a:t>Gamma-Ray Burst over 40 Second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eaeaea"/>
                </a:solidFill>
                <a:latin typeface="Arial"/>
              </a:rPr>
              <a:t>http://www.rssd.esa.int/Integral/integ_image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ol Picture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ool Picture !!!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gamma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cience.nasa.gov/newhome/headlines/ast09feb99_1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diq.com/definition/Gamma_ray_bur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2/compton_scatter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2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1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utu.fi/~cflynn/astroII/l7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2/gamma_scintilla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urc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ers.gsfc.nasa.gov/ems/gamma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science.nasa.gov/newhome/headlines/ast09feb99_1.ht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www.wordiq.com/definition/Gamma_ray_burst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2/compton_scatter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2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1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www.astro.utu.fi/~cflynn/astroII/l7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2/gamma_scintilla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mma Ray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potent particles on the electromagnetic scale and the known unive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TeV (1,000,000,000,000 eV, where an optical photon has an energy of a few eV’ http://imagine.gsfc.nasa.gov/docs/science/how_l2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est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te r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created by radioactive atoms and nuclear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ttest regions of the universe produce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by Supernovae, Pulsars, Neutron Stars, Black holes, and Gamma Ray Burs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vo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potential energy experienced by an electron moving from a place where the potential has a value of V to a place where it has a value of (V+1 volt). This is a convenient energy unit when dealing with the motions of electrons and ions in electric fields; the unit is also the one used to describe the energy of X-rays and gamma rays. A keV (or kiloelectron volt) is equal to 1000 electron volts. An MeV is equal to one million electron volts. A GeV is equal to one billion (109) electron volts. A TeV is equal to a million million (1012) electron volts.’ http://imagine.gsfc.nasa.gov/docs/science/how_l2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are Gamma Ray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st potent particles on the electromagnetic scale and the known univers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‘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 TeV (1,000,000,000,000 eV, where an optical photon has an energy of a few eV’ http://imagine.gsfc.nasa.gov/docs/science/how_l2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mallest waveleng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Quite rar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created by radioactive atoms and nuclear reac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hottest regions of the universe produce them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med by Supernovae, Pulsars, Neutron Stars, Black holes, and Gamma Ray Burster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lectron vol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hange of potential energy experienced by an electron moving from a place where the potential has a value of V to a place where it has a value of (V+1 volt). This is a convenient energy unit when dealing with the motions of electrons and ions in electric fields; the unit is also the one used to describe the energy of X-rays and gamma rays. A keV (or kiloelectron volt) is equal to 1000 electron volts. An MeV is equal to one million electron volts. A GeV is equal to one billion (109) electron volts. A TeV is equal to a million million (1012) electron volts.’ http://imagine.gsfc.nasa.gov/docs/science/how_l2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ing in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r XI launched first satellite in 1961 was the first gamma ray rece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picked up fewer than 100 cosmic gamma-ray photons to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gives off more Gamma Rays than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rors don’t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eing in Gam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plorer XI launched first satellite in 1961 was the first gamma ray receiv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t picked up fewer than 100 cosmic gamma-ray photons total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 satellit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on gives off more Gamma Rays than the su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rrors don’t w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See Gam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30 MeV Is the ideal range that we wish to s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galaxies, pulsars, and solar fl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ton Scattering and how it wo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Do We See Gamma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-30 MeV Is the ideal range that we wish to se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ctive galaxies, pulsars, and solar flar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pton Scattering and how it work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See in Gamma? Continue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a visual pers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Do We See in Gamma? Continued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’m a visual person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How Does That Work Ag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Scintill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that emit low energy light (usually visible) when hit by high energy light such as gamma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r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ysical process whereby a gamma-ray photon, usually through an interaction with the electromagnetic field of a nucleus, produces an electron and an anti-electron (positron). The original photon no longer exists, its energy having gone to the two resulting particles. The inverse process, pair annihilation, creates two gamma-ray photons from the mutual destruction of an electron/positron pair. http://imagine.gsfc.nasa.gov/docs/dict_jp.html#pair_produ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 uses compton scattering and pair p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April 5th, 1991 on Atlantis shuttle. Had a visual range of 30 KeV to 30 Ge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st And Transient Source Experiment (BATSE), the Oriented Scintillation Spectrometer Experiment (OSSE), the Imaging Compton Telescope (COMPTEL), and the Energetic Gamma Ray Experiment Telescope (EGRET). http://cossc.gsfc.nasa.gov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ed to Earth on June 4th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Large Area Space Telescope is being sent up by Nasa in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 How Does That Work Agai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ystal Scintillator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ystals that emit low energy light (usually visible) when hit by high energy light such as gamma radiat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ir 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hysical process whereby a gamma-ray photon, usually through an interaction with the electromagnetic field of a nucleus, produces an electron and an anti-electron (positron). The original photon no longer exists, its energy having gone to the two resulting particles. The inverse process, pair annihilation, creates two gamma-ray photons from the mutual destruction of an electron/positron pair. http://imagine.gsfc.nasa.gov/docs/dict_jp.html#pair_production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 uses compton scattering and pair product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unched in April 5th, 1991 on Atlantis shuttle. Had a visual range of 30 KeV to 30 GeV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urst And Transient Source Experiment (BATSE), the Oriented Scintillation Spectrometer Experiment (OSSE), the Imaging Compton Telescope (COMPTEL), and the Energetic Gamma Ray Experiment Telescope (EGRET). http://cossc.gsfc.nasa.gov/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turned to Earth on June 4th 2000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mma-ray Large Area Space Telescope is being sent up by Nasa in 2007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 Bur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what it says on the b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gamma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energetic things in the universe that we know o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y in 10 seconds than our sun can produce in its entire liftime of 10,000,000,000 ye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mma Ray Burster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es what it says on the box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ers.gsfc.nasa.gov/ems/gamma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st energetic things in the universe that we know of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e energy in 10 seconds than our sun can produce in its entire liftime of 10,000,000,000 years!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Large Area Space Telescope Large Area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ed Jointly by the US, Japan, France and Swe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uracy of 30 Arc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 in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LA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mma-Ray Large Area Space Telescope Large Area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unded Jointly by the US, Japan, France and Swed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ccuracy of 30 Arc second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unch in 2006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ton Gamma Ray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telescopes on 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BAT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 and Transient Sourc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OS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ented Scintilliation Spectrometer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COMPT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ing Compto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EGR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etic Gamma Ray Experiment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pton Gamma Ray Observator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ur telescopes on it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. BATS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ase and Transient Source Experime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OSS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iented Scintilliation Spectrometer Experime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COMPTE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aging Compton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EGRE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ergetic Gamma Ray Experiment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23A3-DDC3-4568-AD1D-34363D77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A047-37D9-4E2E-A0CE-B303EA70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5FDC-44C0-42DD-BA5F-33A1C194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5E70-A243-49CA-A2C8-A1626EC9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8B1E-2A1E-4042-8C65-284CA837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68E2-F0A5-4B70-921F-EB09D58A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238D-7489-4D1D-B308-A61B8D3B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5CD2-B71F-4897-976A-26CAA8BA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1568-DD87-45E5-94C7-9354BBDF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D860-1A4A-4B5F-9A6E-6F4FF07A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2DB5-3E1B-4F0E-810E-C03DAA41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B6C7-6BC8-47B5-9383-EA3A8519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7933-1CB9-4363-A64F-A06B112C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ED7B-F152-490A-9996-372291EF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051C-1C11-4487-A7BF-68798536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5990-E477-4721-B87C-04ED3B66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897E-BD0B-4A1B-9ED9-B5DB28F9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F2F4-649C-4706-BDE1-ADEA38BC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7FB8-BDDE-4AB9-B6CC-EA85DD01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F59-87FE-4CEC-993B-2CA7FCF5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C7A0-21A7-449D-8DE2-EC66B388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D19-63F3-4716-B1E5-9F086824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C3CE-F37A-4D9D-94EE-436F2F2A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937F-4E3A-4BFD-906B-7F98B312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D1F6-0C21-4266-84F0-E33C284108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93D4-4CC1-4CD6-8B6A-7A74BF69C36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heawww.gsfc.nasa.gov/docs/gamcosray/EGRET/highlights.html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rssd.esa.int/Integral/integ_images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rs.gsfc.nasa.gov/ems/gamma.html" TargetMode="External"/><Relationship Id="rId2" Type="http://schemas.openxmlformats.org/officeDocument/2006/relationships/hyperlink" Target="http://science.nasa.gov/newhome/headlines/ast09feb99_1.htm" TargetMode="External"/><Relationship Id="rId3" Type="http://schemas.openxmlformats.org/officeDocument/2006/relationships/hyperlink" Target="http://www.wordiq.com/definition/Gamma_ray_burst" TargetMode="External"/><Relationship Id="rId4" Type="http://schemas.openxmlformats.org/officeDocument/2006/relationships/hyperlink" Target="http://imagine.gsfc.nasa.gov/docs/science/how_l2/compton_scatter.html" TargetMode="External"/><Relationship Id="rId5" Type="http://schemas.openxmlformats.org/officeDocument/2006/relationships/hyperlink" Target="http://imagine.gsfc.nasa.gov/docs/science/how_l2/gamma_detectors.html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science/how_l2/gamma_detectors.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imagine.gsfc.nasa.gov/docs/science/how_l2/gamma_detector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learntech.uwe.ac.uk/radiography/RScience/interactions/comptonscatter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dict_jp.html#pair_production" TargetMode="External"/><Relationship Id="rId2" Type="http://schemas.openxmlformats.org/officeDocument/2006/relationships/hyperlink" Target="http://cossc.gsfc.nasa.gov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rs.gsfc.nasa.gov/ems/gamma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ecff"/>
                </a:solidFill>
                <a:uFillTx/>
                <a:latin typeface="Arial"/>
              </a:rPr>
              <a:t>Project Gamm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124080" y="167652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By Wylie Ballinger and Sam Russell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3581280" y="1905120"/>
            <a:ext cx="2089440" cy="949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5379840" cy="35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GRO EGR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ompton Gamma Ray Observatory Energetic Gamma Ray Experiment Telesco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8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° Field of Vie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Launched in 1991 as an Experimental Progra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Re-entered in 200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Picture 7" descr="scheme_small"/>
          <p:cNvPicPr/>
          <p:nvPr/>
        </p:nvPicPr>
        <p:blipFill>
          <a:blip r:embed="rId1"/>
          <a:stretch/>
        </p:blipFill>
        <p:spPr>
          <a:xfrm>
            <a:off x="1111320" y="1689120"/>
            <a:ext cx="2724120" cy="1990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untitled2"/>
          <p:cNvPicPr/>
          <p:nvPr/>
        </p:nvPicPr>
        <p:blipFill>
          <a:blip r:embed="rId2"/>
          <a:stretch/>
        </p:blipFill>
        <p:spPr>
          <a:xfrm>
            <a:off x="228600" y="3886200"/>
            <a:ext cx="1622520" cy="2173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gro"/>
          <p:cNvPicPr/>
          <p:nvPr/>
        </p:nvPicPr>
        <p:blipFill>
          <a:blip r:embed="rId3"/>
          <a:stretch/>
        </p:blipFill>
        <p:spPr>
          <a:xfrm>
            <a:off x="1828800" y="388620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jor EGRET Discove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760" y="1295280"/>
            <a:ext cx="40370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finding of a new class of objects--high energy gamma-ray emitting blazars, or grazars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emission of high energy gamma-rays from a gamma ray burst for over an hour, with some gamma rays having energies over a GeV and two having energies over 10 GeV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observation of an increased fraction of pulsar electromagnetic radiation going into gamma rays as the age of the pulsar increases to a million years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determination with high certainty that cosmic rays are galactic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detailed mapping of the galactic diffuse radiation and the measurement of the pion bump in the high energy gamma-ray spectrum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absence of microsecond bursts and its implication for certain unification theories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long trapping time of over ten hours for energetic solar particles following a flare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A measurement of the diffuse, presumably extragalactic, high energy gamma ray spectrum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5b2ff"/>
                </a:solidFill>
                <a:uFillTx/>
                <a:latin typeface="Times New Roman"/>
                <a:hlinkClick r:id="rId1"/>
              </a:rPr>
              <a:t>http://lheawww.gsfc.nasa.gov/docs/gamcosray/EGRET/highlights.html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Picture 5" descr="untitled3"/>
          <p:cNvPicPr/>
          <p:nvPr/>
        </p:nvPicPr>
        <p:blipFill>
          <a:blip r:embed="rId2"/>
          <a:stretch/>
        </p:blipFill>
        <p:spPr>
          <a:xfrm>
            <a:off x="4645080" y="2768760"/>
            <a:ext cx="403704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catalog_sky"/>
          <p:cNvPicPr/>
          <p:nvPr/>
        </p:nvPicPr>
        <p:blipFill>
          <a:blip r:embed="rId1"/>
          <a:stretch/>
        </p:blipFill>
        <p:spPr>
          <a:xfrm>
            <a:off x="426960" y="228600"/>
            <a:ext cx="833616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GR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ternational Gamma-Ray Astrophysics Laborat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uropean Space Agency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Demark, France, Germany, Italy, Spain and Switzerlan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+ Czech Republic and Polan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With help from Russia and U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iant molecular cloud in the center of the galaxy that was just recently discover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Picture 9" descr="POMOct2004"/>
          <p:cNvPicPr/>
          <p:nvPr/>
        </p:nvPicPr>
        <p:blipFill>
          <a:blip r:embed="rId1"/>
          <a:stretch/>
        </p:blipFill>
        <p:spPr>
          <a:xfrm>
            <a:off x="5181480" y="1143000"/>
            <a:ext cx="3473640" cy="5334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integral"/>
          <p:cNvPicPr/>
          <p:nvPr/>
        </p:nvPicPr>
        <p:blipFill>
          <a:blip r:embed="rId2"/>
          <a:stretch/>
        </p:blipFill>
        <p:spPr>
          <a:xfrm>
            <a:off x="76320" y="4191120"/>
            <a:ext cx="168408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amma-Ray Burst over 40 Secon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Picture 6" descr="untitled"/>
          <p:cNvPicPr/>
          <p:nvPr/>
        </p:nvPicPr>
        <p:blipFill>
          <a:blip r:embed="rId1"/>
          <a:stretch/>
        </p:blipFill>
        <p:spPr>
          <a:xfrm>
            <a:off x="1143000" y="1103400"/>
            <a:ext cx="6858000" cy="560844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7"/>
          <p:cNvSpPr/>
          <p:nvPr/>
        </p:nvSpPr>
        <p:spPr>
          <a:xfrm>
            <a:off x="152280" y="6613560"/>
            <a:ext cx="533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www.rssd.esa.int/Integral/integ_images.html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A Cool Picture 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Picture 6" descr="untitled4"/>
          <p:cNvPicPr/>
          <p:nvPr/>
        </p:nvPicPr>
        <p:blipFill>
          <a:blip r:embed="rId1"/>
          <a:stretch/>
        </p:blipFill>
        <p:spPr>
          <a:xfrm>
            <a:off x="14400" y="1730520"/>
            <a:ext cx="9144000" cy="422892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48640" cy="99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1"/>
              </a:rPr>
              <a:t>http://imagers.gsfc.nasa.gov/ems/gamma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2"/>
              </a:rPr>
              <a:t>http://science.nasa.gov/newhome/headlines/ast09feb99_1.htm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3"/>
              </a:rPr>
              <a:t>http://www.wordiq.com/definition/Gamma_ray_burst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4"/>
              </a:rPr>
              <a:t>http://imagine.gsfc.nasa.gov/docs/science/how_l2/compton_scatter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5"/>
              </a:rPr>
              <a:t>http://imagine.gsfc.nasa.gov/docs/science/how_l2/gamma_detectors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imagine.gsfc.nasa.gov/docs/science/how_l1/gamma_detectors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www.astro.utu.fi/~cflynn/astroII/l7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learntech.uwe.ac.uk/radiography/RScience/interactions/comptonscatter.htm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imagine.gsfc.nasa.gov/docs/science/how_l2/gamma_scintillators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6"/>
          <a:stretch/>
        </p:blipFill>
        <p:spPr>
          <a:xfrm>
            <a:off x="3048120" y="4940280"/>
            <a:ext cx="281916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79400" y="384120"/>
            <a:ext cx="7748640" cy="99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re Gamma Ray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590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he most potent particles on the electromagnetic scale and the known univers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‘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 </a:t>
            </a:r>
            <a:r>
              <a:rPr b="0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TeV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(1,000,000,000,000 eV, where an optical photon has an energy of a few eV’ </a:t>
            </a:r>
            <a:r>
              <a:rPr b="0" lang="en-US" sz="10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imagine.gsfc.nasa.gov/docs/science/how_l2/gamma_detectors.html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mallest wavelength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Quite rar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Only created by radioactive atoms and nuclear reaction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he hottest regions of the universe produce them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Formed by Supernovae, Pulsars, Neutron Stars, Black holes, and Gamma Ray Burster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3352680" y="1371600"/>
            <a:ext cx="6019920" cy="3352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6"/>
          <p:cNvSpPr/>
          <p:nvPr/>
        </p:nvSpPr>
        <p:spPr>
          <a:xfrm>
            <a:off x="3352680" y="4800600"/>
            <a:ext cx="346104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‘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electron volt</a:t>
            </a:r>
            <a:endParaRPr b="0" lang="en-US" sz="9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The change of potential energy experienced by an </a:t>
            </a:r>
            <a:r>
              <a:rPr b="0" lang="en-US" sz="900" spc="-1" strike="noStrike" u="sng">
                <a:solidFill>
                  <a:srgbClr val="eaeaea"/>
                </a:solidFill>
                <a:uFillTx/>
                <a:latin typeface="Times New Roman"/>
              </a:rPr>
              <a:t>electron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moving from a place where the potential has a value of V to a place where it has a value of (V+1 volt). This is a convenient energy unit when dealing with the motions of electrons and </a:t>
            </a:r>
            <a:r>
              <a:rPr b="0" lang="en-US" sz="900" spc="-1" strike="noStrike" u="sng">
                <a:solidFill>
                  <a:srgbClr val="eaeaea"/>
                </a:solidFill>
                <a:uFillTx/>
                <a:latin typeface="Times New Roman"/>
              </a:rPr>
              <a:t>ions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n electric fields; the unit is also the one used to describe the energy of X-rays and gamma rays. A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k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(or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kiloelectron volt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) is equal to 1000 electron volts. An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M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s equal to one million electron volts. A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G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s equal to one billion (109) electron volts. A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T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s equal to a million million (1012) electron volts.’ </a:t>
            </a:r>
            <a:r>
              <a:rPr b="0" lang="en-US" sz="900" spc="-1" strike="noStrike" u="sng">
                <a:solidFill>
                  <a:srgbClr val="65b2ff"/>
                </a:solidFill>
                <a:uFillTx/>
                <a:latin typeface="Times New Roman"/>
                <a:hlinkClick r:id="rId3"/>
              </a:rPr>
              <a:t>http://imagine.gsfc.nasa.gov/docs/science/how_l2/gamma_detectors.html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Oval 7"/>
          <p:cNvSpPr/>
          <p:nvPr/>
        </p:nvSpPr>
        <p:spPr>
          <a:xfrm>
            <a:off x="4267080" y="1371600"/>
            <a:ext cx="457200" cy="1371600"/>
          </a:xfrm>
          <a:prstGeom prst="ellipse">
            <a:avLst/>
          </a:prstGeom>
          <a:noFill/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0160" y="407880"/>
            <a:ext cx="7508880" cy="98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eeing in Gam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572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Explorer XI launched first satellite in 1961 was the first gamma ray receiver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It picked up fewer than 100 cosmic gamma-ray photons tota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GRO satellit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The moon gives off more Gamma Rays than the sun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irrors don’t wor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429000" cy="2394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5943600" y="3886200"/>
            <a:ext cx="2743200" cy="2755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3"/>
          <a:stretch/>
        </p:blipFill>
        <p:spPr>
          <a:xfrm>
            <a:off x="152280" y="3352680"/>
            <a:ext cx="548820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How Do We See Gamma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9495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1-30 MeV Is the ideal range that we wish to se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Active galaxies, pulsars, and solar flare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mpton Scattering and how it work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114800" cy="4078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1828800" y="3809880"/>
            <a:ext cx="1936800" cy="26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How Do We See in Gamma? Continued…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038840" cy="24825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537120" y="167652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’m a visual person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4419360" cy="3414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511920" y="5715000"/>
            <a:ext cx="60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5b2ff"/>
                </a:solidFill>
                <a:uFillTx/>
                <a:latin typeface="Times New Roman"/>
                <a:hlinkClick r:id="rId3"/>
              </a:rPr>
              <a:t>http://learntech.uwe.ac.uk/radiography/RScience/interactions/comptonscatter.htm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7680" y="502920"/>
            <a:ext cx="7620120" cy="912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o How Does That Work Agai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rystal Scintillators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rystals that emit low energy light (usually visible) when hit by high energy light such as gamma radiation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Pair Product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he physical process whereby a gamma-ray photon, usually through an interaction with the </a:t>
            </a:r>
            <a:r>
              <a:rPr b="0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electromagnetic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field of a nucleus, produces an electron and an anti-electron (</a:t>
            </a:r>
            <a:r>
              <a:rPr b="0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positron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). The original photon no longer exists, its energy having gone to the two resulting particles. The inverse process, pair annihilation, creates two gamma-ray photons from the mutual destruction of an electron/positron pair.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imagine.gsfc.nasa.gov/docs/dict_jp.html#pair_production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GRO uses compton scattering and pair production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Launched in April 5th, 1991 on Atlantis shuttle. Had a visual range of 30 KeV to 30 GeV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rst And Transient Source Experiment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BAT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the Oriented Scintillation Spectrometer Experiment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OS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the Imaging Compton Telescope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COMPT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and the Energetic Gamma Ray Experiment Telescope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EGR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cossc.gsfc.nasa.gov/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Returned to Earth on June 4th 2000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1"/>
                </a:solidFill>
                <a:latin typeface="Times New Roman"/>
              </a:rPr>
              <a:t>Gamma-ray Large Area Space Telescope is being sent up by Nasa in 2007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Gamma Ray Burst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7098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Does what it says on the box.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65b2ff"/>
                </a:solidFill>
                <a:uFillTx/>
                <a:latin typeface="Times New Roman"/>
                <a:hlinkClick r:id="rId1"/>
              </a:rPr>
              <a:t>http://imagers.gsfc.nasa.gov/ems/gamma.html</a:t>
            </a: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The most energetic things in the universe that we know of.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More energy in 10 seconds than our sun can produce in its entire liftime of 10,000,000,000 years!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800600" cy="36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LA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amma-Ray Large Area Space Telescope Large Area Telesco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unded Jointly by the US, Japan, France and Swed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ccuracy of 30 Arc secon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aunch in 200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Picture 6" descr="solar"/>
          <p:cNvPicPr/>
          <p:nvPr/>
        </p:nvPicPr>
        <p:blipFill>
          <a:blip r:embed="rId1"/>
          <a:stretch/>
        </p:blipFill>
        <p:spPr>
          <a:xfrm>
            <a:off x="4956120" y="3922560"/>
            <a:ext cx="3414600" cy="2173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glast2close"/>
          <p:cNvPicPr/>
          <p:nvPr/>
        </p:nvPicPr>
        <p:blipFill>
          <a:blip r:embed="rId2"/>
          <a:stretch/>
        </p:blipFill>
        <p:spPr>
          <a:xfrm>
            <a:off x="5214960" y="15987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GR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ton Gamma Ray Observa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 telescopes on i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. BAT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ase and Transient Source Experim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. OS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riented Scintilliation Spectrometer Experim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. COMPT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maging Compton Telesco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4. EGR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ergetic Gamma Ray Experiment Telesco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02:27:39Z</dcterms:created>
  <dc:creator>Dina Russell</dc:creator>
  <dc:description/>
  <dc:language>en-US</dc:language>
  <cp:lastModifiedBy>RomaK</cp:lastModifiedBy>
  <dcterms:modified xsi:type="dcterms:W3CDTF">2015-09-03T12:26:54Z</dcterms:modified>
  <cp:revision>11</cp:revision>
  <dc:subject/>
  <dc:title>Project Gamma</dc:title>
</cp:coreProperties>
</file>