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5.jpeg" ContentType="image/jpeg"/>
  <Override PartName="/ppt/media/image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651D-6657-4FC9-9DBF-610C58D3C4E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 Gam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Wylie Ballinger and Sam Russ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ject Gamm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Wylie Ballinger and Sam Russel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GRO EGR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ton Gamma Ray Observatory Energetic Gamma Ray Experiment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° Field of 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in 1991 as an Experimental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-entered in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GRO EGRE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ompton Gamma Ray Observatory Energetic Gamma Ray Experiment Telescop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80° Field of View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unched in 1991 as an Experimental Program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-entered in 2004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EGRET Discov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ding of a new class of objects--high energy gamma-ray emitting blazars, or graz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mission of high energy gamma-rays from a gamma ray burst for over an hour, with some gamma rays having energies over a GeV and two having energies over 10 GeV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servation of an increased fraction of pulsar electromagnetic radiation going into gamma rays as the age of the pulsar increases to a million ye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termination with high certainty that cosmic rays are galact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tailed mapping of the galactic diffuse radiation and the measurement of the pion bump in the high energy gamma-ray spectr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bsence of microsecond bursts and its implication for certain unification theo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 trapping time of over ten hours for energetic solar particles following a fl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asurement of the diffuse, presumably extragalactic, high energy gamma ray spectr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heawww.gsfc.nasa.gov/docs/gamcosray/EGRET/highlight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jor EGRET Discoveri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finding of a new class of objects--high energy gamma-ray emitting blazars, or grazar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emission of high energy gamma-rays from a gamma ray burst for over an hour, with some gamma rays having energies over a GeV and two having energies over 10 GeV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observation of an increased fraction of pulsar electromagnetic radiation going into gamma rays as the age of the pulsar increases to a million year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etermination with high certainty that cosmic rays are galactic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etailed mapping of the galactic diffuse radiation and the measurement of the pion bump in the high energy gamma-ray spectru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absence of microsecond bursts and its implication for certain unification theorie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long trapping time of over ten hours for energetic solar particles following a flare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measurement of the diffuse, presumably extragalactic, high energy gamma ray spectru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lheawww.gsfc.nasa.gov/docs/gamcosray/EGRET/highlight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G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tional Gamma-Ray Astrophysics Labor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ropean Space Agenc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ark, France, Germany, Italy, Spain and Switzer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Czech Republic and Po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help from Russia and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molecular cloud in the center of the galaxy that was just recently discov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TERGRA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ternational Gamma-Ray Astrophysics Laborator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uropean Space Agency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emark, France, Germany, Italy, Spain and Switzerlan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+ Czech Republic and Polan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th help from Russia and U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iant molecular cloud in the center of the galaxy that was just recently discover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Calibri"/>
              </a:rPr>
              <a:t>Gamma-Ray Burst over 40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Calibri"/>
              </a:rPr>
              <a:t>http://www.rssd.esa.int/Integral/integ_image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eaeaea"/>
                </a:solidFill>
                <a:latin typeface="Arial"/>
              </a:rPr>
              <a:t>Gamma-Ray Burst over 40 Second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eaeaea"/>
                </a:solidFill>
                <a:latin typeface="Arial"/>
              </a:rPr>
              <a:t>http://www.rssd.esa.int/Integral/integ_image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ol Picture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Cool Picture !!!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gamma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cience.nasa.gov/newhome/headlines/ast09feb99_1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ordiq.com/definition/Gamma_ray_bur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ine.gsfc.nasa.gov/docs/science/how_l2/compton_scatter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ine.gsfc.nasa.gov/docs/science/how_l2/gamma_detec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ine.gsfc.nasa.gov/docs/science/how_l1/gamma_detec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.utu.fi/~cflynn/astroII/l7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earntech.uwe.ac.uk/radiography/RScience/interactions/comptonscatter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ine.gsfc.nasa.gov/docs/science/how_l2/gamma_scintilla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urc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ers.gsfc.nasa.gov/ems/gamma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science.nasa.gov/newhome/headlines/ast09feb99_1.ht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www.wordiq.com/definition/Gamma_ray_burst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ine.gsfc.nasa.gov/docs/science/how_l2/compton_scatter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ine.gsfc.nasa.gov/docs/science/how_l2/gamma_detec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ine.gsfc.nasa.gov/docs/science/how_l1/gamma_detec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www.astro.utu.fi/~cflynn/astroII/l7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learntech.uwe.ac.uk/radiography/RScience/interactions/comptonscatter.ht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ine.gsfc.nasa.gov/docs/science/how_l2/gamma_scintilla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Gamma Ray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potent particles on the electromagnetic scale and the known unive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TeV (1,000,000,000,000 eV, where an optical photon has an energy of a few eV’ http://imagine.gsfc.nasa.gov/docs/science/how_l2/gamma_detec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est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te r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created by radioactive atoms and nuclear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ttest regions of the universe produce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ed by Supernovae, Pulsars, Neutron Stars, Black holes, and Gamma Ray Burs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vo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e of potential energy experienced by an electron moving from a place where the potential has a value of V to a place where it has a value of (V+1 volt). This is a convenient energy unit when dealing with the motions of electrons and ions in electric fields; the unit is also the one used to describe the energy of X-rays and gamma rays. A keV (or kiloelectron volt) is equal to 1000 electron volts. An MeV is equal to one million electron volts. A GeV is equal to one billion (109) electron volts. A TeV is equal to a million million (1012) electron volts.’ http://imagine.gsfc.nasa.gov/docs/science/how_l2/gamma_detec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are Gamma Ray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st potent particles on the electromagnetic scale and the known univers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‘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 TeV (1,000,000,000,000 eV, where an optical photon has an energy of a few eV’ http://imagine.gsfc.nasa.gov/docs/science/how_l2/gamma_detec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mallest wavelengt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Quite rar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nly created by radioactive atoms and nuclear reacti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hottest regions of the universe produce them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rmed by Supernovae, Pulsars, Neutron Stars, Black holes, and Gamma Ray Burster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lectron vol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hange of potential energy experienced by an electron moving from a place where the potential has a value of V to a place where it has a value of (V+1 volt). This is a convenient energy unit when dealing with the motions of electrons and ions in electric fields; the unit is also the one used to describe the energy of X-rays and gamma rays. A keV (or kiloelectron volt) is equal to 1000 electron volts. An MeV is equal to one million electron volts. A GeV is equal to one billion (109) electron volts. A TeV is equal to a million million (1012) electron volts.’ http://imagine.gsfc.nasa.gov/docs/science/how_l2/gamma_detec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ing in Gam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er XI launched first satellite in 1961 was the first gamma ray rece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picked up fewer than 100 cosmic gamma-ray photons to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GRO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gives off more Gamma Rays than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rrors don’t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eing in Gamm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plorer XI launched first satellite in 1961 was the first gamma ray receiv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t picked up fewer than 100 cosmic gamma-ray photons total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GRO satellit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on gives off more Gamma Rays than the su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rrors don’t wor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See Gam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30 MeV Is the ideal range that we wish to s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galaxies, pulsars, and solar fl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ton Scattering and how it wo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w Do We See Gamma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-30 MeV Is the ideal range that we wish to se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ctive galaxies, pulsars, and solar flar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pton Scattering and how it work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See in Gamma? Continue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a visual pers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earntech.uwe.ac.uk/radiography/RScience/interactions/comptonscatter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w Do We See in Gamma? Continued…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’m a visual person…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learntech.uwe.ac.uk/radiography/RScience/interactions/comptonscatter.ht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How Does That Work Ag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Scintilla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that emit low energy light (usually visible) when hit by high energy light such as gamma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r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ysical process whereby a gamma-ray photon, usually through an interaction with the electromagnetic field of a nucleus, produces an electron and an anti-electron (positron). The original photon no longer exists, its energy having gone to the two resulting particles. The inverse process, pair annihilation, creates two gamma-ray photons from the mutual destruction of an electron/positron pair. http://imagine.gsfc.nasa.gov/docs/dict_jp.html#pair_produ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GRO uses compton scattering and pair pro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in April 5th, 1991 on Atlantis shuttle. Had a visual range of 30 KeV to 30 Ge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st And Transient Source Experiment (BATSE), the Oriented Scintillation Spectrometer Experiment (OSSE), the Imaging Compton Telescope (COMPTEL), and the Energetic Gamma Ray Experiment Telescope (EGRET). http://cossc.gsfc.nasa.gov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ed to Earth on June 4th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Large Area Space Telescope is being sent up by Nasa in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 How Does That Work Agai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ystal Scintillator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ystals that emit low energy light (usually visible) when hit by high energy light such as gamma radiat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air 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hysical process whereby a gamma-ray photon, usually through an interaction with the electromagnetic field of a nucleus, produces an electron and an anti-electron (positron). The original photon no longer exists, its energy having gone to the two resulting particles. The inverse process, pair annihilation, creates two gamma-ray photons from the mutual destruction of an electron/positron pair. http://imagine.gsfc.nasa.gov/docs/dict_jp.html#pair_production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GRO uses compton scattering and pair product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unched in April 5th, 1991 on Atlantis shuttle. Had a visual range of 30 KeV to 30 GeV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urst And Transient Source Experiment (BATSE), the Oriented Scintillation Spectrometer Experiment (OSSE), the Imaging Compton Telescope (COMPTEL), and the Energetic Gamma Ray Experiment Telescope (EGRET). http://cossc.gsfc.nasa.gov/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turned to Earth on June 4th 2000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amma-ray Large Area Space Telescope is being sent up by Nasa in 2007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 Bur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what it says on the b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gamma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energetic things in the universe that we know o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energy in 10 seconds than our sun can produce in its entire liftime of 10,000,000,000 yea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amma Ray Burster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es what it says on the box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ers.gsfc.nasa.gov/ems/gamma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st energetic things in the universe that we know of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e energy in 10 seconds than our sun can produce in its entire liftime of 10,000,000,000 years!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Large Area Space Telescope Large Area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ed Jointly by the US, Japan, France and Swe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uracy of 30 Arc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 in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LA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amma-Ray Large Area Space Telescope Large Area Telescop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unded Jointly by the US, Japan, France and Swede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ccuracy of 30 Arc second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unch in 2006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G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ton Gamma Ray Observ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telescopes on i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BAT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 and Transient Sourc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OS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ented Scintilliation Spectrometer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COMPT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ing Compton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EGR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etic Gamma Ray Experiment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GRO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pton Gamma Ray Observator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ur telescopes on it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. BATS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ase and Transient Source Experime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OSS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riented Scintilliation Spectrometer Experime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COMPTE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aging Compton Telescop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EGRE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ergetic Gamma Ray Experiment Telescop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F201-EB8D-4CD3-BF85-8CBDDAAE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710F-A8DC-4550-B3B3-8B677855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DA1B-15BF-4562-9263-BD5AC5EB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083E-C9F4-43C7-A289-C70D0CDA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24E9-E4D8-4A2C-973A-6CB669FE5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B830-710A-4D4B-AC62-2DEFE97C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4522-C7B1-4427-AD51-11E6D30F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23D7-D0C5-4425-B1E7-15C7EB3A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B413-BACC-49A4-8389-6F611E59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C2BD-626A-46B5-9B20-C1B4428B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2BBD-25CD-4EB2-A287-823180E9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B7A6-CE84-49C1-8034-70BB9E19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C0D1-2368-41AD-9007-E40CB812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8CBF-F9FF-4C08-8C07-06017C87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460E-D93A-4FDC-A165-2DE41061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BEA8-1B39-41C2-B6FC-635D8DD2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64BE-6EB8-4664-86FC-06DDDA66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069E-F686-40A2-99B5-FF4DA7CD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158-43F1-4FC1-97B0-150012E9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9547-9581-49BA-8782-E5E65724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46A7-9CD0-4029-8812-E3F47EDF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2FB-7127-42CA-842A-7F7A20B0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C727-BE54-4CCF-9056-CD6C867B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26BD-6A94-4F5F-8B16-084562B3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1D31-B7D4-41C1-BACC-BFAC3D3E88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25CB-E129-4002-80A1-F9C6583C746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heawww.gsfc.nasa.gov/docs/gamcosray/EGRET/highlights.html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rssd.esa.int/Integral/integ_images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rs.gsfc.nasa.gov/ems/gamma.html" TargetMode="External"/><Relationship Id="rId2" Type="http://schemas.openxmlformats.org/officeDocument/2006/relationships/hyperlink" Target="http://science.nasa.gov/newhome/headlines/ast09feb99_1.htm" TargetMode="External"/><Relationship Id="rId3" Type="http://schemas.openxmlformats.org/officeDocument/2006/relationships/hyperlink" Target="http://www.wordiq.com/definition/Gamma_ray_burst" TargetMode="External"/><Relationship Id="rId4" Type="http://schemas.openxmlformats.org/officeDocument/2006/relationships/hyperlink" Target="http://imagine.gsfc.nasa.gov/docs/science/how_l2/compton_scatter.html" TargetMode="External"/><Relationship Id="rId5" Type="http://schemas.openxmlformats.org/officeDocument/2006/relationships/hyperlink" Target="http://imagine.gsfc.nasa.gov/docs/science/how_l2/gamma_detectors.html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ine.gsfc.nasa.gov/docs/science/how_l2/gamma_detectors.html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imagine.gsfc.nasa.gov/docs/science/how_l2/gamma_detectors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learntech.uwe.ac.uk/radiography/RScience/interactions/comptonscatter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ine.gsfc.nasa.gov/docs/dict_jp.html#pair_production" TargetMode="External"/><Relationship Id="rId2" Type="http://schemas.openxmlformats.org/officeDocument/2006/relationships/hyperlink" Target="http://cossc.gsfc.nasa.gov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rs.gsfc.nasa.gov/ems/gamma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ccecff"/>
                </a:solidFill>
                <a:uFillTx/>
                <a:latin typeface="Arial"/>
              </a:rPr>
              <a:t>Project Gamm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124080" y="1676520"/>
            <a:ext cx="35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By Wylie Ballinger and Sam Russell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3581280" y="1905120"/>
            <a:ext cx="2089440" cy="949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5379840" cy="35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GRO EGR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ompton Gamma Ray Observatory Energetic Gamma Ray Experiment Telesco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8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° Field of Vie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Launched in 1991 as an Experimental Progra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Re-entered in 200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Picture 7" descr="scheme_small"/>
          <p:cNvPicPr/>
          <p:nvPr/>
        </p:nvPicPr>
        <p:blipFill>
          <a:blip r:embed="rId1"/>
          <a:stretch/>
        </p:blipFill>
        <p:spPr>
          <a:xfrm>
            <a:off x="1111320" y="1689120"/>
            <a:ext cx="2724120" cy="1990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untitled2"/>
          <p:cNvPicPr/>
          <p:nvPr/>
        </p:nvPicPr>
        <p:blipFill>
          <a:blip r:embed="rId2"/>
          <a:stretch/>
        </p:blipFill>
        <p:spPr>
          <a:xfrm>
            <a:off x="228600" y="3886200"/>
            <a:ext cx="1622520" cy="2173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gro"/>
          <p:cNvPicPr/>
          <p:nvPr/>
        </p:nvPicPr>
        <p:blipFill>
          <a:blip r:embed="rId3"/>
          <a:stretch/>
        </p:blipFill>
        <p:spPr>
          <a:xfrm>
            <a:off x="1828800" y="3886200"/>
            <a:ext cx="2895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jor EGRET Discove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760" y="1295280"/>
            <a:ext cx="40370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finding of a new class of objects--high energy gamma-ray emitting blazars, or grazars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emission of high energy gamma-rays from a gamma ray burst for over an hour, with some gamma rays having energies over a GeV and two having energies over 10 GeV.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observation of an increased fraction of pulsar electromagnetic radiation going into gamma rays as the age of the pulsar increases to a million years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determination with high certainty that cosmic rays are galactic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detailed mapping of the galactic diffuse radiation and the measurement of the pion bump in the high energy gamma-ray spectrum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absence of microsecond bursts and its implication for certain unification theories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long trapping time of over ten hours for energetic solar particles following a flare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A measurement of the diffuse, presumably extragalactic, high energy gamma ray spectrum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5b2ff"/>
                </a:solidFill>
                <a:uFillTx/>
                <a:latin typeface="Times New Roman"/>
                <a:hlinkClick r:id="rId1"/>
              </a:rPr>
              <a:t>http://lheawww.gsfc.nasa.gov/docs/gamcosray/EGRET/highlights.html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0" name="Picture 5" descr="untitled3"/>
          <p:cNvPicPr/>
          <p:nvPr/>
        </p:nvPicPr>
        <p:blipFill>
          <a:blip r:embed="rId2"/>
          <a:stretch/>
        </p:blipFill>
        <p:spPr>
          <a:xfrm>
            <a:off x="4645080" y="2768760"/>
            <a:ext cx="403704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6" descr="catalog_sky"/>
          <p:cNvPicPr/>
          <p:nvPr/>
        </p:nvPicPr>
        <p:blipFill>
          <a:blip r:embed="rId1"/>
          <a:stretch/>
        </p:blipFill>
        <p:spPr>
          <a:xfrm>
            <a:off x="426960" y="228600"/>
            <a:ext cx="833616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GR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7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ternational Gamma-Ray Astrophysics Laborat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uropean Space Agency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Demark, France, Germany, Italy, Spain and Switzerlan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+ Czech Republic and Polan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With help from Russia and U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iant molecular cloud in the center of the galaxy that was just recently discover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Picture 9" descr="POMOct2004"/>
          <p:cNvPicPr/>
          <p:nvPr/>
        </p:nvPicPr>
        <p:blipFill>
          <a:blip r:embed="rId1"/>
          <a:stretch/>
        </p:blipFill>
        <p:spPr>
          <a:xfrm>
            <a:off x="5181480" y="1143000"/>
            <a:ext cx="3473640" cy="5334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integral"/>
          <p:cNvPicPr/>
          <p:nvPr/>
        </p:nvPicPr>
        <p:blipFill>
          <a:blip r:embed="rId2"/>
          <a:stretch/>
        </p:blipFill>
        <p:spPr>
          <a:xfrm>
            <a:off x="76320" y="4191120"/>
            <a:ext cx="168408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amma-Ray Burst over 40 Secon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7" name="Picture 6" descr="untitled"/>
          <p:cNvPicPr/>
          <p:nvPr/>
        </p:nvPicPr>
        <p:blipFill>
          <a:blip r:embed="rId1"/>
          <a:stretch/>
        </p:blipFill>
        <p:spPr>
          <a:xfrm>
            <a:off x="1143000" y="1103400"/>
            <a:ext cx="6858000" cy="560844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7"/>
          <p:cNvSpPr/>
          <p:nvPr/>
        </p:nvSpPr>
        <p:spPr>
          <a:xfrm>
            <a:off x="152280" y="6613560"/>
            <a:ext cx="533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http://www.rssd.esa.int/Integral/integ_images.html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A Cool Picture 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0" name="Picture 6" descr="untitled4"/>
          <p:cNvPicPr/>
          <p:nvPr/>
        </p:nvPicPr>
        <p:blipFill>
          <a:blip r:embed="rId1"/>
          <a:stretch/>
        </p:blipFill>
        <p:spPr>
          <a:xfrm>
            <a:off x="14400" y="1730520"/>
            <a:ext cx="9144000" cy="422892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48640" cy="99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1"/>
              </a:rPr>
              <a:t>http://imagers.gsfc.nasa.gov/ems/gamma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2"/>
              </a:rPr>
              <a:t>http://science.nasa.gov/newhome/headlines/ast09feb99_1.htm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3"/>
              </a:rPr>
              <a:t>http://www.wordiq.com/definition/Gamma_ray_burst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4"/>
              </a:rPr>
              <a:t>http://imagine.gsfc.nasa.gov/docs/science/how_l2/compton_scatter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5"/>
              </a:rPr>
              <a:t>http://imagine.gsfc.nasa.gov/docs/science/how_l2/gamma_detectors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http://imagine.gsfc.nasa.gov/docs/science/how_l1/gamma_detectors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http://www.astro.utu.fi/~cflynn/astroII/l7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http://learntech.uwe.ac.uk/radiography/RScience/interactions/comptonscatter.htm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http://imagine.gsfc.nasa.gov/docs/science/how_l2/gamma_scintillators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6"/>
          <a:stretch/>
        </p:blipFill>
        <p:spPr>
          <a:xfrm>
            <a:off x="3048120" y="4940280"/>
            <a:ext cx="2819160" cy="17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79400" y="384120"/>
            <a:ext cx="7748640" cy="99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are Gamma Ray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590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he most potent particles on the electromagnetic scale and the known universe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‘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 </a:t>
            </a:r>
            <a:r>
              <a:rPr b="0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TeV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(1,000,000,000,000 eV, where an optical photon has an energy of a few eV’ </a:t>
            </a:r>
            <a:r>
              <a:rPr b="0" lang="en-US" sz="10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imagine.gsfc.nasa.gov/docs/science/how_l2/gamma_detectors.html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mallest wavelength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Quite rare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Only created by radioactive atoms and nuclear reaction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he hottest regions of the universe produce them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Formed by Supernovae, Pulsars, Neutron Stars, Black holes, and Gamma Ray Burster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3352680" y="1371600"/>
            <a:ext cx="6019920" cy="33526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6"/>
          <p:cNvSpPr/>
          <p:nvPr/>
        </p:nvSpPr>
        <p:spPr>
          <a:xfrm>
            <a:off x="3352680" y="4800600"/>
            <a:ext cx="346104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‘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electron volt</a:t>
            </a:r>
            <a:endParaRPr b="0" lang="en-US" sz="9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The change of potential energy experienced by an </a:t>
            </a:r>
            <a:r>
              <a:rPr b="0" lang="en-US" sz="900" spc="-1" strike="noStrike" u="sng">
                <a:solidFill>
                  <a:srgbClr val="eaeaea"/>
                </a:solidFill>
                <a:uFillTx/>
                <a:latin typeface="Times New Roman"/>
              </a:rPr>
              <a:t>electron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moving from a place where the potential has a value of V to a place where it has a value of (V+1 volt). This is a convenient energy unit when dealing with the motions of electrons and </a:t>
            </a:r>
            <a:r>
              <a:rPr b="0" lang="en-US" sz="900" spc="-1" strike="noStrike" u="sng">
                <a:solidFill>
                  <a:srgbClr val="eaeaea"/>
                </a:solidFill>
                <a:uFillTx/>
                <a:latin typeface="Times New Roman"/>
              </a:rPr>
              <a:t>ions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in electric fields; the unit is also the one used to describe the energy of X-rays and gamma rays. A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keV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(or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kiloelectron volt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) is equal to 1000 electron volts. An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MeV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is equal to one million electron volts. A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GeV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is equal to one billion (109) electron volts. A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TeV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is equal to a million million (1012) electron volts.’ </a:t>
            </a:r>
            <a:r>
              <a:rPr b="0" lang="en-US" sz="900" spc="-1" strike="noStrike" u="sng">
                <a:solidFill>
                  <a:srgbClr val="65b2ff"/>
                </a:solidFill>
                <a:uFillTx/>
                <a:latin typeface="Times New Roman"/>
                <a:hlinkClick r:id="rId3"/>
              </a:rPr>
              <a:t>http://imagine.gsfc.nasa.gov/docs/science/how_l2/gamma_detectors.html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Oval 7"/>
          <p:cNvSpPr/>
          <p:nvPr/>
        </p:nvSpPr>
        <p:spPr>
          <a:xfrm>
            <a:off x="4267080" y="1371600"/>
            <a:ext cx="457200" cy="1371600"/>
          </a:xfrm>
          <a:prstGeom prst="ellipse">
            <a:avLst/>
          </a:prstGeom>
          <a:noFill/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0160" y="407880"/>
            <a:ext cx="7508880" cy="98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eeing in Gamm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572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Explorer XI launched first satellite in 1961 was the first gamma ray receiver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It picked up fewer than 100 cosmic gamma-ray photons total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GRO satellit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The moon gives off more Gamma Rays than the sun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irrors don’t work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429000" cy="2394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5943600" y="3886200"/>
            <a:ext cx="2743200" cy="2755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"/>
          <p:cNvPicPr/>
          <p:nvPr/>
        </p:nvPicPr>
        <p:blipFill>
          <a:blip r:embed="rId3"/>
          <a:stretch/>
        </p:blipFill>
        <p:spPr>
          <a:xfrm>
            <a:off x="152280" y="3352680"/>
            <a:ext cx="5488200" cy="33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How Do We See Gamma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39495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1-30 MeV Is the ideal range that we wish to see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Active galaxies, pulsars, and solar flare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mpton Scattering and how it work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114800" cy="4078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1828800" y="3809880"/>
            <a:ext cx="1936800" cy="26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How Do We See in Gamma? Continued…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4038840" cy="24825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537120" y="167652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’m a visual person…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4419360" cy="3414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511920" y="5715000"/>
            <a:ext cx="60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5b2ff"/>
                </a:solidFill>
                <a:uFillTx/>
                <a:latin typeface="Times New Roman"/>
                <a:hlinkClick r:id="rId3"/>
              </a:rPr>
              <a:t>http://learntech.uwe.ac.uk/radiography/RScience/interactions/comptonscatter.htm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7680" y="502920"/>
            <a:ext cx="7620120" cy="912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o How Does That Work Agai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rystal Scintillators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rystals that emit low energy light (usually visible) when hit by high energy light such as gamma radiation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Pair Productio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he physical process whereby a gamma-ray photon, usually through an interaction with the </a:t>
            </a:r>
            <a:r>
              <a:rPr b="0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electromagnetic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field of a nucleus, produces an electron and an anti-electron (</a:t>
            </a:r>
            <a:r>
              <a:rPr b="0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positron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). The original photon no longer exists, its energy having gone to the two resulting particles. The inverse process, pair annihilation, creates two gamma-ray photons from the mutual destruction of an electron/positron pair.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imagine.gsfc.nasa.gov/docs/dict_jp.html#pair_production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GRO uses compton scattering and pair production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Launched in April 5th, 1991 on Atlantis shuttle. Had a visual range of 30 KeV to 30 GeV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rst And Transient Source Experiment (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BAT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the Oriented Scintillation Spectrometer Experiment (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OS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the Imaging Compton Telescope (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COMPT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and the Energetic Gamma Ray Experiment Telescope (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EGR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http://cossc.gsfc.nasa.gov/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Returned to Earth on June 4th 2000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1"/>
                </a:solidFill>
                <a:latin typeface="Times New Roman"/>
              </a:rPr>
              <a:t>Gamma-ray Large Area Space Telescope is being sent up by Nasa in 2007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Gamma Ray Burst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37098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aeaea"/>
                </a:solidFill>
                <a:latin typeface="Times New Roman"/>
              </a:rPr>
              <a:t>Does what it says on the box.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65b2ff"/>
                </a:solidFill>
                <a:uFillTx/>
                <a:latin typeface="Times New Roman"/>
                <a:hlinkClick r:id="rId1"/>
              </a:rPr>
              <a:t>http://imagers.gsfc.nasa.gov/ems/gamma.html</a:t>
            </a:r>
            <a:r>
              <a:rPr b="0" lang="en-US" sz="17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aeaea"/>
                </a:solidFill>
                <a:latin typeface="Times New Roman"/>
              </a:rPr>
              <a:t>The most energetic things in the universe that we know of.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aeaea"/>
                </a:solidFill>
                <a:latin typeface="Times New Roman"/>
              </a:rPr>
              <a:t>More energy in 10 seconds than our sun can produce in its entire liftime of 10,000,000,000 years!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4114800" y="1828800"/>
            <a:ext cx="4800600" cy="36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LA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amma-Ray Large Area Space Telescope Large Area Telesco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unded Jointly by the US, Japan, France and Swed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ccuracy of 30 Arc secon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aunch in 2006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Picture 6" descr="solar"/>
          <p:cNvPicPr/>
          <p:nvPr/>
        </p:nvPicPr>
        <p:blipFill>
          <a:blip r:embed="rId1"/>
          <a:stretch/>
        </p:blipFill>
        <p:spPr>
          <a:xfrm>
            <a:off x="4956120" y="3922560"/>
            <a:ext cx="3414600" cy="2173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glast2close"/>
          <p:cNvPicPr/>
          <p:nvPr/>
        </p:nvPicPr>
        <p:blipFill>
          <a:blip r:embed="rId2"/>
          <a:stretch/>
        </p:blipFill>
        <p:spPr>
          <a:xfrm>
            <a:off x="5214960" y="159876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GR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ton Gamma Ray Observat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 telescopes on i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. BATS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ase and Transient Source Experim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. OSS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riented Scintilliation Spectrometer Experim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. COMPT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maging Compton Telesco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4. EGR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nergetic Gamma Ray Experiment Telesco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02:27:39Z</dcterms:created>
  <dc:creator>Dina Russell</dc:creator>
  <dc:description/>
  <dc:language>en-US</dc:language>
  <cp:lastModifiedBy>RomaK</cp:lastModifiedBy>
  <dcterms:modified xsi:type="dcterms:W3CDTF">2015-09-03T12:26:54Z</dcterms:modified>
  <cp:revision>11</cp:revision>
  <dc:subject/>
  <dc:title>Project Gamma</dc:title>
</cp:coreProperties>
</file>