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29058-948E-49E6-B005-54D4F3BA111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i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iction is a Force that always pushes against an object when it touches another object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2 things are in contact with each other, there will be friction acting between them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i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iction is a Force that always pushes against an object when it touches another object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2 things are in contact with each other, there will be friction acting between them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iction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 friction (lots of friction) – will slow something d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friction (not much friction) – will keep things mov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iction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 friction (lots of friction) – will slow something d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friction (not much friction) – will keep things mov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 friction or Low fric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ki’s on the sn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 ty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akes on a bik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 on a sl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ncil and rub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 friction or Low fric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ki’s on the sn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 ty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akes on a bik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 on a sl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ncil and rub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an we reduce the friction between 2 object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e the contact area by using rollers/ball-bearings/whe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the surfaces of the materials that are touching by using lubrication eg. O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eate a cushion of ai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. Like a hovercraft or air hockey 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an we reduce the friction between 2 object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e the contact area by using rollers/ball-bearings/whe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the surfaces of the materials that are touching by using lubrication eg. O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eate a cushion of ai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. Like a hovercraft or air hockey 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uid” Fri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type of friction is what happens with liquids and gases (In Physics, liquids and gases are both called "fluids". They behave in similar ways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uid friction is also known as "drag". On aircraft it's also called "air resistance"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depends on: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thick the fluid i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    (its "viscosity"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hape of the objec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peed of the objec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uid” Fri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type of friction is what happens with liquids and gases (In Physics, liquids and gases are both called "fluids". They behave in similar ways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uid friction is also known as "drag". On aircraft it's also called "air resistance"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depends on: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thick the fluid i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    (its "viscosity"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hape of the objec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peed of the objec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rcraft and car designers want to reduce drag, so that the vehicle can go fast without having to waste too much fue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you think they can do i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rcraft and car designers want to reduce drag, so that the vehicle can go fast without having to waste too much fue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you think they can do i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per Aeroplane Compet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winning team is the one who gets their plane to stay in the air the longest and is the fastes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erial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sheet of blank pap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paperclip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otch tap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truct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only the materials indicated in the above list; you don’t have to use them al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lane may be constructed using all or part of the 21.5 x 28 cm sheet of pap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el each plane with the "engineer’s" nam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group is allowed three throws; record the best throw onl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gin timing with the throw of the plane and end when the plane hits the floo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tle a tie with a throw-off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per Aeroplane Compet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winning team is the one who gets their plane to stay in the air the longest and is the fastes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erial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sheet of blank pap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paperclip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otch tap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truct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only the materials indicated in the above list; you don’t have to use them al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lane may be constructed using all or part of the 21.5 x 28 cm sheet of pap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el each plane with the "engineer’s" nam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group is allowed three throws; record the best throw onl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gin timing with the throw of the plane and end when the plane hits the floo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tle a tie with a throw-off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CD420-CE96-4556-99F1-AB9B0C2F7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DA64B-470E-485A-8619-0927C467E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1EECC-428A-4622-8D5D-1D2415B10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D8EC7-6224-4626-9AC5-6E0152CBC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984C0-6D58-4478-9F61-85304F4F5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4A344-52D6-4D15-9778-E40F7C415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B4AED-ED01-4C27-BE30-C162A7CFB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77EF9-18AB-4FC7-AB8D-EC8AC12E8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53446-3F32-45EF-BBCD-A714C523B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5FEC4-4151-4C38-8351-103F809C3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CCD16-C0A9-4E42-90FF-6CB6CFD11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C7A18-C35E-4E45-A78C-09B5FDC43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2DE20-377B-42FA-8BB0-387731FF6A4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hyperlink" Target="http://images.google.co.uk/imgres?imgurl=http://www.autofixgarage.co.uk/images/cartyre.jpg&amp;imgrefurl=http://www.autofixgarage.co.uk/tyres.html&amp;h=465&amp;w=398&amp;sz=64&amp;hl=en&amp;start=4&amp;um=1&amp;tbnid=d6EzjcE7111TSM:&amp;tbnh=128&amp;tbnw=110&amp;prev=/images%3Fq%3Dcar%2Btyres%26svnum%3D10%26um%3D1%26hl%3Den%26safe%3Dactive" TargetMode="External"/><Relationship Id="rId4" Type="http://schemas.openxmlformats.org/officeDocument/2006/relationships/image" Target="../media/image4.jpeg"/><Relationship Id="rId5" Type="http://schemas.openxmlformats.org/officeDocument/2006/relationships/hyperlink" Target="http://images.google.co.uk/imgres?imgurl=http://www.strangesports.com/images/content/12783.jpg&amp;imgrefurl=http://www.strangesports.com/content/item/12783.html&amp;h=249&amp;w=380&amp;sz=28&amp;hl=en&amp;start=28&amp;um=1&amp;tbnid=D8aeUVzVnO5QrM:&amp;tbnh=81&amp;tbnw=123&amp;prev=/images%3Fq%3Dski%2527s%2Bon%2Bsnow%26start%3D20%26ndsp%3D20%26svnum%3D10%26um%3D1%26hl%3Den%26safe%3Dactive%26sa%3DN" TargetMode="External"/><Relationship Id="rId6" Type="http://schemas.openxmlformats.org/officeDocument/2006/relationships/image" Target="../media/image5.jpeg"/><Relationship Id="rId7" Type="http://schemas.openxmlformats.org/officeDocument/2006/relationships/hyperlink" Target="http://images.google.co.uk/imgres?imgurl=http://www.skylineracewayroch.com/images/waterslide_main.jpg&amp;imgrefurl=http://www.skylineracewayroch.com/slide.htm&amp;h=300&amp;w=450&amp;sz=154&amp;hl=en&amp;start=5&amp;um=1&amp;tbnid=wtz0mNJTv_Na5M:&amp;tbnh=85&amp;tbnw=127&amp;prev=/images%3Fq%3Dwater%2Bslide%26svnum%3D10%26um%3D1%26hl%3Den%26safe%3Dactive" TargetMode="External"/><Relationship Id="rId8" Type="http://schemas.openxmlformats.org/officeDocument/2006/relationships/image" Target="../media/image6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content.answers.com/main/content/wp/en-commons/3/30/BallBearing.gif&amp;imgrefurl=http://www.answers.com/topic/bear&amp;h=240&amp;w=240&amp;sz=644&amp;hl=en&amp;start=4&amp;um=1&amp;tbnid=JH-YrrYC1vHdIM:&amp;tbnh=110&amp;tbnw=110&amp;prev=/images%3Fq%3Dreducing%2Bfriction%2Bby%2Bball%2Bbearings%26svnum%3D10%26um%3D1%26hl%3Den%26safe%3Dactive" TargetMode="External"/><Relationship Id="rId2" Type="http://schemas.openxmlformats.org/officeDocument/2006/relationships/image" Target="../media/image7.jpeg"/><Relationship Id="rId3" Type="http://schemas.openxmlformats.org/officeDocument/2006/relationships/hyperlink" Target="http://images.google.co.uk/imgres?imgurl=http://www.lubegard.com/automotive/images/ALL_2cycles.jpg&amp;imgrefurl=http://www.lubegard.com/automotive/engine_2cycle.html&amp;h=356&amp;w=278&amp;sz=15&amp;hl=en&amp;start=11&amp;um=1&amp;tbnid=o5iYqf5xmPJcsM:&amp;tbnh=121&amp;tbnw=94&amp;prev=/images%3Fq%3Dreducing%2Bfriction%26svnum%3D10%26um%3D1%26hl%3Den%26safe%3Dactive" TargetMode="External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413000"/>
            <a:ext cx="7772400" cy="218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Arial"/>
              </a:rPr>
              <a:t>Fricti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32000" y="3284280"/>
            <a:ext cx="640080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riction is a Force that always pushes against an object when it touches another object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en 2 things are in contact with each other, there will be friction acting between them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friction helps to grip the road"/>
          <p:cNvPicPr/>
          <p:nvPr/>
        </p:nvPicPr>
        <p:blipFill>
          <a:blip r:embed="rId1"/>
          <a:stretch/>
        </p:blipFill>
        <p:spPr>
          <a:xfrm>
            <a:off x="826920" y="476280"/>
            <a:ext cx="235584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riction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igh friction (lots of friction) – will slow something d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ow friction (not much friction) – will keep things mo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High friction or Low frictio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ki’s on the sn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ar ty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rakes on a bik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ater on a sl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ncil and rub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bike2-01lores-300a"/>
          <p:cNvPicPr/>
          <p:nvPr/>
        </p:nvPicPr>
        <p:blipFill>
          <a:blip r:embed="rId1"/>
          <a:stretch/>
        </p:blipFill>
        <p:spPr>
          <a:xfrm>
            <a:off x="539640" y="1557360"/>
            <a:ext cx="1959120" cy="29512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7" descr="istockphoto_1799633_pencil_rubber"/>
          <p:cNvPicPr/>
          <p:nvPr/>
        </p:nvPicPr>
        <p:blipFill>
          <a:blip r:embed="rId2"/>
          <a:stretch/>
        </p:blipFill>
        <p:spPr>
          <a:xfrm>
            <a:off x="2771640" y="3573360"/>
            <a:ext cx="2314800" cy="15415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9" descr="cartyr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227640" y="1773360"/>
            <a:ext cx="1047960" cy="12189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1" descr="12783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564000" y="2276640"/>
            <a:ext cx="1171440" cy="7714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3" descr="waterslide_main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227640" y="3789360"/>
            <a:ext cx="1209960" cy="8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How can we reduce the friction between 2 object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duce the contact area by using rollers/ball-bearings/whe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hange the surfaces of the materials that are touching by using lubrication eg. O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reate a cushion of ai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g. Like a hovercraft or air hockey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5" descr="BallBeari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164360" y="1628640"/>
            <a:ext cx="1047600" cy="10479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7" descr="ALL_2cycles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380360" y="3789360"/>
            <a:ext cx="895320" cy="11523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9" descr="Hovercraft"/>
          <p:cNvPicPr/>
          <p:nvPr/>
        </p:nvPicPr>
        <p:blipFill>
          <a:blip r:embed="rId5"/>
          <a:stretch/>
        </p:blipFill>
        <p:spPr>
          <a:xfrm>
            <a:off x="1042920" y="5084640"/>
            <a:ext cx="1924200" cy="10764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" descr="unbranded-power-air-hockey-table"/>
          <p:cNvPicPr/>
          <p:nvPr/>
        </p:nvPicPr>
        <p:blipFill>
          <a:blip r:embed="rId6"/>
          <a:stretch/>
        </p:blipFill>
        <p:spPr>
          <a:xfrm>
            <a:off x="4356000" y="5013360"/>
            <a:ext cx="990720" cy="120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Fluid” Fri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is type of friction is what happens with liquids and gases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(In Physics, liquids and gases are both called "fluids". They behave in similar ways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luid friction is also known as "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rag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". On aircraft it's also called "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ir resistanc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".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t depends on: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ow thick the fluid is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     (its "viscosity"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shape of the objec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speed of the objec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5" descr="airforces2000"/>
          <p:cNvPicPr/>
          <p:nvPr/>
        </p:nvPicPr>
        <p:blipFill>
          <a:blip r:embed="rId1"/>
          <a:stretch/>
        </p:blipFill>
        <p:spPr>
          <a:xfrm>
            <a:off x="5724360" y="4005360"/>
            <a:ext cx="2448000" cy="24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ircraft and car designers want to reduce drag, so that the vehicle can go fast without having to waste too much fuel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ow do you think they can do 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5" descr="A streamlined shape reduces drag"/>
          <p:cNvPicPr/>
          <p:nvPr/>
        </p:nvPicPr>
        <p:blipFill>
          <a:blip r:embed="rId1"/>
          <a:stretch/>
        </p:blipFill>
        <p:spPr>
          <a:xfrm>
            <a:off x="6516720" y="0"/>
            <a:ext cx="2238480" cy="20858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To get less drag, we need SMOOTH airflow"/>
          <p:cNvPicPr/>
          <p:nvPr/>
        </p:nvPicPr>
        <p:blipFill>
          <a:blip r:embed="rId2"/>
          <a:stretch/>
        </p:blipFill>
        <p:spPr>
          <a:xfrm>
            <a:off x="1547640" y="3429000"/>
            <a:ext cx="5832720" cy="27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aper Aeroplane Compet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im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he winning team is the one who gets their plane to stay in the air the longest and is the fastes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Material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1 sheet of blank pap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1 paperclip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cotch tap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struction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Use only the materials indicated in the above list; you don’t have to use them all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he plane may be constructed using all or part of the 21.5 x 28 cm sheet of paper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Label each plane with the "engineer’s" nam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Each group is allowed three throws; record the best throw only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Begin timing with the throw of the plane and end when the plane hits the floor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ettle a tie with a throw-off.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4T13:12:54Z</dcterms:created>
  <dc:creator>CEC</dc:creator>
  <dc:description/>
  <dc:language>en-US</dc:language>
  <cp:lastModifiedBy>RomaK</cp:lastModifiedBy>
  <dcterms:modified xsi:type="dcterms:W3CDTF">2015-09-03T12:26:47Z</dcterms:modified>
  <cp:revision>9</cp:revision>
  <dc:subject/>
  <dc:title>Friction</dc:title>
</cp:coreProperties>
</file>