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7C19-1231-4A1F-9030-58B716B7989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forces act on a trailer attached to a tow rope being pulled by a c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hat forces act on a trailer attached to a tow rope being pulled by a car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for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hat is a force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 is a force caused (on Earth) by the gravitational attraction of a mass to the Earth’s cen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ight of a body, of mass m, is defined to be the force, W, with which it is attracted to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rth, W = mg, where g is the acceleration due to gravity (g ≈ 9.81 m s−2 on Earth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eight is a force caused (on Earth) by the gravitational attraction of a mass to the Earth’s centr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weight of a body, of mass m, is defined to be the force, W, with which it is attracted to the Earth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On Earth, W = mg, where g is the acceleration due to gravity (g ≈ 9.81 m s−2 on Earth)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echanics problems involve objects being pulled, pushed or suspended from a string, spring, rod or something simi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that the string (or similar) exerts on the object in these types of problems is called ten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ension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Many mechanics problems involve objects being pulled, pushed or suspended from a string, spring, rod or something similar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force that the string (or similar) exerts on the object in these types of problems is called tension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rce that prevents, or tries to prevent, the slipping or sliding of two surfaces in cont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Friction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force that prevents, or tries to prevent, the slipping or sliding of two surfaces in contact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s in the opposite direction to the mo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cts in the opposite direction to the motion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reaction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ss lies on a horizontal surface. The weight of the mass pulls it downw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son it does not fall is because the horizontal surface exerts an equal and opposite force on the mass called the normal reaction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l reaction force always acts perpendicularly to the surface that is causing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Normal reaction forc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mass lies on a horizontal surface. The weight of the mass pulls it downwards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reason it does not fall is because the horizontal surface exerts an equal and opposite force on the mass called the normal reaction forc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normal reaction force always acts perpendicularly to the surface that is causing it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ock lies at rest (not moving) on a rough inclined slope; what forces act on the bloc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block lies at rest (not moving) on a rough inclined slope; what forces act on the block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l, attached to the ceiling, is swinging on the end of a string in a simple pendulum motion; modelling the ball as a particle, what forces act on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ball, attached to the ceiling, is swinging on the end of a string in a simple pendulum motion; modelling the ball as a particle, what forces act on it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5BD5-3CE0-4B07-B424-985F39E8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7807-A1EB-42FE-B2EE-38C7C243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33AE-5E47-48B4-BA1E-4BCE58AC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28FF-5520-431F-A8A6-CC41EFB1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2043-38CC-4982-A929-E9B877AE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6669-92E4-42B0-B785-912109C5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B156-B9B2-433D-B8E6-EC2FDC41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F6A1-053B-4692-A18A-7D2321F9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35C1-6C7B-4420-ACA1-A7E7113F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6967-BEBB-4D56-BACF-D7197BA7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E303-A867-4202-9395-016FB9C8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9E16-D3E1-4C54-A41D-91B49E3B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6FC1-7AF2-4FE7-85F2-86EE1B2A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94A6-7843-4436-90A7-F47B715B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16E5-386E-4868-8CA0-B76E3455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0102-693A-46AB-B2E2-5109C772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36FF-FBD7-4067-AED2-5BE7E869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F2B2-563C-4129-A3E0-42B29C98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8396-E428-43A1-9B41-1266C677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28BD-3404-4997-B8B9-8ECD99F0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13A0-A88E-473B-81E7-EDD48D01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362D-09EC-4C48-955A-122E85C3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142F-DA8F-4FCC-9CAC-2B93A275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BEF1-E9E7-4908-8226-40021233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7027-6186-4C19-8EC8-A9D0DBDC6E5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custGeom>
              <a:avLst/>
              <a:gdLst/>
              <a:ahLst/>
              <a:rect l="l" t="t" r="r" b="b"/>
              <a:pathLst>
                <a:path w="4816" h="1984">
                  <a:moveTo>
                    <a:pt x="4816" y="0"/>
                  </a:moveTo>
                  <a:lnTo>
                    <a:pt x="0" y="0"/>
                  </a:lnTo>
                  <a:lnTo>
                    <a:pt x="0" y="1984"/>
                  </a:lnTo>
                  <a:lnTo>
                    <a:pt x="448" y="1984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6D5F-3B8F-4A9F-8858-2242561055F6}" type="slidenum">
              <a:rPr b="0" lang="en-GB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3640" y="2197080"/>
            <a:ext cx="4465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123e96"/>
                </a:solidFill>
                <a:latin typeface="Arial Black"/>
              </a:rPr>
              <a:t>FORCES</a:t>
            </a:r>
            <a:endParaRPr b="0" lang="en-US" sz="7200" spc="-1" strike="noStrike">
              <a:solidFill>
                <a:srgbClr val="123e9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What forces act on a trailer attached to a tow rope being pulled by a car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340000" y="3068640"/>
            <a:ext cx="39607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5545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61680" y="33300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What is a force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Weight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19280" y="155736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Weight is a force caused (on Earth) by the gravitational attraction of a mass to the Earth’s centr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weight of a body, of mass m, is defined to be the force, W, with which it is attracted to the Earth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On Earth, W = mg, where g is the acceleration due to gravity (g ≈ 9.81 m s−2 on Earth)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Tension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Many mechanics problems involve objects being pulled, pushed or suspended from a string, spring, rod or something similar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force that the string (or similar) exerts on the object in these types of problems is called tension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Friction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force that prevents, or tries to prevent, the slipping or sliding of two surfaces in contact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Air Resistanc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cts in the opposite direction to the motion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Normal reaction forc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mass lies on a horizontal surface. The weight of the mass pulls it downwards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reason it does not fall is because the horizontal surface exerts an equal and opposite force on the mass called the normal reaction forc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normal reaction force always acts perpendicularly to the surface that is causing it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block lies at rest (not moving) on a rough inclined slope; what forces act on the block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195640" y="3429000"/>
            <a:ext cx="39607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ball, attached to the ceiling, is swinging on the end of a string in a simple pendulum motion; modelling the ball as a particle, what forces act on it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411280" y="3716280"/>
            <a:ext cx="316872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8:38:34Z</dcterms:created>
  <dc:creator>zafer</dc:creator>
  <dc:description/>
  <cp:keywords/>
  <dc:language>en-US</dc:language>
  <cp:lastModifiedBy>RomaK</cp:lastModifiedBy>
  <dcterms:modified xsi:type="dcterms:W3CDTF">2015-09-03T12:26:30Z</dcterms:modified>
  <cp:revision>3</cp:revision>
  <dc:subject/>
  <dc:title>FOR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