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032D-358F-4651-9E46-ACEBBA39ED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forces act on a trailer attached to a tow rope being pulled by a c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hat forces act on a trailer attached to a tow rope being pulled by a car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 is a force caused (on Earth) by the gravitational attraction of a mass to the Earth’s cen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ight of a body, of mass m, is defined to be the force, W, with which it is attracted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, W = mg, where g is the acceleration due to gravity (g ≈ 9.81 m s−2 on Eart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eight is a force caused (on Earth) by the gravitational attraction of a mass to the Earth’s centr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weight of a body, of mass m, is defined to be the force, W, with which it is attracted to the Earth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On Earth, W = mg, where g is the acceleration due to gravity (g ≈ 9.81 m s−2 on Earth)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echanics problems involve objects being pulled, pushed or suspended from a string, spring, rod or something simi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that the string (or similar) exerts on the object in these types of problems is called 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ension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Many mechanics problems involve objects being pulled, pushed or suspended from a string, spring, rod or something similar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force that the string (or similar) exerts on the object in these types of problems is called tension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rce that prevents, or tries to prevent, the slipping or sliding of two surfaces in cont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force that prevents, or tries to prevent, the slipping or sliding of two surfaces in contact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s in the opposite direction to the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cts in the opposite direction to the motion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reaction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ss lies on a horizontal surface. The weight of the mass pulls it downw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son it does not fall is because the horizontal surface exerts an equal and opposite force on the mass called the normal reaction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reaction force always acts perpendicularly to the surface that is causing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Normal reaction forc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mass lies on a horizontal surface. The weight of the mass pulls it downwards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reason it does not fall is because the horizontal surface exerts an equal and opposite force on the mass called the normal reaction forc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normal reaction force always acts perpendicularly to the surface that is causing it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ock lies at rest (not moving) on a rough inclined slope; what forces act on the blo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block lies at rest (not moving) on a rough inclined slope; what forces act on the block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l, attached to the ceiling, is swinging on the end of a string in a simple pendulum motion; modelling the ball as a particle, what forces act on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ball, attached to the ceiling, is swinging on the end of a string in a simple pendulum motion; modelling the ball as a particle, what forces act on it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612B-9AA4-4621-A056-DDAC83FF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917-2EDD-47BE-BB81-33416A5B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ED5-A30F-4BB4-8DDB-AD6C30B1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6089-7BA6-4FA5-BF7B-96109A2A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548D-493D-4C5F-B467-31103547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BB79-88F1-4C00-9364-4D701492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01A4-A33D-41B7-98A7-77E00D89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D125-3921-4962-84E0-45D66B83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0409-563C-4D3A-888F-122E35A9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9D20-40BF-4307-A313-6063597C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1DD0-4EFC-46D7-AC0D-1C4BE5D8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54AD-2B59-46FC-AC24-57E158FD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4A19-08A1-41C4-9115-AB66FB92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2989-86A1-42DD-ABA1-0C4F19F7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7D53-66D9-48A5-B305-5DD32475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F277-3378-4C6D-A28F-94798A98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A22E-0233-4060-B094-083F061E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8982-E7C4-49DB-9D70-F54272D6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E89-7170-406A-BDD9-3A6AADC5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C31-09A7-4AB7-9400-E7B64971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66D-420E-4853-AAC4-D727E438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797-797F-4C71-9AC4-944AE883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9E31-3AB4-4DD4-8900-DF5627D3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B245-C6AE-41C3-8248-1CE4194C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4F88-520B-4D39-9DFC-24EA02D43DA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4F85-EBAE-48CE-B9C1-4C7F966BF36A}" type="slidenum">
              <a:rPr b="0" lang="en-GB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3640" y="2197080"/>
            <a:ext cx="4465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123e96"/>
                </a:solidFill>
                <a:latin typeface="Arial Black"/>
              </a:rPr>
              <a:t>FORCES</a:t>
            </a:r>
            <a:endParaRPr b="0" lang="en-US" sz="7200" spc="-1" strike="noStrike">
              <a:solidFill>
                <a:srgbClr val="123e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What forces act on a trailer attached to a tow rope being pulled by a car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340000" y="3068640"/>
            <a:ext cx="39607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5545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61680" y="33300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What is a force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Weight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Weight is a force caused (on Earth) by the gravitational attraction of a mass to the Earth’s centr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weight of a body, of mass m, is defined to be the force, W, with which it is attracted to the Earth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On Earth, W = mg, where g is the acceleration due to gravity (g ≈ 9.81 m s−2 on Earth)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Tension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Many mechanics problems involve objects being pulled, pushed or suspended from a string, spring, rod or something similar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force that the string (or similar) exerts on the object in these types of problems is called tension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Friction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force that prevents, or tries to prevent, the slipping or sliding of two surfaces in contact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Air Resistanc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cts in the opposite direction to the motion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Normal reaction forc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mass lies on a horizontal surface. The weight of the mass pulls it downwards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reason it does not fall is because the horizontal surface exerts an equal and opposite force on the mass called the normal reaction forc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normal reaction force always acts perpendicularly to the surface that is causing it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block lies at rest (not moving) on a rough inclined slope; what forces act on the block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39607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ball, attached to the ceiling, is swinging on the end of a string in a simple pendulum motion; modelling the ball as a particle, what forces act on it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411280" y="3716280"/>
            <a:ext cx="316872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8:38:34Z</dcterms:created>
  <dc:creator>zafer</dc:creator>
  <dc:description/>
  <cp:keywords/>
  <dc:language>en-US</dc:language>
  <cp:lastModifiedBy>RomaK</cp:lastModifiedBy>
  <dcterms:modified xsi:type="dcterms:W3CDTF">2015-09-03T12:26:30Z</dcterms:modified>
  <cp:revision>3</cp:revision>
  <dc:subject/>
  <dc:title>FOR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