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5DA0-C707-43CA-8F42-C0C5E861B1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at a force can be a push or a pull acting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equal forces are applied to an object in opposite directions, the object does not move / or moves as a constant speed. This is called 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wo unequal forces are applied to an object in opposite directions, the object does move. This is called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Resultant Force (Fr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one from the other: 7N – 4N = 3N to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Ju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BE6-9D3B-43A3-98DC-34F5E50C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7E3-90A8-4E69-A34E-75BF19E3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4C4F-4898-496F-BD58-83382A54D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58B1-F39B-4D67-BE15-2E122F62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D10D-2B89-446E-B564-91DC79E3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A921-2C13-470A-AE17-DBE9734D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AB30-4C41-419A-9F2E-B9785072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323-44AA-4F35-B6AD-B6B9B49E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7DE2-F13F-47D3-BEDF-67CA3FDD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337A-6FBD-43BB-A487-1A35B129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0F8E-8758-474F-BABF-64804C2A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A9CF-0CFE-4B6E-98F7-142226BA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9801-3958-411C-98DA-5C61F53CB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OgrjDz7mV4&amp;feature=related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Force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know that a force can be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s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l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cting on an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is a good chance that 2 forces can be acting on an object at any on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ft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gging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oating Gl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not move / or moves as a constant speed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ug_of_war"/>
          <p:cNvPicPr/>
          <p:nvPr/>
        </p:nvPicPr>
        <p:blipFill>
          <a:blip r:embed="rId1"/>
          <a:stretch/>
        </p:blipFill>
        <p:spPr>
          <a:xfrm>
            <a:off x="4643280" y="1557360"/>
            <a:ext cx="39592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f two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equal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re applied to an object in opposite directions, the object does move. This is called </a:t>
            </a: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And someone will win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212-LPCC%20Tug-O-War"/>
          <p:cNvPicPr/>
          <p:nvPr/>
        </p:nvPicPr>
        <p:blipFill>
          <a:blip r:embed="rId1"/>
          <a:stretch/>
        </p:blipFill>
        <p:spPr>
          <a:xfrm>
            <a:off x="4643280" y="1628640"/>
            <a:ext cx="403236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Arial"/>
              </a:rPr>
              <a:t>Unbalanced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f the forces acting on an object are not balanced then the object with eith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ed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low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ce it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"/>
              </a:rPr>
              <a:t>Fill in the Gaps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We can use force diagrams to show th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124000" y="2205000"/>
            <a:ext cx="187164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399564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1403280" y="2781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0236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410720" y="23684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01560" y="357336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lock has 2 opposing forces being applied to i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7N to the right and 4N to the left. They are Unbalanced Fo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81400" y="4287960"/>
            <a:ext cx="632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Calculate th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esultant Force (Fr)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btract one from the other: 7N – 4N =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3N to the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7"/>
          <p:cNvSpPr/>
          <p:nvPr/>
        </p:nvSpPr>
        <p:spPr>
          <a:xfrm>
            <a:off x="2627280" y="5013360"/>
            <a:ext cx="19447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8"/>
          <p:cNvSpPr/>
          <p:nvPr/>
        </p:nvSpPr>
        <p:spPr>
          <a:xfrm>
            <a:off x="4572000" y="551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4698000" y="51055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man of mass 75kg has a weight of 750N. This 750N will act downward on the table and the table will exert a 750N force upwards on the man. The forces are balan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would happen if the upward force were less than 750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12179-386-500"/>
          <p:cNvPicPr/>
          <p:nvPr/>
        </p:nvPicPr>
        <p:blipFill>
          <a:blip r:embed="rId1"/>
          <a:stretch/>
        </p:blipFill>
        <p:spPr>
          <a:xfrm>
            <a:off x="5292720" y="2852640"/>
            <a:ext cx="2508120" cy="2160720"/>
          </a:xfrm>
          <a:prstGeom prst="rect">
            <a:avLst/>
          </a:prstGeom>
          <a:ln w="0">
            <a:noFill/>
          </a:ln>
        </p:spPr>
      </p:pic>
      <p:sp>
        <p:nvSpPr>
          <p:cNvPr id="78" name="Line 10"/>
          <p:cNvSpPr/>
          <p:nvPr/>
        </p:nvSpPr>
        <p:spPr>
          <a:xfrm>
            <a:off x="6588000" y="134136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715080" y="179244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down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 flipV="1">
            <a:off x="6588000" y="5157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714720" y="5392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rce up 750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Your g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Sheet: Drawing Force diagrams, fill in sheet finding </a:t>
            </a: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 Q6 p103 of text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Lets have a tug of war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More on 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Arial"/>
              </a:rPr>
              <a:t>Balanced and Unbalanced Forc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llect and complete the following workshee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ore on Balanced and Unbalanced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loating and Sinking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arachutes (Read p1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tension 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xt book: Starting Science for Scotland Book 2, Read p22, Ans Q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Base J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7:47:38Z</dcterms:created>
  <dc:creator>Jack Timmins</dc:creator>
  <dc:description/>
  <dc:language>en-US</dc:language>
  <cp:lastModifiedBy>RomaK</cp:lastModifiedBy>
  <dcterms:modified xsi:type="dcterms:W3CDTF">2015-09-03T12:26:11Z</dcterms:modified>
  <cp:revision>10</cp:revision>
  <dc:subject/>
  <dc:title>Force Diagrams</dc:title>
</cp:coreProperties>
</file>