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504A-744F-4049-8477-62D85AF08A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724-4423-4FFF-8D45-640EBD9F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323-1AC4-49E6-BA5F-FE81298E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764-E42E-4501-A2B2-5C2A05F2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040-E667-4DC5-A68F-C28BE701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207A-0DA0-473D-A3AF-BEF53EB2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8B0-6EB8-4B34-ABE1-168DC654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BA2-F042-4FA0-811B-8ED95B3B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322-D843-4A4E-AE9E-C6D3647D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DF8-D273-4673-A6AD-A4AF794D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BA1-5E73-4129-9554-0ABBE316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ABF-413D-48F8-B91B-2CB76E07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CF4-941F-4AF4-BB83-8312F508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7ADB-81DE-4CDD-B734-600D2CB66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OgrjDz7mV4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know that a force can b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ng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not move / or moves as a constant speed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ug_of_war"/>
          <p:cNvPicPr/>
          <p:nvPr/>
        </p:nvPicPr>
        <p:blipFill>
          <a:blip r:embed="rId1"/>
          <a:stretch/>
        </p:blipFill>
        <p:spPr>
          <a:xfrm>
            <a:off x="464328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move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12-LPCC%20Tug-O-War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24000" y="2205000"/>
            <a:ext cx="1871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9564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403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0236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41072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560" y="357336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400" y="4287960"/>
            <a:ext cx="63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sultant Force (Fr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tract one from the other: 7N – 4N =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N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7280" y="501336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457200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69800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2179-386-500"/>
          <p:cNvPicPr/>
          <p:nvPr/>
        </p:nvPicPr>
        <p:blipFill>
          <a:blip r:embed="rId1"/>
          <a:stretch/>
        </p:blipFill>
        <p:spPr>
          <a:xfrm>
            <a:off x="5292720" y="2852640"/>
            <a:ext cx="250812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6588000" y="134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715080" y="17924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88000" y="5157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714720" y="5392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ase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47:38Z</dcterms:created>
  <dc:creator>Jack Timmins</dc:creator>
  <dc:description/>
  <dc:language>en-US</dc:language>
  <cp:lastModifiedBy>RomaK</cp:lastModifiedBy>
  <dcterms:modified xsi:type="dcterms:W3CDTF">2015-09-03T12:26:11Z</dcterms:modified>
  <cp:revision>10</cp:revision>
  <dc:subject/>
  <dc:title>Force Diagrams</dc:title>
</cp:coreProperties>
</file>