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8B41-8B76-4EEC-B578-014FDA126A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20F-6B1B-4C8F-BDE1-5D8D467F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335-071C-4E8B-8621-9E5F1579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6D2-0015-4DC0-A2A7-32B3C250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188-B929-4788-B929-0D2561B0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C7C-CAC7-4DCE-987E-0A391F92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A08-6E50-4B51-9F43-96255FAB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39A-99FC-462D-B810-6011842D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D38-6470-4857-98C6-73A39C2C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0F5-5B16-40FF-A8C0-4AE504BA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0BE-FED8-4E47-8E3E-08CE8140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D2A-3081-417B-BC57-AED8AA25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3AA-9486-4128-8805-46B7B545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E8E6-9341-4C9C-A818-C1703B202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OgrjDz7mV4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know that a force can b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ng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not move / or moves as a constant speed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ug_of_war"/>
          <p:cNvPicPr/>
          <p:nvPr/>
        </p:nvPicPr>
        <p:blipFill>
          <a:blip r:embed="rId1"/>
          <a:stretch/>
        </p:blipFill>
        <p:spPr>
          <a:xfrm>
            <a:off x="464328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move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12-LPCC%20Tug-O-War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24000" y="2205000"/>
            <a:ext cx="1871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9564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403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0236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41072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560" y="357336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400" y="4287960"/>
            <a:ext cx="63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sultant Force (Fr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tract one from the other: 7N – 4N =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N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7280" y="501336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457200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69800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2179-386-500"/>
          <p:cNvPicPr/>
          <p:nvPr/>
        </p:nvPicPr>
        <p:blipFill>
          <a:blip r:embed="rId1"/>
          <a:stretch/>
        </p:blipFill>
        <p:spPr>
          <a:xfrm>
            <a:off x="5292720" y="2852640"/>
            <a:ext cx="250812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6588000" y="134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715080" y="17924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88000" y="5157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714720" y="5392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ase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47:38Z</dcterms:created>
  <dc:creator>Jack Timmins</dc:creator>
  <dc:description/>
  <dc:language>en-US</dc:language>
  <cp:lastModifiedBy>RomaK</cp:lastModifiedBy>
  <dcterms:modified xsi:type="dcterms:W3CDTF">2015-09-03T12:26:11Z</dcterms:modified>
  <cp:revision>10</cp:revision>
  <dc:subject/>
  <dc:title>Force Diagrams</dc:title>
</cp:coreProperties>
</file>