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636C-7722-44EA-9213-6EE3C314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is a property that enables something to do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etic energy is the energy of a moving ob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v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tie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haves as both a particle and a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articles are called photons, which can be counted individu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lso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avelength is the distance between adjacent peaks of the electric or magnet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nm (nanometer) = 10–9 m       1μm (micron) = 10–6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requency is the number of peaks that pass by any point each second, measured in cycles per second or Hertz (Hz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n electromagnetic w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travels at the speed c and can be characterized by a wavelength and a frequenc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Forms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ctrum of light is called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sible light - what we see with our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frared light - beyond of the red end of 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ltraviolet light - beyond the blu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o waves - light with the longes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 rays - wavelengths shorter than ultravio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ma rays - the shortest wavelength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Hz = 1 c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mount of light is calle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are made from particles called protons, neutrons, and electr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strong force, which overcomes electrical repuls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atomic number, which is unique for different chem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atomic mass numb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isot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and Emission in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ergy is emitted as a photon of ligh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lectron has los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line spectrum consists of photons emitted as each electron falls back to lower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line spectrum appears when phot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energy is the energy of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 = Fd = mgh = PE (potential energ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gh= (1000 kg)(9.8 m/s2)(50 m)=490 k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 by Hydro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drogen lines in the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ec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Complex’’ objects - planets, stars, people 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duce thermal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more total radiation per unit surfac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adiated energy is proportional to the fourth power of the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photons with a higher averag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 and Inten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ed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s of light that are reflec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 and absorb light at different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is moving toward us, its entire spectrum is shifted to shorter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 a blue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shift of a moving away object -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= m0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0 (m=1 kg) = 1 kg x (3 108)2  (cm/s)2 ~ 1017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 (m=1 kg, h=9 km) = mgh = 1 kg x 9.8 m/s2 x 9000 m ~ 105 J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Transform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only be changed from one form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statement is called the law of conservation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n Everyday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a form of energy, radiativ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Watt = 1 Joule/s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has col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ism split light into a spectrum (rainbow of col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travels with a speed of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inb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action of Light and Ma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mission (passing throug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on (scattering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390-F3F2-4910-8028-79E49B77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E70-6DA9-4837-8C29-9CE26E2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7C6-CF12-43F5-9CB6-2F1888AE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8C5-3291-450A-8763-531FEB37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C89-753C-4F76-8582-C1150A55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526-A124-40AA-9494-5807DF7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F94-837B-4E0C-BB1A-80FB764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447-CE2D-4012-8119-79221FE3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D96-AE05-4312-86EA-DE904270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636-AA4C-4C54-B730-86234D3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FAD-7A68-45D2-A417-E3ADFD5D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0A9-6EBC-42FD-B96B-8ABD9533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0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F963-E4B7-4349-98A9-00D63CA98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c1.lbl.gov/CBP_pages/educational/WoB/cycle1p04a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energy/u5l1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380880" y="1295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property that enables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380880" y="2209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has various forms (kinetic, potential, res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457200" y="32004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inetic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a moving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3585600" y="4114800"/>
            <a:ext cx="20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= 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380880" y="56386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~1000 N (or ~ 225 lbs) to hit a nail and drive it 5 mm into a su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Propertie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0880" y="106668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Ligh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es as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artic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72960" y="1874880"/>
            <a:ext cx="839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article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h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counted individ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is also an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72960" y="3962520"/>
            <a:ext cx="87710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distance between adjacent peaks of the electric or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1 nm (nanometer) = 10</a:t>
            </a:r>
            <a:r>
              <a:rPr b="0" lang="en-US" sz="2800" spc="-1" strike="noStrike" baseline="30000">
                <a:solidFill>
                  <a:srgbClr val="fff90e"/>
                </a:solidFill>
                <a:latin typeface="Times New Roman"/>
              </a:rPr>
              <a:t>–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1μm (micron) = 10</a:t>
            </a:r>
            <a:r>
              <a:rPr b="0" lang="en-US" sz="2800" spc="-1" strike="noStrike" baseline="30000">
                <a:solidFill>
                  <a:srgbClr val="66ff66"/>
                </a:solidFill>
                <a:latin typeface="Times New Roman"/>
              </a:rPr>
              <a:t>–6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requen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number of peaks that pass by any point each second, measured in cycles per second or Hertz (H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de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s an electromagnetic wav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8" name="Picture 3" descr="858430603b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33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80880" y="5105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consists of many individual ph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ravels at the speed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an be characterized by a wavelength and a frequ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Many Forms of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04920" y="15652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trum of light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04920" y="2895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portions of the spectrum are call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380988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visible ligh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hat we see with our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infra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of the red end of rainb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ultraviol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 - beyond the blue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Radio wa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light with the longest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X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wavelengths shorter than ultravio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Gamma ra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the shortest wavelength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5" name="Picture 4" descr="em_same"/>
          <p:cNvPicPr/>
          <p:nvPr/>
        </p:nvPicPr>
        <p:blipFill>
          <a:blip r:embed="rId1"/>
          <a:stretch/>
        </p:blipFill>
        <p:spPr>
          <a:xfrm>
            <a:off x="343080" y="1457280"/>
            <a:ext cx="8458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97" name="Picture 5" descr="em"/>
          <p:cNvPicPr/>
          <p:nvPr/>
        </p:nvPicPr>
        <p:blipFill>
          <a:blip r:embed="rId1"/>
          <a:stretch/>
        </p:blipFill>
        <p:spPr>
          <a:xfrm>
            <a:off x="495360" y="3429000"/>
            <a:ext cx="8153280" cy="3098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47640" y="1219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units – Hert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Hz = 1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39720" y="1066680"/>
            <a:ext cx="78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light is calle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7440" y="1905120"/>
            <a:ext cx="81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ing spectra of celestial bodies one can learn a wealth of information about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858430605"/>
          <p:cNvPicPr/>
          <p:nvPr/>
        </p:nvPicPr>
        <p:blipFill>
          <a:blip r:embed="rId1"/>
          <a:stretch/>
        </p:blipFill>
        <p:spPr>
          <a:xfrm>
            <a:off x="533520" y="3429000"/>
            <a:ext cx="76197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371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2 chemical elements have been identified in the Un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20 more have been created artific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9080" y="2914560"/>
            <a:ext cx="8626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chemical element is made from a different type of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are made from particles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prot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neu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ns and neutrons form the nucleus in the center of the at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surround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tomic Structur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04920" y="1295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ly charged protons are hold together by the </a:t>
            </a:r>
            <a:r>
              <a:rPr b="0" lang="en-US" sz="2800" spc="-1" strike="noStrike">
                <a:solidFill>
                  <a:srgbClr val="fff90e"/>
                </a:solidFill>
                <a:latin typeface="Times New Roman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overcomes electrical repul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atively charged electrons are attracted to the nucle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0880" y="358128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rot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hich is unique for different chemical el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4952880"/>
            <a:ext cx="847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number of protons and neutrons in an atom is called the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atomic mass numb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the same element with different number of neutrons are called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sotop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Absorption and Emission in Gase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58800" y="1238400"/>
            <a:ext cx="81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electrons in atoms can have only spe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ies, the atoms can absorb or releas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in these amounts (quan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35840" y="344808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 gets energy, jumps to an excited sta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the energy, and falls back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888120" y="504828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is emitted as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igh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oton has exactly the same energy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n has l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yp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28600" y="12952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Emiss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s of photons emitted as each electron falls back to lower lev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283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ption line spectr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ears when ph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bsorbed, causing electrons to jump up 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45147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lement or molecule produces its own distin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f spectra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e"/>
                </a:solidFill>
                <a:latin typeface="Times New Roman"/>
              </a:rPr>
              <a:t>Potential Energy</a:t>
            </a:r>
            <a:endParaRPr b="0" lang="en-US" sz="40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nergy is a capacity of doing som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tential energ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energy of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088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20200" y="4336920"/>
            <a:ext cx="57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= F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 = 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potential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58640" y="533412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is relati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819520" y="510552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of a 1000-kg car at the top of a 50-m multilevel parking lo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(1000 kg)(9.8 m/s2)(50 m)=490 k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mission by Hydroge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0" name="Picture 3" descr="h_atom"/>
          <p:cNvPicPr/>
          <p:nvPr/>
        </p:nvPicPr>
        <p:blipFill>
          <a:blip r:embed="rId1"/>
          <a:stretch/>
        </p:blipFill>
        <p:spPr>
          <a:xfrm>
            <a:off x="343080" y="1523880"/>
            <a:ext cx="84582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Hydrogen lines in the visibl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2" name="Picture 3" descr="h_lines"/>
          <p:cNvPicPr/>
          <p:nvPr/>
        </p:nvPicPr>
        <p:blipFill>
          <a:blip r:embed="rId1"/>
          <a:stretch/>
        </p:blipFill>
        <p:spPr>
          <a:xfrm>
            <a:off x="419040" y="1838160"/>
            <a:ext cx="8305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xamples of Spectra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24" name="Picture 3" descr="858430607"/>
          <p:cNvPicPr/>
          <p:nvPr/>
        </p:nvPicPr>
        <p:blipFill>
          <a:blip r:embed="rId1"/>
          <a:stretch/>
        </p:blipFill>
        <p:spPr>
          <a:xfrm>
            <a:off x="571680" y="1219320"/>
            <a:ext cx="8001000" cy="26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58430608"/>
          <p:cNvPicPr/>
          <p:nvPr/>
        </p:nvPicPr>
        <p:blipFill>
          <a:blip r:embed="rId2"/>
          <a:stretch/>
        </p:blipFill>
        <p:spPr>
          <a:xfrm>
            <a:off x="533520" y="4572000"/>
            <a:ext cx="80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rmal Radiation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9760" y="1143000"/>
            <a:ext cx="755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``Complex’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- planets, stars, people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hermal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5800" y="243828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pectrum depends only on the objec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3581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more total radiation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per unit surfac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ated energy is proportional to th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fourth power of the temp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ter objects emit photons with a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higher average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Colo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1" name="Picture 3" descr="06_11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emperature and Intensit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33" name="Picture 3" descr="858430610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flected ligh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9810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light (for example, sunlight) strikes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(ground, clouds, people), we see onl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s of light that are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46760" y="472428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objects (fruits, rocks, atmospheric ga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efl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absor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ight at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different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The Doppler Shif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1219320"/>
            <a:ext cx="861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l motion of a distant object can be determined due to the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4840" y="2514600"/>
            <a:ext cx="85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causes shifts in the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8600" y="36576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object is moving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o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, its entire spectrum is shifted to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horter wavel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shorter wavelengths of the visible light are bluer, the Doppler shift of this object is called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blue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shift of a moving away object -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redsh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142" name="Picture 3" descr="doppler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4222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044160" y="579132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Doppler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1522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11120" y="1143000"/>
            <a:ext cx="842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al information gives us more knowledge about the objects (composition, surface temperature, moving proper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ble light is only a small portion of 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ppler effect tells us how quickly light is moving toward or away from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est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and Energy are related to each other and can be converted into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04920" y="28954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t energy of a body is the energy equivalent of its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04920" y="487692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) = 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(cm/s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1 kg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9 km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k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.8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9000 m ~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Energy Transformations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6" name="Text Box 1027"/>
          <p:cNvSpPr/>
          <p:nvPr/>
        </p:nvSpPr>
        <p:spPr>
          <a:xfrm>
            <a:off x="380880" y="19051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mechanical processes involve interchanges between KE, PE, and wo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304920" y="31240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exists in some other forms: chemical energy, heat energy, radiant energy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onservation of Energy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517680" y="136512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or destroy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only be changed from one form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028"/>
          <p:cNvSpPr/>
          <p:nvPr/>
        </p:nvSpPr>
        <p:spPr>
          <a:xfrm>
            <a:off x="457200" y="3352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ove statement is called</a:t>
            </a: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 the law of conservation of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ght and Atomic Stru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and its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ic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action between Light and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Light in Everyday Life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is a form of energy,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radi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49280" y="2133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1 Watt = 1 Joule/s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09480" y="3429000"/>
            <a:ext cx="81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ism split light into a 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ainbow of col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4760" y="5734080"/>
            <a:ext cx="77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travels with a speed of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300,000 km/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Rainbow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pic>
        <p:nvPicPr>
          <p:cNvPr id="80" name="Picture 3" descr="rainbow1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e"/>
                </a:solidFill>
                <a:latin typeface="Times New Roman"/>
              </a:rPr>
              <a:t>Interaction of Light and Matter</a:t>
            </a:r>
            <a:endParaRPr b="0" lang="en-US" sz="4400" spc="-1" strike="noStrike">
              <a:solidFill>
                <a:srgbClr val="fff90e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1387440"/>
            <a:ext cx="8686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90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Transmi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passing throug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90e"/>
                </a:solidFill>
                <a:latin typeface="Times New Roman"/>
              </a:rPr>
              <a:t>Reflec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catter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5:06:40Z</dcterms:created>
  <dc:creator>Jon Bjorkman</dc:creator>
  <dc:description/>
  <dc:language>en-US</dc:language>
  <cp:lastModifiedBy>RomaK</cp:lastModifiedBy>
  <dcterms:modified xsi:type="dcterms:W3CDTF">2015-09-03T12:25:59Z</dcterms:modified>
  <cp:revision>88</cp:revision>
  <dc:subject/>
  <dc:title>Astronomy 1010</dc:title>
</cp:coreProperties>
</file>