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A12A-A25F-4795-B072-FA08E017F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a property that enables something to do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has various forms (kinetic, potential, rest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is the energy of a moving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is a property that enables something to do 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has various forms (kinetic, potential, rest energ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energy is the energy of a moving ob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v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 = 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behaves as both a particle and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articles are called photons, which can be counted individ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lso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is the distance between adjacent peaks of the electric or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nm (nanometer) = 10–9 m       1μm (micron) = 10–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is the number of peaks that pass by any point each second, measured in cycles per second or Hertz (Hz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ties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haves as both a particle and a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articles are called photons, which can be counted individual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lso an electromagnetic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avelength is the distance between adjacent peaks of the electric or magnet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nm (nanometer) = 10–9 m       1μm (micron) = 10–6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is the number of peaks that pass by any point each second, measured in cycles per second or Hertz (Hz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de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nsists of many individual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ravels at the speed c and can be characterized by a wavelength and a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n electromagnetic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consists of many individual phot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travels at the speed c and can be characterized by a wavelength and a frequenc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orm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of light is called the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ortions of the spectrum are 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light - what we see with ou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frared light - beyond of the red end of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ltraviolet light - beyond the blu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- light with the longest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- wavelengths shorter than ultravio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- the shortest waveleng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Forms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ctrum of light is called the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portions of the spectrum are called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isible light - what we see with our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frared light - beyond of the red end of rainb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ltraviolet light - beyond the blu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o waves - light with the longest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 rays - wavelengths shorter than ultravio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ma rays - the shortest wavelength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units – He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z = 1 c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y units – Hert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Hz = 1 c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ount of light is called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mount of light is called inten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chemical elements have been identified in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20 more have been created artific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hemical element is made from a different type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made from particles called protons, neutrons, an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form the nucleus in the center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sur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2 chemical elements have been identified in the Univer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20 more have been created artificial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hemical element is made from a different type of at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s are made from particles called protons, neutrons, and electr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tons and neutrons form the nucleus in the center of the at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ns surround the nucle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ly charged protons are hold together by the strong force, which overcomes electrical repul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ly charged electrons are attracted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protons in an atom is called the atomic number, which is unique for different chemical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ed number of protons and neutrons in an atom is called the atomic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with different number of neutrons are 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ly charged protons are hold together by the strong force, which overcomes electrical repuls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ly charged electrons are attracted to the nucle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umber of protons in an atom is called the atomic number, which is unique for different chem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mbined number of protons and neutrons in an atom is called the atomic mass numb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s of the same element with different number of neutrons are called isot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and Emission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in atoms can have only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, the atoms can absorb or releas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in these amounts (quan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gets energy, jumps to an excited st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the energy, and falls back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emitted as a photon of 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has exactly the same energy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ha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and Emission in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electrons in atoms can have only specif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ies, the atoms can absorb or releas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ly in these amounts (quant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n gets energy, jumps to an excited state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 the energy, and falls back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ergy is emitted as a photon of ligh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hoton has exactly the same energy th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lectron has los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line spectrum consists of photons emitted as each electron falls back to lower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line spectrum appears when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, causing electrons to jump up in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lement or molecule produces its own distin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of spectral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Spec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 line spectrum consists of photons emitted as each electron falls back to lower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line spectrum appears when phot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absorbed, causing electrons to jump up in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element or molecule produces its own distin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t of spectral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 is a capacity of doing som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 is the energy of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Fd = mgh = PE (potential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is rel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of a 1000-kg car at the top of a 50-m multilevel parking lot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h= (1000 kg)(9.8 m/s2)(50 m)=490 k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 is a capacity of doing some 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 is the energy of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 = Fd = mgh = PE (potential energ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is relati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of a 1000-kg car at the top of a 50-m multilevel parking lot 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gh= (1000 kg)(9.8 m/s2)(50 m)=490 k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by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 by Hydrog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lines in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drogen lines in the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ec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``Complex’’ objects - planets, stars, peopl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pectrum depends only on the objec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more total radiation per unit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ated energy is proportional to the fourth power of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photons with a higher averag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al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Complex’’ objects - planets, stars, people 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e thermal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pectrum depends only on the object’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more total radiation per unit surfac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adiated energy is proportional to the fourth power of the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photons with a higher averag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 and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 and Inten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light (for example, sunlight) strike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(ground, clouds, people), we see only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 that are ref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objects (fruits, rocks, atmospheric g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and absorb light at different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ed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e light (for example, sunlight) strikes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ground, clouds, people), we see only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s of light that are reflec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objects (fruits, rocks, atmospheric gas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 and absorb light at different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 causes shifts in the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is moving toward us, its entire spectrum is shifted to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shorter wavelengths of the visible light are bluer, the Doppler shift of this object is called a blue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shift of a moving away object - red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effect causes shifts in the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is moving toward us, its entire spectrum is shifted to shorter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shorter wavelengths of the visible light are bluer, the Doppler shift of this object is called a blue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shift of a moving away object -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mo 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small portion of the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ble light is only a small portion of the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energy of a body is the energy equivalent of its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 = m0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 (m=1 kg) = 1 kg x (3 108)2  (cm/s)2 ~ 1017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(m=1 kg, h=9 km) = mgh = 1 kg x 9.8 m/s2 x 9000 m ~ 105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st energy of a body is the energy equivalent of its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0 = m0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0 (m=1 kg) = 1 kg x (3 108)2  (cm/s)2 ~ 1017 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(m=1 kg, h=9 km) = mgh = 1 kg x 9.8 m/s2 x 9000 m ~ 105 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echanical processes involve interchanges between KE, PE, and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Transform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echanical processes involve interchanges between KE, PE, and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ervation of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cannot be created or destroy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an only be changed from one form to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bove statement is called the law of conservation of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only be changed from one form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ove statement is called the law of conservation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it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between 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its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action between 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form of energy, radiati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Watt = 1 Joule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s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ism split light into a spectrum (rainbow of col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travels with a speed of c = 300,000 k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n Everyday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 form of energy, radiativ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Watt = 1 Joule/s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has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ism split light into a spectrum (rainbow of col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travels with a speed of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inb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(passing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(scatt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action of 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mission (passing throug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on (scattering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347-29DC-415E-B48C-911DBC56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3C7-1D84-41CF-9EEE-CE2E1D55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687-FB77-41EA-9450-AD8D603B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B3B-B66C-4C2F-972B-F765ED33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707-7575-470E-A6F5-FB704E3E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738-58F3-4309-BA10-AAC9D19C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261-EA46-4FBF-AFE4-9318854B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BBB-5E52-479E-ADA0-E6A86832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75F5-1CE9-4C6D-BDF9-2D4DAA6C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F40-8B35-489C-A873-8D6DF6FF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10B-1E93-4619-903F-53BBC4F4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D2D-3C9C-4988-9D5F-CC66740C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0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1CDC-22FC-4193-B860-32641AFEA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c1.lbl.gov/CBP_pages/educational/WoB/cycle1p04a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energy/u5l1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380880" y="1295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property that enables something to d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380880" y="2209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has various forms (kinetic, potential, rest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1029"/>
          <p:cNvSpPr/>
          <p:nvPr/>
        </p:nvSpPr>
        <p:spPr>
          <a:xfrm>
            <a:off x="457200" y="320040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inetic ene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energy of a moving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1030"/>
          <p:cNvSpPr/>
          <p:nvPr/>
        </p:nvSpPr>
        <p:spPr>
          <a:xfrm>
            <a:off x="3585600" y="4114800"/>
            <a:ext cx="209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= 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380880" y="56386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Properties of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0880" y="106668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Ligh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es as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bo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artic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a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72960" y="1874880"/>
            <a:ext cx="839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articles are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hot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counted individu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is also an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magnetic 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72960" y="3962520"/>
            <a:ext cx="87710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waveleng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distance between adjacent peaks of the electric or magnetic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1 nm (nanometer) = 10</a:t>
            </a:r>
            <a:r>
              <a:rPr b="0" lang="en-US" sz="2800" spc="-1" strike="noStrike" baseline="30000">
                <a:solidFill>
                  <a:srgbClr val="fff90e"/>
                </a:solidFill>
                <a:latin typeface="Times New Roman"/>
              </a:rPr>
              <a:t>–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1μm (micron) = 10</a:t>
            </a:r>
            <a:r>
              <a:rPr b="0" lang="en-US" sz="2800" spc="-1" strike="noStrike" baseline="30000">
                <a:solidFill>
                  <a:srgbClr val="66ff66"/>
                </a:solidFill>
                <a:latin typeface="Times New Roman"/>
              </a:rPr>
              <a:t>–6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freque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number of peaks that pass by any point each second, measured in cycles per second or Hertz (H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de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is an electromagnetic wav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88" name="Picture 3" descr="858430603b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3306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80880" y="51055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consists of many individual phot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travels at the speed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can be characterized by a wavelength and a frequenc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Many Forms of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04920" y="15652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ctrum of light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04920" y="28954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portions of the spectrum are call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04920" y="380988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visible ligh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what we see with our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infrar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- beyond of the red end of rainb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ultraviol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- beyond the blue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Radio wav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light with the longest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X r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wavelengths shorter than ultravio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Gamma r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the shortest wavelength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95" name="Picture 4" descr="em_same"/>
          <p:cNvPicPr/>
          <p:nvPr/>
        </p:nvPicPr>
        <p:blipFill>
          <a:blip r:embed="rId1"/>
          <a:stretch/>
        </p:blipFill>
        <p:spPr>
          <a:xfrm>
            <a:off x="343080" y="1457280"/>
            <a:ext cx="84582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97" name="Picture 5" descr="em"/>
          <p:cNvPicPr/>
          <p:nvPr/>
        </p:nvPicPr>
        <p:blipFill>
          <a:blip r:embed="rId1"/>
          <a:stretch/>
        </p:blipFill>
        <p:spPr>
          <a:xfrm>
            <a:off x="495360" y="3429000"/>
            <a:ext cx="8153280" cy="3098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47640" y="1219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y units – Hert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Hz = 1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and Matte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39720" y="1066680"/>
            <a:ext cx="78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light is calle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int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87440" y="190512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858430605"/>
          <p:cNvPicPr/>
          <p:nvPr/>
        </p:nvPicPr>
        <p:blipFill>
          <a:blip r:embed="rId1"/>
          <a:stretch/>
        </p:blipFill>
        <p:spPr>
          <a:xfrm>
            <a:off x="533520" y="3429000"/>
            <a:ext cx="76197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04920" y="1371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 chemical elements have been identified in the Univer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20 more have been created artifici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9080" y="2914560"/>
            <a:ext cx="8626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chemical element is made from a different type of a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are made from particles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neu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ns and neutrons form the nucleus in the center of the a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s surround the nucle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04920" y="1295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ly charged protons are hold together by 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strong for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overcomes electrical repul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590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gatively charged electrons are attracted to the nucle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80880" y="358128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 of protons in an atom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is unique for different chemical el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" y="4952880"/>
            <a:ext cx="8474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mbined number of protons and neutrons in an atom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tomic mass numb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of the same element with different number of neutrons are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sotop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bsorption and Emission in Gases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58800" y="1238400"/>
            <a:ext cx="81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ce electrons in atoms can have only 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ies, the atoms can absorb or releas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in these amounts (quan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35840" y="344808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 gets energy, jumps to an excited sta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the energy, and falls back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888120" y="5048280"/>
            <a:ext cx="744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is emitted as 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hot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ligh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hoton has exactly the same energy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n has l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ypes of Spectra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28600" y="12952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Emission line spectr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ists of photons emitted as each electron falls back to lower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283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bsorption line spectr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ears when ph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absorbed, causing electrons to jump up in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451476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element or molecule produces its own distin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f spectral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90e"/>
                </a:solidFill>
                <a:latin typeface="Times New Roman"/>
              </a:rPr>
              <a:t>Potential Energy</a:t>
            </a:r>
            <a:endParaRPr b="0" lang="en-US" sz="40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0880" y="1295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energy is a capacity of doing some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57200" y="2286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otential ene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energy of 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0880" y="32767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ational Potential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20200" y="4336920"/>
            <a:ext cx="57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= F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 =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(potential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58640" y="533412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is relativ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819520" y="5105520"/>
            <a:ext cx="611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of a 1000-kg car at the top of a 50-m multilevel parking lot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(1000 kg)(9.8 m/s2)(50 m)=490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mission by Hydrogen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0" name="Picture 3" descr="h_atom"/>
          <p:cNvPicPr/>
          <p:nvPr/>
        </p:nvPicPr>
        <p:blipFill>
          <a:blip r:embed="rId1"/>
          <a:stretch/>
        </p:blipFill>
        <p:spPr>
          <a:xfrm>
            <a:off x="343080" y="1523880"/>
            <a:ext cx="845820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Hydrogen lines in the visibl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2" name="Picture 3" descr="h_lines"/>
          <p:cNvPicPr/>
          <p:nvPr/>
        </p:nvPicPr>
        <p:blipFill>
          <a:blip r:embed="rId1"/>
          <a:stretch/>
        </p:blipFill>
        <p:spPr>
          <a:xfrm>
            <a:off x="419040" y="1838160"/>
            <a:ext cx="8305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xamples of Spectra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4" name="Picture 3" descr="858430607"/>
          <p:cNvPicPr/>
          <p:nvPr/>
        </p:nvPicPr>
        <p:blipFill>
          <a:blip r:embed="rId1"/>
          <a:stretch/>
        </p:blipFill>
        <p:spPr>
          <a:xfrm>
            <a:off x="571680" y="1219320"/>
            <a:ext cx="800100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858430608"/>
          <p:cNvPicPr/>
          <p:nvPr/>
        </p:nvPicPr>
        <p:blipFill>
          <a:blip r:embed="rId2"/>
          <a:stretch/>
        </p:blipFill>
        <p:spPr>
          <a:xfrm>
            <a:off x="533520" y="4572000"/>
            <a:ext cx="8076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hermal Radiation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99760" y="1143000"/>
            <a:ext cx="755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``Complex’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- planets, stars, people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hermal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5800" y="243828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spectrum depends only on the object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57200" y="35812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ter objects emit more total radiation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er unit surfac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diated energy is proportional to th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fourth power of the 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ter objects emit photons with 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higher averag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emperature and Colo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31" name="Picture 3" descr="06_11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emperature and Intensit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33" name="Picture 3" descr="858430610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eflected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1981080"/>
            <a:ext cx="82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light (for example, sunlight) strikes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(ground, clouds, people), we see onl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lengths of light that ar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efl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46760" y="4724280"/>
            <a:ext cx="843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objects (fruits, rocks, atmospheric gas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efl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bso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ight at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different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he Doppler Shif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04920" y="1219320"/>
            <a:ext cx="86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94840" y="2514600"/>
            <a:ext cx="85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effect causes shifts in the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28600" y="36576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 object is moving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to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, its entire spectrum is shifted to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horter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shorter wavelengths of the visible light are bluer, the Doppler shift of this object is called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blue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shift of a moving away object -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red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Doppler Effec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42" name="Picture 3" descr="doppler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4222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044160" y="5791320"/>
            <a:ext cx="36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Doppler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762120" y="1522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11120" y="1143000"/>
            <a:ext cx="8427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ble light is only a small portion of 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est 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4920" y="289548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t energy of a body is the energy equivalent of its m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04920" y="487692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1 kg) = 1 k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(cm/s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~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1 k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9 km)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k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9.8 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9000 m ~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nergy Transformations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6" name="Text Box 1027"/>
          <p:cNvSpPr/>
          <p:nvPr/>
        </p:nvSpPr>
        <p:spPr>
          <a:xfrm>
            <a:off x="380880" y="190512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mechanical processes involve interchanges between KE, PE, and 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028"/>
          <p:cNvSpPr/>
          <p:nvPr/>
        </p:nvSpPr>
        <p:spPr>
          <a:xfrm>
            <a:off x="304920" y="312408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onservation of 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517680" y="136512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cannot be created or destroy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can only be changed from one form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028"/>
          <p:cNvSpPr/>
          <p:nvPr/>
        </p:nvSpPr>
        <p:spPr>
          <a:xfrm>
            <a:off x="457200" y="33526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ove statement is called</a:t>
            </a: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 the law of conservation of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Light and Atomic Stru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640" y="21337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and its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ction between Light and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in Everyday Lif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is a form of energy,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adia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49280" y="21337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1 Watt = 1 Joule/s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09480" y="3429000"/>
            <a:ext cx="81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h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ism split light into 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pectru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ainbow of col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34760" y="5734080"/>
            <a:ext cx="77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travels with a speed of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300,000 k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ainbow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80" name="Picture 3" descr="rainbow1"/>
          <p:cNvPicPr/>
          <p:nvPr/>
        </p:nvPicPr>
        <p:blipFill>
          <a:blip r:embed="rId1"/>
          <a:stretch/>
        </p:blipFill>
        <p:spPr>
          <a:xfrm>
            <a:off x="1066680" y="1066680"/>
            <a:ext cx="75438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Interaction of Light and Matte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1387440"/>
            <a:ext cx="86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90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Absor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Transmis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passing throug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Reflect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catte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5:06:40Z</dcterms:created>
  <dc:creator>Jon Bjorkman</dc:creator>
  <dc:description/>
  <dc:language>en-US</dc:language>
  <cp:lastModifiedBy>RomaK</cp:lastModifiedBy>
  <dcterms:modified xsi:type="dcterms:W3CDTF">2015-09-03T12:25:59Z</dcterms:modified>
  <cp:revision>88</cp:revision>
  <dc:subject/>
  <dc:title>Astronomy 1010</dc:title>
</cp:coreProperties>
</file>