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3820-D549-4D78-9EF1-92EE292C653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bas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basic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transf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always conserved, it is never "lost" or "wasted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w of Conservation of Energ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key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ankey diagram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and heat are NOT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and heat are NOT THE SAM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hot or cold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degrees Cels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hot or cold it i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easured in degrees Celsiu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thermal energy, measured in joules or J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amount of thermal energy, measured in joules or J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U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 beaker of water boils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mall beaker of water boils firs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E2B-42C7-4C5D-B4E9-059C0EC9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55D-5C78-478F-82A6-D3139E42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FC6-F13D-487D-B89B-9325FEC8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168F-64EC-4141-9940-9A885BDD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B310-7F6C-494E-892E-1C424A03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A1F1-8831-4EF7-8CCB-40E786E9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0977-8BF3-4881-B35F-40F4E6EF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67A9-C2C1-4BAD-9697-D3DFC374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AAD5-C501-45C7-89F7-5AB954D8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0B14-3CE0-492A-BF55-0BEB9BDF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0AF4-75D6-440B-A902-D0C79BF7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120-F42D-4949-A567-4DF6BDEE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C2C3-40EC-453F-BF59-79C8059C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A0F5-C4BE-4499-8A2E-4F63AE76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C454-9F2C-4685-B479-CEC19847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90E6-DB60-4F44-BC1A-FE169FCB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9B5B-FB7E-4813-BC28-7958D9C6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BD4-2F5D-4508-A7A2-B058596F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31D-9218-4592-B46B-7A3D1E23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A3F5-49D7-466B-A531-B016120B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1DB1-2B9E-480D-B662-9A76A279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D85-76FC-40F9-BC70-7F5FCB74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F059-D4A2-4A55-8636-7FFD96AE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173-1A6B-449E-A731-F76D850F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DC18-626F-4484-A48F-30A70BF470A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C006-80C5-4DB7-A29A-2BC7C2EF8586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479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basics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Image: an energy transfer diagram for a battery, lamp and wires.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4213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Image: battery and bulb"/>
          <p:cNvPicPr/>
          <p:nvPr/>
        </p:nvPicPr>
        <p:blipFill>
          <a:blip r:embed="rId2"/>
          <a:stretch/>
        </p:blipFill>
        <p:spPr>
          <a:xfrm>
            <a:off x="539640" y="260280"/>
            <a:ext cx="1952640" cy="19526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2843280" y="476280"/>
            <a:ext cx="44593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transfer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Law of Conservation of Energ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4360" y="2924280"/>
            <a:ext cx="820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Sankey diagra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Picture 4" descr="Image: sankey diagram"/>
          <p:cNvPicPr/>
          <p:nvPr/>
        </p:nvPicPr>
        <p:blipFill>
          <a:blip r:embed="rId1"/>
          <a:stretch/>
        </p:blipFill>
        <p:spPr>
          <a:xfrm>
            <a:off x="684360" y="1700280"/>
            <a:ext cx="67672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Temperature </a:t>
            </a:r>
            <a:br>
              <a:rPr sz="6000"/>
            </a:b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and Hea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8720" y="3141720"/>
            <a:ext cx="8854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800" spc="-1" strike="noStrike">
                <a:solidFill>
                  <a:srgbClr val="ffcc00"/>
                </a:solidFill>
                <a:latin typeface="Arial Black"/>
              </a:rPr>
              <a:t>Temperature and heat are </a:t>
            </a:r>
            <a:r>
              <a:rPr b="0" lang="en-GB" sz="5400" spc="-1" strike="noStrike">
                <a:solidFill>
                  <a:srgbClr val="fe1f08"/>
                </a:solidFill>
                <a:latin typeface="Arial Black"/>
              </a:rPr>
              <a:t>NOT THE SAME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empera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124000" y="2565000"/>
            <a:ext cx="77724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How hot or cold it is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degrees Celsiu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5" descr="Image: thermometer"/>
          <p:cNvPicPr/>
          <p:nvPr/>
        </p:nvPicPr>
        <p:blipFill>
          <a:blip r:embed="rId1"/>
          <a:stretch/>
        </p:blipFill>
        <p:spPr>
          <a:xfrm>
            <a:off x="324000" y="189000"/>
            <a:ext cx="1971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He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amount of thermal energy, 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joules or J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5275440" y="3213000"/>
            <a:ext cx="386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9" descr="Image: a hot cup of tea"/>
          <p:cNvPicPr/>
          <p:nvPr/>
        </p:nvPicPr>
        <p:blipFill>
          <a:blip r:embed="rId1"/>
          <a:stretch/>
        </p:blipFill>
        <p:spPr>
          <a:xfrm>
            <a:off x="111240" y="2492280"/>
            <a:ext cx="3160440" cy="3819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0"/>
          <p:cNvSpPr/>
          <p:nvPr/>
        </p:nvSpPr>
        <p:spPr>
          <a:xfrm>
            <a:off x="3780000" y="3305880"/>
            <a:ext cx="48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A cup of hot tea has </a:t>
            </a:r>
            <a:r>
              <a:rPr b="1" lang="en-GB" sz="3600" spc="-1" strike="noStrike">
                <a:solidFill>
                  <a:srgbClr val="ffcc00"/>
                </a:solidFill>
                <a:latin typeface="Arial Black"/>
              </a:rPr>
              <a:t>heat energy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in the form of </a:t>
            </a:r>
            <a:r>
              <a:rPr b="1" lang="en-GB" sz="3600" spc="-1" strike="noStrike">
                <a:solidFill>
                  <a:srgbClr val="fe1f08"/>
                </a:solidFill>
                <a:latin typeface="Arial Black"/>
              </a:rPr>
              <a:t>kinetic energy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from its particles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A swimming pool at 30°C is at </a:t>
            </a: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a lower temperature</a:t>
            </a: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 than a cup of tea at 80°C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Picture 4" descr="MPj04065610000[1]"/>
          <p:cNvPicPr/>
          <p:nvPr/>
        </p:nvPicPr>
        <p:blipFill>
          <a:blip r:embed="rId1"/>
          <a:stretch/>
        </p:blipFill>
        <p:spPr>
          <a:xfrm>
            <a:off x="395280" y="2421000"/>
            <a:ext cx="4681440" cy="36576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5"/>
          <p:cNvSpPr/>
          <p:nvPr/>
        </p:nvSpPr>
        <p:spPr>
          <a:xfrm>
            <a:off x="5364000" y="2205000"/>
            <a:ext cx="3780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e1f08"/>
                </a:solidFill>
                <a:latin typeface="Arial Black"/>
              </a:rPr>
              <a:t>BUT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swimming pool contains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more water,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o it stores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more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rmal energy or heat.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he small beaker of water boils fir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The large beaker contains more water and 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needs more thermal energy or heat to reach 100°C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5" descr="Image: 2 Beakers of water. The small beaker of water boils first "/>
          <p:cNvPicPr/>
          <p:nvPr/>
        </p:nvPicPr>
        <p:blipFill>
          <a:blip r:embed="rId1"/>
          <a:stretch/>
        </p:blipFill>
        <p:spPr>
          <a:xfrm>
            <a:off x="4211640" y="2421000"/>
            <a:ext cx="4681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4360" y="3716280"/>
            <a:ext cx="777240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Chemic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in it is transferred to the surroundings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3" descr="Image: explosive"/>
          <p:cNvPicPr/>
          <p:nvPr/>
        </p:nvPicPr>
        <p:blipFill>
          <a:blip r:embed="rId1"/>
          <a:stretch/>
        </p:blipFill>
        <p:spPr>
          <a:xfrm>
            <a:off x="1042920" y="404640"/>
            <a:ext cx="38894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Image: a childs drum"/>
          <p:cNvPicPr/>
          <p:nvPr/>
        </p:nvPicPr>
        <p:blipFill>
          <a:blip r:embed="rId1"/>
          <a:stretch/>
        </p:blipFill>
        <p:spPr>
          <a:xfrm>
            <a:off x="324000" y="333360"/>
            <a:ext cx="4537080" cy="31622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4360" y="4119120"/>
            <a:ext cx="777240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an be transferred to your eardrum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(movement energy)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26920" y="3500280"/>
            <a:ext cx="7772400" cy="62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battery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transfer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chemical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electrical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The electrical energy is transferred to the surroundings by the lamp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light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(heat energy).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5" descr="Image: battery and bulb"/>
          <p:cNvPicPr/>
          <p:nvPr/>
        </p:nvPicPr>
        <p:blipFill>
          <a:blip r:embed="rId1"/>
          <a:stretch/>
        </p:blipFill>
        <p:spPr>
          <a:xfrm>
            <a:off x="611280" y="189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1:48:00Z</dcterms:created>
  <dc:creator>ICT Dept</dc:creator>
  <dc:description/>
  <dc:language>en-US</dc:language>
  <cp:lastModifiedBy>RomaK</cp:lastModifiedBy>
  <dcterms:modified xsi:type="dcterms:W3CDTF">2015-09-03T12:25:50Z</dcterms:modified>
  <cp:revision>12</cp:revision>
  <dc:subject/>
  <dc:title>Slide 1</dc:title>
</cp:coreProperties>
</file>