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442E-CB48-4917-9E07-DFE760875CB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bas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basic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transf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of Conserva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always conserved, it is never "lost" or "wasted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nergy transfers are useful and some are not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Law of Conservation of Energ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is always conserved, it is never "lost" or "wasted“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me energy transfers are useful and some are not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key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ankey diagram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and heat are NOT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d H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 and heat are NOT THE SAM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hot or cold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degrees Cels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hot or cold it is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easured in degrees Celsius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thermal energy, measured in joules or J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p of hot tea has heat energy in the form of kinetic energy from its partic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amount of thermal energy, measured in joules or J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 cup of hot tea has heat energy in the form of kinetic energy from its particles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wimming pool at 30°C is at a lower temperature than a cup of tea at 80°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wimming pool contains more water, so it stores more thermal energy or hea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 swimming pool at 30°C is at a lower temperature than a cup of tea at 80°C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U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swimming pool contains more water, so it stores more thermal energy or heat.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 beaker of water boils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beaker contains more water and needs more thermal energy or heat to reach 100°C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small beaker of water boils firs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large beaker contains more water and needs more thermal energy or heat to reach 100°C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 stored in it is transferred to the surroundings as thermal energy, sound energy and kinetic energy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hemical energy stored in it is transferred to the surroundings as thermal energy, sound energy and kinetic energy. 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energy can be transferred to your eardrum as kinetic energy (movement energy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und energy can be transferred to your eardrum as kinetic energy (movement energy). 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ttery transfers stored chemical energy as electrical energy. The electrical energy is transferred to the surroundings by the lamp as light energy and thermal energy (heat energy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battery transfers stored chemical energy as electrical energy. The electrical energy is transferred to the surroundings by the lamp as light energy and thermal energy (heat energy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FC6-8CBD-41CB-9A23-C656BC28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D34-54E0-42D5-BD4C-AB62BA0C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49A1-7CFD-4311-B6A3-39F17C1C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F620-9007-4A14-A93F-5F0399C9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783F-2468-4B19-9788-E2778B2F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0E65-5E06-4B2B-9D45-64C4207C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79C8-D957-4BCE-A37C-F4C7B163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B5A3-C8FE-492E-AB3A-3CE2350F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1EED-EBA5-49E5-A3E6-EFE7E66D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B8F1-3E25-4F6C-8474-C2B12146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A4AA-E970-469E-A904-63BCCAD6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F320-578E-4C4B-BE7E-3E51E303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A620-B0C9-4D3D-BA4E-5EA80D8B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D7C7-CF94-402E-8545-4C9C8490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4462-5558-426F-AC58-3D722D50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46A3-3867-4357-9752-AB77F756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C031-A8E1-4185-9ECF-5C240B1F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9B7-77E3-4532-952D-F4D1EBC6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FB47-7A04-488D-A31D-4A53E602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9C48-1BBF-4E04-8974-D86A2A27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D9F8-711A-4649-A268-B9ECC6E1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B4D9-77FA-47CC-AD7D-67291D4E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5B9A-4B36-4DCE-AB57-BD87CE38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B039-785F-45DF-BACC-BF1DBEF7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3327-23F9-4809-85EF-A0792BB8CC2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D616-D04D-49BC-997B-753AFA67A763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479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Energy basics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Image: an energy transfer diagram for a battery, lamp and wires.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4213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Image: battery and bulb"/>
          <p:cNvPicPr/>
          <p:nvPr/>
        </p:nvPicPr>
        <p:blipFill>
          <a:blip r:embed="rId2"/>
          <a:stretch/>
        </p:blipFill>
        <p:spPr>
          <a:xfrm>
            <a:off x="539640" y="260280"/>
            <a:ext cx="1952640" cy="19526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2843280" y="476280"/>
            <a:ext cx="44593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Energy transfer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Law of Conservation of Energ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4360" y="2924280"/>
            <a:ext cx="820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Energy is always conserved, it is never "lost" or "wasted“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Some energy transfers are useful and some are no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Sankey diagra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Picture 4" descr="Image: sankey diagram"/>
          <p:cNvPicPr/>
          <p:nvPr/>
        </p:nvPicPr>
        <p:blipFill>
          <a:blip r:embed="rId1"/>
          <a:stretch/>
        </p:blipFill>
        <p:spPr>
          <a:xfrm>
            <a:off x="684360" y="1700280"/>
            <a:ext cx="67672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7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Temperature </a:t>
            </a:r>
            <a:br>
              <a:rPr sz="6000"/>
            </a:b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and Hea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88720" y="3141720"/>
            <a:ext cx="8854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4800" spc="-1" strike="noStrike">
                <a:solidFill>
                  <a:srgbClr val="ffcc00"/>
                </a:solidFill>
                <a:latin typeface="Arial Black"/>
              </a:rPr>
              <a:t>Temperature and heat are </a:t>
            </a:r>
            <a:r>
              <a:rPr b="0" lang="en-GB" sz="5400" spc="-1" strike="noStrike">
                <a:solidFill>
                  <a:srgbClr val="fe1f08"/>
                </a:solidFill>
                <a:latin typeface="Arial Black"/>
              </a:rPr>
              <a:t>NOT THE SAME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Tempera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124000" y="2565000"/>
            <a:ext cx="77724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4000" spc="-1" strike="noStrike">
                <a:solidFill>
                  <a:srgbClr val="fe1f08"/>
                </a:solidFill>
                <a:latin typeface="Arial Black"/>
              </a:rPr>
              <a:t>How hot or cold it is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Measured in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degrees Celsiu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Picture 5" descr="Image: thermometer"/>
          <p:cNvPicPr/>
          <p:nvPr/>
        </p:nvPicPr>
        <p:blipFill>
          <a:blip r:embed="rId1"/>
          <a:stretch/>
        </p:blipFill>
        <p:spPr>
          <a:xfrm>
            <a:off x="324000" y="189000"/>
            <a:ext cx="1971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He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amount of thermal energy, measured in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joules or J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5275440" y="3213000"/>
            <a:ext cx="386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9" descr="Image: a hot cup of tea"/>
          <p:cNvPicPr/>
          <p:nvPr/>
        </p:nvPicPr>
        <p:blipFill>
          <a:blip r:embed="rId1"/>
          <a:stretch/>
        </p:blipFill>
        <p:spPr>
          <a:xfrm>
            <a:off x="111240" y="2492280"/>
            <a:ext cx="3160440" cy="3819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0"/>
          <p:cNvSpPr/>
          <p:nvPr/>
        </p:nvSpPr>
        <p:spPr>
          <a:xfrm>
            <a:off x="3780000" y="3305880"/>
            <a:ext cx="48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A cup of hot tea has </a:t>
            </a:r>
            <a:r>
              <a:rPr b="1" lang="en-GB" sz="3600" spc="-1" strike="noStrike">
                <a:solidFill>
                  <a:srgbClr val="ffcc00"/>
                </a:solidFill>
                <a:latin typeface="Arial Black"/>
              </a:rPr>
              <a:t>heat energy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 in the form of </a:t>
            </a:r>
            <a:r>
              <a:rPr b="1" lang="en-GB" sz="3600" spc="-1" strike="noStrike">
                <a:solidFill>
                  <a:srgbClr val="fe1f08"/>
                </a:solidFill>
                <a:latin typeface="Arial Black"/>
              </a:rPr>
              <a:t>kinetic energy</a:t>
            </a:r>
            <a:r>
              <a:rPr b="0" lang="en-GB" sz="36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from its particles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A swimming pool at 30°C is at </a:t>
            </a:r>
            <a:r>
              <a:rPr b="0" lang="en-GB" sz="4000" spc="-1" strike="noStrike">
                <a:solidFill>
                  <a:srgbClr val="fe1f08"/>
                </a:solidFill>
                <a:latin typeface="Arial Black"/>
              </a:rPr>
              <a:t>a lower temperature</a:t>
            </a: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 than a cup of tea at 80°C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Picture 4" descr="MPj04065610000[1]"/>
          <p:cNvPicPr/>
          <p:nvPr/>
        </p:nvPicPr>
        <p:blipFill>
          <a:blip r:embed="rId1"/>
          <a:stretch/>
        </p:blipFill>
        <p:spPr>
          <a:xfrm>
            <a:off x="395280" y="2421000"/>
            <a:ext cx="4681440" cy="36576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5"/>
          <p:cNvSpPr/>
          <p:nvPr/>
        </p:nvSpPr>
        <p:spPr>
          <a:xfrm>
            <a:off x="5364000" y="2205000"/>
            <a:ext cx="37800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e1f08"/>
                </a:solidFill>
                <a:latin typeface="Arial Black"/>
              </a:rPr>
              <a:t>BUT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swimming pool contains 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more water,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o it stores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 more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rmal energy or heat.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The small beaker of water boils firs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8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The large beaker contains more water and </a:t>
            </a:r>
            <a:r>
              <a:rPr b="0" lang="en-GB" sz="3600" spc="-1" strike="noStrike">
                <a:solidFill>
                  <a:srgbClr val="fe1f08"/>
                </a:solidFill>
                <a:latin typeface="Arial Black"/>
              </a:rPr>
              <a:t>needs more thermal energy or heat to reach 100°C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Picture 5" descr="Image: 2 Beakers of water. The small beaker of water boils first "/>
          <p:cNvPicPr/>
          <p:nvPr/>
        </p:nvPicPr>
        <p:blipFill>
          <a:blip r:embed="rId1"/>
          <a:stretch/>
        </p:blipFill>
        <p:spPr>
          <a:xfrm>
            <a:off x="4211640" y="2421000"/>
            <a:ext cx="46814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84360" y="3716280"/>
            <a:ext cx="777240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Chemical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tored in it is transferred to the surroundings as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thermal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sound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kinetic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Picture 3" descr="Image: explosive"/>
          <p:cNvPicPr/>
          <p:nvPr/>
        </p:nvPicPr>
        <p:blipFill>
          <a:blip r:embed="rId1"/>
          <a:stretch/>
        </p:blipFill>
        <p:spPr>
          <a:xfrm>
            <a:off x="1042920" y="404640"/>
            <a:ext cx="38894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Image: a childs drum"/>
          <p:cNvPicPr/>
          <p:nvPr/>
        </p:nvPicPr>
        <p:blipFill>
          <a:blip r:embed="rId1"/>
          <a:stretch/>
        </p:blipFill>
        <p:spPr>
          <a:xfrm>
            <a:off x="324000" y="333360"/>
            <a:ext cx="4537080" cy="31622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4360" y="4119120"/>
            <a:ext cx="777240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Sound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an be transferred to your eardrum as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kinetic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(movement energy).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26920" y="3500280"/>
            <a:ext cx="7772400" cy="62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battery 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transfer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tored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chemical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s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electrical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The electrical energy is transferred to the surroundings by the lamp as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light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thermal energy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 (heat energy).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Picture 5" descr="Image: battery and bulb"/>
          <p:cNvPicPr/>
          <p:nvPr/>
        </p:nvPicPr>
        <p:blipFill>
          <a:blip r:embed="rId1"/>
          <a:stretch/>
        </p:blipFill>
        <p:spPr>
          <a:xfrm>
            <a:off x="611280" y="189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1:48:00Z</dcterms:created>
  <dc:creator>ICT Dept</dc:creator>
  <dc:description/>
  <dc:language>en-US</dc:language>
  <cp:lastModifiedBy>RomaK</cp:lastModifiedBy>
  <dcterms:modified xsi:type="dcterms:W3CDTF">2015-09-03T12:25:50Z</dcterms:modified>
  <cp:revision>12</cp:revision>
  <dc:subject/>
  <dc:title>Slide 1</dc:title>
</cp:coreProperties>
</file>