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9020-46DB-4202-9131-77FDD959A1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A24-EA12-4A98-B05A-F5A00D68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C7D-43E0-4D91-9D51-C2276341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C60-7AD0-4078-A4E7-32CE260F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BDD-771B-4F7F-9449-6A654C43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27EC-F1CA-4504-B8F1-0B9385CB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8662-FD08-4FDB-ADDE-F2485B58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2937-8A52-4BE9-8F47-5FCAADF4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954E-CFEE-4132-9E1F-33CAC315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7A4A-9A62-4598-9328-7B8197CB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6E01-0A49-4E1F-AB74-790E61C9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46E3-FA6F-4DD4-AEA1-B92BA7EE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D9B-B79F-4A21-BF7D-59A00EF0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4943-5E9B-4D76-A379-DEA46ADB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6D18-B92E-496F-B3AA-18A00B0E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9405-EB72-4206-B6D3-9BFCF739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7774-E724-49A6-8FE4-0DE7FDE8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146B-47F4-4FB4-A65B-E1170261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BF1-B3DB-4448-94DF-9FF5181A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66D-26C4-472F-8607-FFEDE1D9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DA2-8208-4C7C-8D9E-F5304FF1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B36-D7F1-48C1-BACB-0783BEC0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9FED-F9F5-4F67-A708-E8108685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740-82E8-46B9-AC64-98CF7F68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273-A57C-41BF-86D0-4BD923D6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2D94-24AF-4FB7-85EF-6D2FE4D146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56CF-6A38-4ECD-92BA-29E73230DF6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Renewable energy sources includ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Wind,solar,wave,  goethermal,hydr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Non Renewable Sources includ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– made from dead forest materi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Gas and oil – made from dead sea creatur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Power station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 –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hemical energy to heat energ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umped Storage Syste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otential energy at the top dam to kinetic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nergy in pipes to electrical energy at bottom reservoi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5-09-21T07:19:33Z</dcterms:modified>
  <cp:revision>25</cp:revision>
  <dc:subject/>
  <dc:title>Slide 1</dc:title>
</cp:coreProperties>
</file>