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1DB5-3549-4823-8483-98BFD28B9F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ewable energy sourc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,solar,wave,  goethermal,hy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newable energy sources incl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,solar,wave,  goethermal,hydr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Renewable Sourc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, oil an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 Renewable Sources incl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, oil and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– made from dead forest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and oil – made from dead sea cr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– made from dead forest materi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 and oil – made from dead sea creat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, oil and ga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energy to hea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, oil and gas –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energy to hea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mped Storag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energy at the top dam to kin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in pipes to electrical energy at bottom reservo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mped Storage Syste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energy at the top dam to kinet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in pipes to electrical energy at bottom reservo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7C04-158C-45ED-B6E6-02A15A7D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DAA7-7115-4466-A2B8-30854CD8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B650-8350-4707-91A7-AE6766B4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202C-D736-42E4-A92B-633FE463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0230-42F0-48B5-8A42-A9C4188B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C7FD-E72C-4C2D-A610-3E913266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C6A8-58B0-4E31-8FE6-0D3CC63E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4A9C-6884-4E70-B627-9DE7D66B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E248-B6FE-4701-A5B6-7B327339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7AD0-82D1-4A65-9CBF-342FB397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9DA5-60CB-413C-98ED-CC45574E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010E-3EB1-45E5-8D24-AA4933CA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9032-B23F-490C-9908-72129E0A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33F6-1737-4B0E-A519-BC8147FE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45E5-4681-4A07-8985-8C03121D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AB45-9343-4B47-90DA-6436ED09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527C-6394-41E7-BDA3-8A96258F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13ED-A314-4483-8D78-DCE6C961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A363-ED74-4594-A999-9D11F7E1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34F5-43C6-4591-9ECE-A968B356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2533-05F2-4811-86B7-2933CAB3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14DB-4381-4799-8321-D9D32398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09B1-B0DE-4FD6-A247-824D055C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B375-6BB3-4028-B502-7B272A44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0F20-D7D3-46CE-9DD2-D93BB2F8D8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DB50-9061-4929-AA89-DCB78DEC006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66ff"/>
                </a:solidFill>
                <a:latin typeface="Tahoma"/>
              </a:rPr>
              <a:t>Renewable energy sources includ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66ff"/>
                </a:solidFill>
                <a:latin typeface="Tahoma"/>
              </a:rPr>
              <a:t>Wind,solar,wave,  goethermal,hydro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Non Renewable Sources includ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, oil and ga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– made from dead forest materi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Gas and oil – made from dead sea creature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Power station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, oil and gas –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hemical energy to heat energy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Pumped Storage System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Potential energy at the top dam to kinetic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nergy in pipes to electrical energy at bottom reservoi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icity sold at peak pric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city bought back at night at low price and used to pump water back up to the top da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LEGION</cp:lastModifiedBy>
  <dcterms:modified xsi:type="dcterms:W3CDTF">2015-09-21T07:19:33Z</dcterms:modified>
  <cp:revision>25</cp:revision>
  <dc:subject/>
  <dc:title>Slide 1</dc:title>
</cp:coreProperties>
</file>