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89F0F-6521-4137-BE72-67A8777D734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newable energy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,solar,wave,  goethermal,hydro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n Renewable Sources includ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– made from dead forest material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s and oil – made from dead sea creature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 station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al , oil and gas –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 energy to heat energy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umped Storage Syste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energy at the top dam to kinetic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in pipes to electrical energy at bottom reservoir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NERGY MATTER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 sold at peak pric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city bought back at night at low price and used to pump water back up to the top da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7C61-44F8-41F4-A9F6-B1E7AD88B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6690-27D5-461C-ACA4-5A16EA035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EC22E-940F-409E-B6E7-7AAD115AA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926B-F3E9-4C73-B9E4-A29F76F57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9BDA5-87F8-45A0-B1AE-7C91CFFE8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FBEDE-DF80-478C-BD42-123E21755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ED299-D65A-4C3E-9432-5A90BC4F8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4210-28D5-4C9B-B471-9FC0A90E5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2A76A-DBBC-4A0D-AA17-371158FFF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3FC4C-B7C0-4A7B-843A-1F3B4EF4F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C016-A39E-4B79-8C57-C00F1F11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00495-A62F-4141-965D-1EB42E89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E117F-C281-413C-93D3-5E1D5CAA0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E703F-C3E6-4C51-BA58-E7CB1D800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3A14-A88A-4598-9D51-1E4C9A8E6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A1E4-F856-4241-9E35-BE21101B6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90224-B6E7-4B7D-AEB8-300289DA2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A97C-549C-411E-937A-8F4E09B6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09D58-1C1B-4CE1-A3C7-58C669434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C618-5B6F-470A-81A4-69FEA5368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8D89-D551-4EA8-A1B9-DC2FD905D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38467-8A2C-48A2-A823-AD49FEAF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E2E8-8AE5-40A5-A2D1-0B88FDFB8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EE4D-A048-44DD-81E3-C1657C5B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AA4B8-896A-4A58-BEDF-D8C7652120D3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20E49-3F3B-4EF5-BB4C-036F3054D05D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Renewable energy sources include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66ff"/>
                </a:solidFill>
                <a:latin typeface="Tahoma"/>
              </a:rPr>
              <a:t>Wind,solar,wave,  goethermal,hydr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Non Renewable Sources includ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– made from dead forest material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Gas and oil – made from dead sea creature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Power stations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oal , oil and gas –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Chemical energy to heat energy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" dur="2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umped Storage System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Potential energy at the top dam to kinetic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nergy in pipes to electrical energy at bottom reservoir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2" dur="2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" dur="2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ENERGY MATTERS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icity sold at peak price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 algn="ctr">
              <a:lnSpc>
                <a:spcPct val="80000"/>
              </a:lnSpc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Electrcity bought back at night at low price and used to pump water back up to the top da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5-09-21T07:19:33Z</dcterms:modified>
  <cp:revision>25</cp:revision>
  <dc:subject/>
  <dc:title>Slide 1</dc:title>
</cp:coreProperties>
</file>