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0D9B-B655-40EB-A7A9-E2702CC8EA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ewable energy sources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,solar,wave,  goethermal,hyd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newable energy sources incl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,solar,wave,  goethermal,hydr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 Renewable Sources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, oil and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 Renewable Sources incl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al , oil and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– made from dead forest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and oil – made from dead sea cr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al – made from dead forest materi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 and oil – made from dead sea creatu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, oil and gas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energy to hea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 st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al , oil and gas –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 energy to heat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mped Storag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energy at the top dam to kin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in pipes to electrical energy at bottom reservo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mped Storage Syste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energy at the top dam to kineti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in pipes to electrical energy at bottom reservoi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sold at peak pr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city bought back at night at low price and used to pump water back up to the top d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 sold at peak pri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city bought back at night at low price and used to pump water back up to the top da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9121-577C-473F-98EF-47622AF31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AB59-C929-45ED-A0D4-003121A4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68A1-8575-44C8-956A-7FBC030F1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0979-C260-49AD-899F-ABE8A1A26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9725-E19B-4211-8D2D-EBF4623E4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EF57-7ECF-4A71-87E5-7FF65E56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AA01-F875-45F2-8B0B-04F3FA75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4E8C-DE71-46CB-BEC3-5CB34551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2E47-7080-4406-AAB0-47EC40D1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FE7C-0340-43B5-84E5-F676F9BC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1603-7A9E-4AFB-88C3-6F17759E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4200-25F5-4935-99AE-F2638841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2CA1-1A5F-49B8-AACE-F0B8B51C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4FC2-0F24-418F-984F-AAEA65C6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A3BD-6A08-47B8-9D2C-437FD436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9CFB-AC01-43E0-B028-8A16C6AE1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F014-1F78-4B61-8BEB-7906EBD3C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0C9B-3D7D-44F9-96A9-4E06FF0E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EB5D-5A31-4D69-A9E5-AD34CBD7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0F40-D54E-47A2-96A6-86F4E0D4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8195-EE1F-4822-850D-0A4737A6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D261-F4DC-4615-9188-D288017A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3CEA-87F3-4C8B-A4A8-61E3DF91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13D9-7408-4674-B49C-1BD2DA2B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7E5C-16F1-4424-8000-3EF01A0C59F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3C48-B765-4C07-A25D-7E6217FED7C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66ff"/>
                </a:solidFill>
                <a:latin typeface="Tahoma"/>
              </a:rPr>
              <a:t>Renewable energy sources include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66ff"/>
                </a:solidFill>
                <a:latin typeface="Tahoma"/>
              </a:rPr>
              <a:t>Wind,solar,wave,  goethermal,hydro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Non Renewable Sources includ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Coal , oil and ga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Coal – made from dead forest material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Gas and oil – made from dead sea creature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Power station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Coal , oil and gas –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Chemical energy to heat energy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Pumped Storage System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Potential energy at the top dam to kinetic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nergy in pipes to electrical energy at bottom reservoir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lectricity sold at peak price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lectrcity bought back at night at low price and used to pump water back up to the top dam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LEGION</cp:lastModifiedBy>
  <dcterms:modified xsi:type="dcterms:W3CDTF">2015-09-21T07:19:33Z</dcterms:modified>
  <cp:revision>25</cp:revision>
  <dc:subject/>
  <dc:title>Slide 1</dc:title>
</cp:coreProperties>
</file>