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73C2-85E6-473F-B043-9D728B299F2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is required for heating, lighting and operating appli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an be supplied from electricity,gas oil, or solid fu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e cost of home heating depends on the fuel and installation co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e cost of running an appliance depends on the power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is required for heating, lighting and operating appli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an be supplied from electricity,gas oil, or solid f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the cost of home heating depends on the fuel and installation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the cost of running an appliance depends on the powe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ee from the pie chart and previous slides that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two thirds of energy is used for 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nergy can come from coal , gas, or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table compares the cost of insta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unning the three different types of fuel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ee from the pie chart and previous slides that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two thirds of energy is used for 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can come from coal , gas, or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table compares the cost of inst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running the three different types of fue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Bedroom flat without cavity 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 g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a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n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 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14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12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 Bedroom flat without cavity 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1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1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have copied the previous slide, copy and answe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is the cheapest to insta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is the cheapest to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would be least popular in flats?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copied the previous slide, copy and answer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is the cheapest to inst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is the cheapest to 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would be least popular in flats?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things that people have said about different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heat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as I 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asy to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di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h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he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r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things that people have said about different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heat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on as I 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asy to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di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d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he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the table below to say which fuel each comment is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table below to say which fuel each comment is ab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below shows how a family of four used their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one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 tong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um clean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as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y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tt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z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.V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 machi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filled radiat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hea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below shows how a family of four used their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one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a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r ton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uum clea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s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y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tt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z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V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ing mach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filled radia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information from the previous table to work out the co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your electricity bill for  the week.The cost of one unit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bout 7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does this work out for twelve wee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did they pay for the heat producing applianc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formation from the previous table to work out the c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electricity bill for  the week.The cost of one uni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about 7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es this work out for twelve w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id they pay for the heat producing applia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 a sheet of graph paper and put the information o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r ch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hre appliances use the most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se appliances produ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 a sheet of graph paper and put the information o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r ch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hre appliances use the most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se appliances produ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b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lculate the following bills,you must take the previous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ay from the present reading.Then you must multiply the units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t of one unit which is 7p.Then  you add on the fixed char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your total b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        previous       units         fixed charge        amo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600            15300            7p               £10                     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        previous       cubic metres     kWh         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00            100                  30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b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the following bills,you must take the previous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the present reading.Then you must multiply the units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st of one unit which is 7p.Then  you add on the fixed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your total b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        previous       units         fixed charge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00            15300            7p               £10                     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        previous       cubic metres     kWh         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00            100                  30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bills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B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ing charge  £8.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 per kWh  = 1.6p            Total 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bills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B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charge  £8.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 per kWh  = 1.6p            Total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osts can be calculated from the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wo meter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losses cost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an be lost by convection ,conduction and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heat loss can be cut down by insulation, double glazing, and draught exclu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heat waste can be cut down by for example using showers instead of bath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osts can be calculated from the 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two meter r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losses cost mo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an be lost by convection ,conduction and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heat loss can be cut down by insulation, double glazing, and draught exclu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heat waste can be cut down by for example using showers instead of bath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an be lost from our homes in a variety of ways -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be lost from our homes in a variety of ways -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can be seen from the previous slide,energy can be lost fr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s, roofs, doors and wind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duce these losses and in doing so ,save money,there are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ways this can be done.We have to make use of vario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s of insulating our ho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ught proof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ing carpe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glaz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an be seen from the previous slide,energy can be lost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s, roofs, doors and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duce these losses and in doing so ,save money,there a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ays this can be done.We have to make use of vari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of insulating 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UGHT PROOF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door or window does not shut tightly,cold air can blow in.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plastic materials which mould into the shape of the gap,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 the los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hot water is going through pipes below the floor or in the lof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cool quickly.Lagging is a covering of fabric or foam wh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cut this type of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door or window does not shut tightly,cold air can blow in.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plastic materials which mould into the shape of the gap,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the lo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ot water is going through pipes below the floor or in the lof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cool quickly.Lagging is a covering of fabric or foa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ut this type of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ING CARP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pets look nice on the eye but they also provide good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room by keeping heat from escaping through the floorbo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ck glass wool layer up in the loft will stop heat going throu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pets look nice on the eye but they also provide good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room by keeping heat from escaping through the floorbo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glass wool layer up in the loft will stop heat going throug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f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GLAZ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thod of insulation sees two glass panels separated by 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ree  space.A side view is shown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ree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thod of insulation sees two glass panels separated by 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free  space.A side view is shown be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fre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VITY 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vity or space between outer walls can be filled with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as polystyrene foam to stop heat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ing energy w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howers instead of ba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doors when you leave a 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off heaters in rooms you are not u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`t boil a full kettle if you are only making one cup of t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VITY 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vity or space between outer walls can be filled with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polystyrene foam to stop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ing energy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howers instead of ba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doors when you leave a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off heaters in rooms you are not 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`t boil a full kettle if you are only making one cup of t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mostats -: used in most homes in several sit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urn the heating on or off in a room automa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be placed on the walls in a room or on individ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ven thermostat allows you to set the oven at a cer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ron thermostat allows the iron to be set at a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will not burn your clot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tats -: used in most homes in several sit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urn the heating on or off in a room automa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on the walls in a room or on 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ven thermostat allows you to set the oven at a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on thermostat allows the iron to be set at a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ill not burn your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immersion heater has a thermostat to control the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kettle has a thermostat which does the same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mmersion heater has a thermostat to control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kettle has a thermostat which does the same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RMOSTAT           HOW IT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rmostat consists of two metals stuck together back to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t gets cold or hot ,one metal expands more than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metal bar bends up or down.This arrangement is call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etallic str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-: place the bimetallic strip in a bunsen flame an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OSTAT           HOW IT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ostat consists of two metals stuck together back to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t gets cold or hot ,one metal expands more than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etal bar bends up or down.This arrangement is called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metallic str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 -: place the bimetallic strip in a bunsen flame an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metallic strip should look as shown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metallic strip should look as shown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many appliances use thermostats to keep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many appliances use thermostats to keep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a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sent over large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cables allow you to send electricity to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s of a 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also be very dangerous if not treated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ctric shock can paralyse us and cause our heart to st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ths from electric shocks is more common in young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eld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sent over large di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cables allow you to send electricity to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also be very dangerous if not treated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ic shock can paralyse us and cause our heart to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from electric shocks is more common in you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eld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res in a three pin plug are coloured as follows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VE BR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BL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GREEN/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ires in a three pin plug are coloured as follows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VE BR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BL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GREEN/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PIN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Collect a diagram of the three pin plug which has b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tick it into your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:- the earth is for safety .The fuse is for safet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switch is for safety.The electricity flows FROM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 wire and BACK via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You will be shown how to wire the plug by your teac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IN PL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Collect a diagram of the three pin plug which has b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Stick it into your note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:- the earth is for safety .The fuse is for safet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switch is for safety.The electricity flows 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 wire and BACK via the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You will be shown how to wire the plug by your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PIN PLUG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use is a thin piece of wire which will melt if too m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flows through it.If more than 3 amperes flows throu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3 ampere fuse it will melt and will cause all the electricity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witched off.This means that the plug wires cannot over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ause a fire.Fuses are of two types in a three pin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appliance uses more than 3 amperes(3A) then a 13 amp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 must be used.If it uses less than 3A then a 3A fuse is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IN PLUG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se is a thin piece of wire which will melt if too mu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flows through it.If more than 3 amperes flows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3 ampere fuse it will melt and will cause all the electricity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witched off.This means that the plug wires cannot over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ause a fire.Fuses are of two types in a three pin p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ppliance uses more than 3 amperes(3A) then a 13 amp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must be used.If it uses less than 3A then a 3A fuse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enerally have two types of fuse , the 3Amp and the 13 A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e is a safety device in the three pin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ower of an appliance is greater than 700Watts , e.g. a kettle , we use a 13Amp fuse.If it is less than 700 Watts , e.g. a lamp , we fit a 3Amp f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nerally have two types of fuse , the 3Amp and the 13 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e is a safety device in the three pin p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wer of an appliance is greater than 700Watts , e.g. a kettle , we use a 13Amp fuse.If it is less than 700 Watts , e.g. a lamp , we fit a 3Amp f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THE EARTH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 the earth does nothing in a circuit, but if the liv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how touches the casing of an appliance  such as a toast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ould get an electric shock and be badly injured.To stop t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ing,the earth wire causes a large current to flow.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s the fuse and the appliance becomes d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THE EARTH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the earth does nothing in a circuit, but if the live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how touches the casing of an appliance  such as a toas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uld get an electric shock and be badly injured.To stop th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ing,the earth wire causes a large current to flow.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s the fuse and the appliance becomes d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 RENEWABLE SOURC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ssil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coal , oil and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l is made from dead plant material milloins of years 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and Gas are made from dead sea creatures millons of years 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they have been used they can no longer be used and are therefore running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RENEWABLE SOURCES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coal , oil and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l is made from dead plant material milloins of year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and Gas are made from dead sea creatures millons of year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y have been used they can no longer be used and are therefore running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 is a mixture of hundreds of different compounds and is difficult to bu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aken from the worlds oil fields to refineries where it is clea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separated into different chemicals we can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different chemical is separated out at a different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 is a mixture of hundreds of different compounds and is difficult to bu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aken from the worlds oil fields to refineries where it is clea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eparated into different chemicals we ca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ifferent chemical is separated out at a different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 products include the following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led gas at 200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rol at 700C for veh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ffin oil at 1700C for jets 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sel at 2700C  for tr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bricating oils for oil , polis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tumen at 3500C for ro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 products include the following 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d gas at 200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at 700C for veh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ffin oil at 1700C for jets and l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sel at 2700C  for t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bricating oils for oil , pol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umen at 3500C for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ning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uels are burned in oxygen , heat is produced but carbon dioxide and water vapour are also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lphur dioxide and nitrogen are also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ases cause global warming and acid r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ing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uels are burned in oxygen , heat is produced but carbon dioxide and water vapour are also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 dioxide and nitrogen are also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gases cause global warming and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the four main activities that people u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or in a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he four main activities that people u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or in a 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gas is produced when fuel does not burn completely.This is called Carbon Monox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as has no smell and can cause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s are now fitted with catalytic converters which convert this gas into a harmless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gas is produced when fuel does not burn completely.This is called Carbon Mon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s has no smell and can cause d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s are now fitted with catalytic converters which convert this gas into a harmless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looking at the pi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n, list the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ways in which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us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appliances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looking at the 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n, list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ways in which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ppliances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an be supplied to the home in three 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:- this is brought to us from power stations.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s via pylons and underground c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:- this comes from the north sea.It is pumped a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pelines to gas st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 :- this is the form of coal, wood or peat.Coal i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d and peat is cut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be supplied to the home in three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:- this is brought to us from power stations.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s via pylons and underground c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:- this comes from the north sea.It is pumped a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lines to gas s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 :- this is the form of coal, wood or peat.Coal i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d and peat is cut from the gr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houses use ei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central h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entral h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f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f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houses use ei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f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xt slide shows the uses of energy in the h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ses are :- 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water   2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.V. ,lights etc. :-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 :- 1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 heating  :- 6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of other appliances and add them to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uses of energy in the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s are :- 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water   2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V. ,lights etc. :-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 :- 1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 heating  :- 6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other appliances and add them to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87B7-BA40-42B0-A196-61C57DA9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8BDF-0CBE-4B6D-AB6A-4395E474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D69-BC98-4A76-95DF-DDD4C399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FA5-DD7E-4872-838D-29C1AA9E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757-FA5B-4264-ACD2-1FF28832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A30-4AE5-4FD7-A0D9-897A520B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3B7-6252-468B-854E-4744C61F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444-A8B0-4D0F-8E77-5CB8DF42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8954-6A05-4A86-8998-4386D046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7BE-5166-4ABB-95BC-B6758FB2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42A-B8DF-4AC6-8471-41B960DA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65DB-8E4B-4ADC-B9E8-AF007303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1F42-5028-4D90-9997-497926846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862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5800" y="1828800"/>
            <a:ext cx="777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is required for heating, lighting and operating appli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an be supplied from electricity,gas oil, or solid fu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the cost of home heating depends on the fuel and installation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the cost of running an appliance depends on the pow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666880" y="1066680"/>
            <a:ext cx="3552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40384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3505320" y="1371600"/>
            <a:ext cx="2171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0" y="2362320"/>
            <a:ext cx="1053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see from the pie chart and previous slides that :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than two thirds of energy is used for he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l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energy can come from coal , gas, or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ollowing table compares the cost of inst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running the three different types of fu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297180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62120" y="2666880"/>
            <a:ext cx="8001000" cy="38102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685800" y="41911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762120" y="51055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251460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480060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93432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1043280" y="278460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 Bedroom flat without cavity 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2650680" y="33940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4937760" y="3394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s 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991560" y="339408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744840" y="43848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823680" y="5222880"/>
            <a:ext cx="13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 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1"/>
          <p:cNvSpPr/>
          <p:nvPr/>
        </p:nvSpPr>
        <p:spPr>
          <a:xfrm>
            <a:off x="2652480" y="4384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5167080" y="43084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7072560" y="4308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2881440" y="5603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5167440" y="5451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6"/>
          <p:cNvSpPr/>
          <p:nvPr/>
        </p:nvSpPr>
        <p:spPr>
          <a:xfrm>
            <a:off x="7072560" y="5527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9"/>
          <p:cNvSpPr/>
          <p:nvPr/>
        </p:nvSpPr>
        <p:spPr>
          <a:xfrm flipV="1">
            <a:off x="838080" y="3276360"/>
            <a:ext cx="79250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42670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297180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07000" y="2403360"/>
            <a:ext cx="877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ce you have copied the previous slide, copy and answe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llowing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is the cheapest to insta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is the cheapest to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would be least popular in flats?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4114800" y="4572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3048120" y="1371600"/>
            <a:ext cx="3485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811800" y="2327400"/>
            <a:ext cx="80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e are some things that people have said about different fu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4038480" y="3429000"/>
            <a:ext cx="2438640" cy="990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1"/>
          <p:cNvSpPr/>
          <p:nvPr/>
        </p:nvSpPr>
        <p:spPr>
          <a:xfrm>
            <a:off x="3733920" y="5105520"/>
            <a:ext cx="1600200" cy="1523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2"/>
          <p:cNvSpPr/>
          <p:nvPr/>
        </p:nvSpPr>
        <p:spPr>
          <a:xfrm>
            <a:off x="6858000" y="0"/>
            <a:ext cx="2057400" cy="1371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219320" y="3200400"/>
            <a:ext cx="186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685800" y="3048120"/>
            <a:ext cx="2438280" cy="20574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974880" y="3317760"/>
            <a:ext cx="205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heat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on as I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4403520" y="347040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easy to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762120" y="380880"/>
            <a:ext cx="1904760" cy="17528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7"/>
          <p:cNvSpPr/>
          <p:nvPr/>
        </p:nvSpPr>
        <p:spPr>
          <a:xfrm>
            <a:off x="762120" y="5410080"/>
            <a:ext cx="2133360" cy="1143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1050480" y="5527800"/>
            <a:ext cx="159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0"/>
          <p:cNvSpPr/>
          <p:nvPr/>
        </p:nvSpPr>
        <p:spPr>
          <a:xfrm>
            <a:off x="7010280" y="3429000"/>
            <a:ext cx="1600200" cy="1295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7146720" y="354636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di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4"/>
          <p:cNvSpPr/>
          <p:nvPr/>
        </p:nvSpPr>
        <p:spPr>
          <a:xfrm>
            <a:off x="7147800" y="41400"/>
            <a:ext cx="169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h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5"/>
          <p:cNvSpPr/>
          <p:nvPr/>
        </p:nvSpPr>
        <p:spPr>
          <a:xfrm>
            <a:off x="6651720" y="5554800"/>
            <a:ext cx="18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1128600" y="49860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d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1"/>
          <p:cNvSpPr/>
          <p:nvPr/>
        </p:nvSpPr>
        <p:spPr>
          <a:xfrm>
            <a:off x="3947040" y="52228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he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r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42"/>
          <p:cNvSpPr/>
          <p:nvPr/>
        </p:nvSpPr>
        <p:spPr>
          <a:xfrm>
            <a:off x="5257800" y="4876920"/>
            <a:ext cx="11430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5394240" y="4917960"/>
            <a:ext cx="9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6615000" y="5222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48"/>
          <p:cNvSpPr/>
          <p:nvPr/>
        </p:nvSpPr>
        <p:spPr>
          <a:xfrm>
            <a:off x="7010280" y="4952880"/>
            <a:ext cx="1828800" cy="1905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7299000" y="5146560"/>
            <a:ext cx="14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1028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1030"/>
          <p:cNvSpPr txBox="1"/>
          <p:nvPr/>
        </p:nvSpPr>
        <p:spPr>
          <a:xfrm>
            <a:off x="289548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1031"/>
          <p:cNvSpPr/>
          <p:nvPr/>
        </p:nvSpPr>
        <p:spPr>
          <a:xfrm>
            <a:off x="533520" y="205740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table below to say which fuel each comment is ab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32"/>
          <p:cNvSpPr/>
          <p:nvPr/>
        </p:nvSpPr>
        <p:spPr>
          <a:xfrm>
            <a:off x="1066680" y="3048120"/>
            <a:ext cx="7239240" cy="2666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33"/>
          <p:cNvSpPr/>
          <p:nvPr/>
        </p:nvSpPr>
        <p:spPr>
          <a:xfrm>
            <a:off x="1066680" y="380988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34"/>
          <p:cNvSpPr/>
          <p:nvPr/>
        </p:nvSpPr>
        <p:spPr>
          <a:xfrm>
            <a:off x="3352680" y="3048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35"/>
          <p:cNvSpPr/>
          <p:nvPr/>
        </p:nvSpPr>
        <p:spPr>
          <a:xfrm>
            <a:off x="5867280" y="30481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37"/>
          <p:cNvSpPr/>
          <p:nvPr/>
        </p:nvSpPr>
        <p:spPr>
          <a:xfrm>
            <a:off x="1203120" y="31654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38"/>
          <p:cNvSpPr/>
          <p:nvPr/>
        </p:nvSpPr>
        <p:spPr>
          <a:xfrm>
            <a:off x="3489840" y="32418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39"/>
          <p:cNvSpPr/>
          <p:nvPr/>
        </p:nvSpPr>
        <p:spPr>
          <a:xfrm>
            <a:off x="624852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1028"/>
          <p:cNvSpPr txBox="1"/>
          <p:nvPr/>
        </p:nvSpPr>
        <p:spPr>
          <a:xfrm>
            <a:off x="3733920" y="4572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WordArt 1029"/>
          <p:cNvSpPr txBox="1"/>
          <p:nvPr/>
        </p:nvSpPr>
        <p:spPr>
          <a:xfrm>
            <a:off x="2362320" y="1295280"/>
            <a:ext cx="4371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electrical energ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1030"/>
          <p:cNvSpPr/>
          <p:nvPr/>
        </p:nvSpPr>
        <p:spPr>
          <a:xfrm>
            <a:off x="516960" y="2068560"/>
            <a:ext cx="6843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able below shows how a family of four used their elec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one we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pli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ir tong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acuum clean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as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y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ett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eez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.V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shing machin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ok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il filled radiat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42670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2819520" y="1295280"/>
            <a:ext cx="3924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electricit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36560" y="2327400"/>
            <a:ext cx="811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the information from the previous table to work out the c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your electricity bill for  the week.The cost of one uni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 is about 7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uch does this work out for twelve wee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uch did they pay for the heat producing applia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1028"/>
          <p:cNvSpPr txBox="1"/>
          <p:nvPr/>
        </p:nvSpPr>
        <p:spPr>
          <a:xfrm>
            <a:off x="3962520" y="38088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5" name="WordArt 1029"/>
          <p:cNvSpPr txBox="1"/>
          <p:nvPr/>
        </p:nvSpPr>
        <p:spPr>
          <a:xfrm>
            <a:off x="2590920" y="1295280"/>
            <a:ext cx="4371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electrical energ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Text Box 1030"/>
          <p:cNvSpPr/>
          <p:nvPr/>
        </p:nvSpPr>
        <p:spPr>
          <a:xfrm>
            <a:off x="203040" y="2479680"/>
            <a:ext cx="839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ect a sheet of graph paper and put the information o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bar ch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thre appliances use the most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do these appliances produc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5"/>
          <p:cNvSpPr txBox="1"/>
          <p:nvPr/>
        </p:nvSpPr>
        <p:spPr>
          <a:xfrm>
            <a:off x="38098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3200400" y="1219320"/>
            <a:ext cx="2790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bill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659880" y="2174760"/>
            <a:ext cx="849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calculate the following bills,you must take the previous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way from the present reading.Then you must multiply the units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ost of one unit which is 7p.Then  you add on the fixed ch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get your total b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838080" y="4114800"/>
            <a:ext cx="7925040" cy="838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893160" y="40798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         previous       units         fixed charge       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898560" y="4460760"/>
            <a:ext cx="77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5600            15300            7p               £10                     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22600" y="49942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762120" y="5562720"/>
            <a:ext cx="8076960" cy="838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893160" y="552780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         previous       cubic metres     kWh         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501336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976680" y="5908680"/>
            <a:ext cx="581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 startAt="56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500            100                  30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56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2362320" y="1295280"/>
            <a:ext cx="4105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bills cont`d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897840" y="20224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B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838080" y="2743200"/>
            <a:ext cx="731520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ing charge  £8.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963080" y="324180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ge per kWh  = 1.6p            Total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41148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2819520" y="106668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8600" y="1828800"/>
            <a:ext cx="8470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osts can be calculated from the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meter rea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losses cost mon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an be lost by convection ,conduction and rad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heat loss can be cut down by insulation, double glazing, and draught exclu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heat waste can be cut down by for example using showers instead of bath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3962520" y="2286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WordArt 5"/>
          <p:cNvSpPr txBox="1"/>
          <p:nvPr/>
        </p:nvSpPr>
        <p:spPr>
          <a:xfrm>
            <a:off x="320040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41360" y="1981080"/>
            <a:ext cx="8321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can be lost from our homes in a variety of ways -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2438280" y="3886200"/>
            <a:ext cx="4191120" cy="2133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2438280" y="31237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3809880" y="3124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54864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5"/>
          <p:cNvSpPr/>
          <p:nvPr/>
        </p:nvSpPr>
        <p:spPr>
          <a:xfrm>
            <a:off x="5715000" y="31240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6"/>
          <p:cNvSpPr/>
          <p:nvPr/>
        </p:nvSpPr>
        <p:spPr>
          <a:xfrm flipV="1">
            <a:off x="3886200" y="5333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38862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457200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486400" y="4419720"/>
            <a:ext cx="53352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2971800" y="4495680"/>
            <a:ext cx="76212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2"/>
          <p:cNvSpPr/>
          <p:nvPr/>
        </p:nvSpPr>
        <p:spPr>
          <a:xfrm flipV="1">
            <a:off x="6705720" y="48765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7680240" y="4689360"/>
            <a:ext cx="89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4"/>
          <p:cNvSpPr/>
          <p:nvPr/>
        </p:nvSpPr>
        <p:spPr>
          <a:xfrm flipV="1">
            <a:off x="6172200" y="28954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7301160" y="2708280"/>
            <a:ext cx="7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4267080" y="6095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5015160" y="6060960"/>
            <a:ext cx="80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8"/>
          <p:cNvSpPr/>
          <p:nvPr/>
        </p:nvSpPr>
        <p:spPr>
          <a:xfrm flipH="1" flipV="1">
            <a:off x="1447920" y="47242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137880" y="438480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5" name="WordArt 5"/>
          <p:cNvSpPr txBox="1"/>
          <p:nvPr/>
        </p:nvSpPr>
        <p:spPr>
          <a:xfrm>
            <a:off x="327672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05920" y="2327400"/>
            <a:ext cx="918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can be seen from the previous slide,energy can be los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s, roofs, doors and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reduce these losses and in doing so ,save money,there ar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ber of ways this can be done.We have to make use of vari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ys of insulating 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335268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30200" y="2098800"/>
            <a:ext cx="859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door or window does not shut tightly,cold air can blow in.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ing plastic materials which mould into the shape of the gap,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e the lo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hot water is going through pipes below the floor or in the lof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can cool quickly.Lagging is a covering of fabric or foam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cut this type of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052"/>
          <p:cNvSpPr txBox="1"/>
          <p:nvPr/>
        </p:nvSpPr>
        <p:spPr>
          <a:xfrm>
            <a:off x="4038480" y="304920"/>
            <a:ext cx="14004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1" name="WordArt 2053"/>
          <p:cNvSpPr txBox="1"/>
          <p:nvPr/>
        </p:nvSpPr>
        <p:spPr>
          <a:xfrm>
            <a:off x="335268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Text Box 2054"/>
          <p:cNvSpPr/>
          <p:nvPr/>
        </p:nvSpPr>
        <p:spPr>
          <a:xfrm>
            <a:off x="827640" y="209880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056"/>
          <p:cNvSpPr/>
          <p:nvPr/>
        </p:nvSpPr>
        <p:spPr>
          <a:xfrm>
            <a:off x="508680" y="2860560"/>
            <a:ext cx="83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pets look nice on the eye but they also provide good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room by keeping heat from escaping through the floorbo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hick glass wool layer up in the loft will stop heat going throug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oo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1028"/>
          <p:cNvSpPr txBox="1"/>
          <p:nvPr/>
        </p:nvSpPr>
        <p:spPr>
          <a:xfrm>
            <a:off x="3962520" y="304920"/>
            <a:ext cx="13428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5" name="WordArt 1029"/>
          <p:cNvSpPr txBox="1"/>
          <p:nvPr/>
        </p:nvSpPr>
        <p:spPr>
          <a:xfrm>
            <a:off x="3276720" y="1371600"/>
            <a:ext cx="2743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Text Box 1030"/>
          <p:cNvSpPr/>
          <p:nvPr/>
        </p:nvSpPr>
        <p:spPr>
          <a:xfrm>
            <a:off x="661680" y="2479680"/>
            <a:ext cx="804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method of insulation sees two glass panels separated by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free  space.A side view is show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31"/>
          <p:cNvSpPr/>
          <p:nvPr/>
        </p:nvSpPr>
        <p:spPr>
          <a:xfrm>
            <a:off x="3505320" y="4191120"/>
            <a:ext cx="4572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032"/>
          <p:cNvSpPr/>
          <p:nvPr/>
        </p:nvSpPr>
        <p:spPr>
          <a:xfrm>
            <a:off x="403848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033"/>
          <p:cNvSpPr/>
          <p:nvPr/>
        </p:nvSpPr>
        <p:spPr>
          <a:xfrm flipH="1">
            <a:off x="1980720" y="5181480"/>
            <a:ext cx="1295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34"/>
          <p:cNvSpPr/>
          <p:nvPr/>
        </p:nvSpPr>
        <p:spPr>
          <a:xfrm>
            <a:off x="569988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36"/>
          <p:cNvSpPr/>
          <p:nvPr/>
        </p:nvSpPr>
        <p:spPr>
          <a:xfrm>
            <a:off x="82296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37"/>
          <p:cNvSpPr/>
          <p:nvPr/>
        </p:nvSpPr>
        <p:spPr>
          <a:xfrm flipV="1">
            <a:off x="3733920" y="44953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38"/>
          <p:cNvSpPr/>
          <p:nvPr/>
        </p:nvSpPr>
        <p:spPr>
          <a:xfrm>
            <a:off x="5316840" y="423216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fre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5" name="WordArt 5"/>
          <p:cNvSpPr txBox="1"/>
          <p:nvPr/>
        </p:nvSpPr>
        <p:spPr>
          <a:xfrm>
            <a:off x="3124080" y="1295280"/>
            <a:ext cx="2657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57360" y="2251080"/>
            <a:ext cx="836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VITY 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vity or space between outer walls can be filled with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ch as polystyrene foam to stop heat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ing energy wa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ve showers instead of b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ose doors when you leave a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witch off heaters in rooms you are not u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n`t boil a full kettle if you are only making one cup of t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38862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2438280" y="1066680"/>
            <a:ext cx="4038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82480" y="1870200"/>
            <a:ext cx="7518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ostats -: used in most homes in several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turn the heating on or off in a room automat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be placed on the walls in a room or on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ven thermostat allows you to set the oven at a cer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ron thermostat allows the iron to be set at a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ill not burn your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2514600" y="1219320"/>
            <a:ext cx="403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51360" y="2022480"/>
            <a:ext cx="831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immersion heater has a thermostat to control the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kettle has a thermostat which does the same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4"/>
          <p:cNvSpPr txBox="1"/>
          <p:nvPr/>
        </p:nvSpPr>
        <p:spPr>
          <a:xfrm>
            <a:off x="38862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2514600" y="1219320"/>
            <a:ext cx="403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85800" y="217476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RMOSTAT           HOW I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30560" y="2784600"/>
            <a:ext cx="829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rmostat consists of two metals stuck together back to b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1066680" y="3429000"/>
            <a:ext cx="274320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066680" y="3505320"/>
            <a:ext cx="274320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052280" y="3013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1066680" y="35053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4020480" y="331776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26600" y="4156200"/>
            <a:ext cx="818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t gets cold or hot ,one metal expands more than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metal bar bends up or down.This arrangement is called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metallic str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 -: place the bimetallic strip in a bunsen flame and 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rc 4"/>
          <p:cNvSpPr/>
          <p:nvPr/>
        </p:nvSpPr>
        <p:spPr>
          <a:xfrm flipH="1" rot="10800000">
            <a:off x="5713920" y="251460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rc 5"/>
          <p:cNvSpPr/>
          <p:nvPr/>
        </p:nvSpPr>
        <p:spPr>
          <a:xfrm>
            <a:off x="914400" y="251460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rc 7"/>
          <p:cNvSpPr/>
          <p:nvPr/>
        </p:nvSpPr>
        <p:spPr>
          <a:xfrm>
            <a:off x="914400" y="259092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rc 8"/>
          <p:cNvSpPr/>
          <p:nvPr/>
        </p:nvSpPr>
        <p:spPr>
          <a:xfrm flipV="1">
            <a:off x="5715000" y="2666880"/>
            <a:ext cx="1979640" cy="144792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WordArt 9"/>
          <p:cNvSpPr txBox="1"/>
          <p:nvPr/>
        </p:nvSpPr>
        <p:spPr>
          <a:xfrm>
            <a:off x="3962520" y="2286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8" name="WordArt 10"/>
          <p:cNvSpPr txBox="1"/>
          <p:nvPr/>
        </p:nvSpPr>
        <p:spPr>
          <a:xfrm>
            <a:off x="2438280" y="1219320"/>
            <a:ext cx="40388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Line 11"/>
          <p:cNvSpPr/>
          <p:nvPr/>
        </p:nvSpPr>
        <p:spPr>
          <a:xfrm flipH="1">
            <a:off x="1752120" y="28954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052280" y="33177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 flipV="1">
            <a:off x="2514600" y="25142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3108960" y="23274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5"/>
          <p:cNvSpPr/>
          <p:nvPr/>
        </p:nvSpPr>
        <p:spPr>
          <a:xfrm>
            <a:off x="70866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7453080" y="4232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7"/>
          <p:cNvSpPr/>
          <p:nvPr/>
        </p:nvSpPr>
        <p:spPr>
          <a:xfrm flipH="1" flipV="1">
            <a:off x="662940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6309360" y="2860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2194560" y="38512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5014440" y="430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663840" y="4765680"/>
            <a:ext cx="61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imetallic strip should look as shown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nodeType="clickEffect" fill="hold">
                      <p:stCondLst>
                        <p:cond delay="indefinite"/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1028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" name="WordArt 1029"/>
          <p:cNvSpPr txBox="1"/>
          <p:nvPr/>
        </p:nvSpPr>
        <p:spPr>
          <a:xfrm>
            <a:off x="2819520" y="129528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Text Box 1030"/>
          <p:cNvSpPr/>
          <p:nvPr/>
        </p:nvSpPr>
        <p:spPr>
          <a:xfrm>
            <a:off x="457200" y="2286000"/>
            <a:ext cx="82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 that many appliances use thermostats to keep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eady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1" name="WordArt 5"/>
          <p:cNvSpPr txBox="1"/>
          <p:nvPr/>
        </p:nvSpPr>
        <p:spPr>
          <a:xfrm>
            <a:off x="1905120" y="1295280"/>
            <a:ext cx="536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661320" y="2174760"/>
            <a:ext cx="8210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can be sent over large di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cables allow you to send electricity to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s of a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can also be very dangerous if not tre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lectric shock can paralyse us and cause our heart to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s from electric shocks is more common in young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eld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4"/>
          <p:cNvSpPr txBox="1"/>
          <p:nvPr/>
        </p:nvSpPr>
        <p:spPr>
          <a:xfrm>
            <a:off x="38098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4" name="WordArt 5"/>
          <p:cNvSpPr txBox="1"/>
          <p:nvPr/>
        </p:nvSpPr>
        <p:spPr>
          <a:xfrm>
            <a:off x="1828800" y="1143000"/>
            <a:ext cx="536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33920" y="2174760"/>
            <a:ext cx="7785360" cy="26542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res in a three pin plug are coloured as follows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VE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B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4"/>
          <p:cNvSpPr txBox="1"/>
          <p:nvPr/>
        </p:nvSpPr>
        <p:spPr>
          <a:xfrm>
            <a:off x="42670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7" name="WordArt 5"/>
          <p:cNvSpPr txBox="1"/>
          <p:nvPr/>
        </p:nvSpPr>
        <p:spPr>
          <a:xfrm>
            <a:off x="1981080" y="1295280"/>
            <a:ext cx="5467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808360" y="217476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HREE PIN PL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890640" y="3013200"/>
            <a:ext cx="753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Collect a diagram of the three pin plug which has b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v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Stick it into your note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:- the earth is for safety .The fuse is for safe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switch is for safety.The electricity flows FROM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VE wire and BACK via the 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You will be shown how to wire the plug by your tea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nodeType="clickEffect" fill="hold">
                      <p:stCondLst>
                        <p:cond delay="indefinite"/>
                      </p:stCondLst>
                      <p:childTnLst>
                        <p:par>
                          <p:cTn id="1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1752480" y="1219320"/>
            <a:ext cx="5467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1432080" y="213372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HREE PIN PLUG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943600" y="2133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118160" y="2784600"/>
            <a:ext cx="797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use is a thin piece of wire which will melt if too m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 flows through it.If more than 3 amperes flows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3 ampere fuse it will melt and will cause all the electric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switched off.This means that the plug wires cannot over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cause a fire.Fuses are of two types in a three pin plu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n appliance uses more than 3 amperes(3A) then a 13 amp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se must be used.If it uses less than 3A then a 3A fu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579760" y="171756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nodeType="clickEffect" fill="hold">
                      <p:stCondLst>
                        <p:cond delay="indefinite"/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nodeType="clickEffect" fill="hold">
                      <p:stCondLst>
                        <p:cond delay="indefinite"/>
                      </p:stCondLst>
                      <p:childTnLst>
                        <p:par>
                          <p:cTn id="1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delay="indefinite"/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AL </a:t>
            </a:r>
            <a:r>
              <a:rPr b="0" lang="en-GB" sz="4400" spc="-1" strike="noStrike">
                <a:solidFill>
                  <a:srgbClr val="030000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generally have two types of fuse , the 3Amp and the 13 Am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use is a safety device in the three pin plu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power of an appliance is greater than 700Watts , e.g. a kettle , we use a 13Amp fuse.If it is less than 700 Watts , e.g. a lamp , we fit a 3Amp f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nodeType="clickEffect" fill="hold">
                      <p:stCondLst>
                        <p:cond delay="indefinite"/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4"/>
          <p:cNvSpPr txBox="1"/>
          <p:nvPr/>
        </p:nvSpPr>
        <p:spPr>
          <a:xfrm>
            <a:off x="42670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WordArt 5"/>
          <p:cNvSpPr txBox="1"/>
          <p:nvPr/>
        </p:nvSpPr>
        <p:spPr>
          <a:xfrm>
            <a:off x="2133720" y="1295280"/>
            <a:ext cx="5467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2209680" y="2133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THE EARTH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814680" y="2936880"/>
            <a:ext cx="829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rmally the earth does nothing in a circuit, but if the live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how touches the casing of an appliance  such as a toas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would get an electric shock and be badly injured.To stop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ppening,the earth wire causes a large current to flow.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ows the fuse and the appliance becomes d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nodeType="clickEffect" fill="hold">
                      <p:stCondLst>
                        <p:cond delay="indefinite"/>
                      </p:stCondLst>
                      <p:childTnLst>
                        <p:par>
                          <p:cTn id="1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nodeType="clickEffect" fill="hold">
                      <p:stCondLst>
                        <p:cond delay="indefinite"/>
                      </p:stCondLst>
                      <p:childTnLst>
                        <p:par>
                          <p:cTn id="1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nodeType="clickEffect" fill="hold">
                      <p:stCondLst>
                        <p:cond delay="indefinite"/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N RENEWABLE SOURCES OF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ossil Fu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are coal , oil and 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l is made from dead plant material milloins of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il and Gas are made from dead sea creatures millons of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 they have been used they can no longer be used and are therefore running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nodeType="clickEffect" fill="hold">
                      <p:stCondLst>
                        <p:cond delay="indefinite"/>
                      </p:stCondLst>
                      <p:childTnLst>
                        <p:par>
                          <p:cTn id="1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nodeType="clickEffect" fill="hold">
                      <p:stCondLst>
                        <p:cond delay="indefinite"/>
                      </p:stCondLst>
                      <p:childTnLst>
                        <p:par>
                          <p:cTn id="1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nodeType="clickEffect" fill="hold">
                      <p:stCondLst>
                        <p:cond delay="indefinite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ude oil is a mixture of hundreds of different compounds and is difficult to b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aken from the worlds oil fields to refineries where it is clea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separated into different chemicals we can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different chemical is separated out at a different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4" dur="indefinite" restart="never" nodeType="tmRoot">
          <p:childTnLst>
            <p:seq>
              <p:cTn id="1995" dur="indefinite" nodeType="mainSeq">
                <p:childTnLst>
                  <p:par>
                    <p:cTn id="1996" nodeType="clickEffect" fill="hold">
                      <p:stCondLst>
                        <p:cond delay="indefinite"/>
                      </p:stCondLst>
                      <p:childTnLst>
                        <p:par>
                          <p:cTn id="1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nodeType="clickEffect" fill="hold">
                      <p:stCondLst>
                        <p:cond delay="indefinite"/>
                      </p:stCondLst>
                      <p:childTnLst>
                        <p:par>
                          <p:cTn id="2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nodeType="clickEffect" fill="hold">
                      <p:stCondLst>
                        <p:cond delay="indefinite"/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ude oil products include the following 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ttled gas at 20</a:t>
            </a:r>
            <a:r>
              <a:rPr b="0" lang="en-GB" sz="3200" spc="-1" strike="noStrike" baseline="24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rol at 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vehi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affin oil at 1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jets and l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esel at 2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 for tr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ubricating oils for oil , polis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tumen at 35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ro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nodeType="clickEffect" fill="hold">
                      <p:stCondLst>
                        <p:cond delay="indefinite"/>
                      </p:stCondLst>
                      <p:childTnLst>
                        <p:par>
                          <p:cTn id="2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nodeType="clickEffect" fill="hold">
                      <p:stCondLst>
                        <p:cond delay="indefinite"/>
                      </p:stCondLst>
                      <p:childTnLst>
                        <p:par>
                          <p:cTn id="2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nodeType="clickEffect" fill="hold">
                      <p:stCondLst>
                        <p:cond delay="indefinite"/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nodeType="clickEffect" fill="hold">
                      <p:stCondLst>
                        <p:cond delay="indefinite"/>
                      </p:stCondLst>
                      <p:childTnLst>
                        <p:par>
                          <p:cTn id="2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rning Fu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fuels are burned in oxygen , heat is produced but carbon dioxide and water vapour are also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lphur dioxide and nitrogen are also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gases cause global warming and acid 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8" dur="indefinite" restart="never" nodeType="tmRoot">
          <p:childTnLst>
            <p:seq>
              <p:cTn id="2089" dur="indefinite" nodeType="mainSeq">
                <p:childTnLst>
                  <p:par>
                    <p:cTn id="2090" nodeType="clickEffect" fill="hold">
                      <p:stCondLst>
                        <p:cond delay="indefinite"/>
                      </p:stCondLst>
                      <p:childTnLst>
                        <p:par>
                          <p:cTn id="2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nodeType="clickEffect" fill="hold">
                      <p:stCondLst>
                        <p:cond delay="indefinite"/>
                      </p:stCondLst>
                      <p:childTnLst>
                        <p:par>
                          <p:cTn id="2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304920" y="533520"/>
            <a:ext cx="18763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heating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7315200" y="457200"/>
            <a:ext cx="1467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gh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380880" y="5715000"/>
            <a:ext cx="1524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ok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8077320" y="571500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u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1981080"/>
            <a:ext cx="909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are the four main activities that people us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ergy for in a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other gas is produced when fuel does not burn completely.This is called Carbon Monox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gas has no smell and can cause d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s are now fitted with catalytic converters which convert this gas into a harmless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energy photo one"/>
          <p:cNvPicPr/>
          <p:nvPr/>
        </p:nvPicPr>
        <p:blipFill>
          <a:blip r:embed="rId1"/>
          <a:stretch/>
        </p:blipFill>
        <p:spPr>
          <a:xfrm>
            <a:off x="4594320" y="380880"/>
            <a:ext cx="4197240" cy="647712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15238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38120" y="1793880"/>
            <a:ext cx="413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looking at the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wn, list the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ways in which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84120" y="3470400"/>
            <a:ext cx="39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appliances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st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40384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743200" y="114300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889920" y="2022480"/>
            <a:ext cx="783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can be supplied to the home in three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 :- this is brought to us from power stations.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es via pylons and underground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:- this comes from the north sea.It is pumped a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ipelines to gas s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id fuel :- this is the form of coal, wood or peat.Coal i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ed and peat is cut from th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1028"/>
          <p:cNvSpPr txBox="1"/>
          <p:nvPr/>
        </p:nvSpPr>
        <p:spPr>
          <a:xfrm>
            <a:off x="3200400" y="304920"/>
            <a:ext cx="3019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ypes of heat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Text Box 1030"/>
          <p:cNvSpPr/>
          <p:nvPr/>
        </p:nvSpPr>
        <p:spPr>
          <a:xfrm>
            <a:off x="693720" y="1695600"/>
            <a:ext cx="4923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st houses use ei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s central h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central h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s f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f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2057400" y="1295280"/>
            <a:ext cx="5038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s of 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Oval 6"/>
          <p:cNvSpPr/>
          <p:nvPr/>
        </p:nvSpPr>
        <p:spPr>
          <a:xfrm>
            <a:off x="2743200" y="2743200"/>
            <a:ext cx="4343400" cy="3657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4876920" y="2819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74320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3"/>
          <p:cNvSpPr/>
          <p:nvPr/>
        </p:nvSpPr>
        <p:spPr>
          <a:xfrm flipH="1" flipV="1">
            <a:off x="2742840" y="419076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 flipH="1">
            <a:off x="2666520" y="48769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3733560" y="48769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3489840" y="339408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3566880" y="3851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2805840" y="43848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3338280" y="4384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2880360" y="48420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3186000" y="522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5242320" y="369900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6"/>
          <p:cNvSpPr/>
          <p:nvPr/>
        </p:nvSpPr>
        <p:spPr>
          <a:xfrm flipV="1">
            <a:off x="6019920" y="274284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7"/>
          <p:cNvSpPr/>
          <p:nvPr/>
        </p:nvSpPr>
        <p:spPr>
          <a:xfrm>
            <a:off x="6934320" y="4724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8"/>
          <p:cNvSpPr/>
          <p:nvPr/>
        </p:nvSpPr>
        <p:spPr>
          <a:xfrm>
            <a:off x="6172200" y="58672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9"/>
          <p:cNvSpPr/>
          <p:nvPr/>
        </p:nvSpPr>
        <p:spPr>
          <a:xfrm flipH="1" flipV="1">
            <a:off x="2742840" y="28195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0"/>
          <p:cNvSpPr/>
          <p:nvPr/>
        </p:nvSpPr>
        <p:spPr>
          <a:xfrm flipH="1">
            <a:off x="14479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1"/>
          <p:cNvSpPr/>
          <p:nvPr/>
        </p:nvSpPr>
        <p:spPr>
          <a:xfrm flipH="1">
            <a:off x="2057040" y="563868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47"/>
          <p:cNvSpPr/>
          <p:nvPr/>
        </p:nvSpPr>
        <p:spPr>
          <a:xfrm>
            <a:off x="4572000" y="5867280"/>
            <a:ext cx="7632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5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2057400" y="1295280"/>
            <a:ext cx="5038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s of 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2209680"/>
            <a:ext cx="9499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next slide shows the uses of energy in th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uses are :- 1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t water   2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.V. ,lights etc. :-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oking :- 1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om heating  :- 6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nk of other appliances and add them to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a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09:58Z</dcterms:created>
  <dc:creator>Physics Department</dc:creator>
  <dc:description/>
  <dc:language>en-US</dc:language>
  <cp:lastModifiedBy>RomaK</cp:lastModifiedBy>
  <dcterms:modified xsi:type="dcterms:W3CDTF">2015-09-03T12:25:36Z</dcterms:modified>
  <cp:revision>48</cp:revision>
  <dc:subject/>
  <dc:title>PowerPoint Presentation</dc:title>
</cp:coreProperties>
</file>