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5C02-8DD5-4943-A7CC-E25A048AC59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el cont`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ing for bills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energy sa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VE BR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BL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GREEN/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safety in the 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d gas at 200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at 700C for veh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ffin oil at 1700C for jets and ligh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t 2700C  for t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umen at 3500C for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energy in th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783-A754-4726-855E-5F9FCBC8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9F2E-9D5E-4C3E-8433-7ECEC7B0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4605-37E0-4E1C-B1C1-A08652A8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B20-BD0B-42D5-AD18-541D164B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AD2-E45D-4EE6-BB6D-2307A88C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90BC-4029-425D-A4CD-DCD482FA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3FD-687F-4F78-B4D8-221668FD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9B4-4B45-4AF0-9EB0-E46832DA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070-C9A6-426B-8494-CA4227E1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3BD-2720-43A3-A13C-70A03EF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8B3-9B36-4C3D-BE31-920F4814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849D-A6DF-4E01-AF17-0678EAF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848F-2E46-47F4-BB65-EA2C0597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85800" y="18288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is required for heating, lighting and operating appl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supplied from electricity,gas oil, or solid fu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home heating depends on the fuel and installation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the cost of running an appliance depends on the powe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2666880" y="1066680"/>
            <a:ext cx="3552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40384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3505320" y="1371600"/>
            <a:ext cx="217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0" y="2362320"/>
            <a:ext cx="1053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 see from the pie chart and previous slides that :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than two thirds of energy is used for he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energy can come from coal , gas, or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table compares the cost of inst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running the three different types of fuel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62120" y="2666880"/>
            <a:ext cx="8001000" cy="38102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685800" y="41911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1"/>
          <p:cNvSpPr/>
          <p:nvPr/>
        </p:nvSpPr>
        <p:spPr>
          <a:xfrm>
            <a:off x="762120" y="5105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2"/>
          <p:cNvSpPr/>
          <p:nvPr/>
        </p:nvSpPr>
        <p:spPr>
          <a:xfrm>
            <a:off x="2514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3"/>
          <p:cNvSpPr/>
          <p:nvPr/>
        </p:nvSpPr>
        <p:spPr>
          <a:xfrm>
            <a:off x="480060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934320" y="3276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1043280" y="2784600"/>
            <a:ext cx="58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 Bedroom flat without 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2650680" y="33940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937760" y="3394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ins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991560" y="3394080"/>
            <a:ext cx="14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744840" y="438480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823680" y="5222880"/>
            <a:ext cx="13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st 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2652480" y="43848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167080" y="43084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7072560" y="4308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8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2881440" y="5603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167440" y="54514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7072560" y="552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V="1">
            <a:off x="838080" y="3276360"/>
            <a:ext cx="792504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2" name="WordArt 5"/>
          <p:cNvSpPr txBox="1"/>
          <p:nvPr/>
        </p:nvSpPr>
        <p:spPr>
          <a:xfrm>
            <a:off x="297180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07000" y="2403360"/>
            <a:ext cx="877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ce you have copied the previous slide, copy and answe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llowing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insta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is the cheapest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fuel would be least popular in flats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4114800" y="4572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3048120" y="1371600"/>
            <a:ext cx="3485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811800" y="2327400"/>
            <a:ext cx="804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e are some things that people have said about different fu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038480" y="3429000"/>
            <a:ext cx="2438640" cy="990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1"/>
          <p:cNvSpPr/>
          <p:nvPr/>
        </p:nvSpPr>
        <p:spPr>
          <a:xfrm>
            <a:off x="3733920" y="5105520"/>
            <a:ext cx="1600200" cy="15238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2"/>
          <p:cNvSpPr/>
          <p:nvPr/>
        </p:nvSpPr>
        <p:spPr>
          <a:xfrm>
            <a:off x="6858000" y="0"/>
            <a:ext cx="2057400" cy="1371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219320" y="3200400"/>
            <a:ext cx="186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7"/>
          <p:cNvSpPr/>
          <p:nvPr/>
        </p:nvSpPr>
        <p:spPr>
          <a:xfrm>
            <a:off x="685800" y="3048120"/>
            <a:ext cx="2438280" cy="20574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974880" y="3317760"/>
            <a:ext cx="205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can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 heat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on as I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403520" y="3470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easy to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62120" y="380880"/>
            <a:ext cx="1904760" cy="17528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762120" y="5410080"/>
            <a:ext cx="2133360" cy="1143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1050480" y="55278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0"/>
          <p:cNvSpPr/>
          <p:nvPr/>
        </p:nvSpPr>
        <p:spPr>
          <a:xfrm>
            <a:off x="7010280" y="3429000"/>
            <a:ext cx="1600200" cy="1295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7146720" y="3546360"/>
            <a:ext cx="11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4"/>
          <p:cNvSpPr/>
          <p:nvPr/>
        </p:nvSpPr>
        <p:spPr>
          <a:xfrm>
            <a:off x="7147800" y="41400"/>
            <a:ext cx="169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5"/>
          <p:cNvSpPr/>
          <p:nvPr/>
        </p:nvSpPr>
        <p:spPr>
          <a:xfrm>
            <a:off x="6651720" y="5554800"/>
            <a:ext cx="183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1128600" y="49860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d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3947040" y="52228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he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42"/>
          <p:cNvSpPr/>
          <p:nvPr/>
        </p:nvSpPr>
        <p:spPr>
          <a:xfrm>
            <a:off x="5257800" y="4876920"/>
            <a:ext cx="11430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5394240" y="4917960"/>
            <a:ext cx="9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6615000" y="52228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48"/>
          <p:cNvSpPr/>
          <p:nvPr/>
        </p:nvSpPr>
        <p:spPr>
          <a:xfrm>
            <a:off x="7010280" y="4952880"/>
            <a:ext cx="1828800" cy="1905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0"/>
          <p:cNvSpPr/>
          <p:nvPr/>
        </p:nvSpPr>
        <p:spPr>
          <a:xfrm>
            <a:off x="7299000" y="5146560"/>
            <a:ext cx="14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`re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1028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1030"/>
          <p:cNvSpPr txBox="1"/>
          <p:nvPr/>
        </p:nvSpPr>
        <p:spPr>
          <a:xfrm>
            <a:off x="2895480" y="1295280"/>
            <a:ext cx="3486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ich fuel cont`d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1031"/>
          <p:cNvSpPr/>
          <p:nvPr/>
        </p:nvSpPr>
        <p:spPr>
          <a:xfrm>
            <a:off x="533520" y="2057400"/>
            <a:ext cx="84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table below to say which fuel each comment is ab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2"/>
          <p:cNvSpPr/>
          <p:nvPr/>
        </p:nvSpPr>
        <p:spPr>
          <a:xfrm>
            <a:off x="1066680" y="3048120"/>
            <a:ext cx="7239240" cy="26668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33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34"/>
          <p:cNvSpPr/>
          <p:nvPr/>
        </p:nvSpPr>
        <p:spPr>
          <a:xfrm>
            <a:off x="335268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035"/>
          <p:cNvSpPr/>
          <p:nvPr/>
        </p:nvSpPr>
        <p:spPr>
          <a:xfrm>
            <a:off x="5867280" y="304812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37"/>
          <p:cNvSpPr/>
          <p:nvPr/>
        </p:nvSpPr>
        <p:spPr>
          <a:xfrm>
            <a:off x="1203120" y="316548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id f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8"/>
          <p:cNvSpPr/>
          <p:nvPr/>
        </p:nvSpPr>
        <p:spPr>
          <a:xfrm>
            <a:off x="3489840" y="324180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s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9"/>
          <p:cNvSpPr/>
          <p:nvPr/>
        </p:nvSpPr>
        <p:spPr>
          <a:xfrm>
            <a:off x="624852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028"/>
          <p:cNvSpPr txBox="1"/>
          <p:nvPr/>
        </p:nvSpPr>
        <p:spPr>
          <a:xfrm>
            <a:off x="3733920" y="4572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WordArt 1029"/>
          <p:cNvSpPr txBox="1"/>
          <p:nvPr/>
        </p:nvSpPr>
        <p:spPr>
          <a:xfrm>
            <a:off x="23623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Text Box 1030"/>
          <p:cNvSpPr/>
          <p:nvPr/>
        </p:nvSpPr>
        <p:spPr>
          <a:xfrm>
            <a:off x="516960" y="2068560"/>
            <a:ext cx="6843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ble below shows how a family of four used their elec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one wee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ppli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ir tong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cuum clean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as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y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ett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ez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.V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shing machin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k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il filled radia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ater he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42670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2819520" y="1295280"/>
            <a:ext cx="3924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electricit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36560" y="2327400"/>
            <a:ext cx="811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the information from the previous table to work out the c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your electricity bill for  the week.The cost of one uni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is about 7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oes this work out for twelve wee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uch did they pay for the heat producing appli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1028"/>
          <p:cNvSpPr txBox="1"/>
          <p:nvPr/>
        </p:nvSpPr>
        <p:spPr>
          <a:xfrm>
            <a:off x="3962520" y="38088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5" name="WordArt 1029"/>
          <p:cNvSpPr txBox="1"/>
          <p:nvPr/>
        </p:nvSpPr>
        <p:spPr>
          <a:xfrm>
            <a:off x="2590920" y="1295280"/>
            <a:ext cx="4371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ing electrical energy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203040" y="2479680"/>
            <a:ext cx="839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ect a sheet of graph paper and put the information o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bar ch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thre appliances use 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do these appliances produ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5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3200400" y="1219320"/>
            <a:ext cx="2790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59880" y="2174760"/>
            <a:ext cx="849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following bills,you must take the previous 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 from the present reading.Then you must multiply the unit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ost of one unit which is 7p.Then  you add on the fixed char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get your total b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838080" y="4114800"/>
            <a:ext cx="792504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93160" y="407988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units         fixed charge        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898560" y="4460760"/>
            <a:ext cx="77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600            15300            7p               £10                     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22600" y="4994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762120" y="5562720"/>
            <a:ext cx="8076960" cy="8380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893160" y="5527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sent         previous       cubic metres     kWh         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5013360" y="6518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9"/>
          <p:cNvSpPr/>
          <p:nvPr/>
        </p:nvSpPr>
        <p:spPr>
          <a:xfrm>
            <a:off x="976680" y="5908680"/>
            <a:ext cx="581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500            100                  30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60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9" name="WordArt 5"/>
          <p:cNvSpPr txBox="1"/>
          <p:nvPr/>
        </p:nvSpPr>
        <p:spPr>
          <a:xfrm>
            <a:off x="2362320" y="1295280"/>
            <a:ext cx="41050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ying for bills cont`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97840" y="20224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ill B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838080" y="2743200"/>
            <a:ext cx="731520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nding charge  £8.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963080" y="3241800"/>
            <a:ext cx="50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rge per kWh  = 1.6p            Total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1148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819520" y="10666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28600" y="182880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osts can be calculated from the 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two meter rea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losses cost mon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energy can be lost by convection ,conduction an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loss can be cut down by insulation, double glazing, and draught exclu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at heat waste can be cut down by for example using showers instead of bath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4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4" name="WordArt 5"/>
          <p:cNvSpPr txBox="1"/>
          <p:nvPr/>
        </p:nvSpPr>
        <p:spPr>
          <a:xfrm>
            <a:off x="320040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41360" y="1981080"/>
            <a:ext cx="832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lost from our homes in a variety of ways -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438280" y="3886200"/>
            <a:ext cx="4191120" cy="2133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438280" y="31237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09880" y="3124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548640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715000" y="31240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 flipV="1">
            <a:off x="3886200" y="5333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38862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4572000" y="5334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486400" y="4419720"/>
            <a:ext cx="533520" cy="457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2971800" y="4495680"/>
            <a:ext cx="762120" cy="6098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2"/>
          <p:cNvSpPr/>
          <p:nvPr/>
        </p:nvSpPr>
        <p:spPr>
          <a:xfrm flipV="1">
            <a:off x="6705720" y="487656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7680240" y="468936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24"/>
          <p:cNvSpPr/>
          <p:nvPr/>
        </p:nvSpPr>
        <p:spPr>
          <a:xfrm flipV="1">
            <a:off x="6172200" y="2895480"/>
            <a:ext cx="9144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5"/>
          <p:cNvSpPr/>
          <p:nvPr/>
        </p:nvSpPr>
        <p:spPr>
          <a:xfrm>
            <a:off x="7301160" y="27082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4267080" y="60958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5015160" y="6060960"/>
            <a:ext cx="8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8"/>
          <p:cNvSpPr/>
          <p:nvPr/>
        </p:nvSpPr>
        <p:spPr>
          <a:xfrm flipH="1" flipV="1">
            <a:off x="1447920" y="4724280"/>
            <a:ext cx="1371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9"/>
          <p:cNvSpPr/>
          <p:nvPr/>
        </p:nvSpPr>
        <p:spPr>
          <a:xfrm>
            <a:off x="137880" y="43848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£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5" name="WordArt 5"/>
          <p:cNvSpPr txBox="1"/>
          <p:nvPr/>
        </p:nvSpPr>
        <p:spPr>
          <a:xfrm>
            <a:off x="327672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05920" y="2327400"/>
            <a:ext cx="918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can be seen from the previous slide,energy can be lost fr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s, roofs, doors and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reduce these losses and in doing so ,save money,there ar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ways this can be done.We have to make use of var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ys of insulating 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2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430200" y="2098800"/>
            <a:ext cx="859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AUGHT PROOF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door or window does not shut tightly,cold air can blow in.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ing plastic materials which mould into the shape of the gap,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e the lo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GGING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hot water is going through pipes below the floor or in the lof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can cool quickly.Lagging is a covering of fabric or foam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cut this type of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052"/>
          <p:cNvSpPr txBox="1"/>
          <p:nvPr/>
        </p:nvSpPr>
        <p:spPr>
          <a:xfrm>
            <a:off x="4038480" y="304920"/>
            <a:ext cx="14004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1" name="WordArt 2053"/>
          <p:cNvSpPr txBox="1"/>
          <p:nvPr/>
        </p:nvSpPr>
        <p:spPr>
          <a:xfrm>
            <a:off x="3352680" y="1219320"/>
            <a:ext cx="2657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Text Box 2054"/>
          <p:cNvSpPr/>
          <p:nvPr/>
        </p:nvSpPr>
        <p:spPr>
          <a:xfrm>
            <a:off x="827640" y="209880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YING CARP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056"/>
          <p:cNvSpPr/>
          <p:nvPr/>
        </p:nvSpPr>
        <p:spPr>
          <a:xfrm>
            <a:off x="508680" y="2860560"/>
            <a:ext cx="83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pets look nice on the eye but they also provide good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room by keeping heat from escaping through the floorbo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FT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hick glass wool layer up in the loft will stop heat going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oo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1028"/>
          <p:cNvSpPr txBox="1"/>
          <p:nvPr/>
        </p:nvSpPr>
        <p:spPr>
          <a:xfrm>
            <a:off x="3962520" y="304920"/>
            <a:ext cx="13428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5" name="WordArt 1029"/>
          <p:cNvSpPr txBox="1"/>
          <p:nvPr/>
        </p:nvSpPr>
        <p:spPr>
          <a:xfrm>
            <a:off x="3276720" y="1371600"/>
            <a:ext cx="2743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Text Box 1030"/>
          <p:cNvSpPr/>
          <p:nvPr/>
        </p:nvSpPr>
        <p:spPr>
          <a:xfrm>
            <a:off x="661680" y="2479680"/>
            <a:ext cx="8041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UBLE GLA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thod of insulation sees two glass panels separated b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 space.A side view is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31"/>
          <p:cNvSpPr/>
          <p:nvPr/>
        </p:nvSpPr>
        <p:spPr>
          <a:xfrm>
            <a:off x="3505320" y="4191120"/>
            <a:ext cx="4572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32"/>
          <p:cNvSpPr/>
          <p:nvPr/>
        </p:nvSpPr>
        <p:spPr>
          <a:xfrm>
            <a:off x="4038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033"/>
          <p:cNvSpPr/>
          <p:nvPr/>
        </p:nvSpPr>
        <p:spPr>
          <a:xfrm flipH="1">
            <a:off x="1980720" y="5181480"/>
            <a:ext cx="12956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4"/>
          <p:cNvSpPr/>
          <p:nvPr/>
        </p:nvSpPr>
        <p:spPr>
          <a:xfrm>
            <a:off x="569988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6"/>
          <p:cNvSpPr/>
          <p:nvPr/>
        </p:nvSpPr>
        <p:spPr>
          <a:xfrm>
            <a:off x="822960" y="4994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37"/>
          <p:cNvSpPr/>
          <p:nvPr/>
        </p:nvSpPr>
        <p:spPr>
          <a:xfrm flipV="1">
            <a:off x="3733920" y="449532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38"/>
          <p:cNvSpPr/>
          <p:nvPr/>
        </p:nvSpPr>
        <p:spPr>
          <a:xfrm>
            <a:off x="5316840" y="423216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5" name="WordArt 5"/>
          <p:cNvSpPr txBox="1"/>
          <p:nvPr/>
        </p:nvSpPr>
        <p:spPr>
          <a:xfrm>
            <a:off x="3124080" y="1295280"/>
            <a:ext cx="2657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loss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57360" y="2251080"/>
            <a:ext cx="8364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VITY WALL IN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vity or space between outer walls can be filled with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ch as polystyrene foam to stop heat lo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ducing energy wa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ve showers instead of ba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ose doors when you leave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witch off heaters in rooms you are not u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n`t boil a full kettle if you are only making one cup of t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388620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2438280" y="1066680"/>
            <a:ext cx="4038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582480" y="1870200"/>
            <a:ext cx="751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mostats -: used in most homes in several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turn the heating on or off in a room automatic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an be placed on the walls in a room or on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ven thermostat allows you to set the oven at a cer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ron thermostat allows the iron to be set at a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will not burn your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1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351360" y="2022480"/>
            <a:ext cx="831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immersion heater has a thermostat to control the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kettle has a thermostat which does the same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38862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2514600" y="1219320"/>
            <a:ext cx="40384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21747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          HOW I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30560" y="2784600"/>
            <a:ext cx="82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hermostat consists of two metals stuck together back to 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1066680" y="3429000"/>
            <a:ext cx="2743200" cy="763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066680" y="3505320"/>
            <a:ext cx="2743200" cy="7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052280" y="30132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1066680" y="350532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4020480" y="331776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26600" y="4156200"/>
            <a:ext cx="818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t gets cold or hot ,one metal expands more than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metal bar bends up or down.This arrangement is called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metallic str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 -: place the bimetallic strip in a bunsen flame and 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4"/>
          <p:cNvSpPr/>
          <p:nvPr/>
        </p:nvSpPr>
        <p:spPr>
          <a:xfrm flipH="1" rot="10800000">
            <a:off x="571392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5"/>
          <p:cNvSpPr/>
          <p:nvPr/>
        </p:nvSpPr>
        <p:spPr>
          <a:xfrm>
            <a:off x="914400" y="251460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7"/>
          <p:cNvSpPr/>
          <p:nvPr/>
        </p:nvSpPr>
        <p:spPr>
          <a:xfrm>
            <a:off x="914400" y="2590920"/>
            <a:ext cx="1979640" cy="151920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rc 8"/>
          <p:cNvSpPr/>
          <p:nvPr/>
        </p:nvSpPr>
        <p:spPr>
          <a:xfrm flipV="1">
            <a:off x="5715000" y="2666880"/>
            <a:ext cx="1979640" cy="1447920"/>
          </a:xfrm>
          <a:custGeom>
            <a:avLst/>
            <a:gdLst/>
            <a:ahLst/>
            <a:rect l="l" t="t" r="r" b="b"/>
            <a:pathLst>
              <a:path fill="none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</a:path>
              <a:path stroke="0" w="27374" h="21600">
                <a:moveTo>
                  <a:pt x="-1" y="1228"/>
                </a:moveTo>
                <a:cubicBezTo>
                  <a:pt x="2307" y="415"/>
                  <a:pt x="4735" y="-1"/>
                  <a:pt x="7182" y="0"/>
                </a:cubicBezTo>
                <a:cubicBezTo>
                  <a:pt x="16151" y="0"/>
                  <a:pt x="24187" y="5543"/>
                  <a:pt x="27373" y="13928"/>
                </a:cubicBezTo>
                <a:lnTo>
                  <a:pt x="7182" y="21600"/>
                </a:lnTo>
                <a:lnTo>
                  <a:pt x="-1" y="1228"/>
                </a:lnTo>
                <a:close/>
              </a:path>
            </a:pathLst>
          </a:custGeom>
          <a:noFill/>
          <a:ln w="7632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WordArt 9"/>
          <p:cNvSpPr txBox="1"/>
          <p:nvPr/>
        </p:nvSpPr>
        <p:spPr>
          <a:xfrm>
            <a:off x="3962520" y="228600"/>
            <a:ext cx="1323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2438280" y="1219320"/>
            <a:ext cx="403884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imple energy sav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Line 11"/>
          <p:cNvSpPr/>
          <p:nvPr/>
        </p:nvSpPr>
        <p:spPr>
          <a:xfrm flipH="1">
            <a:off x="1752120" y="28954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1052280" y="33177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 flipV="1">
            <a:off x="2514600" y="25142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108960" y="23274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5"/>
          <p:cNvSpPr/>
          <p:nvPr/>
        </p:nvSpPr>
        <p:spPr>
          <a:xfrm>
            <a:off x="7086600" y="40384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7453080" y="423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7"/>
          <p:cNvSpPr/>
          <p:nvPr/>
        </p:nvSpPr>
        <p:spPr>
          <a:xfrm flipH="1" flipV="1">
            <a:off x="6629400" y="335268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6309360" y="2860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194560" y="38512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5014440" y="430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663840" y="47656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metallic strip should look as shown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nodeType="clickEffect" fill="hold">
                      <p:stCondLst>
                        <p:cond delay="indefinite"/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nodeType="clickEffect" fill="hold">
                      <p:stCondLst>
                        <p:cond delay="indefinite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nodeType="clickEffect" fill="hold">
                      <p:stCondLst>
                        <p:cond delay="indefinite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nodeType="clickEffect" fill="hold">
                      <p:stCondLst>
                        <p:cond delay="indefinite"/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1028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6" name="WordArt 1029"/>
          <p:cNvSpPr txBox="1"/>
          <p:nvPr/>
        </p:nvSpPr>
        <p:spPr>
          <a:xfrm>
            <a:off x="2819520" y="129528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Text Box 1030"/>
          <p:cNvSpPr/>
          <p:nvPr/>
        </p:nvSpPr>
        <p:spPr>
          <a:xfrm>
            <a:off x="457200" y="2286000"/>
            <a:ext cx="829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 that many appliances use thermostats to keep 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ady tempe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3962520" y="304920"/>
            <a:ext cx="1323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1" name="WordArt 5"/>
          <p:cNvSpPr txBox="1"/>
          <p:nvPr/>
        </p:nvSpPr>
        <p:spPr>
          <a:xfrm>
            <a:off x="1905120" y="129528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661320" y="2174760"/>
            <a:ext cx="8210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be sent over large di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al cables allow you to send electricity to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a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can also be very dangerous if not tre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lectric shock can paralyse us and cause our heart to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s from electric shocks is more common in you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eld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nodeType="clickEffect" fill="hold">
                      <p:stCondLst>
                        <p:cond delay="indefinite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38098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4" name="WordArt 5"/>
          <p:cNvSpPr txBox="1"/>
          <p:nvPr/>
        </p:nvSpPr>
        <p:spPr>
          <a:xfrm>
            <a:off x="1828800" y="1143000"/>
            <a:ext cx="5362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33920" y="2174760"/>
            <a:ext cx="7785360" cy="26542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ires in a three pin plug are coloured as follows 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VE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B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</a:t>
            </a: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98108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2808360" y="2174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890640" y="3013200"/>
            <a:ext cx="753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Collect a diagram of the three pin plug which has b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Stick it into your note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:- the earth is for safety .The fuse is for safe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switch is for safety.The electricity flows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VE wire and BACK via the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You will be shown how to wire the plug by your tea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0" dur="indefinite" restart="never" nodeType="tmRoot">
          <p:childTnLst>
            <p:seq>
              <p:cTn id="1721" dur="indefinite" nodeType="mainSeq">
                <p:childTnLst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nodeType="clickEffect" fill="hold">
                      <p:stCondLst>
                        <p:cond delay="indefinite"/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1752480" y="1219320"/>
            <a:ext cx="5467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1432080" y="2133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HREE PIN PLUG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5943600" y="2133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118160" y="2784600"/>
            <a:ext cx="7972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use is a thin piece of wire which will melt if too mu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flows through it.If more than 3 amperes flows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3 ampere fuse it will melt and will cause all the electricit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switched off.This means that the plug wires cannot over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cause a fire.Fuses are of two types in a three pin plu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n appliance uses more than 3 amperes(3A) then a 13 amp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se must be used.If it uses less than 3A then a 3A fu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2579760" y="1717560"/>
            <a:ext cx="32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nodeType="clickEffect" fill="hold">
                      <p:stCondLst>
                        <p:cond delay="indefinite"/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nodeType="clickEffect" fill="hold">
                      <p:stCondLst>
                        <p:cond delay="indefinite"/>
                      </p:stCondLst>
                      <p:childTnLst>
                        <p:par>
                          <p:cTn id="1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1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LECTRICAL </a:t>
            </a:r>
            <a:r>
              <a:rPr b="0" lang="en-GB" sz="4400" spc="-1" strike="noStrike">
                <a:solidFill>
                  <a:srgbClr val="0300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u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generally have two types of fuse , the 3Amp and the 13 Am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use is a safety device in the three pin pl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 power of an appliance is greater than 700Watts , e.g. a kettle , we use a 13Amp fuse.If it is less than 700 Watts , e.g. a lamp , we fit a 3Amp f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6" dur="indefinite" restart="never" nodeType="tmRoot">
          <p:childTnLst>
            <p:seq>
              <p:cTn id="1857" dur="indefinite" nodeType="mainSeq">
                <p:childTnLst>
                  <p:par>
                    <p:cTn id="1858" nodeType="clickEffect" fill="hold">
                      <p:stCondLst>
                        <p:cond delay="indefinite"/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8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4"/>
          <p:cNvSpPr txBox="1"/>
          <p:nvPr/>
        </p:nvSpPr>
        <p:spPr>
          <a:xfrm>
            <a:off x="42670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WordArt 5"/>
          <p:cNvSpPr txBox="1"/>
          <p:nvPr/>
        </p:nvSpPr>
        <p:spPr>
          <a:xfrm>
            <a:off x="2133720" y="1295280"/>
            <a:ext cx="54673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lectrical safety in the hous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209680" y="2133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ORMATION THE EARTH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814680" y="2936880"/>
            <a:ext cx="82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earth does nothing in a circuit, but if the live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how touches the casing of an appliance  such as a toast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 would get an electric shock and be badly injured.To stop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ppening,the earth wire causes a large current to flow.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ows the fuse and the appliance becomes d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0" dur="indefinite" restart="never" nodeType="tmRoot">
          <p:childTnLst>
            <p:seq>
              <p:cTn id="1901" dur="indefinite" nodeType="mainSeq">
                <p:childTnLst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ON RENEWABLE SOURCES OF ENER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are coal , oil and g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al is made from dead plant material milloi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il and Gas are made from dead sea creatures millons of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they have been used they can no longer be used and are therefore running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nodeType="clickEffect" fill="hold">
                      <p:stCondLst>
                        <p:cond delay="indefinite"/>
                      </p:stCondLst>
                      <p:childTnLst>
                        <p:par>
                          <p:cTn id="1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ude oil is a mixture of hundreds of different compounds and is difficult to b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taken from the worlds oil fields to refineries where it is clea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is separated into different chemicals w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different chemical is separated out at a different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4" dur="indefinite" restart="never" nodeType="tmRoot">
          <p:childTnLst>
            <p:seq>
              <p:cTn id="1995" dur="indefinite" nodeType="mainSeq">
                <p:childTnLst>
                  <p:par>
                    <p:cTn id="1996" nodeType="clickEffect" fill="hold">
                      <p:stCondLst>
                        <p:cond delay="indefinite"/>
                      </p:stCondLst>
                      <p:childTnLst>
                        <p:par>
                          <p:cTn id="1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nodeType="clickEffect" fill="hold">
                      <p:stCondLst>
                        <p:cond delay="indefinite"/>
                      </p:stCondLst>
                      <p:childTnLst>
                        <p:par>
                          <p:cTn id="2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RUDE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ude oil products include the following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tled gas at 20</a:t>
            </a:r>
            <a:r>
              <a:rPr b="0" lang="en-GB" sz="3200" spc="-1" strike="noStrike" baseline="24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rol at 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vehic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affin oil at 1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jets and l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esel at 27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 for tr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ubricating oils for oil , polis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itumen at 350</a:t>
            </a:r>
            <a:r>
              <a:rPr b="0" lang="en-GB" sz="3200" spc="-1" strike="noStrike" baseline="2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 for ro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2" dur="indefinite" restart="never" nodeType="tmRoot">
          <p:childTnLst>
            <p:seq>
              <p:cTn id="2033" dur="indefinite" nodeType="mainSeq">
                <p:childTnLst>
                  <p:par>
                    <p:cTn id="2034" nodeType="clickEffect" fill="hold">
                      <p:stCondLst>
                        <p:cond delay="indefinite"/>
                      </p:stCondLst>
                      <p:childTnLst>
                        <p:par>
                          <p:cTn id="2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nodeType="clickEffect" fill="hold">
                      <p:stCondLst>
                        <p:cond delay="indefinite"/>
                      </p:stCondLst>
                      <p:childTnLst>
                        <p:par>
                          <p:cTn id="2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nodeType="clickEffect" fill="hold">
                      <p:stCondLst>
                        <p:cond delay="indefinite"/>
                      </p:stCondLst>
                      <p:childTnLst>
                        <p:par>
                          <p:cTn id="2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rning Fue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 fuels are burned in oxygen , heat is produced but carbon dioxide and water vapour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lphur dioxide and nitrogen are also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gases cause global warming and acid 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nodeType="clickEffect" fill="hold">
                      <p:stCondLst>
                        <p:cond delay="indefinite"/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04920" y="533520"/>
            <a:ext cx="1876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heating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7315200" y="457200"/>
            <a:ext cx="1467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ght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380880" y="5715000"/>
            <a:ext cx="1524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ok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7"/>
          <p:cNvSpPr txBox="1"/>
          <p:nvPr/>
        </p:nvSpPr>
        <p:spPr>
          <a:xfrm>
            <a:off x="8077320" y="571500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f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1981080"/>
            <a:ext cx="90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are the four main activities that people u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nergy for in a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other gas is produced when fuel does not burn completely.This is called Carbon Monox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gas has no smell and can cause d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s are now fitted with catalytic converters which convert this gas into a harmless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energy photo one"/>
          <p:cNvPicPr/>
          <p:nvPr/>
        </p:nvPicPr>
        <p:blipFill>
          <a:blip r:embed="rId1"/>
          <a:stretch/>
        </p:blipFill>
        <p:spPr>
          <a:xfrm>
            <a:off x="4594320" y="380880"/>
            <a:ext cx="419724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1523880" y="38088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38120" y="1793880"/>
            <a:ext cx="413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looking at the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wn, list the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ways in which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84120" y="3470400"/>
            <a:ext cx="39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appliances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st energ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4038480" y="228600"/>
            <a:ext cx="1324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743200" y="1143000"/>
            <a:ext cx="3600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89920" y="2022480"/>
            <a:ext cx="783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can be supplied to the home in three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icity :- this is brought to us from power stations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es via pylons and underground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:- this comes from the north sea.It is pumped a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ipelines to gas st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lid fuel :- this is the form of coal, wood or peat.Coal i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ed and peat is cut from 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1028"/>
          <p:cNvSpPr txBox="1"/>
          <p:nvPr/>
        </p:nvSpPr>
        <p:spPr>
          <a:xfrm>
            <a:off x="3200400" y="304920"/>
            <a:ext cx="30193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ypes of heat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Text Box 1030"/>
          <p:cNvSpPr/>
          <p:nvPr/>
        </p:nvSpPr>
        <p:spPr>
          <a:xfrm>
            <a:off x="693720" y="1695600"/>
            <a:ext cx="4923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st houses use ei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central he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as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ectric fi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411480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Oval 6"/>
          <p:cNvSpPr/>
          <p:nvPr/>
        </p:nvSpPr>
        <p:spPr>
          <a:xfrm>
            <a:off x="2743200" y="2743200"/>
            <a:ext cx="4343400" cy="36576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4876920" y="2819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742840" y="419076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 flipH="1">
            <a:off x="2666520" y="4876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 flipH="1">
            <a:off x="3733560" y="48769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5"/>
          <p:cNvSpPr/>
          <p:nvPr/>
        </p:nvSpPr>
        <p:spPr>
          <a:xfrm>
            <a:off x="3489840" y="339408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3566880" y="38512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7"/>
          <p:cNvSpPr/>
          <p:nvPr/>
        </p:nvSpPr>
        <p:spPr>
          <a:xfrm>
            <a:off x="2805840" y="4384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8"/>
          <p:cNvSpPr/>
          <p:nvPr/>
        </p:nvSpPr>
        <p:spPr>
          <a:xfrm>
            <a:off x="3338280" y="43848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2"/>
          <p:cNvSpPr/>
          <p:nvPr/>
        </p:nvSpPr>
        <p:spPr>
          <a:xfrm>
            <a:off x="2880360" y="48420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3"/>
          <p:cNvSpPr/>
          <p:nvPr/>
        </p:nvSpPr>
        <p:spPr>
          <a:xfrm>
            <a:off x="3186000" y="5222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4"/>
          <p:cNvSpPr/>
          <p:nvPr/>
        </p:nvSpPr>
        <p:spPr>
          <a:xfrm>
            <a:off x="5242320" y="369900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36"/>
          <p:cNvSpPr/>
          <p:nvPr/>
        </p:nvSpPr>
        <p:spPr>
          <a:xfrm flipV="1">
            <a:off x="6019920" y="274284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7"/>
          <p:cNvSpPr/>
          <p:nvPr/>
        </p:nvSpPr>
        <p:spPr>
          <a:xfrm>
            <a:off x="6934320" y="4724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8"/>
          <p:cNvSpPr/>
          <p:nvPr/>
        </p:nvSpPr>
        <p:spPr>
          <a:xfrm>
            <a:off x="6172200" y="58672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39"/>
          <p:cNvSpPr/>
          <p:nvPr/>
        </p:nvSpPr>
        <p:spPr>
          <a:xfrm flipH="1" flipV="1">
            <a:off x="2742840" y="28195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14479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1"/>
          <p:cNvSpPr/>
          <p:nvPr/>
        </p:nvSpPr>
        <p:spPr>
          <a:xfrm flipH="1">
            <a:off x="2057040" y="563868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"/>
          <p:cNvSpPr/>
          <p:nvPr/>
        </p:nvSpPr>
        <p:spPr>
          <a:xfrm>
            <a:off x="4572000" y="586728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4038480" y="304920"/>
            <a:ext cx="1324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er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2057400" y="1295280"/>
            <a:ext cx="5038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ses of energy in the hom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2209680"/>
            <a:ext cx="949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next slide shows the uses of energy in the h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uses are :- 1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t water   2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.V. ,lights etc. :-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oking :- 1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oom heating  :- 65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nk of other appliances and add them to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09:58Z</dcterms:created>
  <dc:creator>Physics Department</dc:creator>
  <dc:description/>
  <dc:language>en-US</dc:language>
  <cp:lastModifiedBy>RomaK</cp:lastModifiedBy>
  <dcterms:modified xsi:type="dcterms:W3CDTF">2015-09-03T12:25:36Z</dcterms:modified>
  <cp:revision>48</cp:revision>
  <dc:subject/>
  <dc:title>PowerPoint Presentation</dc:title>
</cp:coreProperties>
</file>