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141A-437D-4952-ABEA-16AEA29417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 Energy explains the five basic rules of Energy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1. “An unbalanced force acting on a body results in a change in mo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balancing scales will not move…until…we do 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a weight (an unbalanced force!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2: Objects remain stationary or in constant motion under the influence of 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The wheel will continue to spin and spin and spin…until…what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nbalance it (here, with brakes). Note that, once it stops, the wheel is once ag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3: Energy can be transferred from one medium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we heat the pot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from the fire is transferred to the wa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4: Transfers of energy can vary according to the medium in which it tra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put a pencil into a glass of water…what happ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to the refracting property of water, the pencil appears to be b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ange: the basic five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 # 5: Energy is conserved when it is transferred or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s means: When you turn on a bulb, you get energy in the form of light, but you get what other form of energy as w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mped? Then, do the experiment with your teac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B33-F9C4-418D-865D-AC3BC36C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A823-802C-45E0-BBA1-E65369D1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76A3-8A13-412B-A492-2E9FAC9D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C60-6EB6-449D-B33F-4C42E047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F3F-E625-41AE-9A2E-1E4BCCE6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85A-3C53-40EE-A310-7A771525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13B-6FB7-4FB0-865A-2D4FB35D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B34A-2CCD-4FC5-A183-5332A08C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D83-D6C3-4B87-8900-D34C0B32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69B-2A99-4A4F-8320-F0B0F64C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647-6A39-4D1C-B92B-7AAB838E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C8BA-2BCE-46AA-967C-91537082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4D42-2693-4D40-976B-929DDBA0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0511-0902-1614-4828_Twister_or_Tornado_with_Lightning_Bolts_clipart_image"/>
          <p:cNvPicPr/>
          <p:nvPr/>
        </p:nvPicPr>
        <p:blipFill>
          <a:blip r:embed="rId1"/>
          <a:stretch/>
        </p:blipFill>
        <p:spPr>
          <a:xfrm>
            <a:off x="2590920" y="1447920"/>
            <a:ext cx="4114800" cy="3211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5867280" y="3962520"/>
            <a:ext cx="2971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Ed Energy explains the five basic rules of Energy an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11954348431437107035Gerald_G_Balance_Scale"/>
          <p:cNvPicPr/>
          <p:nvPr/>
        </p:nvPicPr>
        <p:blipFill>
          <a:blip r:embed="rId1"/>
          <a:stretch/>
        </p:blipFill>
        <p:spPr>
          <a:xfrm>
            <a:off x="3429000" y="1143000"/>
            <a:ext cx="5715000" cy="36957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52280" y="1143000"/>
            <a:ext cx="403884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Law # 1.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“An </a:t>
            </a:r>
            <a:r>
              <a:rPr b="1" lang="en-US" sz="2000" spc="-1" strike="noStrike" u="sng">
                <a:solidFill>
                  <a:srgbClr val="cc9900"/>
                </a:solidFill>
                <a:uFillTx/>
                <a:latin typeface="Arial"/>
              </a:rPr>
              <a:t>unbalanced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force acting on a body results in a change in mo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0" y="4800600"/>
            <a:ext cx="4343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9900"/>
                </a:solidFill>
                <a:latin typeface="Arial"/>
              </a:rPr>
              <a:t>the balancing scales will not move…until…we do 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3809880" y="-741240"/>
            <a:ext cx="1160640" cy="74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3"/>
          <a:stretch/>
        </p:blipFill>
        <p:spPr>
          <a:xfrm>
            <a:off x="3427560" y="1143000"/>
            <a:ext cx="5716440" cy="3697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3514320" y="6172200"/>
            <a:ext cx="530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Apply a weight (an unbalanced force!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0.08727 L 0.0033 0.5095 E">
                                      <p:cBhvr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52280" y="1143000"/>
            <a:ext cx="403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Law # 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Objects remain stationary or in constant motion under the influence of balanced fo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8600" y="403848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Engravers MT"/>
              </a:rPr>
              <a:t>What this mean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wheel will continue to spin and spin and spin…until…what??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057400" y="6019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We </a:t>
            </a:r>
            <a:r>
              <a:rPr b="1" lang="en-US" sz="2200" spc="-1" strike="noStrike" u="sng">
                <a:solidFill>
                  <a:srgbClr val="cc9900"/>
                </a:solidFill>
                <a:uFillTx/>
                <a:latin typeface="Arial"/>
              </a:rPr>
              <a:t>unbalance</a:t>
            </a: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 it (here, with brakes). Note that, once it stops, the wheel is once again in bal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wheel36"/>
          <p:cNvPicPr/>
          <p:nvPr/>
        </p:nvPicPr>
        <p:blipFill>
          <a:blip r:embed="rId1"/>
          <a:stretch/>
        </p:blipFill>
        <p:spPr>
          <a:xfrm>
            <a:off x="4572000" y="1523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4673520" cy="3892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46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9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3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can be transferred from one medium to an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52280" y="3657600"/>
            <a:ext cx="4191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we heat the pot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09480" y="510552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e energy from the fire is transferred to the wat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8" descr=""/>
          <p:cNvPicPr/>
          <p:nvPr/>
        </p:nvPicPr>
        <p:blipFill>
          <a:blip r:embed="rId1"/>
          <a:stretch/>
        </p:blipFill>
        <p:spPr>
          <a:xfrm>
            <a:off x="5562720" y="5946840"/>
            <a:ext cx="31129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27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"/>
          <p:cNvPicPr/>
          <p:nvPr/>
        </p:nvPicPr>
        <p:blipFill>
          <a:blip r:embed="rId3"/>
          <a:stretch/>
        </p:blipFill>
        <p:spPr>
          <a:xfrm>
            <a:off x="5791320" y="2362320"/>
            <a:ext cx="2770200" cy="2000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"/>
          <p:cNvPicPr/>
          <p:nvPr/>
        </p:nvPicPr>
        <p:blipFill>
          <a:blip r:embed="rId4"/>
          <a:stretch/>
        </p:blipFill>
        <p:spPr>
          <a:xfrm>
            <a:off x="4572000" y="990720"/>
            <a:ext cx="1522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C -0.00226 0.02593 0.00173 0.0169 -0.01042 0.01181 C -0.01129 0.01436 -0.01163 0.02176 -0.0132 0.01968 C -0.01563 0.01621 -0.01424 0.01042 -0.01476 0.00579 C -0.01598 -0.0037 -0.01598 -0.00324 -0.01771 -0.0118 C -0.02431 -0.00578 -0.02882 0.00139 -0.03386 0.00973 C -0.03716 -0.01018 -0.0342 -0.01273 -0.03976 -0.00208 C -0.03837 -0.00138 -0.03698 0.00024 -0.03542 -4.44444E-006 C -0.02726 -0.00138 -0.03091 -0.00902 -0.02795 0.00186 C -0.02743 0.00718 -0.02934 0.01389 -0.02657 0.0176 C -0.02483 0.02014 -0.02448 0.01112 -0.02361 0.00787 C -0.02101 -0.00115 -0.02361 0.00394 -0.01771 -0.00393 C -0.01719 0.00255 -0.01962 0.01112 -0.01615 0.01575 C -0.01389 0.01875 -0.01129 0.01042 -0.00886 0.00787 C -0.00504 0.00394 0.00434 -4.44443999999999E-006 0.00434 0.00024 C 0.00677 0.0125 0.00503 0.0044 0.00885 0.01968 C 0.00937 0.02153 0.01024 0.02547 0.01024 0.0257 C 0.01215 0.02408 0.01423 0.02315 0.01614 0.02153 C 0.01962 0.01852 0.02639 0.01181 0.02639 0.01204 C 0.02795 0.01366 0.02968 0.01528 0.0309 0.0176 C 0.03177 0.01945 0.03073 0.02362 0.03229 0.02362 C 0.03385 0.02362 0.03298 0.01945 0.03385 0.0176 C 0.03541 0.01412 0.03767 0.01112 0.03958 0.00787 C 0.0401 0.00579 0.04114 -0.00023 0.04114 0.00186 C 0.04114 0.00579 0.04201 0.01135 0.03958 0.01366 C 0.03784 0.01528 0.03767 0.00857 0.0368 0.00579 C 0.03455 -0.00115 0.03264 -0.0074 0.02934 -0.01365 C 0.0283 -0.0118 0.02708 -0.00995 0.02639 -0.00787 C 0.02361 0.00209 0.02691 0.00811 0.02205 -0.00787 C 0.02048 -0.00717 0.01857 -0.00763 0.01753 -0.00601 C 0.01632 -0.00393 0.01684 -0.00069 0.01614 0.00186 C 0.01545 0.00463 0.01406 0.00695 0.01319 0.00973 C 0.01267 0.01158 0.01232 0.01366 0.0118 0.01575 C 0.01406 0.02524 0.0151 0.02963 0.00729 0.03334 C 0.00434 0.03264 0.00017 0.0345 -0.00157 0.03125 C -0.00382 0.02662 0.00434 0.01783 0.0059 0.01575 C 0.00468 0.00301 0.00625 -0.00324 -0.00157 -0.00972 C -0.00452 -0.00208 -0.00834 0.00463 -0.01181 0.01181 C -0.01233 0.00209 -0.01094 -0.00833 -0.0132 -0.01759 C -0.01389 -0.02013 -0.01684 -0.01435 -0.01771 -0.0118 C -0.01875 -0.00879 -0.01858 -0.00532 -0.0191 -0.00208 C -0.02066 0.00764 -0.02466 0.01505 -0.02795 0.02362 C -0.02865 0.02547 -0.03056 0.02801 -0.02952 0.0294 C -0.0283 0.03079 -0.02657 0.02778 -0.025 0.02732 C -0.02118 0.02639 -0.01719 0.02616 -0.0132 0.02547 C -0.00521 0.02292 -0.00486 0.01783 3.05556E-006 0.02732 C -0.00052 0.03056 -0.00157 0.0338 -0.00157 0.03727 C -0.00157 0.03936 -0.00139 0.04399 3.05556E-006 0.04306 C 0.00486 0.03982 0.00364 0.03218 0.0059 0.02732 C 0.00764 0.02385 0.00989 0.02084 0.0118 0.0176 C 0.00694 0.03658 0.0283 0.01528 0.03229 0.01181 C 0.03125 0.01575 0.03021 0.01968 0.02934 0.02362 C 0.02882 0.0257 0.0309 0.0176 0.0309 0.01783 C 0.03038 0.01227 0.03212 0.00556 0.02934 0.00186 C 0.02725 -0.00092 0.02378 0.01459 0.02343 0.01575 C 0.0125 0.00116 0.01823 0.00116 0.00729 0.00973 C 0.00625 0.01181 0.00573 0.01713 0.00434 0.01575 C 0.00191 0.01343 0.00121 0.00024 3.05556E-006 -0.00393 C -0.00139 -0.00856 -0.00504 -0.0125 -0.00747 -0.01574 C -0.01042 -0.01435 -0.01354 -0.01388 -0.01615 -0.0118 C -0.03368 0.00116 -0.0099 -0.01111 -0.025 -0.00393 C -0.02604 -0.00578 -0.02622 -0.00972 -0.02795 -0.00972 C -0.03264 -0.00972 -0.03334 0.0007 -0.03386 0.00394 C -0.03334 0.00579 -0.03386 0.01065 -0.03247 0.00973 C -0.03073 0.00857 -0.03143 0.0044 -0.03091 0.00186 C -0.02934 -0.00671 -0.03021 -0.01088 -0.02361 -0.01365 C -0.02118 0.01065 -0.02431 0.00047 -0.01042 -0.00393 C 0.00052 -0.00208 3.05556E-006 -0.00671 3.05556E-006 -4.44444E-006 Z">
                                      <p:cBhvr>
                                        <p:cTn id="60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3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4" dur="2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3.33333E-006 C -0.00885 -0.00926 -0.01319 -0.01458 -0.02361 -0.02153 C -0.02587 -0.02292 -0.02743 -0.02593 -0.02951 -0.02755 C -0.0309 -0.02847 -0.0349 -0.03079 -0.03385 -0.0294 C -0.03108 -0.0257 -0.02691 -0.02454 -0.02361 -0.02153 C -0.025 -0.03634 -0.02396 -0.04236 -0.03385 -0.04908 C -0.03194 -0.04121 -0.03177 -0.0382 -0.02656 -0.03333 C -0.0217 -0.02361 -0.01892 -0.01412 -0.01181 -0.00787 C -0.01493 -0.01806 -0.01979 -0.02477 -0.02656 -0.03148 C -0.0283 -0.03333 -0.03472 -0.03542 -0.03247 -0.03542 C -0.02986 -0.03542 -0.0276 -0.03241 -0.025 -0.03148 C -0.02431 -0.03125 -0.02604 -0.03264 -0.02656 -0.03333 C -0.02795 -0.03519 -0.02969 -0.03681 -0.0309 -0.03912 C -0.03507 -0.04699 -0.03646 -0.05324 -0.04271 -0.0588 C -0.04323 -0.06088 -0.04427 -0.0669 -0.04427 -0.06482 C -0.04427 -0.06204 -0.04306 -0.05972 -0.04271 -0.05695 C -0.04028 -0.03565 -0.04583 -0.0419 -0.03542 -0.03542 C -0.02535 -0.02199 -0.03003 -0.02523 -0.01927 -0.01968 C -0.01771 -0.01898 -0.01476 -0.01551 -0.01476 -0.01759 C -0.01476 -0.01991 -0.02031 -0.02361 -0.01927 -0.02153 C -0.01736 -0.01759 -0.01441 -0.01482 -0.01181 -0.01181 C -0.00712 -0.00671 -0.00226 -0.00208 0.00295 0.00185 C 0.00677 0.00463 0.01458 0.00972 0.01458 0.00972 C 0.01649 0.01366 0.01753 0.01898 0.02049 0.02153 C 0.02205 0.02292 0.02674 0.02454 0.025 0.02546 C 0.02222 0.02685 0.0191 0.0243 0.01615 0.02361 C 0.00729 0.01759 -0.00104 0.01574 -0.01042 0.0118 C 0.00139 0.02454 0.00747 0.02917 0.02049 0.03727 C 0.02326 0.03912 0.02656 0.03958 0.02934 0.0412 C 0.03333 0.04352 0.04427 0.05324 0.04115 0.04907 C 0.0375 0.04421 0.03437 0.03819 0.03073 0.03333 C 0.02014 0.01921 0.03403 0.04398 0.02049 0.02153 C 0.01823 0.01782 0.01458 0.00972 0.01458 0.00972 C 0.01354 0.00579 0.0125 0.00185 0.01163 -0.00208 C 0.01111 -0.00417 0.01267 0.00185 0.01319 0.00393 C 0.01406 0.00741 0.01736 0.00903 0.0191 0.0118 C 0.02622 0.02338 0.02535 0.02708 0.03524 0.03125 C 0.02917 0.01111 0.01198 -0.01158 -0.00156 -0.02361 C -0.00573 -0.02732 0.00382 -0.0125 0.00729 -0.00787 C 0.00868 -0.00602 0.01372 -0.00208 0.01163 -0.00208 C 0.00903 -0.00208 0.0033 -0.01181 0.00139 -0.01366 C -0.00694 -0.02199 -0.01615 -0.02917 -0.02361 -0.03912 C -0.02483 -0.04074 -0.02066 -0.03681 -0.01927 -0.03542 C -0.0099 -0.02523 -0.02014 -0.03287 -0.00885 -0.02546 C 0.00052 -0.00718 -0.0125 -0.04005 -0.01337 -0.04306 C -0.01493 -0.05857 -0.01701 -0.06528 -0.02361 -0.07847 C -0.02604 -0.08333 -0.01771 -0.06273 -0.01771 -0.06273 C -0.01441 -0.07732 -0.01771 -0.0632 -0.01771 -0.06088 C -0.01771 -0.05695 -0.01632 -0.05301 -0.01632 -0.04908 C -0.01632 -0.04699 -0.01684 -0.05324 -0.01771 -0.05486 C -0.01875 -0.05671 -0.02066 -0.05741 -0.02205 -0.0588 C -0.02101 -0.05 -0.02014 -0.04051 -0.01337 -0.03542 C -0.01059 -0.03333 -0.00451 -0.03148 -0.00451 -0.03148 C -0.00347 -0.025 -0.0033 -0.01806 -0.00156 -0.01181 C 0.00017 -0.00533 0.00781 0.000229999999999999 -0.00156 -0.00787 C -0.0026 -0.00972 -0.00347 -0.01181 -0.00451 -0.01366 C -0.0059 -0.01574 -0.00885 -0.0169 -0.00885 -0.01968 C -0.00885 -0.02199 -0.0059 -0.01713 -0.00451 -0.01574 C -0.00295 -0.01389 -0.00174 -0.01134 1.73472E-018 -0.00972 C 0.0066 -0.00324 0.00747 -0.0044 0.01458 -3.33333E-006 C 0.01858 0.00254 0.02222 0.00602 0.02639 0.00787 C 0.02778 0.00856 0.03177 0.01111 0.03073 0.00972 C 0.025 0.00208 0.0158 0.00116 0.00868 -0.00208 C 0.01128 0.00833 0.0184 0.0118 0.025 0.01759 C 0.02899 0.02106 0.01806 0.00856 0.01458 0.00393 C 0.01285 0.00162 0.01059 -3.33332999999988E-006 0.00868 -0.00208 C 0.01319 0.01342 0.02187 0.02292 0.03229 0.03125 C 0.02917 0.01967 0.02656 0.01389 0.01753 0.00972 C 0.0151 0.02037 0.01719 0.01504 0.01458 0.00972 C 0.01337 0.00741 0.01163 0.00579 0.01024 0.00393 C 0.01302 0.01551 0.01493 0.01667 0.02344 0.01366 C 0.02153 0.01227 0.01927 0.01157 0.01753 0.00972 C 0.01528 0.00741 0.01406 0.0037 0.01163 0.00185 C 0.00799 -0.00093 0.00365 -0.00139 1.73472E-018 -0.00394 C -0.0066 -0.00833 -0.01181 -0.01458 -0.01927 -0.01759 C -0.01181 -0.00972 -0.00469 -0.00185 0.00295 0.00579 C 0.00972 0.00278 0.00868 0.00463 1.73472E-018 -3.33333E-006 Z">
                                      <p:cBhvr>
                                        <p:cTn id="75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4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Transfers of energy can vary according to the medium in which it tra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80880" y="3048120"/>
            <a:ext cx="41911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put a pencil into a glass of water…what happe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09480" y="5105520"/>
            <a:ext cx="4496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Thanks to the refracting property of water, the pencil appears to be bent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1" descr=""/>
          <p:cNvPicPr/>
          <p:nvPr/>
        </p:nvPicPr>
        <p:blipFill>
          <a:blip r:embed="rId1"/>
          <a:stretch/>
        </p:blipFill>
        <p:spPr>
          <a:xfrm>
            <a:off x="5257800" y="1295280"/>
            <a:ext cx="3579840" cy="47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nergy and Change: the basic five l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52280" y="1143000"/>
            <a:ext cx="40388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ngravers MT"/>
              </a:rPr>
              <a:t>Law # 5: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 Energy is conserved when it is transferred or 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80880" y="3048120"/>
            <a:ext cx="419112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Engravers MT"/>
              </a:rPr>
              <a:t>What this means: 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When you turn on a bulb, you get energy in the form of light, but you get what other form of energy as we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5105520"/>
            <a:ext cx="3810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9900"/>
                </a:solidFill>
                <a:latin typeface="Arial"/>
              </a:rPr>
              <a:t>Stumped? Then, do the experiment with your teacher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"/>
          <p:cNvPicPr/>
          <p:nvPr/>
        </p:nvPicPr>
        <p:blipFill>
          <a:blip r:embed="rId1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9020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21:06Z</dcterms:created>
  <dc:creator/>
  <dc:description/>
  <dc:language>en-US</dc:language>
  <cp:lastModifiedBy>RomaK</cp:lastModifiedBy>
  <dcterms:modified xsi:type="dcterms:W3CDTF">2015-09-03T12:25:28Z</dcterms:modified>
  <cp:revision>13</cp:revision>
  <dc:subject/>
  <dc:title>Five basic rules of energy and change</dc:title>
</cp:coreProperties>
</file>