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png" ContentType="image/png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669D-8289-426F-9B69-6579B4244CE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t of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pectrum of each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hydrogen absorption lines appear against a continuous visual spectrum, the light in the spectrum absorbed by intervening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"Astronomy! A Brief Edition," J. B. Kaler, Addison-Wesley, 1997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0C1-C25E-452D-966B-8CC56644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601-CB93-4B98-AC3B-56A8448D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EE4-DED2-46E1-AA0D-F0AEEE94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BC0-7ABD-4D51-95A7-BD45181B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A82B-D350-4A89-B657-33D4F69D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CE4-0FE4-40DC-95DF-A82BD8E2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3407C-AFB9-44DA-A54F-076623A9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8C06-B41D-4052-BF6B-E7EC1639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A0C4-F7B1-453F-A336-EC02AF56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7B1B-90AD-4BE5-BE9B-011AE6F8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BC46-851B-454A-B374-5248CFFF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ADCB-B261-4083-8685-7AEAF343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4214-420A-4ADB-A81F-173AE91D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317F-15DB-47F7-82F8-094244AF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7D9-5519-4ED8-A2F8-B40B7743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9DE7-096B-4F95-A748-50119E5D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656C-AA80-45C8-BD52-F3F69592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489-7FBB-4862-8022-F0E6433A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8B73-572E-44D5-B7E1-27843B53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507C-43D1-4D6A-9D0D-D06F27C6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5CF-7A04-480E-B499-979855C1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BA4-DD4E-4773-BC3C-92A8F058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A6B-D4BF-466F-9FEF-EB60522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6CF-3085-45D5-970A-FEFD985D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Group 3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 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j0239005"/>
          <p:cNvPicPr/>
          <p:nvPr/>
        </p:nvPicPr>
        <p:blipFill>
          <a:blip r:embed="rId1"/>
          <a:stretch/>
        </p:blipFill>
        <p:spPr>
          <a:xfrm>
            <a:off x="1295280" y="4191120"/>
            <a:ext cx="1803600" cy="15494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" descr="balmer spectra"/>
          <p:cNvPicPr/>
          <p:nvPr/>
        </p:nvPicPr>
        <p:blipFill>
          <a:blip r:embed="rId1"/>
          <a:stretch/>
        </p:blipFill>
        <p:spPr>
          <a:xfrm>
            <a:off x="838080" y="3276720"/>
            <a:ext cx="7315200" cy="28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pec-hydrogen"/>
          <p:cNvPicPr/>
          <p:nvPr/>
        </p:nvPicPr>
        <p:blipFill>
          <a:blip r:embed="rId2"/>
          <a:stretch/>
        </p:blipFill>
        <p:spPr>
          <a:xfrm>
            <a:off x="762120" y="236232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962520" y="5638680"/>
            <a:ext cx="1371600" cy="30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666880" y="2057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0" y="2057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rypt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spec-krypton"/>
          <p:cNvPicPr/>
          <p:nvPr/>
        </p:nvPicPr>
        <p:blipFill>
          <a:blip r:embed="rId1"/>
          <a:stretch/>
        </p:blipFill>
        <p:spPr>
          <a:xfrm>
            <a:off x="762120" y="2286000"/>
            <a:ext cx="7467480" cy="609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tube-krypton"/>
          <p:cNvPicPr/>
          <p:nvPr/>
        </p:nvPicPr>
        <p:blipFill>
          <a:blip r:embed="rId2"/>
          <a:stretch/>
        </p:blipFill>
        <p:spPr>
          <a:xfrm>
            <a:off x="3429000" y="3962520"/>
            <a:ext cx="2316240" cy="1741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4" descr="tube-neon"/>
          <p:cNvPicPr/>
          <p:nvPr/>
        </p:nvPicPr>
        <p:blipFill>
          <a:blip r:embed="rId1"/>
          <a:stretch/>
        </p:blipFill>
        <p:spPr>
          <a:xfrm>
            <a:off x="3733920" y="4343400"/>
            <a:ext cx="1554120" cy="1168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pec-neon"/>
          <p:cNvPicPr/>
          <p:nvPr/>
        </p:nvPicPr>
        <p:blipFill>
          <a:blip r:embed="rId2"/>
          <a:stretch/>
        </p:blipFill>
        <p:spPr>
          <a:xfrm>
            <a:off x="838080" y="2743200"/>
            <a:ext cx="7467840" cy="6094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1752480" y="24382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800100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en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tube-xenon"/>
          <p:cNvPicPr/>
          <p:nvPr/>
        </p:nvPicPr>
        <p:blipFill>
          <a:blip r:embed="rId1"/>
          <a:stretch/>
        </p:blipFill>
        <p:spPr>
          <a:xfrm>
            <a:off x="3505320" y="3962520"/>
            <a:ext cx="2315880" cy="1741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spec-xenon"/>
          <p:cNvPicPr/>
          <p:nvPr/>
        </p:nvPicPr>
        <p:blipFill>
          <a:blip r:embed="rId2"/>
          <a:stretch/>
        </p:blipFill>
        <p:spPr>
          <a:xfrm>
            <a:off x="838080" y="2666880"/>
            <a:ext cx="7467840" cy="6098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water vapor3"/>
          <p:cNvPicPr/>
          <p:nvPr/>
        </p:nvPicPr>
        <p:blipFill>
          <a:blip r:embed="rId1"/>
          <a:stretch/>
        </p:blipFill>
        <p:spPr>
          <a:xfrm>
            <a:off x="1676520" y="2133720"/>
            <a:ext cx="6476760" cy="43005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304920" y="617220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6"/>
          <p:cNvSpPr/>
          <p:nvPr/>
        </p:nvSpPr>
        <p:spPr>
          <a:xfrm>
            <a:off x="533520" y="60958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38880" y="2514600"/>
            <a:ext cx="1143000" cy="289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watervapor"/>
          <p:cNvPicPr/>
          <p:nvPr/>
        </p:nvPicPr>
        <p:blipFill>
          <a:blip r:embed="rId1"/>
          <a:stretch/>
        </p:blipFill>
        <p:spPr>
          <a:xfrm>
            <a:off x="2666880" y="2286000"/>
            <a:ext cx="6096240" cy="42958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72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og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>
            <a:off x="4572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ity of Ore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92240" y="3208320"/>
            <a:ext cx="6680160" cy="12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jersey.uoregon.edu/vlab/elements/Elements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127680" y="4724280"/>
            <a:ext cx="32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t of Periodic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pectrum of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505640" cy="17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io Stat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stronomy.ohiostate.edu/~pogge/Ast350/Labs/Lamp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4724280" y="3429000"/>
            <a:ext cx="37339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 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6" name="Picture 5" descr="j0354516"/>
          <p:cNvPicPr/>
          <p:nvPr/>
        </p:nvPicPr>
        <p:blipFill>
          <a:blip r:embed="rId1"/>
          <a:stretch/>
        </p:blipFill>
        <p:spPr>
          <a:xfrm>
            <a:off x="838080" y="1828800"/>
            <a:ext cx="1143000" cy="10396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62120" y="60958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 Zalewski  Jan.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EMSpec"/>
          <p:cNvPicPr/>
          <p:nvPr/>
        </p:nvPicPr>
        <p:blipFill>
          <a:blip r:embed="rId1"/>
          <a:stretch/>
        </p:blipFill>
        <p:spPr>
          <a:xfrm>
            <a:off x="152280" y="1814400"/>
            <a:ext cx="8839440" cy="43624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562720" y="1600200"/>
            <a:ext cx="16761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3809520" y="1600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152280" y="4191120"/>
            <a:ext cx="8839440" cy="19810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2819520" y="1371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746748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200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ctromagnetic 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pectrum4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52815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52280" y="64911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001000" y="6491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ght Line Spec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4" descr="spectra-lines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 of several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spectra-composit"/>
          <p:cNvPicPr/>
          <p:nvPr/>
        </p:nvPicPr>
        <p:blipFill>
          <a:blip r:embed="rId1"/>
          <a:stretch/>
        </p:blipFill>
        <p:spPr>
          <a:xfrm>
            <a:off x="762120" y="1066680"/>
            <a:ext cx="7848360" cy="5069160"/>
          </a:xfrm>
          <a:prstGeom prst="rect">
            <a:avLst/>
          </a:prstGeom>
          <a:ln w="0">
            <a:noFill/>
          </a:ln>
        </p:spPr>
      </p:pic>
      <p:sp>
        <p:nvSpPr>
          <p:cNvPr id="145" name="Line 5"/>
          <p:cNvSpPr/>
          <p:nvPr/>
        </p:nvSpPr>
        <p:spPr>
          <a:xfrm>
            <a:off x="5410080" y="6400800"/>
            <a:ext cx="2438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H="1">
            <a:off x="2209680" y="6400800"/>
            <a:ext cx="2819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rk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drog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bsorption lines appear against a continuous visual spectrum, the light in the spectrum absorbed by intervening hydrogen a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absorption"/>
          <p:cNvPicPr/>
          <p:nvPr/>
        </p:nvPicPr>
        <p:blipFill>
          <a:blip r:embed="rId1"/>
          <a:stretch/>
        </p:blipFill>
        <p:spPr>
          <a:xfrm>
            <a:off x="152280" y="3886200"/>
            <a:ext cx="8763120" cy="24382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828800" y="618804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From "Astronomy! A Brief Edition," J. B. Kaler, Addison-Wesley,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ors of various g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tube-argon"/>
          <p:cNvPicPr/>
          <p:nvPr/>
        </p:nvPicPr>
        <p:blipFill>
          <a:blip r:embed="rId1"/>
          <a:stretch/>
        </p:blipFill>
        <p:spPr>
          <a:xfrm>
            <a:off x="533520" y="2362320"/>
            <a:ext cx="2239920" cy="168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tube-helium"/>
          <p:cNvPicPr/>
          <p:nvPr/>
        </p:nvPicPr>
        <p:blipFill>
          <a:blip r:embed="rId2"/>
          <a:stretch/>
        </p:blipFill>
        <p:spPr>
          <a:xfrm>
            <a:off x="3505320" y="23623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tube-krypton"/>
          <p:cNvPicPr/>
          <p:nvPr/>
        </p:nvPicPr>
        <p:blipFill>
          <a:blip r:embed="rId3"/>
          <a:stretch/>
        </p:blipFill>
        <p:spPr>
          <a:xfrm>
            <a:off x="6248520" y="2362320"/>
            <a:ext cx="2133360" cy="160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tube-neon"/>
          <p:cNvPicPr/>
          <p:nvPr/>
        </p:nvPicPr>
        <p:blipFill>
          <a:blip r:embed="rId4"/>
          <a:stretch/>
        </p:blipFill>
        <p:spPr>
          <a:xfrm>
            <a:off x="1523880" y="4495680"/>
            <a:ext cx="2286000" cy="1720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tube-xenon"/>
          <p:cNvPicPr/>
          <p:nvPr/>
        </p:nvPicPr>
        <p:blipFill>
          <a:blip r:embed="rId5"/>
          <a:stretch/>
        </p:blipFill>
        <p:spPr>
          <a:xfrm>
            <a:off x="4800600" y="4419720"/>
            <a:ext cx="2286000" cy="17190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4" descr="spec-argon"/>
          <p:cNvPicPr/>
          <p:nvPr/>
        </p:nvPicPr>
        <p:blipFill>
          <a:blip r:embed="rId1"/>
          <a:stretch/>
        </p:blipFill>
        <p:spPr>
          <a:xfrm>
            <a:off x="838080" y="3124080"/>
            <a:ext cx="7467840" cy="60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tube-argon"/>
          <p:cNvPicPr/>
          <p:nvPr/>
        </p:nvPicPr>
        <p:blipFill>
          <a:blip r:embed="rId2"/>
          <a:stretch/>
        </p:blipFill>
        <p:spPr>
          <a:xfrm>
            <a:off x="3276720" y="4267080"/>
            <a:ext cx="2239920" cy="168444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i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tube-helium"/>
          <p:cNvPicPr/>
          <p:nvPr/>
        </p:nvPicPr>
        <p:blipFill>
          <a:blip r:embed="rId1"/>
          <a:stretch/>
        </p:blipFill>
        <p:spPr>
          <a:xfrm>
            <a:off x="3429000" y="4191120"/>
            <a:ext cx="2209680" cy="1663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pec-helium"/>
          <p:cNvPicPr/>
          <p:nvPr/>
        </p:nvPicPr>
        <p:blipFill>
          <a:blip r:embed="rId2"/>
          <a:stretch/>
        </p:blipFill>
        <p:spPr>
          <a:xfrm>
            <a:off x="762120" y="2971800"/>
            <a:ext cx="746748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6"/>
          <p:cNvSpPr/>
          <p:nvPr/>
        </p:nvSpPr>
        <p:spPr>
          <a:xfrm>
            <a:off x="5181480" y="2666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9:45:16Z</dcterms:created>
  <dc:creator>Ben Zalewski</dc:creator>
  <dc:description/>
  <dc:language>en-US</dc:language>
  <cp:lastModifiedBy>RomaK</cp:lastModifiedBy>
  <dcterms:modified xsi:type="dcterms:W3CDTF">2015-09-03T12:25:22Z</dcterms:modified>
  <cp:revision>25</cp:revision>
  <dc:subject/>
  <dc:title>Slide 1</dc:title>
</cp:coreProperties>
</file>