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2E95-4766-4EC7-8CFA-7D8BB67C8AC6}"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s have both a north pole and a south po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lines of force flow from pole to pole as shown in the sketc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asy to feel the attraction or repulsion when one plays with two magn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s have both a north pole and a south 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lines of force flow from pole to pole as shown in the ske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feel the attraction or repulsion when one plays with two mag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s gravitational force makes the ball move down towards the centre of the Ear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n’s gravitational force makes the Earth move in an orbit around the Su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gravitational force makes the ball move down towards the centre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 gravitational force makes the Earth move in an orbit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field shows us how electric charges behave around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what elec field looks like: </a:t>
            </a:r>
            <a:br>
              <a:rPr sz="1200"/>
            </a:br>
            <a:r>
              <a:rPr b="0" lang="en-US" sz="1200" spc="-1" strike="noStrike">
                <a:solidFill>
                  <a:srgbClr val="ffffff"/>
                </a:solidFill>
                <a:latin typeface="Arial"/>
              </a:rPr>
              <a:t>http://www.colorado.edu/physics/2000/waves_particles/wavpart3.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field shows us how electric charges behave arou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elec field looks like: </a:t>
            </a:r>
            <a:br>
              <a:rPr sz="1200"/>
            </a:br>
            <a:r>
              <a:rPr b="0" lang="en-US" sz="1200" spc="-1" strike="noStrike">
                <a:solidFill>
                  <a:srgbClr val="000000"/>
                </a:solidFill>
                <a:latin typeface="Arial"/>
              </a:rPr>
              <a:t>http://www.colorado.edu/physics/2000/waves_particles/wavpart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ve and negative charges attract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wo positive charges do to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nd negative charges attrac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wo positive charges do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ning discharges an excess of positive and negative charge within clouds, between clouds, or between clouds and the gr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discharges an excess of positive and negative charge within clouds, between clouds, or between clouds and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s textboo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78-79 – 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y questions 4 &amp; 5 on p81.</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139/140 and try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78-79 –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questions 4 &amp; 5 on p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139/140 and t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magnetis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gnetic field is produced when an electric current flows through a coil of wire. This is the basis of the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make an electromagnet stronger by doing these thing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ping the coil around an iron cor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ng more turns to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reasing the current flowing through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gnetic field is produced when an electric current flows through a coil of wire. This is the basis of the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ake an electromagnet stronger by doing thes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apping the coil around an iron 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more turns to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current flowing through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imple Electromag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Electromag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lectromagne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better than magnets because the magnetism can be turned off and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lectromag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tter than magnets because the magnetism can be turned off an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ctromagnet anim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schools/ks3bitesize/science/physics/magnetism_4.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4.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 like the ones used in most schools also contain an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urrent flows through the circuit, the electromagnet makes a magnetic fiel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attracts the springy metal arm.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 hits the gong, which makes a sound and the circuit is broke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is turned off and the springy metal arm moves back.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ircuit is complete agai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 like the ones used in most schools also contain an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urrent flows through the circuit, the electromagnet mak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attracts the springy metal 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hits the gong, which makes a sound and the circuit is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is turned off and the springy metal arm moves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it is complet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of electric bel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bc.co.uk/schools/ks3bitesize/science/physics/magnetism_5.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f electric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more mass than the Moon, so the gravitational force is greater on the Earth than it is on the Mo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gravitational force pulls objects towards the centre of the Earth.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wn" is towards the centre of the Earth, wherever you are on the pla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has more mass than the Moon, so the gravitational force is greater on the Earth than it is on the M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gravitational force pulls objects towards the centre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is towards the centre of the Earth, wherever you are on the pl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3A9EBD-1AB9-4B4A-9391-673C2CCB9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9737BA-EB92-464E-A2EC-AFF4CEF80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10A0BB5-3352-44A9-9A25-FB161EBEB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B840AD-3E8C-4573-9684-F0436F6C6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96121-DF6D-4164-95C9-C080240DC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8397A-DF9A-4B33-9438-1F8BFCBF9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B6BE8-0F45-42F0-92E0-B46340CC5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1CC1E-4060-497F-96BD-E365A5FB1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6B6B8-BA68-419B-8819-2161A13B0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4AA1E-8263-4BB6-8936-9EA8A2BC0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C889C-EF44-4B4B-A868-F80145095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A70917-1E37-4587-BA41-392A6D60E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04FD4-B7E1-4E58-855D-632764A44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97D52-8A24-469C-9E72-6BC615D91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D911C-DCDF-43F7-9A29-D101D018F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92426-5CD6-4699-B3BF-3BEA04AC2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B814A-5A01-4AAD-8D94-14334B894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1825F7-910E-4AB3-8957-12A1567A5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AD0200-2E42-4357-B572-C0D93D51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5BCF383-011F-4699-8236-871BD703F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9D4A40-30D2-4784-9CE3-62659B519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EBE064-0526-4EE3-B363-4C807744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527D29-2E80-4A29-9973-BD93D98CE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A3FEA7-2BDB-4302-AD12-34D1594C0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7654-244A-407C-81B9-C45158F0AC7E}"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0F7D-10FD-4D81-81D2-4E8BFE311F98}" type="slidenum">
              <a:rPr b="0" lang="en-GB"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10"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30" name="Picture 7" descr=""/>
          <p:cNvPicPr/>
          <p:nvPr/>
        </p:nvPicPr>
        <p:blipFill>
          <a:blip r:embed="rId1"/>
          <a:stretch/>
        </p:blipFill>
        <p:spPr>
          <a:xfrm>
            <a:off x="539640" y="1700280"/>
            <a:ext cx="3652920" cy="3816360"/>
          </a:xfrm>
          <a:prstGeom prst="rect">
            <a:avLst/>
          </a:prstGeom>
          <a:ln w="0">
            <a:noFill/>
          </a:ln>
        </p:spPr>
      </p:pic>
      <p:pic>
        <p:nvPicPr>
          <p:cNvPr id="131" name="Picture 8" descr=""/>
          <p:cNvPicPr/>
          <p:nvPr/>
        </p:nvPicPr>
        <p:blipFill>
          <a:blip r:embed="rId2"/>
          <a:stretch/>
        </p:blipFill>
        <p:spPr>
          <a:xfrm>
            <a:off x="4716360" y="2060640"/>
            <a:ext cx="3888000" cy="3371760"/>
          </a:xfrm>
          <a:prstGeom prst="rect">
            <a:avLst/>
          </a:prstGeom>
          <a:ln w="0">
            <a:noFill/>
          </a:ln>
        </p:spPr>
      </p:pic>
      <p:sp>
        <p:nvSpPr>
          <p:cNvPr id="132" name="Rectangle 9"/>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Garamond"/>
            </a:endParaRPr>
          </a:p>
        </p:txBody>
      </p:sp>
      <p:sp>
        <p:nvSpPr>
          <p:cNvPr id="133" name="Rectangle 10"/>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8" name="Picture 11"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41" name="Picture 7"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xtension:</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Physics textboo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78-79 – Grav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Try questions 4 &amp; 5 on p81.</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139/140 and try ques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13" name="Picture 4"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6" name="Picture 7" descr="image008"/>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xEl>
                                              <p:pRg st="1" end="1"/>
                                            </p:txEl>
                                          </p:spTgt>
                                        </p:tgtEl>
                                        <p:attrNameLst>
                                          <p:attrName>style.visibility</p:attrName>
                                        </p:attrNameLst>
                                      </p:cBhvr>
                                      <p:to>
                                        <p:strVal val="visible"/>
                                      </p:to>
                                    </p:set>
                                    <p:anim calcmode="lin" valueType="num">
                                      <p:cBhvr additive="base">
                                        <p:cTn id="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2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ll objects have a force that attracts them towards each other. This is called </a:t>
            </a:r>
            <a:r>
              <a:rPr b="0" lang="en-GB" sz="3200" spc="-1" strike="noStrike">
                <a:solidFill>
                  <a:srgbClr val="ff0000"/>
                </a:solidFill>
                <a:latin typeface="Comic Sans MS"/>
              </a:rPr>
              <a:t>gravity</a:t>
            </a:r>
            <a:r>
              <a:rPr b="0" lang="en-GB"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26" name="PlaceHolder 2"/>
          <p:cNvSpPr>
            <a:spLocks noGrp="1"/>
          </p:cNvSpPr>
          <p:nvPr>
            <p:ph/>
          </p:nvPr>
        </p:nvSpPr>
        <p:spPr>
          <a:xfrm>
            <a:off x="468360" y="1557360"/>
            <a:ext cx="8229600" cy="218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6" descr=""/>
          <p:cNvPicPr/>
          <p:nvPr/>
        </p:nvPicPr>
        <p:blipFill>
          <a:blip r:embed="rId1"/>
          <a:stretch/>
        </p:blipFill>
        <p:spPr>
          <a:xfrm>
            <a:off x="3244680" y="3938760"/>
            <a:ext cx="2652840" cy="2187360"/>
          </a:xfrm>
          <a:prstGeom prst="rect">
            <a:avLst/>
          </a:prstGeom>
          <a:ln w="0">
            <a:noFill/>
          </a:ln>
        </p:spPr>
      </p:pic>
      <p:sp>
        <p:nvSpPr>
          <p:cNvPr id="128" name="Rectangle 7"/>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a:t>
            </a:r>
            <a:r>
              <a:rPr b="0" lang="en-GB"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RomaK</cp:lastModifiedBy>
  <dcterms:modified xsi:type="dcterms:W3CDTF">2015-09-03T12:25:12Z</dcterms:modified>
  <cp:revision>7</cp:revision>
  <dc:subject/>
  <dc:title>Magnetic Field</dc:title>
</cp:coreProperties>
</file>