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30.gif" ContentType="image/gif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8.jpeg" ContentType="image/jpeg"/>
  <Override PartName="/ppt/media/image46.jpeg" ContentType="image/jpeg"/>
  <Override PartName="/ppt/media/image55.gif" ContentType="image/gif"/>
  <Override PartName="/ppt/media/image45.jpeg" ContentType="image/jpeg"/>
  <Override PartName="/ppt/media/image44.jpeg" ContentType="image/jpeg"/>
  <Override PartName="/ppt/media/image38.png" ContentType="image/png"/>
  <Override PartName="/ppt/media/image57.jpeg" ContentType="image/jpeg"/>
  <Override PartName="/ppt/media/image43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.jpeg" ContentType="image/jpeg"/>
  <Override PartName="/ppt/media/image20.png" ContentType="image/png"/>
  <Override PartName="/ppt/media/image64.gif" ContentType="image/gif"/>
  <Override PartName="/ppt/media/image6.wmf" ContentType="image/x-wmf"/>
  <Override PartName="/ppt/media/image17.png" ContentType="image/png"/>
  <Override PartName="/ppt/media/image5.png" ContentType="image/png"/>
  <Override PartName="/ppt/media/image35.png" ContentType="image/png"/>
  <Override PartName="/ppt/media/image21.jpeg" ContentType="image/jpeg"/>
  <Override PartName="/ppt/media/image62.gif" ContentType="image/gif"/>
  <Override PartName="/ppt/media/image72.jpeg" ContentType="image/jpeg"/>
  <Override PartName="/ppt/media/image27.png" ContentType="image/png"/>
  <Override PartName="/ppt/media/image16.jpeg" ContentType="image/jpeg"/>
  <Override PartName="/ppt/media/image60.jpeg" ContentType="image/jpeg"/>
  <Override PartName="/ppt/media/image76.jpeg" ContentType="image/jpeg"/>
  <Override PartName="/ppt/media/image75.jpeg" ContentType="image/jpeg"/>
  <Override PartName="/ppt/media/image68.gif" ContentType="image/gif"/>
  <Override PartName="/ppt/media/image74.jpeg" ContentType="image/jpeg"/>
  <Override PartName="/ppt/media/image31.gif" ContentType="image/gif"/>
  <Override PartName="/ppt/media/image73.jpeg" ContentType="image/jpeg"/>
  <Override PartName="/ppt/media/image24.png" ContentType="image/png"/>
  <Override PartName="/ppt/media/image71.gif" ContentType="image/gif"/>
  <Override PartName="/ppt/media/image29.gif" ContentType="image/gif"/>
  <Override PartName="/ppt/media/image26.jpeg" ContentType="image/jpeg"/>
  <Override PartName="/ppt/media/image67.gif" ContentType="image/gif"/>
  <Override PartName="/ppt/media/image23.png" ContentType="image/png"/>
  <Override PartName="/ppt/media/image70.png" ContentType="image/png"/>
  <Override PartName="/ppt/media/image65.gif" ContentType="image/gif"/>
  <Override PartName="/ppt/media/image32.png" ContentType="image/png"/>
  <Override PartName="/ppt/media/image69.png" ContentType="image/png"/>
  <Override PartName="/ppt/media/image66.gif" ContentType="image/gif"/>
  <Override PartName="/ppt/media/image63.jpeg" ContentType="image/jpeg"/>
  <Override PartName="/ppt/media/image61.png" ContentType="image/png"/>
  <Override PartName="/ppt/media/image15.png" ContentType="image/png"/>
  <Override PartName="/ppt/media/image25.png" ContentType="image/png"/>
  <Override PartName="/ppt/media/image40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28.gif" ContentType="image/gif"/>
  <Override PartName="/ppt/media/image18.png" ContentType="image/png"/>
  <Override PartName="/ppt/media/image42.jpeg" ContentType="image/jpeg"/>
  <Override PartName="/ppt/media/image59.jpeg" ContentType="image/jpeg"/>
  <Override PartName="/ppt/media/image14.jpeg" ContentType="image/jpeg"/>
  <Override PartName="/ppt/media/image8.png" ContentType="image/png"/>
  <Override PartName="/ppt/media/image11.png" ContentType="image/png"/>
  <Override PartName="/ppt/media/image13.jpeg" ContentType="image/jpeg"/>
  <Override PartName="/ppt/media/image77.png" ContentType="image/png"/>
  <Override PartName="/ppt/media/image34.wmf" ContentType="image/x-wmf"/>
  <Override PartName="/ppt/media/image36.png" ContentType="image/png"/>
  <Override PartName="/ppt/media/image3.jpeg" ContentType="image/jpeg"/>
  <Override PartName="/ppt/media/image4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B52D14E-9CDB-4327-8B1C-9CA10E9CB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ation/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oscillations about an equilibrium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mpo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(c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tar 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turbance that propagates through space and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with transferrance of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b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bration/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oscillations about an equilibrium poi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mpo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(c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tar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turbance that propagates through space and tim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with transferrance of ener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ng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- electrons moving through a metal w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- electrons moving through a metal w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is technology that is not underst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E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ic is technology that is not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levision is an Electron G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vision is an Electron G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c 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dc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&amp; Se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test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series circuit &amp; fill out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Parallel circuit &amp; fill out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 &amp; Se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test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series circuit &amp; fill out th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Parallel circuit &amp; fill out th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 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Electric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aterial has an excess or a lack of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material has an excess or a lack of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acitor holds a charge on its pl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pacitor holds a charge on its pl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that allows thermal energy to pass eas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that allows thermal energy to pass eas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i-Cond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-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that does NOT a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ass eas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that does NOT al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ass easi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 - is energy resulting from the force between two objects having different vol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- is energy resulting from the force between two objects having different vol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 - is the force of moving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- is the force of moving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couple (copper &amp; nickel or copper &amp; ir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couple (copper &amp; nickel or copper &amp;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ies 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ed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ted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ed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ed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iginal Story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pla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ginee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 enhancement 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ito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 animation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ation manage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al Effects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eld research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cob (Cowboy) Isra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ther P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ed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Story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pla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enhancement 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ing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 animation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manage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ffects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research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ob (Cowboy) Isra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ther Prod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(glued onto bottom half of st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coil (covered with g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ends (stripp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board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 sh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(glued onto bottom half of sti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coil (covered with g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ends (strip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board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 sht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(through bottom of ho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(through bottom of ho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544-B148-49B5-A7D4-9B34B773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DD3-329D-4413-921B-3835654B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18AA-B12F-431E-9623-EC3AE301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77D8-65AF-4D75-94F8-9632CE29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5FC8-9716-4B70-9F21-947B84E8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8448-3087-4728-99F6-4048DE50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BB85-B6B4-4C3B-A245-14D033B6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F32-89D8-4771-A87F-539E3CF9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966D-08EE-464B-A000-A1F4F5C5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403-B2C9-4E5A-A7A0-284ABF15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4F3-2570-45BE-A96D-87250AC4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4AD0-65BC-4E32-B854-5D69B74B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B6C8-F068-4653-BDA8-B99498652A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3D47-DC71-4FF1-9BF0-E6B24C233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irror-us-ga1.gallery.hd.org/_exhibits/light/light-bulb-glowing-filament-AHD.jpg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4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8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nl.gov/bnlweb/Museum/photos/Science%2520Museum/D0330399.JPEG&amp;imgrefurl=http://www.bnl.gov/bnlweb/Museum/Investigate.html&amp;h=504&amp;w=400&amp;sz=222&amp;hl=en&amp;start=1&amp;um=1&amp;tbnid=IAVf5tE3Wer2PM:&amp;tbnh=130&amp;tbnw=103&amp;prev=/images%3Fq%3Dstatic%2Belectricity%26svnum%3D10%26um%3D1%26hl%3Den%26sa%3DN" TargetMode="External"/><Relationship Id="rId2" Type="http://schemas.openxmlformats.org/officeDocument/2006/relationships/image" Target="../media/image49.png"/><Relationship Id="rId3" Type="http://schemas.openxmlformats.org/officeDocument/2006/relationships/hyperlink" Target="http://www.sitemason.com/files/dqYN6E/generatoredited.JPG" TargetMode="External"/><Relationship Id="rId4" Type="http://schemas.openxmlformats.org/officeDocument/2006/relationships/image" Target="../media/image50.jpe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gif"/><Relationship Id="rId4" Type="http://schemas.openxmlformats.org/officeDocument/2006/relationships/image" Target="../media/image63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image" Target="../media/image6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gif"/><Relationship Id="rId2" Type="http://schemas.openxmlformats.org/officeDocument/2006/relationships/image" Target="../media/image6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68.gif"/><Relationship Id="rId5" Type="http://schemas.openxmlformats.org/officeDocument/2006/relationships/image" Target="../media/image71.gif"/><Relationship Id="rId6" Type="http://schemas.openxmlformats.org/officeDocument/2006/relationships/image" Target="../media/image69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1.jpeg"/><Relationship Id="rId9" Type="http://schemas.openxmlformats.org/officeDocument/2006/relationships/image" Target="../media/image20.pn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056" descr="19911011%20Gaviota%2036%20Lightning%20Lulu%2011x14%20l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54" descr="lightning-gallery-1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58" descr="lightning"/>
          <p:cNvPicPr/>
          <p:nvPr/>
        </p:nvPicPr>
        <p:blipFill>
          <a:blip r:embed="rId3"/>
          <a:srcRect l="6254" t="8667" r="7514" b="11350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4"/>
          <p:cNvSpPr txBox="1"/>
          <p:nvPr/>
        </p:nvSpPr>
        <p:spPr>
          <a:xfrm>
            <a:off x="533520" y="3809880"/>
            <a:ext cx="7391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958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33333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lectricit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33333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26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2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18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j0390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4"/>
          <p:cNvSpPr/>
          <p:nvPr/>
        </p:nvSpPr>
        <p:spPr>
          <a:xfrm>
            <a:off x="3657600" y="4114800"/>
            <a:ext cx="2819520" cy="1752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810240" y="5029200"/>
            <a:ext cx="2512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b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6"/>
          <p:cNvSpPr/>
          <p:nvPr/>
        </p:nvSpPr>
        <p:spPr>
          <a:xfrm flipH="1" flipV="1">
            <a:off x="3733920" y="4203720"/>
            <a:ext cx="2590560" cy="673200"/>
          </a:xfrm>
          <a:custGeom>
            <a:avLst/>
            <a:gdLst/>
            <a:ahLst/>
            <a:rect l="l" t="t" r="r" b="b"/>
            <a:pathLst>
              <a:path w="1792" h="536">
                <a:moveTo>
                  <a:pt x="912" y="96"/>
                </a:moveTo>
                <a:cubicBezTo>
                  <a:pt x="760" y="104"/>
                  <a:pt x="512" y="104"/>
                  <a:pt x="384" y="96"/>
                </a:cubicBezTo>
                <a:cubicBezTo>
                  <a:pt x="256" y="88"/>
                  <a:pt x="208" y="16"/>
                  <a:pt x="144" y="48"/>
                </a:cubicBezTo>
                <a:cubicBezTo>
                  <a:pt x="80" y="80"/>
                  <a:pt x="0" y="232"/>
                  <a:pt x="0" y="288"/>
                </a:cubicBezTo>
                <a:cubicBezTo>
                  <a:pt x="0" y="344"/>
                  <a:pt x="32" y="376"/>
                  <a:pt x="144" y="384"/>
                </a:cubicBezTo>
                <a:cubicBezTo>
                  <a:pt x="256" y="392"/>
                  <a:pt x="512" y="336"/>
                  <a:pt x="672" y="336"/>
                </a:cubicBezTo>
                <a:cubicBezTo>
                  <a:pt x="832" y="336"/>
                  <a:pt x="936" y="352"/>
                  <a:pt x="1104" y="384"/>
                </a:cubicBezTo>
                <a:cubicBezTo>
                  <a:pt x="1272" y="416"/>
                  <a:pt x="1568" y="536"/>
                  <a:pt x="1680" y="528"/>
                </a:cubicBezTo>
                <a:cubicBezTo>
                  <a:pt x="1792" y="520"/>
                  <a:pt x="1784" y="416"/>
                  <a:pt x="1776" y="336"/>
                </a:cubicBezTo>
                <a:cubicBezTo>
                  <a:pt x="1768" y="256"/>
                  <a:pt x="1712" y="96"/>
                  <a:pt x="1632" y="48"/>
                </a:cubicBezTo>
                <a:cubicBezTo>
                  <a:pt x="1552" y="0"/>
                  <a:pt x="1416" y="48"/>
                  <a:pt x="1296" y="48"/>
                </a:cubicBezTo>
                <a:cubicBezTo>
                  <a:pt x="1176" y="48"/>
                  <a:pt x="1064" y="88"/>
                  <a:pt x="912" y="9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19215"/>
                </a:srgbClr>
              </a:gs>
              <a:gs pos="100000">
                <a:srgbClr val="ffff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869080" y="1905120"/>
            <a:ext cx="212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448560" y="-200160"/>
            <a:ext cx="6880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bration/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oscillations about an equilibrium poi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mpo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d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g (c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tar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urbance that propagates through space and ti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with transferrance of energ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241880" y="4191120"/>
            <a:ext cx="1549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Thumbna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0"/>
            <a:ext cx="606744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Freeform 3"/>
          <p:cNvSpPr/>
          <p:nvPr/>
        </p:nvSpPr>
        <p:spPr>
          <a:xfrm>
            <a:off x="5867280" y="762120"/>
            <a:ext cx="3048120" cy="2286000"/>
          </a:xfrm>
          <a:custGeom>
            <a:avLst/>
            <a:gdLst/>
            <a:ahLst/>
            <a:rect l="l" t="t" r="r" b="b"/>
            <a:pathLst>
              <a:path w="1448" h="1440">
                <a:moveTo>
                  <a:pt x="120" y="1344"/>
                </a:moveTo>
                <a:cubicBezTo>
                  <a:pt x="180" y="1128"/>
                  <a:pt x="240" y="912"/>
                  <a:pt x="264" y="720"/>
                </a:cubicBezTo>
                <a:cubicBezTo>
                  <a:pt x="288" y="528"/>
                  <a:pt x="304" y="288"/>
                  <a:pt x="264" y="192"/>
                </a:cubicBezTo>
                <a:cubicBezTo>
                  <a:pt x="224" y="96"/>
                  <a:pt x="48" y="48"/>
                  <a:pt x="24" y="144"/>
                </a:cubicBezTo>
                <a:cubicBezTo>
                  <a:pt x="0" y="240"/>
                  <a:pt x="40" y="664"/>
                  <a:pt x="120" y="768"/>
                </a:cubicBezTo>
                <a:cubicBezTo>
                  <a:pt x="200" y="872"/>
                  <a:pt x="416" y="872"/>
                  <a:pt x="504" y="768"/>
                </a:cubicBezTo>
                <a:cubicBezTo>
                  <a:pt x="592" y="664"/>
                  <a:pt x="664" y="256"/>
                  <a:pt x="648" y="144"/>
                </a:cubicBezTo>
                <a:cubicBezTo>
                  <a:pt x="632" y="32"/>
                  <a:pt x="448" y="24"/>
                  <a:pt x="408" y="96"/>
                </a:cubicBezTo>
                <a:cubicBezTo>
                  <a:pt x="368" y="168"/>
                  <a:pt x="368" y="448"/>
                  <a:pt x="408" y="576"/>
                </a:cubicBezTo>
                <a:cubicBezTo>
                  <a:pt x="448" y="704"/>
                  <a:pt x="560" y="864"/>
                  <a:pt x="648" y="864"/>
                </a:cubicBezTo>
                <a:cubicBezTo>
                  <a:pt x="736" y="864"/>
                  <a:pt x="888" y="712"/>
                  <a:pt x="936" y="576"/>
                </a:cubicBezTo>
                <a:cubicBezTo>
                  <a:pt x="984" y="440"/>
                  <a:pt x="960" y="88"/>
                  <a:pt x="936" y="48"/>
                </a:cubicBezTo>
                <a:cubicBezTo>
                  <a:pt x="912" y="8"/>
                  <a:pt x="784" y="200"/>
                  <a:pt x="792" y="336"/>
                </a:cubicBezTo>
                <a:cubicBezTo>
                  <a:pt x="800" y="472"/>
                  <a:pt x="888" y="800"/>
                  <a:pt x="984" y="864"/>
                </a:cubicBezTo>
                <a:cubicBezTo>
                  <a:pt x="1080" y="928"/>
                  <a:pt x="1296" y="848"/>
                  <a:pt x="1368" y="720"/>
                </a:cubicBezTo>
                <a:cubicBezTo>
                  <a:pt x="1440" y="592"/>
                  <a:pt x="1448" y="192"/>
                  <a:pt x="1416" y="96"/>
                </a:cubicBezTo>
                <a:cubicBezTo>
                  <a:pt x="1384" y="0"/>
                  <a:pt x="1224" y="56"/>
                  <a:pt x="1176" y="144"/>
                </a:cubicBezTo>
                <a:cubicBezTo>
                  <a:pt x="1128" y="232"/>
                  <a:pt x="1136" y="408"/>
                  <a:pt x="1128" y="624"/>
                </a:cubicBezTo>
                <a:cubicBezTo>
                  <a:pt x="1120" y="840"/>
                  <a:pt x="1124" y="1140"/>
                  <a:pt x="1128" y="1440"/>
                </a:cubicBezTo>
              </a:path>
            </a:pathLst>
          </a:custGeom>
          <a:noFill/>
          <a:ln w="76320">
            <a:solidFill>
              <a:srgbClr val="969696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4"/>
          <p:cNvSpPr/>
          <p:nvPr/>
        </p:nvSpPr>
        <p:spPr>
          <a:xfrm rot="20838000">
            <a:off x="4619160" y="2774880"/>
            <a:ext cx="1130400" cy="2895840"/>
          </a:xfrm>
          <a:custGeom>
            <a:avLst/>
            <a:gdLst>
              <a:gd name="textAreaLeft" fmla="*/ 0 w 1130400"/>
              <a:gd name="textAreaRight" fmla="*/ 1130400 w 11304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5" descr="MMj03368490000[1]"/>
          <p:cNvPicPr/>
          <p:nvPr/>
        </p:nvPicPr>
        <p:blipFill>
          <a:blip r:embed="rId3"/>
          <a:stretch/>
        </p:blipFill>
        <p:spPr>
          <a:xfrm>
            <a:off x="3429000" y="14479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j0236489"/>
          <p:cNvPicPr/>
          <p:nvPr/>
        </p:nvPicPr>
        <p:blipFill>
          <a:blip r:embed="rId4"/>
          <a:stretch/>
        </p:blipFill>
        <p:spPr>
          <a:xfrm>
            <a:off x="0" y="28195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j0285247"/>
          <p:cNvPicPr/>
          <p:nvPr/>
        </p:nvPicPr>
        <p:blipFill>
          <a:blip r:embed="rId5"/>
          <a:stretch/>
        </p:blipFill>
        <p:spPr>
          <a:xfrm>
            <a:off x="0" y="74520"/>
            <a:ext cx="3048120" cy="2745000"/>
          </a:xfrm>
          <a:prstGeom prst="rect">
            <a:avLst/>
          </a:prstGeom>
          <a:ln w="0">
            <a:noFill/>
          </a:ln>
        </p:spPr>
      </p:pic>
      <p:sp>
        <p:nvSpPr>
          <p:cNvPr id="244" name="Freeform 8"/>
          <p:cNvSpPr/>
          <p:nvPr/>
        </p:nvSpPr>
        <p:spPr>
          <a:xfrm rot="10800000">
            <a:off x="3047760" y="3142800"/>
            <a:ext cx="1143000" cy="2514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514600"/>
              <a:gd name="textAreaBottom" fmla="*/ 2514600 h 251460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9" descr="MMj02835840000[1]"/>
          <p:cNvPicPr/>
          <p:nvPr/>
        </p:nvPicPr>
        <p:blipFill>
          <a:blip r:embed="rId6"/>
          <a:stretch/>
        </p:blipFill>
        <p:spPr>
          <a:xfrm>
            <a:off x="3581280" y="4896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"/>
          <p:cNvPicPr/>
          <p:nvPr/>
        </p:nvPicPr>
        <p:blipFill>
          <a:blip r:embed="rId7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"/>
          <p:cNvPicPr/>
          <p:nvPr/>
        </p:nvPicPr>
        <p:blipFill>
          <a:blip r:embed="rId8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9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"/>
          <p:cNvPicPr/>
          <p:nvPr/>
        </p:nvPicPr>
        <p:blipFill>
          <a:blip r:embed="rId10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"/>
          <p:cNvPicPr/>
          <p:nvPr/>
        </p:nvPicPr>
        <p:blipFill>
          <a:blip r:embed="rId11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"/>
          <p:cNvPicPr/>
          <p:nvPr/>
        </p:nvPicPr>
        <p:blipFill>
          <a:blip r:embed="rId12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6" descr=""/>
          <p:cNvPicPr/>
          <p:nvPr/>
        </p:nvPicPr>
        <p:blipFill>
          <a:blip r:embed="rId13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7" descr=""/>
          <p:cNvPicPr/>
          <p:nvPr/>
        </p:nvPicPr>
        <p:blipFill>
          <a:blip r:embed="rId14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482400"/>
                </a:solidFill>
                <a:uFillTx/>
                <a:latin typeface="Times New Roman"/>
              </a:rPr>
              <a:t>Electricity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6704640" y="152280"/>
            <a:ext cx="203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8080"/>
                </a:solidFill>
                <a:latin typeface="Arial"/>
              </a:rPr>
              <a:t>fila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20" descr="j0205448"/>
          <p:cNvPicPr/>
          <p:nvPr/>
        </p:nvPicPr>
        <p:blipFill>
          <a:blip r:embed="rId15"/>
          <a:srcRect l="0" t="0" r="0" b="28949"/>
          <a:stretch/>
        </p:blipFill>
        <p:spPr>
          <a:xfrm>
            <a:off x="-1819440" y="5572080"/>
            <a:ext cx="181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4861 C 0.00069 -0.15671 0.00017 -0.1669 0.00434 -0.17315 C 0.00677 -0.17685 0.01007 -0.1787 0.01336 -0.18102 C 0.01788 -0.19491 0.02187 -0.20092 0.02968 -0.21319 C 0.03246 -0.21713 0.03715 -0.22245 0.03871 -0.22685 C 0.04288 -0.23958 0.03993 -0.23333 0.04757 -0.24537 C 0.04843 -0.24676 0.04843 -0.24861 0.04913 -0.25 C 0.05139 -0.2544 0.05468 -0.25903 0.05659 -0.26366 C 0.05798 -0.26667 0.05955 -0.27292 0.05955 -0.27268 C 0.06111 -0.2919 0.0625 -0.29815 0.05955 -0.31898 C 0.05868 -0.3243 0.04757 -0.32963 0.04757 -0.3294 C 0.0434 -0.33634 0.03646 -0.33889 0.02968 -0.34352 C 0.02795 -0.34467 0.02691 -0.34676 0.02534 -0.34792 C 0.02239 -0.35023 0.01632 -0.35417 0.01632 -0.35393 C 0.00833 -0.36643 0.01875 -0.35162 0.00885 -0.3618 C -0.00104 -0.37199 0.01336 -0.36134 0.00139 -0.36944 C -0.00209 -0.38032 0.00017 -0.37592 -0.00452 -0.38333 C -0.0033 -0.41643 -0.00122 -0.44977 0.00139 -0.48287 C 0.00364 -0.51111 0.00017 -0.4993 0.00434 -0.51204 C 0.00382 -0.51967 0.00451 -0.52755 0.00295 -0.53495 C 0.00034 -0.54583 -0.00556 -0.54375 -0.01198 -0.55046 C -0.02223 -0.56065 -0.03733 -0.55833 -0.05087 -0.55949 C -0.06736 -0.56088 -0.08334 -0.5625 -0.1 -0.5625 E">
                                      <p:cBhvr>
                                        <p:cTn id="7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91 -0.01111 C -0.00122 -0.00949 -0.00417 -0.00764 -0.00729 -0.00579 C -0.00886 -0.00486 -0.00903 -0.00278 -0.01042 -0.00139 C -0.01181 -0.00023 -0.01337 0.00046 -0.01493 0.00139 C -0.01598 0.00278 -0.0165 0.00486 -0.01806 0.00579 C -0.02084 0.00741 -0.02726 0.00856 -0.02726 0.0088 C -0.03368 0.01759 -0.04514 0.02245 -0.0533 0.03009 C -0.0566 0.03912 -0.05729 0.04051 -0.06563 0.04583 C -0.06667 0.04722 -0.06736 0.04907 -0.06875 0.05023 C -0.07153 0.05231 -0.07795 0.05579 -0.07795 0.05602 C -0.08282 0.0625 -0.08924 0.07569 -0.09636 0.08032 C -0.09844 0.08565 -0.10104 0.08889 -0.10556 0.09305 C -0.10608 0.09444 -0.10712 0.09606 -0.10712 0.09745 C -0.10712 0.12662 -0.1125 0.1294 -0.09028 0.13472 C -0.08212 0.14236 -0.0783 0.15324 -0.06875 0.1588 C -0.06615 0.16296 -0.06354 0.16667 -0.06111 0.1706 C -0.05955 0.17268 -0.05625 0.18773 -0.05486 0.19167 C -0.05608 0.20185 -0.05851 0.2118 -0.06407 0.22037 C -0.06702 0.22477 -0.07448 0.23217 -0.07639 0.23773 C -0.07917 0.2456 -0.08351 0.25116 -0.08872 0.25764 C -0.09254 0.26875 -0.08733 0.25509 -0.09323 0.2662 C -0.09462 0.26875 -0.09566 0.27407 -0.09636 0.27639 C -0.09723 0.27917 -0.09948 0.28495 -0.09948 0.28518 C -0.09879 0.29282 -0.09983 0.30602 -0.09323 0.31366 C -0.08959 0.31805 -0.0816 0.32083 -0.07639 0.32384 C -0.06563 0.3294 -0.05608 0.33194 -0.0441 0.33495 C -0.03889 0.33657 -0.0342 0.34005 -0.02882 0.34074 C -0.02066 0.34213 -0.01233 0.3419 -0.00417 0.34213 C -0.00261 0.34305 -0.00104 0.34375 0.00034 0.34514 C 0.00173 0.34653 0.00208 0.34815 0.00347 0.3493 C 0.00468 0.35023 0.00816 0.35116 0.00816 0.35139 E">
                                      <p:cBhvr>
                                        <p:cTn id="74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69 -0.15972 C 0.00069 -0.16759 0.00017 -0.17755 0.00434 -0.1838 C 0.00659 -0.18727 0.00989 -0.18912 0.01336 -0.1912 C 0.01771 -0.20486 0.02187 -0.21065 0.02968 -0.22245 C 0.03229 -0.22639 0.03698 -0.23171 0.03871 -0.23588 C 0.04271 -0.24838 0.03975 -0.24213 0.04757 -0.2537 C 0.04843 -0.25509 0.04843 -0.25694 0.04896 -0.25833 C 0.05139 -0.26273 0.05451 -0.26713 0.05659 -0.27176 C 0.05781 -0.27454 0.05955 -0.28055 0.05955 -0.28032 C 0.06093 -0.29907 0.0625 -0.30509 0.05955 -0.32546 C 0.05868 -0.33079 0.04757 -0.33588 0.04757 -0.33565 C 0.04323 -0.34236 0.03628 -0.34491 0.02968 -0.3493 C 0.02777 -0.35046 0.02691 -0.35255 0.02517 -0.3537 C 0.02239 -0.35602 0.01632 -0.35972 0.01632 -0.35949 C 0.00833 -0.37176 0.01875 -0.35717 0.00868 -0.36713 C -0.00122 -0.37708 0.01336 -0.36667 0.00139 -0.37454 C -0.00209 -0.38518 0.00017 -0.38102 -0.00469 -0.38796 C -0.00348 -0.42037 -0.00139 -0.45278 0.00139 -0.48495 C 0.00364 -0.5125 0.00017 -0.50092 0.00434 -0.51342 C 0.00382 -0.52083 0.00451 -0.52847 0.00277 -0.53565 C 0.00034 -0.5463 -0.00556 -0.54421 -0.01198 -0.55069 C -0.02223 -0.56088 -0.03733 -0.55856 -0.05104 -0.55972 C -0.06754 -0.56088 -0.08334 -0.5625 -0.1 -0.5625 E">
                                      <p:cBhvr>
                                        <p:cTn id="76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1134 C 0.00086 -0.00949 -0.00226 -0.00741 -0.00539 -0.00533 C -0.00695 -0.0044 -0.00712 -0.00208 -0.00851 -0.00093 C -0.0099 0.00046 -0.01164 0.00116 -0.0132 0.00231 C -0.01424 0.0037 -0.01476 0.00579 -0.01632 0.00671 C -0.0191 0.00856 -0.0257 0.00972 -0.0257 0.00995 C -0.03229 0.01944 -0.04393 0.02454 -0.05226 0.03264 C -0.05556 0.04213 -0.05625 0.04375 -0.06476 0.0493 C -0.0658 0.05092 -0.0665 0.05278 -0.06789 0.05393 C -0.07066 0.05625 -0.07726 0.05995 -0.07726 0.06018 C -0.08229 0.06736 -0.08872 0.08102 -0.09601 0.08588 C -0.09809 0.0919 -0.1007 0.09491 -0.10539 0.09954 C -0.10591 0.10116 -0.10695 0.10255 -0.10695 0.10417 C -0.10695 0.13542 -0.1125 0.13796 -0.08976 0.14375 C -0.08143 0.15185 -0.07761 0.16319 -0.06789 0.16944 C -0.06528 0.17361 -0.06268 0.17755 -0.06007 0.18171 C -0.05851 0.18426 -0.05521 0.20023 -0.05382 0.2044 C -0.05504 0.21505 -0.05747 0.22546 -0.0632 0.23495 C -0.06615 0.23958 -0.07379 0.24745 -0.0757 0.25324 C -0.07848 0.26134 -0.08299 0.26759 -0.0882 0.27454 C -0.09219 0.28588 -0.08681 0.27176 -0.09289 0.28356 C -0.09427 0.28611 -0.09532 0.2919 -0.09601 0.29421 C -0.09688 0.29722 -0.09914 0.30324 -0.09914 0.30347 C -0.09844 0.3118 -0.09948 0.32569 -0.09289 0.3338 C -0.08907 0.33842 -0.08091 0.34143 -0.0757 0.34444 C -0.06476 0.35046 -0.05504 0.35324 -0.04289 0.35648 C -0.0375 0.3581 -0.03282 0.3618 -0.02726 0.36273 C -0.01893 0.36389 -0.01059 0.36366 -0.00226 0.36412 C -0.0007 0.36505 0.00104 0.36574 0.00243 0.36713 C 0.00382 0.36852 0.00416 0.3706 0.00555 0.37176 C 0.00677 0.37268 0.01024 0.37338 0.01024 0.37361 E">
                                      <p:cBhvr>
                                        <p:cTn id="7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2222 C 0.00086 -0.0206 -0.00226 -0.01852 -0.00539 -0.0162 C -0.00695 -0.01528 -0.00712 -0.01296 -0.00851 -0.01181 C -0.0099 -0.01019 -0.01164 -0.00972 -0.0132 -0.00833 C -0.01424 -0.00695 -0.01476 -0.00486 -0.01632 -0.0037 C -0.0191 -0.00185 -0.0257 -0.0007 -0.0257 -0.00046 C -0.03229 0.00903 -0.04393 0.01458 -0.05226 0.02268 C -0.05556 0.03264 -0.05625 0.03403 -0.06476 0.04005 C -0.0658 0.04167 -0.0665 0.04352 -0.06789 0.04467 C -0.07066 0.04699 -0.07726 0.05092 -0.07726 0.05116 C -0.08229 0.05856 -0.08872 0.07245 -0.09601 0.07731 C -0.09809 0.08356 -0.1007 0.0868 -0.10539 0.09167 C -0.10591 0.09305 -0.10695 0.09467 -0.10695 0.0963 C -0.10695 0.12847 -0.1125 0.13102 -0.08976 0.13704 C -0.08143 0.14537 -0.07761 0.15694 -0.06789 0.16342 C -0.06528 0.16782 -0.06268 0.17176 -0.06007 0.17616 C -0.05851 0.1787 -0.05521 0.19514 -0.05382 0.1993 C -0.05504 0.21042 -0.05747 0.22106 -0.0632 0.23079 C -0.06615 0.23565 -0.07379 0.24375 -0.0757 0.24954 C -0.07848 0.2581 -0.08299 0.26435 -0.0882 0.27153 C -0.09219 0.2831 -0.08681 0.26875 -0.09289 0.28079 C -0.09427 0.28333 -0.09532 0.28935 -0.09601 0.2919 C -0.09688 0.29491 -0.09914 0.30116 -0.09914 0.30139 C -0.09844 0.30995 -0.09948 0.32407 -0.09289 0.33264 C -0.08907 0.33727 -0.08091 0.34028 -0.0757 0.34329 C -0.06476 0.34954 -0.05504 0.35231 -0.04289 0.35579 C -0.0375 0.35764 -0.03282 0.36111 -0.02726 0.36227 C -0.01893 0.36342 -0.01059 0.36319 -0.00226 0.36366 C -0.0007 0.36458 0.00104 0.36528 0.00243 0.3669 C 0.00382 0.36805 0.00416 0.37037 0.00555 0.37153 C 0.00677 0.37245 0.01024 0.37338 0.01024 0.37361 E">
                                      <p:cBhvr>
                                        <p:cTn id="8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8889 C 0.00069 -0.1963 0.00017 -0.20556 0.00434 -0.21111 C 0.00677 -0.21458 0.01007 -0.2162 0.01336 -0.21829 C 0.01788 -0.23079 0.02187 -0.23634 0.02968 -0.24722 C 0.03246 -0.25093 0.03715 -0.25556 0.03871 -0.25972 C 0.04288 -0.27107 0.03993 -0.26551 0.04757 -0.27639 C 0.04843 -0.27755 0.04843 -0.27917 0.04913 -0.28056 C 0.05139 -0.28449 0.05468 -0.28866 0.05659 -0.29283 C 0.05798 -0.2956 0.05955 -0.30116 0.05955 -0.30093 C 0.06111 -0.31829 0.0625 -0.32408 0.05955 -0.34283 C 0.05868 -0.34769 0.04757 -0.35232 0.04757 -0.35208 C 0.0434 -0.35857 0.03646 -0.36088 0.02968 -0.36505 C 0.02795 -0.36597 0.02691 -0.36783 0.02534 -0.36898 C 0.02239 -0.37107 0.01632 -0.37454 0.01632 -0.37431 C 0.00833 -0.38565 0.01875 -0.37222 0.00885 -0.38148 C -0.00104 -0.39074 0.01336 -0.38102 0.00139 -0.38843 C -0.00209 -0.39815 0.00017 -0.39421 -0.00452 -0.40093 C -0.0033 -0.43079 -0.00122 -0.46088 0.00139 -0.49074 C 0.00364 -0.5162 0.00017 -0.50556 0.00434 -0.51713 C 0.00382 -0.52408 0.00451 -0.53102 0.00295 -0.53773 C 0.00034 -0.54769 -0.00556 -0.5456 -0.01198 -0.55185 C -0.02223 -0.56088 -0.03733 -0.5588 -0.05087 -0.55995 C -0.06736 -0.56111 -0.08334 -0.5625 -0.1 -0.5625 E">
                                      <p:cBhvr>
                                        <p:cTn id="82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84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86" dur="5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1.29948 -0.07292 E">
                                      <p:cBhvr>
                                        <p:cTn id="88" dur="5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2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2"/>
          <p:cNvSpPr/>
          <p:nvPr/>
        </p:nvSpPr>
        <p:spPr>
          <a:xfrm>
            <a:off x="-533520" y="5181480"/>
            <a:ext cx="1021104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d962f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1"/>
          <p:cNvSpPr/>
          <p:nvPr/>
        </p:nvSpPr>
        <p:spPr>
          <a:xfrm>
            <a:off x="-533520" y="2057400"/>
            <a:ext cx="1021104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d962f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7" descr=""/>
          <p:cNvPicPr/>
          <p:nvPr/>
        </p:nvPicPr>
        <p:blipFill>
          <a:blip r:embed="rId1"/>
          <a:stretch/>
        </p:blipFill>
        <p:spPr>
          <a:xfrm>
            <a:off x="-685800" y="2209680"/>
            <a:ext cx="457200" cy="4194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482400"/>
                </a:solidFill>
                <a:uFillTx/>
                <a:latin typeface="Times New Roman"/>
              </a:rPr>
              <a:t>Electricity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1440" y="0"/>
            <a:ext cx="47908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D.C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Direct Curr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23" descr=""/>
          <p:cNvPicPr/>
          <p:nvPr/>
        </p:nvPicPr>
        <p:blipFill>
          <a:blip r:embed="rId2"/>
          <a:stretch/>
        </p:blipFill>
        <p:spPr>
          <a:xfrm>
            <a:off x="-533520" y="240048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4" descr=""/>
          <p:cNvPicPr/>
          <p:nvPr/>
        </p:nvPicPr>
        <p:blipFill>
          <a:blip r:embed="rId3"/>
          <a:stretch/>
        </p:blipFill>
        <p:spPr>
          <a:xfrm>
            <a:off x="-762120" y="205740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5" descr=""/>
          <p:cNvPicPr/>
          <p:nvPr/>
        </p:nvPicPr>
        <p:blipFill>
          <a:blip r:embed="rId4"/>
          <a:stretch/>
        </p:blipFill>
        <p:spPr>
          <a:xfrm>
            <a:off x="-609480" y="224784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6" descr=""/>
          <p:cNvPicPr/>
          <p:nvPr/>
        </p:nvPicPr>
        <p:blipFill>
          <a:blip r:embed="rId5"/>
          <a:stretch/>
        </p:blipFill>
        <p:spPr>
          <a:xfrm>
            <a:off x="-762120" y="53341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7" descr=""/>
          <p:cNvPicPr/>
          <p:nvPr/>
        </p:nvPicPr>
        <p:blipFill>
          <a:blip r:embed="rId6"/>
          <a:stretch/>
        </p:blipFill>
        <p:spPr>
          <a:xfrm>
            <a:off x="-609480" y="575316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8" descr=""/>
          <p:cNvPicPr/>
          <p:nvPr/>
        </p:nvPicPr>
        <p:blipFill>
          <a:blip r:embed="rId7"/>
          <a:stretch/>
        </p:blipFill>
        <p:spPr>
          <a:xfrm>
            <a:off x="-838080" y="5181480"/>
            <a:ext cx="457200" cy="419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9" descr=""/>
          <p:cNvPicPr/>
          <p:nvPr/>
        </p:nvPicPr>
        <p:blipFill>
          <a:blip r:embed="rId8"/>
          <a:stretch/>
        </p:blipFill>
        <p:spPr>
          <a:xfrm>
            <a:off x="-685800" y="537228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30"/>
          <p:cNvSpPr/>
          <p:nvPr/>
        </p:nvSpPr>
        <p:spPr>
          <a:xfrm>
            <a:off x="1440" y="2971800"/>
            <a:ext cx="64674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A.C.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Alternating Curr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5.78035E-008 L 1.14167 0.01387 E">
                                      <p:cBhvr>
                                        <p:cTn id="94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3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39306E-006 L 1.11666 0.01942 E">
                                      <p:cBhvr>
                                        <p:cTn id="96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3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3.33333E-006 -3.4104E-006 L 1.14166 0.01388 E">
                                      <p:cBhvr>
                                        <p:cTn id="98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63" repeatCount="indefinite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3.33333E-006 0.0111 L 1.125 0.01942 E">
                                      <p:cBhvr>
                                        <p:cTn id="10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autoRev="1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33333E-006 1.15607E-006 L 1.15 0.01387 E">
                                      <p:cBhvr>
                                        <p:cTn id="102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autoRev="1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33333E-006 -4.50867E-006 L 1.14167 0.01943 E">
                                      <p:cBhvr>
                                        <p:cTn id="104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autoRev="1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-2.31214E-006 L 1.15 0.00278 E">
                                      <p:cBhvr>
                                        <p:cTn id="106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autoRev="1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6.93889E-018 2.02312E-006 L 1.15 0.01942 E">
                                      <p:cBhvr>
                                        <p:cTn id="108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 rot="19058400">
            <a:off x="426708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6781680" y="1600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42670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4"/>
          <a:stretch/>
        </p:blipFill>
        <p:spPr>
          <a:xfrm rot="21242400">
            <a:off x="182844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5"/>
          <a:stretch/>
        </p:blipFill>
        <p:spPr>
          <a:xfrm>
            <a:off x="67816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"/>
          <p:cNvPicPr/>
          <p:nvPr/>
        </p:nvPicPr>
        <p:blipFill>
          <a:blip r:embed="rId6"/>
          <a:stretch/>
        </p:blipFill>
        <p:spPr>
          <a:xfrm rot="19058400">
            <a:off x="182880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"/>
          <p:cNvPicPr/>
          <p:nvPr/>
        </p:nvPicPr>
        <p:blipFill>
          <a:blip r:embed="rId7"/>
          <a:stretch/>
        </p:blipFill>
        <p:spPr>
          <a:xfrm rot="19058400">
            <a:off x="-53316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"/>
          <p:cNvPicPr/>
          <p:nvPr/>
        </p:nvPicPr>
        <p:blipFill>
          <a:blip r:embed="rId8"/>
          <a:stretch/>
        </p:blipFill>
        <p:spPr>
          <a:xfrm rot="19058400">
            <a:off x="-533160" y="40381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0"/>
          <p:cNvSpPr/>
          <p:nvPr/>
        </p:nvSpPr>
        <p:spPr>
          <a:xfrm>
            <a:off x="76320" y="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icity - electrons moving through a metal wi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11" descr=""/>
          <p:cNvPicPr/>
          <p:nvPr/>
        </p:nvPicPr>
        <p:blipFill>
          <a:blip r:embed="rId9"/>
          <a:stretch/>
        </p:blipFill>
        <p:spPr>
          <a:xfrm>
            <a:off x="457200" y="1447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2" descr=""/>
          <p:cNvPicPr/>
          <p:nvPr/>
        </p:nvPicPr>
        <p:blipFill>
          <a:blip r:embed="rId10"/>
          <a:stretch/>
        </p:blipFill>
        <p:spPr>
          <a:xfrm>
            <a:off x="4572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91 0.15376 C -0.11684 0.10959 -0.1066 0.06566 -0.08577 0.03745 C -0.06493 0.00925 -0.02795 -0.01318 -0.00157 -0.01526 C 0.02482 -0.01734 0.05347 0.00277 0.07309 0.02474 C 0.09271 0.0467 0.10573 0.08578 0.1158 0.11584 C 0.12586 0.14589 0.12586 0.17572 0.13333 0.20462 C 0.1408 0.23352 0.14618 0.26682 0.16024 0.28902 C 0.1743 0.31121 0.19687 0.32855 0.21753 0.3378 C 0.23819 0.34705 0.26441 0.34936 0.2842 0.34404 C 0.30399 0.33873 0.3217 0.32324 0.33646 0.30589 C 0.35121 0.28855 0.36319 0.26312 0.37309 0.24046 C 0.38298 0.2178 0.38871 0.19214 0.39531 0.17063 C 0.40191 0.14913 0.40347 0.13503 0.41267 0.11144 C 0.42187 0.08786 0.43593 0.0474 0.45069 0.02913 C 0.46562 0.01087 0.48732 0.00647 0.50156 0.00162 C 0.5158 -0.00324 0.52448 -0.00231 0.53628 -0.00046 C 0.54843 0.00139 0.55937 0.00231 0.57309 0.01225 C 0.5868 0.02219 0.60607 0.04 0.61909 0.05873 C 0.63211 0.07745 0.64271 0.10034 0.65086 0.12416 C 0.65902 0.14797 0.66007 0.17549 0.66823 0.20231 C 0.67639 0.22913 0.68489 0.2615 0.7 0.28485 C 0.7151 0.30821 0.73698 0.33248 0.75868 0.34196 C 0.78038 0.35144 0.80989 0.34751 0.83021 0.34196 C 0.85052 0.33641 0.86423 0.32832 0.8809 0.30821 C 0.89757 0.28809 0.91562 0.25364 0.93021 0.2215 C 0.94479 0.18936 0.96198 0.13341 0.96823 0.11584 E">
                                      <p:cBhvr>
                                        <p:cTn id="114" dur="12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12691 0.15376 C -0.11684 0.10959 -0.1066 0.06566 -0.08577 0.03745 C -0.06493 0.00925 -0.02795 -0.01318 -0.00157 -0.01526 C 0.02482 -0.01734 0.05347 0.00277 0.07309 0.02474 C 0.09271 0.0467 0.10573 0.08578 0.1158 0.11584 C 0.12586 0.14589 0.12586 0.17572 0.13333 0.20462 C 0.1408 0.23352 0.14618 0.26682 0.16024 0.28902 C 0.1743 0.31121 0.19687 0.32855 0.21753 0.3378 C 0.23819 0.34705 0.26441 0.34936 0.2842 0.34404 C 0.30399 0.33873 0.3217 0.32324 0.33646 0.30589 C 0.35121 0.28855 0.36319 0.26312 0.37309 0.24046 C 0.38298 0.2178 0.38871 0.19214 0.39531 0.17063 C 0.40191 0.14913 0.40347 0.13503 0.41267 0.11144 C 0.42187 0.08786 0.43593 0.0474 0.45069 0.02913 C 0.46562 0.01087 0.48732 0.00647 0.50156 0.00162 C 0.5158 -0.00324 0.52448 -0.00231 0.53628 -0.00046 C 0.54843 0.00139 0.55937 0.00231 0.57309 0.01225 C 0.5868 0.02219 0.60607 0.04 0.61909 0.05873 C 0.63211 0.07745 0.64271 0.10034 0.65086 0.12416 C 0.65902 0.14797 0.66007 0.17549 0.66823 0.20231 C 0.67639 0.22913 0.68489 0.2615 0.7 0.28485 C 0.7151 0.30821 0.73698 0.33248 0.75868 0.34196 C 0.78038 0.35144 0.80989 0.34751 0.83021 0.34196 C 0.85052 0.33641 0.86423 0.32832 0.8809 0.30821 C 0.89757 0.28809 0.91562 0.25364 0.93021 0.2215 C 0.94479 0.18936 0.96198 0.13341 0.96823 0.11584 E">
                                      <p:cBhvr>
                                        <p:cTn id="116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Oval 2"/>
          <p:cNvSpPr/>
          <p:nvPr/>
        </p:nvSpPr>
        <p:spPr>
          <a:xfrm>
            <a:off x="2057400" y="2133720"/>
            <a:ext cx="4952880" cy="213336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3"/>
          <p:cNvSpPr/>
          <p:nvPr/>
        </p:nvSpPr>
        <p:spPr>
          <a:xfrm>
            <a:off x="6019920" y="293544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347840" cy="1366920"/>
          </a:xfrm>
          <a:prstGeom prst="rect">
            <a:avLst/>
          </a:prstGeom>
          <a:ln w="0">
            <a:noFill/>
          </a:ln>
        </p:spPr>
      </p:pic>
      <p:sp>
        <p:nvSpPr>
          <p:cNvPr id="284" name="Oval 5"/>
          <p:cNvSpPr/>
          <p:nvPr/>
        </p:nvSpPr>
        <p:spPr>
          <a:xfrm>
            <a:off x="-76320" y="609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685800" y="1523880"/>
            <a:ext cx="7696080" cy="381024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7315200" y="68580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4635360" y="68976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383120" y="104760"/>
            <a:ext cx="555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latino Linotype"/>
              </a:rPr>
              <a:t>Atomic 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8 -0.12569 C -0.13524 -0.12315 -0.12517 -0.12083 -0.10729 -0.1169 C -0.08958 -0.11273 -0.05972 -0.1088 -0.03854 -0.10162 C -0.01736 -0.09467 0.00278 -0.08472 0.01997 -0.075 C 0.03716 -0.06528 0.05226 -0.05579 0.06459 -0.04329 C 0.07691 -0.03079 0.08768 -0.01481 0.09393 -0.00046 C 0.10018 0.01366 0.10296 0.02917 0.10261 0.04259 C 0.10226 0.05602 0.09844 0.06597 0.09167 0.0794 C 0.0849 0.09259 0.07535 0.10926 0.06233 0.12245 C 0.04931 0.13542 0.0323 0.14792 0.01337 0.15764 C -0.00555 0.16759 -0.02343 0.17546 -0.05104 0.18171 C -0.07864 0.18796 -0.12066 0.19375 -0.15191 0.1956 C -0.18333 0.19745 -0.20816 0.19815 -0.23906 0.19306 C -0.26996 0.18796 -0.31336 0.17477 -0.33715 0.16551 C -0.36093 0.15602 -0.371 0.1456 -0.38177 0.1375 C -0.39253 0.1294 -0.396 0.12315 -0.40156 0.11736 C -0.40729 0.11158 -0.41111 0.1081 -0.41545 0.10208 C -0.41979 0.09607 -0.42482 0.0882 -0.42795 0.08171 C -0.43107 0.07546 -0.43263 0.07199 -0.43454 0.06412 C -0.43645 0.05648 -0.43993 0.04583 -0.43958 0.03495 C -0.43941 0.02431 -0.43854 0.01158 -0.43298 -0.00046 C -0.4276 -0.0125 -0.41822 -0.02523 -0.40677 -0.03704 C -0.39513 -0.04884 -0.37934 -0.06065 -0.36354 -0.0713 C -0.34774 -0.08171 -0.33194 -0.09282 -0.31232 -0.10023 C -0.2927 -0.10787 -0.26475 -0.11319 -0.24566 -0.1169 C -0.22673 -0.12037 -0.21197 -0.12037 -0.19809 -0.12199 C -0.1842 -0.12338 -0.16979 -0.12477 -0.16232 -0.12546 E">
                                      <p:cBhvr>
                                        <p:cTn id="122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0.00886 0.01389 C -0.0033 0.01157 0.01423 -0.00509 0.02135 1.48148E-006 C 0.03246 0.00648 0.03524 0.04537 0.04652 0.05 C 0.05746 0.05393 0.07899 0.01991 0.08923 0.02245 C 0.09965 0.02569 0.09791 0.0662 0.10729 0.06944 C 0.1184 0.07338 0.1375 0.03889 0.14739 0.04259 C 0.15989 0.04745 0.16076 0.0875 0.17361 0.09259 C 0.18437 0.09676 0.20451 0.06296 0.21684 0.06944 C 0.22708 0.07292 0.22708 0.11319 0.23663 0.11643 C 0.24705 0.11944 0.26319 0.08449 0.27448 0.08819 C 0.28559 0.09236 0.29271 0.13333 0.30208 0.13796 C 0.31232 0.14236 0.32604 0.10694 0.33715 0.11018 C 0.3467 0.11296 0.35121 0.1537 0.36406 0.15903 C 0.37326 0.1618 0.38698 0.12986 0.39444 0.13125 C 0.40295 0.13472 0.41111 0.17616 0.41823 0.17801 C 0.43021 0.18241 0.44184 0.14815 0.44757 0.15116 C 0.45746 0.15509 0.45989 0.19467 0.46562 0.19583 C 0.47274 0.19838 0.48646 0.16204 0.49323 0.16528 C 0.50503 0.16898 0.51423 0.20463 0.52152 0.21551 E">
                                      <p:cBhvr>
                                        <p:cTn id="124" dur="13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434 -0.69791 C -0.20764 -0.6861 -0.11077 -0.67407 -0.04723 -0.63749 C 0.01632 -0.60092 0.06961 -0.53101 0.07673 -0.47893 C 0.08385 -0.42685 0.03836 -0.36435 -0.00434 -0.32476 C -0.04705 -0.28518 -0.1316 -0.25786 -0.17934 -0.24073 C -0.22709 -0.2236 -0.2592 -0.22268 -0.29115 -0.22175 E">
                                      <p:cBhvr>
                                        <p:cTn id="133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38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-0.23866 C 0.21388 -0.23866 0.40503 -0.3632 0.40503 -0.51528 C 0.40503 -0.66806 0.21388 -0.79167 -0.02049 -0.79167 C -0.25469 -0.79167 -0.44514 -0.66806 -0.44514 -0.51528 C -0.44514 -0.3632 -0.25469 -0.23866 -0.02049 -0.23866 Z">
                                      <p:cBhvr>
                                        <p:cTn id="139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Oval 2"/>
          <p:cNvSpPr/>
          <p:nvPr/>
        </p:nvSpPr>
        <p:spPr>
          <a:xfrm>
            <a:off x="2057400" y="2133720"/>
            <a:ext cx="4952880" cy="213336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3"/>
          <p:cNvSpPr/>
          <p:nvPr/>
        </p:nvSpPr>
        <p:spPr>
          <a:xfrm>
            <a:off x="-88920" y="563868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347840" cy="1366920"/>
          </a:xfrm>
          <a:prstGeom prst="rect">
            <a:avLst/>
          </a:prstGeom>
          <a:ln w="0">
            <a:noFill/>
          </a:ln>
        </p:spPr>
      </p:pic>
      <p:sp>
        <p:nvSpPr>
          <p:cNvPr id="292" name="Oval 5"/>
          <p:cNvSpPr/>
          <p:nvPr/>
        </p:nvSpPr>
        <p:spPr>
          <a:xfrm>
            <a:off x="-76320" y="609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685800" y="1523880"/>
            <a:ext cx="7696080" cy="381024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7315200" y="68580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8"/>
          <p:cNvSpPr/>
          <p:nvPr/>
        </p:nvSpPr>
        <p:spPr>
          <a:xfrm>
            <a:off x="4635360" y="68976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1692360" y="104760"/>
            <a:ext cx="493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latino Linotype"/>
              </a:rPr>
              <a:t>Atomic E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10" descr="merlin"/>
          <p:cNvPicPr/>
          <p:nvPr/>
        </p:nvPicPr>
        <p:blipFill>
          <a:blip r:embed="rId2"/>
          <a:stretch/>
        </p:blipFill>
        <p:spPr>
          <a:xfrm>
            <a:off x="228600" y="5181480"/>
            <a:ext cx="1531800" cy="160020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11"/>
          <p:cNvSpPr/>
          <p:nvPr/>
        </p:nvSpPr>
        <p:spPr>
          <a:xfrm>
            <a:off x="2209680" y="5334120"/>
            <a:ext cx="6019920" cy="1295280"/>
          </a:xfrm>
          <a:prstGeom prst="wedgeRoundRectCallout">
            <a:avLst>
              <a:gd name="adj1" fmla="val -62527"/>
              <a:gd name="adj2" fmla="val -21078"/>
              <a:gd name="adj3" fmla="val 16667"/>
            </a:avLst>
          </a:prstGeom>
          <a:gradFill rotWithShape="0">
            <a:gsLst>
              <a:gs pos="0">
                <a:srgbClr val="ff0066">
                  <a:alpha val="70196"/>
                </a:srgbClr>
              </a:gs>
              <a:gs pos="100000">
                <a:srgbClr val="ff33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gic is technology that is not understo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-0.23866 C 0.21388 -0.23866 0.40503 -0.3632 0.40503 -0.51528 C 0.40503 -0.66806 0.21388 -0.79167 -0.02049 -0.79167 C -0.25469 -0.79167 -0.44514 -0.66806 -0.44514 -0.51528 C -0.44514 -0.3632 -0.25469 -0.23866 -0.02049 -0.23866 Z">
                                      <p:cBhvr>
                                        <p:cTn id="145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354 -0.23287 C -0.41024 -0.24421 -0.50712 -0.25602 -0.57066 -0.29166 C -0.6342 -0.32731 -0.6875 -0.3956 -0.69462 -0.44629 C -0.70173 -0.49699 -0.65625 -0.5581 -0.61354 -0.59676 C -0.57083 -0.63518 -0.48628 -0.6618 -0.43854 -0.6787 C -0.3908 -0.69537 -0.35868 -0.69629 -0.32673 -0.69722 E">
                                      <p:cBhvr>
                                        <p:cTn id="151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434 0.21899 C 0.50659 0.21158 0.51007 0.1794 0.51909 0.17662 C 0.53021 0.17246 0.55555 0.20811 0.56666 0.2007 C 0.57708 0.19399 0.57465 0.13889 0.58385 0.13149 C 0.59305 0.12547 0.61614 0.16644 0.62517 0.16042 C 0.63541 0.15301 0.63021 0.10093 0.64028 0.09399 C 0.6526 0.08704 0.67708 0.1257 0.68837 0.11783 C 0.70034 0.11112 0.69496 0.05903 0.70868 0.05255 C 0.71927 0.04561 0.74149 0.08612 0.75156 0.07963 C 0.76024 0.07176 0.75225 0.02246 0.76302 0.01459 C 0.77396 0.00811 0.80434 0.04051 0.81423 0.03612 C 0.82396 0.02987 0.81423 -0.01782 0.82448 -0.025 C 0.8335 -0.03194 0.86041 0.00417 0.87378 -0.00416 C 0.88212 -0.01064 0.87413 -0.05509 0.88021 -0.06064 C 0.88958 -0.06574 0.91979 -0.0324 0.92639 -0.03912 C 0.93698 -0.04699 0.92656 -0.0912 0.93298 -0.09375 C 0.94184 -0.10023 0.96805 -0.06365 0.97274 -0.06736 C 0.98003 -0.07222 0.96892 -0.12175 0.97587 -0.12476 C 0.9875 -0.13333 1.01528 -0.10694 1.02708 -0.10324 E">
                                      <p:cBhvr>
                                        <p:cTn id="154" dur="13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222 -0.51667 C 0.53246 -0.51412 0.54253 -0.51181 0.56042 -0.50787 C 0.57812 -0.50371 0.60798 -0.49977 0.62917 -0.4926 C 0.65035 -0.48565 0.67048 -0.4757 0.68767 -0.46598 C 0.70486 -0.45625 0.71996 -0.44676 0.73229 -0.43426 C 0.74462 -0.42176 0.75538 -0.40579 0.76163 -0.39144 C 0.76788 -0.37732 0.77066 -0.36181 0.77031 -0.34838 C 0.76996 -0.33496 0.76614 -0.325 0.75937 -0.31158 C 0.7526 -0.29838 0.74305 -0.28172 0.73003 -0.26852 C 0.71701 -0.25556 0.7 -0.24306 0.68108 -0.23334 C 0.66215 -0.22338 0.64427 -0.21551 0.61667 -0.20926 C 0.58906 -0.20301 0.54705 -0.19723 0.5158 -0.19537 C 0.48437 -0.19352 0.45955 -0.19283 0.42864 -0.19792 C 0.39774 -0.20301 0.35434 -0.21621 0.33055 -0.22547 C 0.30677 -0.23496 0.2967 -0.24537 0.28594 -0.25348 C 0.27517 -0.26158 0.2717 -0.26783 0.26614 -0.27361 C 0.26042 -0.2794 0.2566 -0.28287 0.25226 -0.28889 C 0.24792 -0.29491 0.24288 -0.30278 0.23976 -0.30926 C 0.23663 -0.31551 0.23507 -0.31899 0.23316 -0.32686 C 0.23125 -0.33449 0.22778 -0.34514 0.22812 -0.35602 C 0.2283 -0.36667 0.22917 -0.3794 0.23472 -0.39144 C 0.2401 -0.40348 0.24948 -0.41621 0.26094 -0.42801 C 0.27257 -0.43982 0.28837 -0.45162 0.30417 -0.46227 C 0.31996 -0.47269 0.33576 -0.4838 0.35538 -0.49121 C 0.375 -0.49885 0.40295 -0.50417 0.42205 -0.50787 C 0.44097 -0.51135 0.45573 -0.51135 0.46962 -0.51297 C 0.48351 -0.51436 0.49792 -0.51574 0.50538 -0.51644 E">
                                      <p:cBhvr>
                                        <p:cTn id="15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autoRev="1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665 L -3.33333E-006 -1.27168E-006 E">
                                      <p:cBhvr>
                                        <p:cTn id="160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photon_emiss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685800"/>
            <a:ext cx="9144000" cy="5251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j0309330"/>
          <p:cNvPicPr/>
          <p:nvPr/>
        </p:nvPicPr>
        <p:blipFill>
          <a:blip r:embed="rId2"/>
          <a:stretch/>
        </p:blipFill>
        <p:spPr>
          <a:xfrm>
            <a:off x="0" y="0"/>
            <a:ext cx="1447920" cy="2209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3"/>
          <a:stretch/>
        </p:blipFill>
        <p:spPr>
          <a:xfrm>
            <a:off x="3581280" y="0"/>
            <a:ext cx="1828800" cy="1595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j0227558"/>
          <p:cNvPicPr/>
          <p:nvPr/>
        </p:nvPicPr>
        <p:blipFill>
          <a:blip r:embed="rId4"/>
          <a:stretch/>
        </p:blipFill>
        <p:spPr>
          <a:xfrm>
            <a:off x="4114800" y="5029200"/>
            <a:ext cx="1487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model-bohr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7" descr="Click to enlarge"/>
          <p:cNvPicPr/>
          <p:nvPr/>
        </p:nvPicPr>
        <p:blipFill>
          <a:blip r:embed="rId1"/>
          <a:stretch/>
        </p:blipFill>
        <p:spPr>
          <a:xfrm>
            <a:off x="0" y="949320"/>
            <a:ext cx="9144000" cy="59086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A television is an </a:t>
            </a: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Electron Gu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7022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1295280" y="1523880"/>
            <a:ext cx="6669360" cy="3719520"/>
          </a:xfrm>
          <a:prstGeom prst="rect">
            <a:avLst/>
          </a:prstGeom>
          <a:blipFill rotWithShape="0">
            <a:blip r:embed="rId1">
              <a:alphaModFix amt="80000"/>
            </a:blip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3962520" y="5676840"/>
            <a:ext cx="588960" cy="1067040"/>
            <a:chOff x="3962520" y="5676840"/>
            <a:chExt cx="588960" cy="1067040"/>
          </a:xfrm>
        </p:grpSpPr>
        <p:sp>
          <p:nvSpPr>
            <p:cNvPr id="308" name="Rectangle 4"/>
            <p:cNvSpPr/>
            <p:nvPr/>
          </p:nvSpPr>
          <p:spPr>
            <a:xfrm>
              <a:off x="3962520" y="5981760"/>
              <a:ext cx="53316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5"/>
            <p:cNvSpPr/>
            <p:nvPr/>
          </p:nvSpPr>
          <p:spPr>
            <a:xfrm>
              <a:off x="41148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6"/>
            <p:cNvSpPr/>
            <p:nvPr/>
          </p:nvSpPr>
          <p:spPr>
            <a:xfrm>
              <a:off x="43434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7"/>
            <p:cNvSpPr/>
            <p:nvPr/>
          </p:nvSpPr>
          <p:spPr>
            <a:xfrm>
              <a:off x="3963600" y="582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4268520" y="5829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9"/>
          <p:cNvSpPr/>
          <p:nvPr/>
        </p:nvSpPr>
        <p:spPr>
          <a:xfrm>
            <a:off x="2819520" y="933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dc vol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2286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3"/>
          <p:cNvSpPr/>
          <p:nvPr/>
        </p:nvSpPr>
        <p:spPr>
          <a:xfrm>
            <a:off x="1117440" y="5257800"/>
            <a:ext cx="3073680" cy="749160"/>
          </a:xfrm>
          <a:custGeom>
            <a:avLst/>
            <a:gdLst>
              <a:gd name="textAreaLeft" fmla="*/ 0 w 3073680"/>
              <a:gd name="textAreaRight" fmla="*/ 3074040 w 30736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936" h="472">
                <a:moveTo>
                  <a:pt x="1920" y="288"/>
                </a:moveTo>
                <a:cubicBezTo>
                  <a:pt x="1928" y="220"/>
                  <a:pt x="1936" y="152"/>
                  <a:pt x="1872" y="144"/>
                </a:cubicBezTo>
                <a:cubicBezTo>
                  <a:pt x="1808" y="136"/>
                  <a:pt x="1776" y="192"/>
                  <a:pt x="1536" y="240"/>
                </a:cubicBezTo>
                <a:cubicBezTo>
                  <a:pt x="1296" y="288"/>
                  <a:pt x="688" y="472"/>
                  <a:pt x="432" y="432"/>
                </a:cubicBezTo>
                <a:cubicBezTo>
                  <a:pt x="176" y="392"/>
                  <a:pt x="88" y="196"/>
                  <a:pt x="0" y="0"/>
                </a:cubicBezTo>
              </a:path>
            </a:pathLst>
          </a:custGeom>
          <a:noFill/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14"/>
          <p:cNvSpPr/>
          <p:nvPr/>
        </p:nvSpPr>
        <p:spPr>
          <a:xfrm>
            <a:off x="4419720" y="5283360"/>
            <a:ext cx="3860640" cy="812520"/>
          </a:xfrm>
          <a:custGeom>
            <a:avLst/>
            <a:gdLst>
              <a:gd name="textAreaLeft" fmla="*/ 0 w 3860640"/>
              <a:gd name="textAreaRight" fmla="*/ 3861000 w 38606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2432" h="512">
                <a:moveTo>
                  <a:pt x="0" y="240"/>
                </a:moveTo>
                <a:cubicBezTo>
                  <a:pt x="28" y="184"/>
                  <a:pt x="56" y="128"/>
                  <a:pt x="192" y="144"/>
                </a:cubicBezTo>
                <a:cubicBezTo>
                  <a:pt x="328" y="160"/>
                  <a:pt x="544" y="280"/>
                  <a:pt x="816" y="336"/>
                </a:cubicBezTo>
                <a:cubicBezTo>
                  <a:pt x="1088" y="392"/>
                  <a:pt x="1568" y="464"/>
                  <a:pt x="1824" y="480"/>
                </a:cubicBezTo>
                <a:cubicBezTo>
                  <a:pt x="2080" y="496"/>
                  <a:pt x="2272" y="512"/>
                  <a:pt x="2352" y="432"/>
                </a:cubicBezTo>
                <a:cubicBezTo>
                  <a:pt x="2432" y="352"/>
                  <a:pt x="2368" y="176"/>
                  <a:pt x="2304" y="0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150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5" descr="22888647"/>
          <p:cNvPicPr/>
          <p:nvPr/>
        </p:nvPicPr>
        <p:blipFill>
          <a:blip r:embed="rId1"/>
          <a:stretch/>
        </p:blipFill>
        <p:spPr>
          <a:xfrm>
            <a:off x="5391000" y="295272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MCDD00112_0000[1]"/>
          <p:cNvPicPr/>
          <p:nvPr/>
        </p:nvPicPr>
        <p:blipFill>
          <a:blip r:embed="rId2">
            <a:grayscl/>
          </a:blip>
          <a:stretch/>
        </p:blipFill>
        <p:spPr>
          <a:xfrm>
            <a:off x="2362320" y="4267080"/>
            <a:ext cx="2133360" cy="668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2362320" y="1066680"/>
            <a:ext cx="147456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"/>
          <p:cNvPicPr/>
          <p:nvPr/>
        </p:nvPicPr>
        <p:blipFill>
          <a:blip r:embed="rId4"/>
          <a:stretch/>
        </p:blipFill>
        <p:spPr>
          <a:xfrm>
            <a:off x="114480" y="152280"/>
            <a:ext cx="1866600" cy="2667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3" descr=""/>
          <p:cNvPicPr/>
          <p:nvPr/>
        </p:nvPicPr>
        <p:blipFill>
          <a:blip r:embed="rId5"/>
          <a:stretch/>
        </p:blipFill>
        <p:spPr>
          <a:xfrm>
            <a:off x="76320" y="3581280"/>
            <a:ext cx="2016000" cy="3029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"/>
          <p:cNvPicPr/>
          <p:nvPr/>
        </p:nvPicPr>
        <p:blipFill>
          <a:blip r:embed="rId6"/>
          <a:stretch/>
        </p:blipFill>
        <p:spPr>
          <a:xfrm>
            <a:off x="6635880" y="76320"/>
            <a:ext cx="2279520" cy="4971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6"/>
          <p:cNvSpPr/>
          <p:nvPr/>
        </p:nvSpPr>
        <p:spPr>
          <a:xfrm>
            <a:off x="3796200" y="76320"/>
            <a:ext cx="176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Ravie"/>
              </a:rPr>
              <a:t>Parallel &amp; Ser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Ravie"/>
              </a:rPr>
              <a:t>Circuit 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653760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42176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645768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734184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09680" y="5105520"/>
          <a:ext cx="2667240" cy="1554120"/>
        </p:xfrm>
        <a:graphic>
          <a:graphicData uri="http://schemas.openxmlformats.org/drawingml/2006/table">
            <a:tbl>
              <a:tblPr/>
              <a:tblGrid>
                <a:gridCol w="662040"/>
                <a:gridCol w="663480"/>
                <a:gridCol w="660600"/>
                <a:gridCol w="681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248520" y="5105520"/>
          <a:ext cx="2666880" cy="1554120"/>
        </p:xfrm>
        <a:graphic>
          <a:graphicData uri="http://schemas.openxmlformats.org/drawingml/2006/table">
            <a:tbl>
              <a:tblPr/>
              <a:tblGrid>
                <a:gridCol w="662040"/>
                <a:gridCol w="663480"/>
                <a:gridCol w="660240"/>
                <a:gridCol w="681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163"/>
          <p:cNvSpPr/>
          <p:nvPr/>
        </p:nvSpPr>
        <p:spPr>
          <a:xfrm>
            <a:off x="3886200" y="762120"/>
            <a:ext cx="2438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ad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test circu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series circuit &amp; fill out the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Parallel circuit &amp; fill out the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64"/>
          <p:cNvSpPr/>
          <p:nvPr/>
        </p:nvSpPr>
        <p:spPr>
          <a:xfrm>
            <a:off x="133200" y="548640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65"/>
          <p:cNvSpPr/>
          <p:nvPr/>
        </p:nvSpPr>
        <p:spPr>
          <a:xfrm>
            <a:off x="1398240" y="41911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66"/>
          <p:cNvSpPr/>
          <p:nvPr/>
        </p:nvSpPr>
        <p:spPr>
          <a:xfrm>
            <a:off x="39960" y="373392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67"/>
          <p:cNvSpPr/>
          <p:nvPr/>
        </p:nvSpPr>
        <p:spPr>
          <a:xfrm>
            <a:off x="1182960" y="58672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7022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295280" y="1523880"/>
            <a:ext cx="6669360" cy="3719520"/>
          </a:xfrm>
          <a:prstGeom prst="rect">
            <a:avLst/>
          </a:prstGeom>
          <a:blipFill rotWithShape="0">
            <a:blip r:embed="rId1">
              <a:alphaModFix amt="59000"/>
            </a:blip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3962520" y="5676840"/>
            <a:ext cx="588960" cy="1067040"/>
            <a:chOff x="3962520" y="5676840"/>
            <a:chExt cx="588960" cy="1067040"/>
          </a:xfrm>
        </p:grpSpPr>
        <p:sp>
          <p:nvSpPr>
            <p:cNvPr id="323" name="Rectangle 4"/>
            <p:cNvSpPr/>
            <p:nvPr/>
          </p:nvSpPr>
          <p:spPr>
            <a:xfrm>
              <a:off x="3962520" y="5981760"/>
              <a:ext cx="53316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5"/>
            <p:cNvSpPr/>
            <p:nvPr/>
          </p:nvSpPr>
          <p:spPr>
            <a:xfrm>
              <a:off x="41148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43434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7"/>
            <p:cNvSpPr/>
            <p:nvPr/>
          </p:nvSpPr>
          <p:spPr>
            <a:xfrm>
              <a:off x="3963600" y="582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"/>
            <p:cNvSpPr/>
            <p:nvPr/>
          </p:nvSpPr>
          <p:spPr>
            <a:xfrm>
              <a:off x="4268520" y="5829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Text Box 9"/>
          <p:cNvSpPr/>
          <p:nvPr/>
        </p:nvSpPr>
        <p:spPr>
          <a:xfrm>
            <a:off x="2819520" y="933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c vol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2286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7696080" y="20574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4"/>
          <p:cNvSpPr/>
          <p:nvPr/>
        </p:nvSpPr>
        <p:spPr>
          <a:xfrm>
            <a:off x="1117440" y="5257800"/>
            <a:ext cx="3073680" cy="749160"/>
          </a:xfrm>
          <a:custGeom>
            <a:avLst/>
            <a:gdLst>
              <a:gd name="textAreaLeft" fmla="*/ 0 w 3073680"/>
              <a:gd name="textAreaRight" fmla="*/ 3074040 w 30736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936" h="472">
                <a:moveTo>
                  <a:pt x="1920" y="288"/>
                </a:moveTo>
                <a:cubicBezTo>
                  <a:pt x="1928" y="220"/>
                  <a:pt x="1936" y="152"/>
                  <a:pt x="1872" y="144"/>
                </a:cubicBezTo>
                <a:cubicBezTo>
                  <a:pt x="1808" y="136"/>
                  <a:pt x="1776" y="192"/>
                  <a:pt x="1536" y="240"/>
                </a:cubicBezTo>
                <a:cubicBezTo>
                  <a:pt x="1296" y="288"/>
                  <a:pt x="688" y="472"/>
                  <a:pt x="432" y="432"/>
                </a:cubicBezTo>
                <a:cubicBezTo>
                  <a:pt x="176" y="392"/>
                  <a:pt x="88" y="196"/>
                  <a:pt x="0" y="0"/>
                </a:cubicBezTo>
              </a:path>
            </a:pathLst>
          </a:custGeom>
          <a:noFill/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5"/>
          <p:cNvSpPr/>
          <p:nvPr/>
        </p:nvSpPr>
        <p:spPr>
          <a:xfrm>
            <a:off x="4419720" y="5283360"/>
            <a:ext cx="3860640" cy="812520"/>
          </a:xfrm>
          <a:custGeom>
            <a:avLst/>
            <a:gdLst>
              <a:gd name="textAreaLeft" fmla="*/ 0 w 3860640"/>
              <a:gd name="textAreaRight" fmla="*/ 3861000 w 38606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2432" h="512">
                <a:moveTo>
                  <a:pt x="0" y="240"/>
                </a:moveTo>
                <a:cubicBezTo>
                  <a:pt x="28" y="184"/>
                  <a:pt x="56" y="128"/>
                  <a:pt x="192" y="144"/>
                </a:cubicBezTo>
                <a:cubicBezTo>
                  <a:pt x="328" y="160"/>
                  <a:pt x="544" y="280"/>
                  <a:pt x="816" y="336"/>
                </a:cubicBezTo>
                <a:cubicBezTo>
                  <a:pt x="1088" y="392"/>
                  <a:pt x="1568" y="464"/>
                  <a:pt x="1824" y="480"/>
                </a:cubicBezTo>
                <a:cubicBezTo>
                  <a:pt x="2080" y="496"/>
                  <a:pt x="2272" y="512"/>
                  <a:pt x="2352" y="432"/>
                </a:cubicBezTo>
                <a:cubicBezTo>
                  <a:pt x="2432" y="352"/>
                  <a:pt x="2368" y="176"/>
                  <a:pt x="2304" y="0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16"/>
          <p:cNvSpPr/>
          <p:nvPr/>
        </p:nvSpPr>
        <p:spPr>
          <a:xfrm>
            <a:off x="7696080" y="3429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17"/>
          <p:cNvSpPr/>
          <p:nvPr/>
        </p:nvSpPr>
        <p:spPr>
          <a:xfrm>
            <a:off x="7696080" y="27432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18"/>
          <p:cNvSpPr/>
          <p:nvPr/>
        </p:nvSpPr>
        <p:spPr>
          <a:xfrm>
            <a:off x="7696080" y="47242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9"/>
          <p:cNvSpPr/>
          <p:nvPr/>
        </p:nvSpPr>
        <p:spPr>
          <a:xfrm>
            <a:off x="7696080" y="40384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20"/>
          <p:cNvSpPr/>
          <p:nvPr/>
        </p:nvSpPr>
        <p:spPr>
          <a:xfrm>
            <a:off x="7696080" y="25146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21"/>
          <p:cNvSpPr/>
          <p:nvPr/>
        </p:nvSpPr>
        <p:spPr>
          <a:xfrm>
            <a:off x="7696080" y="304812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22"/>
          <p:cNvSpPr/>
          <p:nvPr/>
        </p:nvSpPr>
        <p:spPr>
          <a:xfrm>
            <a:off x="7696080" y="17524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path" presetID="63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-3.33333E-006 L -0.725 -3.33333E-006 E">
                                      <p:cBhvr>
                                        <p:cTn id="193" dur="23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3.33333E-006 -3.33333E-006 L -0.725 -3.33333E-006 E">
                                      <p:cBhvr>
                                        <p:cTn id="195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71667 -3.33333E-006 E">
                                      <p:cBhvr>
                                        <p:cTn id="197" dur="19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63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3.33333E-006 -2.22222E-006 L -0.71667 -0.01111 E">
                                      <p:cBhvr>
                                        <p:cTn id="199" dur="22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63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3.33333E-006 -2.22222E-006 L -0.725 -0.01111 E">
                                      <p:cBhvr>
                                        <p:cTn id="201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63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3.33333E-006 0 L -0.725 0 E">
                                      <p:cBhvr>
                                        <p:cTn id="203" dur="16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6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2.22222E-006 L -0.725 2.22222E-006 E">
                                      <p:cBhvr>
                                        <p:cTn id="205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3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1.11111E-006 L -0.725 1.11111E-006 E">
                                      <p:cBhvr>
                                        <p:cTn id="207" dur="175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tesla"/>
          <p:cNvPicPr/>
          <p:nvPr/>
        </p:nvPicPr>
        <p:blipFill>
          <a:blip r:embed="rId1"/>
          <a:srcRect l="0" t="0" r="0" b="18464"/>
          <a:stretch/>
        </p:blipFill>
        <p:spPr>
          <a:xfrm>
            <a:off x="914400" y="0"/>
            <a:ext cx="7924680" cy="69595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Times New Roman"/>
              </a:rPr>
              <a:t>Static electricity</a:t>
            </a:r>
            <a:endParaRPr b="0" lang="en-US" sz="6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D03303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generatoredit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733920"/>
            <a:ext cx="3119400" cy="3124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346" name="AutoShape 4"/>
          <p:cNvSpPr/>
          <p:nvPr/>
        </p:nvSpPr>
        <p:spPr>
          <a:xfrm rot="9165600">
            <a:off x="1599840" y="-990720"/>
            <a:ext cx="2209680" cy="769644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733560" y="0"/>
            <a:ext cx="52578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Static Electricity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a material has an excess or a lack of </a:t>
            </a:r>
            <a:r>
              <a:rPr b="1" lang="en-US" sz="5400" spc="-1" strike="noStrike">
                <a:solidFill>
                  <a:srgbClr val="66ff66"/>
                </a:solidFill>
                <a:latin typeface="Times New Roman"/>
              </a:rPr>
              <a:t>electrons.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48" name="Picture 6" descr=""/>
          <p:cNvPicPr/>
          <p:nvPr/>
        </p:nvPicPr>
        <p:blipFill>
          <a:blip r:embed="rId5"/>
          <a:stretch/>
        </p:blipFill>
        <p:spPr>
          <a:xfrm>
            <a:off x="3733920" y="45720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"/>
          <p:cNvPicPr/>
          <p:nvPr/>
        </p:nvPicPr>
        <p:blipFill>
          <a:blip r:embed="rId6"/>
          <a:stretch/>
        </p:blipFill>
        <p:spPr>
          <a:xfrm>
            <a:off x="3581280" y="54864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"/>
          <p:cNvPicPr/>
          <p:nvPr/>
        </p:nvPicPr>
        <p:blipFill>
          <a:blip r:embed="rId7"/>
          <a:stretch/>
        </p:blipFill>
        <p:spPr>
          <a:xfrm>
            <a:off x="4572000" y="49752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"/>
          <p:cNvPicPr/>
          <p:nvPr/>
        </p:nvPicPr>
        <p:blipFill>
          <a:blip r:embed="rId8"/>
          <a:stretch/>
        </p:blipFill>
        <p:spPr>
          <a:xfrm>
            <a:off x="3276720" y="2514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"/>
          <p:cNvPicPr/>
          <p:nvPr/>
        </p:nvPicPr>
        <p:blipFill>
          <a:blip r:embed="rId9"/>
          <a:stretch/>
        </p:blipFill>
        <p:spPr>
          <a:xfrm>
            <a:off x="2590920" y="2612880"/>
            <a:ext cx="476280" cy="435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"/>
          <p:cNvPicPr/>
          <p:nvPr/>
        </p:nvPicPr>
        <p:blipFill>
          <a:blip r:embed="rId10"/>
          <a:stretch/>
        </p:blipFill>
        <p:spPr>
          <a:xfrm>
            <a:off x="2057400" y="314640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26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22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30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232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23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23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9b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7" descr=""/>
          <p:cNvPicPr/>
          <p:nvPr/>
        </p:nvPicPr>
        <p:blipFill>
          <a:blip r:embed="rId1"/>
          <a:stretch/>
        </p:blipFill>
        <p:spPr>
          <a:xfrm>
            <a:off x="4724280" y="1285920"/>
            <a:ext cx="6713640" cy="5495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4" descr=""/>
          <p:cNvPicPr/>
          <p:nvPr/>
        </p:nvPicPr>
        <p:blipFill>
          <a:blip r:embed="rId2"/>
          <a:stretch/>
        </p:blipFill>
        <p:spPr>
          <a:xfrm>
            <a:off x="-2827440" y="1143000"/>
            <a:ext cx="6713640" cy="54957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Capacitor holds a charge on its plates. 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57" name="Picture 9" descr=""/>
          <p:cNvPicPr/>
          <p:nvPr/>
        </p:nvPicPr>
        <p:blipFill>
          <a:blip r:embed="rId3"/>
          <a:stretch/>
        </p:blipFill>
        <p:spPr>
          <a:xfrm>
            <a:off x="3409920" y="1371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8" descr=""/>
          <p:cNvPicPr/>
          <p:nvPr/>
        </p:nvPicPr>
        <p:blipFill>
          <a:blip r:embed="rId4"/>
          <a:stretch/>
        </p:blipFill>
        <p:spPr>
          <a:xfrm>
            <a:off x="3429000" y="22320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9" descr=""/>
          <p:cNvPicPr/>
          <p:nvPr/>
        </p:nvPicPr>
        <p:blipFill>
          <a:blip r:embed="rId5"/>
          <a:stretch/>
        </p:blipFill>
        <p:spPr>
          <a:xfrm>
            <a:off x="3429000" y="31464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0" descr=""/>
          <p:cNvPicPr/>
          <p:nvPr/>
        </p:nvPicPr>
        <p:blipFill>
          <a:blip r:embed="rId6"/>
          <a:stretch/>
        </p:blipFill>
        <p:spPr>
          <a:xfrm>
            <a:off x="3429000" y="4137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1" descr=""/>
          <p:cNvPicPr/>
          <p:nvPr/>
        </p:nvPicPr>
        <p:blipFill>
          <a:blip r:embed="rId7"/>
          <a:stretch/>
        </p:blipFill>
        <p:spPr>
          <a:xfrm>
            <a:off x="3409920" y="5127480"/>
            <a:ext cx="476280" cy="435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2" descr=""/>
          <p:cNvPicPr/>
          <p:nvPr/>
        </p:nvPicPr>
        <p:blipFill>
          <a:blip r:embed="rId8"/>
          <a:stretch/>
        </p:blipFill>
        <p:spPr>
          <a:xfrm>
            <a:off x="3352680" y="5813280"/>
            <a:ext cx="476280" cy="435240"/>
          </a:xfrm>
          <a:prstGeom prst="rect">
            <a:avLst/>
          </a:prstGeom>
          <a:ln w="0">
            <a:noFill/>
          </a:ln>
        </p:spPr>
      </p:pic>
      <p:sp>
        <p:nvSpPr>
          <p:cNvPr id="363" name="PubCross"/>
          <p:cNvSpPr/>
          <p:nvPr/>
        </p:nvSpPr>
        <p:spPr>
          <a:xfrm>
            <a:off x="4800600" y="160020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ubCross"/>
          <p:cNvSpPr/>
          <p:nvPr/>
        </p:nvSpPr>
        <p:spPr>
          <a:xfrm>
            <a:off x="4800600" y="266688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ubCross"/>
          <p:cNvSpPr/>
          <p:nvPr/>
        </p:nvSpPr>
        <p:spPr>
          <a:xfrm>
            <a:off x="4800600" y="388620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ubCross"/>
          <p:cNvSpPr/>
          <p:nvPr/>
        </p:nvSpPr>
        <p:spPr>
          <a:xfrm>
            <a:off x="4800600" y="533412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2" dur="12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4" dur="1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6" dur="11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8" dur="9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50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52" dur="8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"/>
          <p:cNvSpPr/>
          <p:nvPr/>
        </p:nvSpPr>
        <p:spPr>
          <a:xfrm>
            <a:off x="533520" y="228600"/>
            <a:ext cx="81532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onduct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thing that allows thermal energy to pass easi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buSzPct val="2263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buSzPct val="226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4" descr="j0283029"/>
          <p:cNvPicPr/>
          <p:nvPr/>
        </p:nvPicPr>
        <p:blipFill>
          <a:blip r:embed="rId3"/>
          <a:stretch/>
        </p:blipFill>
        <p:spPr>
          <a:xfrm>
            <a:off x="5105520" y="2895480"/>
            <a:ext cx="37494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4"/>
          <p:cNvSpPr/>
          <p:nvPr/>
        </p:nvSpPr>
        <p:spPr>
          <a:xfrm>
            <a:off x="1068480" y="685800"/>
            <a:ext cx="437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2400"/>
                </a:solidFill>
                <a:latin typeface="Times New Roman"/>
              </a:rPr>
              <a:t>semi-Conduc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5" descr="j0289053"/>
          <p:cNvPicPr/>
          <p:nvPr/>
        </p:nvPicPr>
        <p:blipFill>
          <a:blip r:embed="rId1"/>
          <a:stretch/>
        </p:blipFill>
        <p:spPr>
          <a:xfrm>
            <a:off x="2438280" y="3048120"/>
            <a:ext cx="3657600" cy="2401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j0289054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408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j0289138"/>
          <p:cNvPicPr/>
          <p:nvPr/>
        </p:nvPicPr>
        <p:blipFill>
          <a:blip r:embed="rId3"/>
          <a:stretch/>
        </p:blipFill>
        <p:spPr>
          <a:xfrm>
            <a:off x="0" y="3200400"/>
            <a:ext cx="2432160" cy="36576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j0289144"/>
          <p:cNvPicPr/>
          <p:nvPr/>
        </p:nvPicPr>
        <p:blipFill>
          <a:blip r:embed="rId4"/>
          <a:stretch/>
        </p:blipFill>
        <p:spPr>
          <a:xfrm>
            <a:off x="5486400" y="4359240"/>
            <a:ext cx="36576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9" descr="objectlesson_alife_large"/>
          <p:cNvPicPr/>
          <p:nvPr/>
        </p:nvPicPr>
        <p:blipFill>
          <a:blip r:embed="rId1"/>
          <a:stretch/>
        </p:blipFill>
        <p:spPr>
          <a:xfrm>
            <a:off x="457200" y="3581280"/>
            <a:ext cx="2606760" cy="3124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Cooler"/>
          <p:cNvPicPr/>
          <p:nvPr/>
        </p:nvPicPr>
        <p:blipFill>
          <a:blip r:embed="rId2"/>
          <a:srcRect l="11998" t="6668" r="8001" b="3335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j0365228"/>
          <p:cNvPicPr/>
          <p:nvPr/>
        </p:nvPicPr>
        <p:blipFill>
          <a:blip r:embed="rId3"/>
          <a:stretch/>
        </p:blipFill>
        <p:spPr>
          <a:xfrm>
            <a:off x="3809880" y="52578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spark_plug"/>
          <p:cNvPicPr/>
          <p:nvPr/>
        </p:nvPicPr>
        <p:blipFill>
          <a:blip r:embed="rId4"/>
          <a:stretch/>
        </p:blipFill>
        <p:spPr>
          <a:xfrm>
            <a:off x="0" y="0"/>
            <a:ext cx="2990880" cy="3333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4" descr="spark_plug"/>
          <p:cNvPicPr/>
          <p:nvPr/>
        </p:nvPicPr>
        <p:blipFill>
          <a:blip r:embed="rId5"/>
          <a:srcRect l="80432" t="73153" r="1317" b="8661"/>
          <a:stretch/>
        </p:blipFill>
        <p:spPr>
          <a:xfrm>
            <a:off x="0" y="0"/>
            <a:ext cx="2971800" cy="3352680"/>
          </a:xfrm>
          <a:prstGeom prst="rect">
            <a:avLst/>
          </a:prstGeom>
          <a:ln w="0">
            <a:noFill/>
          </a:ln>
        </p:spPr>
      </p:pic>
      <p:sp>
        <p:nvSpPr>
          <p:cNvPr id="379" name="Line 13"/>
          <p:cNvSpPr/>
          <p:nvPr/>
        </p:nvSpPr>
        <p:spPr>
          <a:xfrm flipH="1">
            <a:off x="1066680" y="609480"/>
            <a:ext cx="4648320" cy="457200"/>
          </a:xfrm>
          <a:prstGeom prst="line">
            <a:avLst/>
          </a:prstGeom>
          <a:ln w="889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776160" y="30240"/>
            <a:ext cx="8139240" cy="523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Insulat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omething that does NOT allow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rmal energ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pass easil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72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2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296"/>
                            </p:stCondLst>
                            <p:childTnLst>
                              <p:par>
                                <p:cTn id="2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MMj02832200000[1]"/>
          <p:cNvPicPr/>
          <p:nvPr/>
        </p:nvPicPr>
        <p:blipFill>
          <a:blip r:embed="rId1"/>
          <a:stretch/>
        </p:blipFill>
        <p:spPr>
          <a:xfrm>
            <a:off x="0" y="2719440"/>
            <a:ext cx="3833640" cy="413856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2"/>
          <p:cNvSpPr/>
          <p:nvPr/>
        </p:nvSpPr>
        <p:spPr>
          <a:xfrm>
            <a:off x="685800" y="61920"/>
            <a:ext cx="76201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lfaen"/>
              </a:rPr>
              <a:t>- is energy resulting from the force between two objects having different voltag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3" descr="j0315756"/>
          <p:cNvPicPr/>
          <p:nvPr/>
        </p:nvPicPr>
        <p:blipFill>
          <a:blip r:embed="rId2"/>
          <a:stretch/>
        </p:blipFill>
        <p:spPr>
          <a:xfrm>
            <a:off x="5791320" y="4282920"/>
            <a:ext cx="33526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762120" y="533520"/>
            <a:ext cx="761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lfaen"/>
              </a:rPr>
              <a:t>- </a:t>
            </a:r>
            <a:r>
              <a:rPr b="1" lang="en-US" sz="4800" spc="-1" strike="noStrike">
                <a:solidFill>
                  <a:srgbClr val="000000"/>
                </a:solidFill>
                <a:latin typeface="Sylfaen"/>
              </a:rPr>
              <a:t>is the force of moving electr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j0315756"/>
          <p:cNvPicPr/>
          <p:nvPr/>
        </p:nvPicPr>
        <p:blipFill>
          <a:blip r:embed="rId1"/>
          <a:stretch/>
        </p:blipFill>
        <p:spPr>
          <a:xfrm>
            <a:off x="1905120" y="3124080"/>
            <a:ext cx="48765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074" descr="j0318127"/>
          <p:cNvPicPr/>
          <p:nvPr/>
        </p:nvPicPr>
        <p:blipFill>
          <a:blip r:embed="rId1"/>
          <a:stretch/>
        </p:blipFill>
        <p:spPr>
          <a:xfrm>
            <a:off x="6248520" y="4038480"/>
            <a:ext cx="2743200" cy="2644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075" descr="j0283501"/>
          <p:cNvPicPr/>
          <p:nvPr/>
        </p:nvPicPr>
        <p:blipFill>
          <a:blip r:embed="rId2"/>
          <a:stretch/>
        </p:blipFill>
        <p:spPr>
          <a:xfrm>
            <a:off x="228600" y="5029200"/>
            <a:ext cx="1676520" cy="16304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077"/>
          <p:cNvSpPr/>
          <p:nvPr/>
        </p:nvSpPr>
        <p:spPr>
          <a:xfrm>
            <a:off x="2132640" y="609480"/>
            <a:ext cx="473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052"/>
          <p:cNvSpPr/>
          <p:nvPr/>
        </p:nvSpPr>
        <p:spPr>
          <a:xfrm>
            <a:off x="1828800" y="1981080"/>
            <a:ext cx="457200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mocouple (copper &amp; nickel or copper &amp; ir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85" descr="steam-train-south-africa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22888647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235080" y="685800"/>
            <a:ext cx="3803400" cy="5715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4"/>
          <a:stretch/>
        </p:blipFill>
        <p:spPr>
          <a:xfrm>
            <a:off x="4952880" y="152280"/>
            <a:ext cx="360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reeform 28"/>
          <p:cNvSpPr/>
          <p:nvPr/>
        </p:nvSpPr>
        <p:spPr>
          <a:xfrm>
            <a:off x="5689440" y="3162240"/>
            <a:ext cx="3149640" cy="647640"/>
          </a:xfrm>
          <a:custGeom>
            <a:avLst/>
            <a:gdLst>
              <a:gd name="textAreaLeft" fmla="*/ 0 w 3149640"/>
              <a:gd name="textAreaRight" fmla="*/ 3150000 w 31496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984" h="408">
                <a:moveTo>
                  <a:pt x="1872" y="408"/>
                </a:moveTo>
                <a:cubicBezTo>
                  <a:pt x="1860" y="344"/>
                  <a:pt x="1848" y="280"/>
                  <a:pt x="1824" y="216"/>
                </a:cubicBezTo>
                <a:cubicBezTo>
                  <a:pt x="1800" y="152"/>
                  <a:pt x="1984" y="48"/>
                  <a:pt x="1728" y="24"/>
                </a:cubicBezTo>
                <a:cubicBezTo>
                  <a:pt x="1472" y="0"/>
                  <a:pt x="552" y="56"/>
                  <a:pt x="288" y="72"/>
                </a:cubicBezTo>
                <a:cubicBezTo>
                  <a:pt x="24" y="88"/>
                  <a:pt x="192" y="80"/>
                  <a:pt x="144" y="120"/>
                </a:cubicBezTo>
                <a:cubicBezTo>
                  <a:pt x="96" y="160"/>
                  <a:pt x="48" y="236"/>
                  <a:pt x="0" y="312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7920" y="0"/>
            <a:ext cx="9059760" cy="210312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oudy Stout"/>
              </a:rPr>
              <a:t>Circu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oudy Stout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Goudy Stout"/>
              </a:rPr>
              <a:t>Series  Parall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7"/>
          <p:cNvSpPr/>
          <p:nvPr/>
        </p:nvSpPr>
        <p:spPr>
          <a:xfrm rot="5400000">
            <a:off x="4114800" y="-3276720"/>
            <a:ext cx="838080" cy="8763120"/>
          </a:xfrm>
          <a:custGeom>
            <a:avLst/>
            <a:gdLst>
              <a:gd name="textAreaLeft" fmla="*/ 535320 w 838080"/>
              <a:gd name="textAreaRight" fmla="*/ 838440 w 838080"/>
              <a:gd name="textAreaTop" fmla="*/ 228240 h 8763120"/>
              <a:gd name="textAreaBottom" fmla="*/ 8534880 h 876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11"/>
          <p:cNvSpPr/>
          <p:nvPr/>
        </p:nvSpPr>
        <p:spPr>
          <a:xfrm>
            <a:off x="317520" y="2921040"/>
            <a:ext cx="3137040" cy="3860640"/>
          </a:xfrm>
          <a:custGeom>
            <a:avLst/>
            <a:gdLst>
              <a:gd name="textAreaLeft" fmla="*/ 0 w 3137040"/>
              <a:gd name="textAreaRight" fmla="*/ 3137400 w 3137040"/>
              <a:gd name="textAreaTop" fmla="*/ 0 h 3860640"/>
              <a:gd name="textAreaBottom" fmla="*/ 3861000 h 3860640"/>
            </a:gdLst>
            <a:ahLst/>
            <a:rect l="textAreaLeft" t="textAreaTop" r="textAreaRight" b="textAreaBottom"/>
            <a:pathLst>
              <a:path w="1976" h="2432">
                <a:moveTo>
                  <a:pt x="328" y="1376"/>
                </a:moveTo>
                <a:cubicBezTo>
                  <a:pt x="304" y="1372"/>
                  <a:pt x="280" y="1368"/>
                  <a:pt x="280" y="1328"/>
                </a:cubicBezTo>
                <a:cubicBezTo>
                  <a:pt x="280" y="1288"/>
                  <a:pt x="360" y="1224"/>
                  <a:pt x="328" y="1136"/>
                </a:cubicBezTo>
                <a:cubicBezTo>
                  <a:pt x="296" y="1048"/>
                  <a:pt x="136" y="896"/>
                  <a:pt x="88" y="800"/>
                </a:cubicBezTo>
                <a:cubicBezTo>
                  <a:pt x="40" y="704"/>
                  <a:pt x="0" y="680"/>
                  <a:pt x="40" y="560"/>
                </a:cubicBezTo>
                <a:cubicBezTo>
                  <a:pt x="80" y="440"/>
                  <a:pt x="240" y="160"/>
                  <a:pt x="328" y="80"/>
                </a:cubicBezTo>
                <a:cubicBezTo>
                  <a:pt x="416" y="0"/>
                  <a:pt x="416" y="80"/>
                  <a:pt x="568" y="80"/>
                </a:cubicBezTo>
                <a:cubicBezTo>
                  <a:pt x="720" y="80"/>
                  <a:pt x="1064" y="64"/>
                  <a:pt x="1240" y="80"/>
                </a:cubicBezTo>
                <a:cubicBezTo>
                  <a:pt x="1416" y="96"/>
                  <a:pt x="1536" y="80"/>
                  <a:pt x="1624" y="176"/>
                </a:cubicBezTo>
                <a:cubicBezTo>
                  <a:pt x="1712" y="272"/>
                  <a:pt x="1712" y="488"/>
                  <a:pt x="1768" y="656"/>
                </a:cubicBezTo>
                <a:cubicBezTo>
                  <a:pt x="1824" y="824"/>
                  <a:pt x="1944" y="992"/>
                  <a:pt x="1960" y="1184"/>
                </a:cubicBezTo>
                <a:cubicBezTo>
                  <a:pt x="1976" y="1376"/>
                  <a:pt x="1896" y="1616"/>
                  <a:pt x="1864" y="1808"/>
                </a:cubicBezTo>
                <a:cubicBezTo>
                  <a:pt x="1832" y="2000"/>
                  <a:pt x="1920" y="2240"/>
                  <a:pt x="1768" y="2336"/>
                </a:cubicBezTo>
                <a:cubicBezTo>
                  <a:pt x="1616" y="2432"/>
                  <a:pt x="1208" y="2400"/>
                  <a:pt x="952" y="2384"/>
                </a:cubicBezTo>
                <a:cubicBezTo>
                  <a:pt x="696" y="2368"/>
                  <a:pt x="352" y="2280"/>
                  <a:pt x="232" y="2240"/>
                </a:cubicBezTo>
                <a:cubicBezTo>
                  <a:pt x="112" y="2200"/>
                  <a:pt x="172" y="2172"/>
                  <a:pt x="232" y="2144"/>
                </a:cubicBezTo>
              </a:path>
            </a:pathLst>
          </a:custGeom>
          <a:noFill/>
          <a:ln w="101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14" descr="j0286678"/>
          <p:cNvPicPr/>
          <p:nvPr/>
        </p:nvPicPr>
        <p:blipFill>
          <a:blip r:embed="rId1"/>
          <a:stretch/>
        </p:blipFill>
        <p:spPr>
          <a:xfrm>
            <a:off x="1557360" y="5186520"/>
            <a:ext cx="1414440" cy="1595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9" descr=""/>
          <p:cNvPicPr/>
          <p:nvPr/>
        </p:nvPicPr>
        <p:blipFill>
          <a:blip r:embed="rId2"/>
          <a:stretch/>
        </p:blipFill>
        <p:spPr>
          <a:xfrm>
            <a:off x="457200" y="602604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2" descr=""/>
          <p:cNvPicPr/>
          <p:nvPr/>
        </p:nvPicPr>
        <p:blipFill>
          <a:blip r:embed="rId3"/>
          <a:stretch/>
        </p:blipFill>
        <p:spPr>
          <a:xfrm>
            <a:off x="352440" y="5086440"/>
            <a:ext cx="981000" cy="13143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0" descr="j0286678"/>
          <p:cNvPicPr/>
          <p:nvPr/>
        </p:nvPicPr>
        <p:blipFill>
          <a:blip r:embed="rId4"/>
          <a:stretch/>
        </p:blipFill>
        <p:spPr>
          <a:xfrm>
            <a:off x="1295280" y="1905120"/>
            <a:ext cx="1076400" cy="1214280"/>
          </a:xfrm>
          <a:prstGeom prst="rect">
            <a:avLst/>
          </a:prstGeom>
          <a:ln w="0">
            <a:noFill/>
          </a:ln>
        </p:spPr>
      </p:pic>
      <p:sp>
        <p:nvSpPr>
          <p:cNvPr id="398" name="Freeform 22"/>
          <p:cNvSpPr/>
          <p:nvPr/>
        </p:nvSpPr>
        <p:spPr>
          <a:xfrm>
            <a:off x="5562720" y="1905120"/>
            <a:ext cx="3162240" cy="4610160"/>
          </a:xfrm>
          <a:custGeom>
            <a:avLst/>
            <a:gdLst>
              <a:gd name="textAreaLeft" fmla="*/ 0 w 3162240"/>
              <a:gd name="textAreaRight" fmla="*/ 3162600 w 3162240"/>
              <a:gd name="textAreaTop" fmla="*/ 0 h 4610160"/>
              <a:gd name="textAreaBottom" fmla="*/ 4610520 h 4610160"/>
            </a:gdLst>
            <a:ahLst/>
            <a:rect l="textAreaLeft" t="textAreaTop" r="textAreaRight" b="textAreaBottom"/>
            <a:pathLst>
              <a:path w="1992" h="2904">
                <a:moveTo>
                  <a:pt x="360" y="2728"/>
                </a:moveTo>
                <a:cubicBezTo>
                  <a:pt x="308" y="2788"/>
                  <a:pt x="256" y="2848"/>
                  <a:pt x="408" y="2872"/>
                </a:cubicBezTo>
                <a:cubicBezTo>
                  <a:pt x="560" y="2896"/>
                  <a:pt x="1040" y="2904"/>
                  <a:pt x="1272" y="2872"/>
                </a:cubicBezTo>
                <a:cubicBezTo>
                  <a:pt x="1504" y="2840"/>
                  <a:pt x="1688" y="2808"/>
                  <a:pt x="1800" y="2680"/>
                </a:cubicBezTo>
                <a:cubicBezTo>
                  <a:pt x="1912" y="2552"/>
                  <a:pt x="1936" y="2496"/>
                  <a:pt x="1944" y="2104"/>
                </a:cubicBezTo>
                <a:cubicBezTo>
                  <a:pt x="1952" y="1712"/>
                  <a:pt x="1992" y="656"/>
                  <a:pt x="1848" y="328"/>
                </a:cubicBezTo>
                <a:cubicBezTo>
                  <a:pt x="1704" y="0"/>
                  <a:pt x="1336" y="160"/>
                  <a:pt x="1080" y="136"/>
                </a:cubicBezTo>
                <a:cubicBezTo>
                  <a:pt x="824" y="112"/>
                  <a:pt x="488" y="104"/>
                  <a:pt x="312" y="184"/>
                </a:cubicBezTo>
                <a:cubicBezTo>
                  <a:pt x="136" y="264"/>
                  <a:pt x="48" y="408"/>
                  <a:pt x="24" y="616"/>
                </a:cubicBezTo>
                <a:cubicBezTo>
                  <a:pt x="0" y="824"/>
                  <a:pt x="96" y="1160"/>
                  <a:pt x="168" y="1432"/>
                </a:cubicBezTo>
                <a:cubicBezTo>
                  <a:pt x="240" y="1704"/>
                  <a:pt x="408" y="2112"/>
                  <a:pt x="456" y="2248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16" descr="j0336481"/>
          <p:cNvPicPr/>
          <p:nvPr/>
        </p:nvPicPr>
        <p:blipFill>
          <a:blip r:embed="rId5"/>
          <a:stretch/>
        </p:blipFill>
        <p:spPr>
          <a:xfrm>
            <a:off x="6934320" y="1343160"/>
            <a:ext cx="750600" cy="1095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3" descr=""/>
          <p:cNvPicPr/>
          <p:nvPr/>
        </p:nvPicPr>
        <p:blipFill>
          <a:blip r:embed="rId6"/>
          <a:stretch/>
        </p:blipFill>
        <p:spPr>
          <a:xfrm>
            <a:off x="6019920" y="548640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4" descr=""/>
          <p:cNvPicPr/>
          <p:nvPr/>
        </p:nvPicPr>
        <p:blipFill>
          <a:blip r:embed="rId7"/>
          <a:stretch/>
        </p:blipFill>
        <p:spPr>
          <a:xfrm>
            <a:off x="6019920" y="548640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1" descr=""/>
          <p:cNvPicPr/>
          <p:nvPr/>
        </p:nvPicPr>
        <p:blipFill>
          <a:blip r:embed="rId8"/>
          <a:stretch/>
        </p:blipFill>
        <p:spPr>
          <a:xfrm>
            <a:off x="5724360" y="4952880"/>
            <a:ext cx="981360" cy="1314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5" descr="j0336481"/>
          <p:cNvPicPr/>
          <p:nvPr/>
        </p:nvPicPr>
        <p:blipFill>
          <a:blip r:embed="rId9"/>
          <a:stretch/>
        </p:blipFill>
        <p:spPr>
          <a:xfrm>
            <a:off x="6400800" y="2362320"/>
            <a:ext cx="75096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972 4.81481E-006 C -0.01458 0.01296 -0.01944 0.02592 -0.00972 0.03333 C -3.33333000000075E-006 0.04074 0.01945 0.03703 0.04861 0.04444 C 0.07778 0.05185 0.13611 0.07407 0.16528 0.07777 C 0.19445 0.08148 0.20695 0.06851 0.22361 0.06666 C 0.24028 0.06481 0.25417 0.07222 0.26528 0.06666 C 0.27639 0.06111 0.28611 0.05 0.29028 0.03333 C 0.29445 0.01666 0.28889 -0.01112 0.29028 -0.03334 C 0.29167 -0.05556 0.29584 -0.07778 0.29861 -0.1 C 0.30139 -0.12223 0.30556 -0.14445 0.30695 -0.16667 C 0.30834 -0.18889 0.3125 -0.20371 0.30695 -0.23334 C 0.30139 -0.26297 0.28195 -0.30926 0.27361 -0.34445 C 0.26528 -0.37963 0.27917 -0.42408 0.25695 -0.44445 C 0.23473 -0.46482 0.175 -0.46297 0.14028 -0.46667 C 0.10556 -0.47038 0.06667 -0.46482 0.04861 -0.46667 C 0.03056 -0.46852 0.04306 -0.49075 0.03195 -0.47778 C 0.02084 -0.46482 -0.00833 -0.41297 -0.01805 -0.38889 C -0.02777 -0.36482 -0.02916 -0.35186 -0.02639 -0.33334 C -0.02361 -0.31482 -0.00972 -0.29445 -0.00139 -0.27778 C 0.00695 -0.26112 0.01945 -0.24445 0.02361 -0.23334 C 0.02778 -0.22223 0.025 -0.22038 0.02361 -0.21112 C 0.02223 -0.20186 0.0125 -0.18704 0.01528 -0.17778 C 0.01806 -0.16852 0.02917 -0.16204 0.04028 -0.15556 E">
                                      <p:cBhvr>
                                        <p:cTn id="287" dur="5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0.05255 C -0.01181 0.06921 -0.0191 0.08588 -0.02188 0.09699 C -0.02483 0.1081 -0.03056 0.11528 -0.02188 0.11898 C -0.01337 0.12269 0.00104 0.11898 0.02968 0.11898 C 0.05833 0.11898 0.11857 0.12269 0.15017 0.11898 C 0.18177 0.11528 0.20173 0.1081 0.21892 0.09699 C 0.23628 0.08588 0.24618 0.07662 0.25347 0.05255 C 0.26059 0.02847 0.2592 0.02662 0.26198 -0.04745 C 0.26493 -0.12153 0.275 -0.31782 0.27066 -0.3919 C 0.26632 -0.46597 0.24618 -0.47153 0.23628 -0.4919 C 0.22621 -0.51227 0.22187 -0.51042 0.21041 -0.51412 C 0.19896 -0.51782 0.18316 -0.51412 0.16736 -0.51412 C 0.15156 -0.51412 0.1401 -0.51412 0.1158 -0.51412 C 0.09132 -0.51412 0.04687 -0.51967 0.02118 -0.51412 C -0.00469 -0.50856 -0.02327 -0.4956 -0.03907 -0.48079 C -0.05486 -0.46597 -0.06771 -0.4493 -0.07344 -0.42523 C -0.07917 -0.40116 -0.07917 -0.38264 -0.07344 -0.33634 C -0.06771 -0.29004 -0.05052 -0.1919 -0.03907 -0.14745 C -0.02761 -0.10301 -0.01615 -0.08634 -0.00469 -0.06967 E">
                                      <p:cBhvr>
                                        <p:cTn id="289" dur="5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73472E-018 -1.85185E-006 C -0.01181 0.04074 -0.02361 0.08148 -0.025 0.1 C -0.02639 0.11852 -0.03056 0.10926 -0.00834 0.11111 C 0.01389 0.11297 0.07222 0.11667 0.10833 0.11111 C 0.14444 0.10556 0.18472 0.08889 0.20833 0.07778 C 0.23194 0.06667 0.24166 0.07963 0.25 0.04445 C 0.25833 0.00926 0.25694 -0.07592 0.25833 -0.13333 C 0.25972 -0.19074 0.26527 -0.26296 0.25833 -0.3 C 0.25139 -0.33703 0.25972 -0.34629 0.21666 -0.35555 C 0.17361 -0.36481 0.04444 -0.36481 1.73472E-018 -0.35555 C -0.04445 -0.34629 -0.04028 -0.31666 -0.05 -0.3 C -0.05973 -0.28333 -0.05973 -0.27407 -0.05834 -0.25555 C -0.05695 -0.23703 -0.05 -0.22037 -0.04167 -0.18889 C -0.03334 -0.1574 -0.02084 -0.11203 -0.00834 -0.06666 E">
                                      <p:cBhvr>
                                        <p:cTn id="291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17" descr="Welding_Machine_Circuit_Board"/>
          <p:cNvPicPr/>
          <p:nvPr/>
        </p:nvPicPr>
        <p:blipFill>
          <a:blip r:embed="rId1"/>
          <a:srcRect l="0" t="13249" r="0" b="13260"/>
          <a:stretch/>
        </p:blipFill>
        <p:spPr>
          <a:xfrm>
            <a:off x="0" y="865080"/>
            <a:ext cx="8153280" cy="59929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8"/>
          <p:cNvSpPr/>
          <p:nvPr/>
        </p:nvSpPr>
        <p:spPr>
          <a:xfrm>
            <a:off x="532440" y="228600"/>
            <a:ext cx="352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rcuit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med%20integ3"/>
          <p:cNvPicPr/>
          <p:nvPr/>
        </p:nvPicPr>
        <p:blipFill>
          <a:blip r:embed="rId1"/>
          <a:stretch/>
        </p:blipFill>
        <p:spPr>
          <a:xfrm>
            <a:off x="457200" y="108576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"/>
          <p:cNvSpPr/>
          <p:nvPr/>
        </p:nvSpPr>
        <p:spPr>
          <a:xfrm>
            <a:off x="991080" y="304920"/>
            <a:ext cx="476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egrated circu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0468-B491-4262-B2B3-D67CAADE9C5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4C1A-E707-4FF1-8A95-FA5461BFC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2" descr="D0330399"/>
          <p:cNvPicPr/>
          <p:nvPr/>
        </p:nvPicPr>
        <p:blipFill>
          <a:blip r:embed="rId1"/>
          <a:stretch/>
        </p:blipFill>
        <p:spPr>
          <a:xfrm>
            <a:off x="6537240" y="0"/>
            <a:ext cx="2597400" cy="3276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generatoredited"/>
          <p:cNvPicPr/>
          <p:nvPr/>
        </p:nvPicPr>
        <p:blipFill>
          <a:blip r:embed="rId2"/>
          <a:stretch/>
        </p:blipFill>
        <p:spPr>
          <a:xfrm>
            <a:off x="3352680" y="0"/>
            <a:ext cx="3229200" cy="330516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4"/>
          <p:cNvSpPr/>
          <p:nvPr/>
        </p:nvSpPr>
        <p:spPr>
          <a:xfrm rot="9165600">
            <a:off x="761760" y="-1142640"/>
            <a:ext cx="2209680" cy="769608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3"/>
          <a:stretch/>
        </p:blipFill>
        <p:spPr>
          <a:xfrm>
            <a:off x="2895480" y="44197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"/>
          <p:cNvPicPr/>
          <p:nvPr/>
        </p:nvPicPr>
        <p:blipFill>
          <a:blip r:embed="rId4"/>
          <a:stretch/>
        </p:blipFill>
        <p:spPr>
          <a:xfrm>
            <a:off x="2743200" y="5334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"/>
          <p:cNvPicPr/>
          <p:nvPr/>
        </p:nvPicPr>
        <p:blipFill>
          <a:blip r:embed="rId5"/>
          <a:stretch/>
        </p:blipFill>
        <p:spPr>
          <a:xfrm>
            <a:off x="3733920" y="48229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9" descr=""/>
          <p:cNvPicPr/>
          <p:nvPr/>
        </p:nvPicPr>
        <p:blipFill>
          <a:blip r:embed="rId6"/>
          <a:stretch/>
        </p:blipFill>
        <p:spPr>
          <a:xfrm>
            <a:off x="2438280" y="23623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"/>
          <p:cNvPicPr/>
          <p:nvPr/>
        </p:nvPicPr>
        <p:blipFill>
          <a:blip r:embed="rId7"/>
          <a:stretch/>
        </p:blipFill>
        <p:spPr>
          <a:xfrm>
            <a:off x="1752480" y="2460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1" descr=""/>
          <p:cNvPicPr/>
          <p:nvPr/>
        </p:nvPicPr>
        <p:blipFill>
          <a:blip r:embed="rId8"/>
          <a:stretch/>
        </p:blipFill>
        <p:spPr>
          <a:xfrm>
            <a:off x="1219320" y="299412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97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299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01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03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05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307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3F0B-D2A5-43A0-BC30-6751688582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F784-C5D9-4CED-9F56-7E683BB7F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2" descr="tesla"/>
          <p:cNvPicPr/>
          <p:nvPr/>
        </p:nvPicPr>
        <p:blipFill>
          <a:blip r:embed="rId1"/>
          <a:srcRect l="0" t="0" r="0" b="18464"/>
          <a:stretch/>
        </p:blipFill>
        <p:spPr>
          <a:xfrm>
            <a:off x="3124080" y="1219320"/>
            <a:ext cx="5900760" cy="5181480"/>
          </a:xfrm>
          <a:prstGeom prst="rect">
            <a:avLst/>
          </a:prstGeom>
          <a:ln w="0">
            <a:noFill/>
          </a:ln>
        </p:spPr>
      </p:pic>
      <p:sp>
        <p:nvSpPr>
          <p:cNvPr id="423" name="AutoShape 3"/>
          <p:cNvSpPr/>
          <p:nvPr/>
        </p:nvSpPr>
        <p:spPr>
          <a:xfrm rot="9165600">
            <a:off x="761760" y="-1142640"/>
            <a:ext cx="2209680" cy="769608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3"/>
          <a:stretch/>
        </p:blipFill>
        <p:spPr>
          <a:xfrm>
            <a:off x="2743200" y="5334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"/>
          <p:cNvPicPr/>
          <p:nvPr/>
        </p:nvPicPr>
        <p:blipFill>
          <a:blip r:embed="rId4"/>
          <a:stretch/>
        </p:blipFill>
        <p:spPr>
          <a:xfrm>
            <a:off x="3733920" y="48229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8" descr=""/>
          <p:cNvPicPr/>
          <p:nvPr/>
        </p:nvPicPr>
        <p:blipFill>
          <a:blip r:embed="rId5"/>
          <a:stretch/>
        </p:blipFill>
        <p:spPr>
          <a:xfrm>
            <a:off x="2438280" y="23623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"/>
          <p:cNvPicPr/>
          <p:nvPr/>
        </p:nvPicPr>
        <p:blipFill>
          <a:blip r:embed="rId6"/>
          <a:stretch/>
        </p:blipFill>
        <p:spPr>
          <a:xfrm>
            <a:off x="1752480" y="2460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"/>
          <p:cNvPicPr/>
          <p:nvPr/>
        </p:nvPicPr>
        <p:blipFill>
          <a:blip r:embed="rId7"/>
          <a:stretch/>
        </p:blipFill>
        <p:spPr>
          <a:xfrm>
            <a:off x="1219320" y="299412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13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315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17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19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21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323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DCE7-6C32-494E-934E-B4D9F8D90BB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DBF0-2B37-4437-A408-A29D4E1DA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2" descr="Thumbnail"/>
          <p:cNvPicPr/>
          <p:nvPr/>
        </p:nvPicPr>
        <p:blipFill>
          <a:blip r:embed="rId1"/>
          <a:stretch/>
        </p:blipFill>
        <p:spPr>
          <a:xfrm>
            <a:off x="3048120" y="0"/>
            <a:ext cx="606744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Freeform 3"/>
          <p:cNvSpPr/>
          <p:nvPr/>
        </p:nvSpPr>
        <p:spPr>
          <a:xfrm>
            <a:off x="5867280" y="762120"/>
            <a:ext cx="3048120" cy="2286000"/>
          </a:xfrm>
          <a:custGeom>
            <a:avLst/>
            <a:gdLst/>
            <a:ahLst/>
            <a:rect l="l" t="t" r="r" b="b"/>
            <a:pathLst>
              <a:path w="1448" h="1440">
                <a:moveTo>
                  <a:pt x="120" y="1344"/>
                </a:moveTo>
                <a:cubicBezTo>
                  <a:pt x="180" y="1128"/>
                  <a:pt x="240" y="912"/>
                  <a:pt x="264" y="720"/>
                </a:cubicBezTo>
                <a:cubicBezTo>
                  <a:pt x="288" y="528"/>
                  <a:pt x="304" y="288"/>
                  <a:pt x="264" y="192"/>
                </a:cubicBezTo>
                <a:cubicBezTo>
                  <a:pt x="224" y="96"/>
                  <a:pt x="48" y="48"/>
                  <a:pt x="24" y="144"/>
                </a:cubicBezTo>
                <a:cubicBezTo>
                  <a:pt x="0" y="240"/>
                  <a:pt x="40" y="664"/>
                  <a:pt x="120" y="768"/>
                </a:cubicBezTo>
                <a:cubicBezTo>
                  <a:pt x="200" y="872"/>
                  <a:pt x="416" y="872"/>
                  <a:pt x="504" y="768"/>
                </a:cubicBezTo>
                <a:cubicBezTo>
                  <a:pt x="592" y="664"/>
                  <a:pt x="664" y="256"/>
                  <a:pt x="648" y="144"/>
                </a:cubicBezTo>
                <a:cubicBezTo>
                  <a:pt x="632" y="32"/>
                  <a:pt x="448" y="24"/>
                  <a:pt x="408" y="96"/>
                </a:cubicBezTo>
                <a:cubicBezTo>
                  <a:pt x="368" y="168"/>
                  <a:pt x="368" y="448"/>
                  <a:pt x="408" y="576"/>
                </a:cubicBezTo>
                <a:cubicBezTo>
                  <a:pt x="448" y="704"/>
                  <a:pt x="560" y="864"/>
                  <a:pt x="648" y="864"/>
                </a:cubicBezTo>
                <a:cubicBezTo>
                  <a:pt x="736" y="864"/>
                  <a:pt x="888" y="712"/>
                  <a:pt x="936" y="576"/>
                </a:cubicBezTo>
                <a:cubicBezTo>
                  <a:pt x="984" y="440"/>
                  <a:pt x="960" y="88"/>
                  <a:pt x="936" y="48"/>
                </a:cubicBezTo>
                <a:cubicBezTo>
                  <a:pt x="912" y="8"/>
                  <a:pt x="784" y="200"/>
                  <a:pt x="792" y="336"/>
                </a:cubicBezTo>
                <a:cubicBezTo>
                  <a:pt x="800" y="472"/>
                  <a:pt x="888" y="800"/>
                  <a:pt x="984" y="864"/>
                </a:cubicBezTo>
                <a:cubicBezTo>
                  <a:pt x="1080" y="928"/>
                  <a:pt x="1296" y="848"/>
                  <a:pt x="1368" y="720"/>
                </a:cubicBezTo>
                <a:cubicBezTo>
                  <a:pt x="1440" y="592"/>
                  <a:pt x="1448" y="192"/>
                  <a:pt x="1416" y="96"/>
                </a:cubicBezTo>
                <a:cubicBezTo>
                  <a:pt x="1384" y="0"/>
                  <a:pt x="1224" y="56"/>
                  <a:pt x="1176" y="144"/>
                </a:cubicBezTo>
                <a:cubicBezTo>
                  <a:pt x="1128" y="232"/>
                  <a:pt x="1136" y="408"/>
                  <a:pt x="1128" y="624"/>
                </a:cubicBezTo>
                <a:cubicBezTo>
                  <a:pt x="1120" y="840"/>
                  <a:pt x="1124" y="1140"/>
                  <a:pt x="1128" y="1440"/>
                </a:cubicBezTo>
              </a:path>
            </a:pathLst>
          </a:custGeom>
          <a:noFill/>
          <a:ln w="76320">
            <a:solidFill>
              <a:srgbClr val="969696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reeform 4"/>
          <p:cNvSpPr/>
          <p:nvPr/>
        </p:nvSpPr>
        <p:spPr>
          <a:xfrm rot="20838000">
            <a:off x="4619160" y="2774880"/>
            <a:ext cx="1130400" cy="2895840"/>
          </a:xfrm>
          <a:custGeom>
            <a:avLst/>
            <a:gdLst>
              <a:gd name="textAreaLeft" fmla="*/ 0 w 1130400"/>
              <a:gd name="textAreaRight" fmla="*/ 1130400 w 11304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5" descr="MMj03368490000[1]"/>
          <p:cNvPicPr/>
          <p:nvPr/>
        </p:nvPicPr>
        <p:blipFill>
          <a:blip r:embed="rId2"/>
          <a:stretch/>
        </p:blipFill>
        <p:spPr>
          <a:xfrm>
            <a:off x="3429000" y="14479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j0236489"/>
          <p:cNvPicPr/>
          <p:nvPr/>
        </p:nvPicPr>
        <p:blipFill>
          <a:blip r:embed="rId3"/>
          <a:stretch/>
        </p:blipFill>
        <p:spPr>
          <a:xfrm>
            <a:off x="0" y="28195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j0285247"/>
          <p:cNvPicPr/>
          <p:nvPr/>
        </p:nvPicPr>
        <p:blipFill>
          <a:blip r:embed="rId4"/>
          <a:stretch/>
        </p:blipFill>
        <p:spPr>
          <a:xfrm>
            <a:off x="0" y="74520"/>
            <a:ext cx="3048120" cy="2745000"/>
          </a:xfrm>
          <a:prstGeom prst="rect">
            <a:avLst/>
          </a:prstGeom>
          <a:ln w="0">
            <a:noFill/>
          </a:ln>
        </p:spPr>
      </p:pic>
      <p:sp>
        <p:nvSpPr>
          <p:cNvPr id="439" name="Freeform 8"/>
          <p:cNvSpPr/>
          <p:nvPr/>
        </p:nvSpPr>
        <p:spPr>
          <a:xfrm rot="10800000">
            <a:off x="3047760" y="3142800"/>
            <a:ext cx="1143000" cy="2514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514600"/>
              <a:gd name="textAreaBottom" fmla="*/ 2514600 h 251460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9" descr="MMj02835840000[1]"/>
          <p:cNvPicPr/>
          <p:nvPr/>
        </p:nvPicPr>
        <p:blipFill>
          <a:blip r:embed="rId5"/>
          <a:stretch/>
        </p:blipFill>
        <p:spPr>
          <a:xfrm>
            <a:off x="3581280" y="4896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0" descr=""/>
          <p:cNvPicPr/>
          <p:nvPr/>
        </p:nvPicPr>
        <p:blipFill>
          <a:blip r:embed="rId6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1" descr=""/>
          <p:cNvPicPr/>
          <p:nvPr/>
        </p:nvPicPr>
        <p:blipFill>
          <a:blip r:embed="rId7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2" descr=""/>
          <p:cNvPicPr/>
          <p:nvPr/>
        </p:nvPicPr>
        <p:blipFill>
          <a:blip r:embed="rId8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3" descr=""/>
          <p:cNvPicPr/>
          <p:nvPr/>
        </p:nvPicPr>
        <p:blipFill>
          <a:blip r:embed="rId9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4" descr=""/>
          <p:cNvPicPr/>
          <p:nvPr/>
        </p:nvPicPr>
        <p:blipFill>
          <a:blip r:embed="rId10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5" descr=""/>
          <p:cNvPicPr/>
          <p:nvPr/>
        </p:nvPicPr>
        <p:blipFill>
          <a:blip r:embed="rId11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6" descr=""/>
          <p:cNvPicPr/>
          <p:nvPr/>
        </p:nvPicPr>
        <p:blipFill>
          <a:blip r:embed="rId12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"/>
          <p:cNvPicPr/>
          <p:nvPr/>
        </p:nvPicPr>
        <p:blipFill>
          <a:blip r:embed="rId13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Electrici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9"/>
          <p:cNvSpPr/>
          <p:nvPr/>
        </p:nvSpPr>
        <p:spPr>
          <a:xfrm>
            <a:off x="6704640" y="152280"/>
            <a:ext cx="203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8080"/>
                </a:solidFill>
                <a:latin typeface="Arial"/>
              </a:rPr>
              <a:t>fila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4861 C 0.00069 -0.15671 0.00017 -0.1669 0.00434 -0.17315 C 0.00677 -0.17685 0.01007 -0.1787 0.01336 -0.18102 C 0.01788 -0.19491 0.02187 -0.20092 0.02968 -0.21319 C 0.03246 -0.21713 0.03715 -0.22245 0.03871 -0.22685 C 0.04288 -0.23958 0.03993 -0.23333 0.04757 -0.24537 C 0.04843 -0.24676 0.04843 -0.24861 0.04913 -0.25 C 0.05139 -0.2544 0.05468 -0.25903 0.05659 -0.26366 C 0.05798 -0.26667 0.05955 -0.27292 0.05955 -0.27268 C 0.06111 -0.2919 0.0625 -0.29815 0.05955 -0.31898 C 0.05868 -0.3243 0.04757 -0.32963 0.04757 -0.3294 C 0.0434 -0.33634 0.03646 -0.33889 0.02968 -0.34352 C 0.02795 -0.34467 0.02691 -0.34676 0.02534 -0.34792 C 0.02239 -0.35023 0.01632 -0.35417 0.01632 -0.35393 C 0.00833 -0.36643 0.01875 -0.35162 0.00885 -0.3618 C -0.00104 -0.37199 0.01336 -0.36134 0.00139 -0.36944 C -0.00209 -0.38032 0.00017 -0.37592 -0.00452 -0.38333 C -0.0033 -0.41643 -0.00122 -0.44977 0.00139 -0.48287 C 0.00364 -0.51111 0.00017 -0.4993 0.00434 -0.51204 C 0.00382 -0.51967 0.00451 -0.52755 0.00295 -0.53495 C 0.00034 -0.54583 -0.00556 -0.54375 -0.01198 -0.55046 C -0.02223 -0.56065 -0.03733 -0.55833 -0.05087 -0.55949 C -0.06736 -0.56088 -0.08334 -0.5625 -0.1 -0.5625 E">
                                      <p:cBhvr>
                                        <p:cTn id="329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91 -0.01111 C -0.00122 -0.00949 -0.00417 -0.00764 -0.00729 -0.00579 C -0.00886 -0.00486 -0.00903 -0.00278 -0.01042 -0.00139 C -0.01181 -0.00023 -0.01337 0.00046 -0.01493 0.00139 C -0.01598 0.00278 -0.0165 0.00486 -0.01806 0.00579 C -0.02084 0.00741 -0.02726 0.00856 -0.02726 0.0088 C -0.03368 0.01759 -0.04514 0.02245 -0.0533 0.03009 C -0.0566 0.03912 -0.05729 0.04051 -0.06563 0.04583 C -0.06667 0.04722 -0.06736 0.04907 -0.06875 0.05023 C -0.07153 0.05231 -0.07795 0.05579 -0.07795 0.05602 C -0.08282 0.0625 -0.08924 0.07569 -0.09636 0.08032 C -0.09844 0.08565 -0.10104 0.08889 -0.10556 0.09305 C -0.10608 0.09444 -0.10712 0.09606 -0.10712 0.09745 C -0.10712 0.12662 -0.1125 0.1294 -0.09028 0.13472 C -0.08212 0.14236 -0.0783 0.15324 -0.06875 0.1588 C -0.06615 0.16296 -0.06354 0.16667 -0.06111 0.1706 C -0.05955 0.17268 -0.05625 0.18773 -0.05486 0.19167 C -0.05608 0.20185 -0.05851 0.2118 -0.06407 0.22037 C -0.06702 0.22477 -0.07448 0.23217 -0.07639 0.23773 C -0.07917 0.2456 -0.08351 0.25116 -0.08872 0.25764 C -0.09254 0.26875 -0.08733 0.25509 -0.09323 0.2662 C -0.09462 0.26875 -0.09566 0.27407 -0.09636 0.27639 C -0.09723 0.27917 -0.09948 0.28495 -0.09948 0.28518 C -0.09879 0.29282 -0.09983 0.30602 -0.09323 0.31366 C -0.08959 0.31805 -0.0816 0.32083 -0.07639 0.32384 C -0.06563 0.3294 -0.05608 0.33194 -0.0441 0.33495 C -0.03889 0.33657 -0.0342 0.34005 -0.02882 0.34074 C -0.02066 0.34213 -0.01233 0.3419 -0.00417 0.34213 C -0.00261 0.34305 -0.00104 0.34375 0.00034 0.34514 C 0.00173 0.34653 0.00208 0.34815 0.00347 0.3493 C 0.00468 0.35023 0.00816 0.35116 0.00816 0.35139 E">
                                      <p:cBhvr>
                                        <p:cTn id="331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69 -0.15972 C 0.00069 -0.16759 0.00017 -0.17755 0.00434 -0.1838 C 0.00659 -0.18727 0.00989 -0.18912 0.01336 -0.1912 C 0.01771 -0.20486 0.02187 -0.21065 0.02968 -0.22245 C 0.03229 -0.22639 0.03698 -0.23171 0.03871 -0.23588 C 0.04271 -0.24838 0.03975 -0.24213 0.04757 -0.2537 C 0.04843 -0.25509 0.04843 -0.25694 0.04896 -0.25833 C 0.05139 -0.26273 0.05451 -0.26713 0.05659 -0.27176 C 0.05781 -0.27454 0.05955 -0.28055 0.05955 -0.28032 C 0.06093 -0.29907 0.0625 -0.30509 0.05955 -0.32546 C 0.05868 -0.33079 0.04757 -0.33588 0.04757 -0.33565 C 0.04323 -0.34236 0.03628 -0.34491 0.02968 -0.3493 C 0.02777 -0.35046 0.02691 -0.35255 0.02517 -0.3537 C 0.02239 -0.35602 0.01632 -0.35972 0.01632 -0.35949 C 0.00833 -0.37176 0.01875 -0.35717 0.00868 -0.36713 C -0.00122 -0.37708 0.01336 -0.36667 0.00139 -0.37454 C -0.00209 -0.38518 0.00017 -0.38102 -0.00469 -0.38796 C -0.00348 -0.42037 -0.00139 -0.45278 0.00139 -0.48495 C 0.00364 -0.5125 0.00017 -0.50092 0.00434 -0.51342 C 0.00382 -0.52083 0.00451 -0.52847 0.00277 -0.53565 C 0.00034 -0.5463 -0.00556 -0.54421 -0.01198 -0.55069 C -0.02223 -0.56088 -0.03733 -0.55856 -0.05104 -0.55972 C -0.06754 -0.56088 -0.08334 -0.5625 -0.1 -0.5625 E">
                                      <p:cBhvr>
                                        <p:cTn id="333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1134 C 0.00086 -0.00949 -0.00226 -0.00741 -0.00539 -0.00533 C -0.00695 -0.0044 -0.00712 -0.00208 -0.00851 -0.00093 C -0.0099 0.00046 -0.01164 0.00116 -0.0132 0.00231 C -0.01424 0.0037 -0.01476 0.00579 -0.01632 0.00671 C -0.0191 0.00856 -0.0257 0.00972 -0.0257 0.00995 C -0.03229 0.01944 -0.04393 0.02454 -0.05226 0.03264 C -0.05556 0.04213 -0.05625 0.04375 -0.06476 0.0493 C -0.0658 0.05092 -0.0665 0.05278 -0.06789 0.05393 C -0.07066 0.05625 -0.07726 0.05995 -0.07726 0.06018 C -0.08229 0.06736 -0.08872 0.08102 -0.09601 0.08588 C -0.09809 0.0919 -0.1007 0.09491 -0.10539 0.09954 C -0.10591 0.10116 -0.10695 0.10255 -0.10695 0.10417 C -0.10695 0.13542 -0.1125 0.13796 -0.08976 0.14375 C -0.08143 0.15185 -0.07761 0.16319 -0.06789 0.16944 C -0.06528 0.17361 -0.06268 0.17755 -0.06007 0.18171 C -0.05851 0.18426 -0.05521 0.20023 -0.05382 0.2044 C -0.05504 0.21505 -0.05747 0.22546 -0.0632 0.23495 C -0.06615 0.23958 -0.07379 0.24745 -0.0757 0.25324 C -0.07848 0.26134 -0.08299 0.26759 -0.0882 0.27454 C -0.09219 0.28588 -0.08681 0.27176 -0.09289 0.28356 C -0.09427 0.28611 -0.09532 0.2919 -0.09601 0.29421 C -0.09688 0.29722 -0.09914 0.30324 -0.09914 0.30347 C -0.09844 0.3118 -0.09948 0.32569 -0.09289 0.3338 C -0.08907 0.33842 -0.08091 0.34143 -0.0757 0.34444 C -0.06476 0.35046 -0.05504 0.35324 -0.04289 0.35648 C -0.0375 0.3581 -0.03282 0.3618 -0.02726 0.36273 C -0.01893 0.36389 -0.01059 0.36366 -0.00226 0.36412 C -0.0007 0.36505 0.00104 0.36574 0.00243 0.36713 C 0.00382 0.36852 0.00416 0.3706 0.00555 0.37176 C 0.00677 0.37268 0.01024 0.37338 0.01024 0.37361 E">
                                      <p:cBhvr>
                                        <p:cTn id="335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2222 C 0.00086 -0.0206 -0.00226 -0.01852 -0.00539 -0.0162 C -0.00695 -0.01528 -0.00712 -0.01296 -0.00851 -0.01181 C -0.0099 -0.01019 -0.01164 -0.00972 -0.0132 -0.00833 C -0.01424 -0.00695 -0.01476 -0.00486 -0.01632 -0.0037 C -0.0191 -0.00185 -0.0257 -0.0007 -0.0257 -0.00046 C -0.03229 0.00903 -0.04393 0.01458 -0.05226 0.02268 C -0.05556 0.03264 -0.05625 0.03403 -0.06476 0.04005 C -0.0658 0.04167 -0.0665 0.04352 -0.06789 0.04467 C -0.07066 0.04699 -0.07726 0.05092 -0.07726 0.05116 C -0.08229 0.05856 -0.08872 0.07245 -0.09601 0.07731 C -0.09809 0.08356 -0.1007 0.0868 -0.10539 0.09167 C -0.10591 0.09305 -0.10695 0.09467 -0.10695 0.0963 C -0.10695 0.12847 -0.1125 0.13102 -0.08976 0.13704 C -0.08143 0.14537 -0.07761 0.15694 -0.06789 0.16342 C -0.06528 0.16782 -0.06268 0.17176 -0.06007 0.17616 C -0.05851 0.1787 -0.05521 0.19514 -0.05382 0.1993 C -0.05504 0.21042 -0.05747 0.22106 -0.0632 0.23079 C -0.06615 0.23565 -0.07379 0.24375 -0.0757 0.24954 C -0.07848 0.2581 -0.08299 0.26435 -0.0882 0.27153 C -0.09219 0.2831 -0.08681 0.26875 -0.09289 0.28079 C -0.09427 0.28333 -0.09532 0.28935 -0.09601 0.2919 C -0.09688 0.29491 -0.09914 0.30116 -0.09914 0.30139 C -0.09844 0.30995 -0.09948 0.32407 -0.09289 0.33264 C -0.08907 0.33727 -0.08091 0.34028 -0.0757 0.34329 C -0.06476 0.34954 -0.05504 0.35231 -0.04289 0.35579 C -0.0375 0.35764 -0.03282 0.36111 -0.02726 0.36227 C -0.01893 0.36342 -0.01059 0.36319 -0.00226 0.36366 C -0.0007 0.36458 0.00104 0.36528 0.00243 0.3669 C 0.00382 0.36805 0.00416 0.37037 0.00555 0.37153 C 0.00677 0.37245 0.01024 0.37338 0.01024 0.37361 E">
                                      <p:cBhvr>
                                        <p:cTn id="337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8889 C 0.00069 -0.1963 0.00017 -0.20556 0.00434 -0.21111 C 0.00677 -0.21458 0.01007 -0.2162 0.01336 -0.21829 C 0.01788 -0.23079 0.02187 -0.23634 0.02968 -0.24722 C 0.03246 -0.25093 0.03715 -0.25556 0.03871 -0.25972 C 0.04288 -0.27107 0.03993 -0.26551 0.04757 -0.27639 C 0.04843 -0.27755 0.04843 -0.27917 0.04913 -0.28056 C 0.05139 -0.28449 0.05468 -0.28866 0.05659 -0.29283 C 0.05798 -0.2956 0.05955 -0.30116 0.05955 -0.30093 C 0.06111 -0.31829 0.0625 -0.32408 0.05955 -0.34283 C 0.05868 -0.34769 0.04757 -0.35232 0.04757 -0.35208 C 0.0434 -0.35857 0.03646 -0.36088 0.02968 -0.36505 C 0.02795 -0.36597 0.02691 -0.36783 0.02534 -0.36898 C 0.02239 -0.37107 0.01632 -0.37454 0.01632 -0.37431 C 0.00833 -0.38565 0.01875 -0.37222 0.00885 -0.38148 C -0.00104 -0.39074 0.01336 -0.38102 0.00139 -0.38843 C -0.00209 -0.39815 0.00017 -0.39421 -0.00452 -0.40093 C -0.0033 -0.43079 -0.00122 -0.46088 0.00139 -0.49074 C 0.00364 -0.5162 0.00017 -0.50556 0.00434 -0.51713 C 0.00382 -0.52408 0.00451 -0.53102 0.00295 -0.53773 C 0.00034 -0.54769 -0.00556 -0.5456 -0.01198 -0.55185 C -0.02223 -0.56088 -0.03733 -0.5588 -0.05087 -0.55995 C -0.06736 -0.56111 -0.08334 -0.5625 -0.1 -0.5625 E">
                                      <p:cBhvr>
                                        <p:cTn id="339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341" dur="5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343" dur="5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1" descr="istockphoto_3580732_western_hat_and_boots"/>
          <p:cNvPicPr/>
          <p:nvPr/>
        </p:nvPicPr>
        <p:blipFill>
          <a:blip r:embed="rId1"/>
          <a:stretch/>
        </p:blipFill>
        <p:spPr>
          <a:xfrm>
            <a:off x="3200400" y="1197000"/>
            <a:ext cx="4038480" cy="26892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2"/>
          <p:cNvSpPr/>
          <p:nvPr/>
        </p:nvSpPr>
        <p:spPr>
          <a:xfrm>
            <a:off x="685800" y="-13563720"/>
            <a:ext cx="8001000" cy="156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Georgia Ref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roduced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irected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riginal Story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creenpla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nginee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hoto enhancement 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asting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dito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ustom animation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Location manage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pecial Effects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Field research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Courier New"/>
              </a:rPr>
              <a:t>©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200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Jacob (Cowboy) Israe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2" descr="panther4"/>
          <p:cNvPicPr/>
          <p:nvPr/>
        </p:nvPicPr>
        <p:blipFill>
          <a:blip r:embed="rId2"/>
          <a:srcRect l="0" t="0" r="0" b="2635"/>
          <a:stretch/>
        </p:blipFill>
        <p:spPr>
          <a:xfrm>
            <a:off x="3413160" y="3962520"/>
            <a:ext cx="2149560" cy="2819160"/>
          </a:xfrm>
          <a:prstGeom prst="rect">
            <a:avLst/>
          </a:prstGeom>
          <a:ln w="0">
            <a:noFill/>
          </a:ln>
        </p:spPr>
      </p:pic>
      <p:sp>
        <p:nvSpPr>
          <p:cNvPr id="454" name="WordArt 3"/>
          <p:cNvSpPr txBox="1"/>
          <p:nvPr/>
        </p:nvSpPr>
        <p:spPr>
          <a:xfrm>
            <a:off x="609480" y="5486400"/>
            <a:ext cx="784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Kartika"/>
              </a:rPr>
              <a:t>Panther Produ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Kartika"/>
              <a:ea typeface="Kartik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4483800" y="1564920"/>
            <a:ext cx="17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9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9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steam-train-south-africa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22888647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419720" y="57240"/>
            <a:ext cx="4724280" cy="6800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235080" y="685800"/>
            <a:ext cx="3803400" cy="571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4952880" y="152280"/>
            <a:ext cx="36021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653760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42176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45768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34184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5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6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5562720" y="106668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3352680" y="1752480"/>
            <a:ext cx="533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838080" y="4114800"/>
            <a:ext cx="533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 flipV="1">
            <a:off x="1371600" y="41907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3886200" y="18284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 flipV="1">
            <a:off x="6019920" y="1142640"/>
            <a:ext cx="0" cy="6094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"/>
          <p:cNvPicPr/>
          <p:nvPr/>
        </p:nvPicPr>
        <p:blipFill>
          <a:blip r:embed="rId8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0" descr=""/>
          <p:cNvPicPr/>
          <p:nvPr/>
        </p:nvPicPr>
        <p:blipFill>
          <a:blip r:embed="rId9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1" descr=""/>
          <p:cNvPicPr/>
          <p:nvPr/>
        </p:nvPicPr>
        <p:blipFill>
          <a:blip r:embed="rId10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2" descr=""/>
          <p:cNvPicPr/>
          <p:nvPr/>
        </p:nvPicPr>
        <p:blipFill>
          <a:blip r:embed="rId11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"/>
          <p:cNvPicPr/>
          <p:nvPr/>
        </p:nvPicPr>
        <p:blipFill>
          <a:blip r:embed="rId12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"/>
          <p:cNvPicPr/>
          <p:nvPr/>
        </p:nvPicPr>
        <p:blipFill>
          <a:blip r:embed="rId13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5" descr=""/>
          <p:cNvPicPr/>
          <p:nvPr/>
        </p:nvPicPr>
        <p:blipFill>
          <a:blip r:embed="rId14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xit" presetID="31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1">
                                  <p:stCondLst>
                                    <p:cond delay="13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48" dur="6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0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52" dur="6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4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56" dur="6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8" dur="5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60" dur="6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62" dur="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64" dur="6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66" dur="5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97"/>
          <p:cNvSpPr/>
          <p:nvPr/>
        </p:nvSpPr>
        <p:spPr>
          <a:xfrm rot="5400000">
            <a:off x="3924000" y="-799920"/>
            <a:ext cx="304920" cy="7696080"/>
          </a:xfrm>
          <a:prstGeom prst="can">
            <a:avLst>
              <a:gd name="adj" fmla="val 168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5"/>
          <p:cNvSpPr/>
          <p:nvPr/>
        </p:nvSpPr>
        <p:spPr>
          <a:xfrm>
            <a:off x="6172200" y="3048120"/>
            <a:ext cx="17524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4"/>
          <p:cNvSpPr/>
          <p:nvPr/>
        </p:nvSpPr>
        <p:spPr>
          <a:xfrm>
            <a:off x="304920" y="3048120"/>
            <a:ext cx="17524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93"/>
          <p:cNvSpPr/>
          <p:nvPr/>
        </p:nvSpPr>
        <p:spPr>
          <a:xfrm>
            <a:off x="2286000" y="1295280"/>
            <a:ext cx="3657600" cy="3656160"/>
          </a:xfrm>
          <a:custGeom>
            <a:avLst/>
            <a:gdLst>
              <a:gd name="textAreaLeft" fmla="*/ 535320 w 3657600"/>
              <a:gd name="textAreaRight" fmla="*/ 3122280 w 3657600"/>
              <a:gd name="textAreaTop" fmla="*/ 535320 h 3656160"/>
              <a:gd name="textAreaBottom" fmla="*/ 3120840 h 365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59" y="10800"/>
                </a:moveTo>
                <a:cubicBezTo>
                  <a:pt x="1359" y="16014"/>
                  <a:pt x="5586" y="20241"/>
                  <a:pt x="10800" y="20241"/>
                </a:cubicBezTo>
                <a:cubicBezTo>
                  <a:pt x="16014" y="20241"/>
                  <a:pt x="20241" y="16014"/>
                  <a:pt x="20241" y="10800"/>
                </a:cubicBezTo>
                <a:cubicBezTo>
                  <a:pt x="20241" y="5586"/>
                  <a:pt x="16014" y="1359"/>
                  <a:pt x="10800" y="1359"/>
                </a:cubicBezTo>
                <a:cubicBezTo>
                  <a:pt x="5586" y="1359"/>
                  <a:pt x="1359" y="5586"/>
                  <a:pt x="1359" y="10800"/>
                </a:cubicBezTo>
                <a:close/>
              </a:path>
            </a:pathLst>
          </a:custGeom>
          <a:solidFill>
            <a:srgbClr val="e6ce74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94"/>
          <p:cNvSpPr/>
          <p:nvPr/>
        </p:nvSpPr>
        <p:spPr>
          <a:xfrm>
            <a:off x="2135160" y="1143000"/>
            <a:ext cx="3960720" cy="3962520"/>
          </a:xfrm>
          <a:custGeom>
            <a:avLst/>
            <a:gdLst>
              <a:gd name="textAreaLeft" fmla="*/ 579960 w 3960720"/>
              <a:gd name="textAreaRight" fmla="*/ 3380760 w 3960720"/>
              <a:gd name="textAreaTop" fmla="*/ 579960 h 3962520"/>
              <a:gd name="textAreaBottom" fmla="*/ 338256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95"/>
          <p:cNvSpPr/>
          <p:nvPr/>
        </p:nvSpPr>
        <p:spPr>
          <a:xfrm>
            <a:off x="2211480" y="1219320"/>
            <a:ext cx="3808440" cy="3809880"/>
          </a:xfrm>
          <a:custGeom>
            <a:avLst/>
            <a:gdLst>
              <a:gd name="textAreaLeft" fmla="*/ 557640 w 3808440"/>
              <a:gd name="textAreaRight" fmla="*/ 3250800 w 3808440"/>
              <a:gd name="textAreaTop" fmla="*/ 557640 h 3809880"/>
              <a:gd name="textAreaBottom" fmla="*/ 325224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96"/>
          <p:cNvSpPr/>
          <p:nvPr/>
        </p:nvSpPr>
        <p:spPr>
          <a:xfrm>
            <a:off x="2133720" y="1143000"/>
            <a:ext cx="3884400" cy="3962520"/>
          </a:xfrm>
          <a:custGeom>
            <a:avLst/>
            <a:gdLst>
              <a:gd name="textAreaLeft" fmla="*/ 568800 w 3884400"/>
              <a:gd name="textAreaRight" fmla="*/ 3315600 w 3884400"/>
              <a:gd name="textAreaTop" fmla="*/ 579960 h 3962520"/>
              <a:gd name="textAreaBottom" fmla="*/ 338256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rc 98"/>
          <p:cNvSpPr/>
          <p:nvPr/>
        </p:nvSpPr>
        <p:spPr>
          <a:xfrm rot="1986600">
            <a:off x="594324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rc 99"/>
          <p:cNvSpPr/>
          <p:nvPr/>
        </p:nvSpPr>
        <p:spPr>
          <a:xfrm rot="1986600">
            <a:off x="601956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rc 100"/>
          <p:cNvSpPr/>
          <p:nvPr/>
        </p:nvSpPr>
        <p:spPr>
          <a:xfrm rot="1986600">
            <a:off x="609552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rc 101"/>
          <p:cNvSpPr/>
          <p:nvPr/>
        </p:nvSpPr>
        <p:spPr>
          <a:xfrm flipH="1" flipV="1" rot="1986600">
            <a:off x="1828440" y="2894400"/>
            <a:ext cx="287280" cy="303480"/>
          </a:xfrm>
          <a:custGeom>
            <a:avLst/>
            <a:gdLst>
              <a:gd name="textAreaLeft" fmla="*/ 360 w 287280"/>
              <a:gd name="textAreaRight" fmla="*/ 288000 w 287280"/>
              <a:gd name="textAreaTop" fmla="*/ -360 h 303480"/>
              <a:gd name="textAreaBottom" fmla="*/ 303480 h 30348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rc 102"/>
          <p:cNvSpPr/>
          <p:nvPr/>
        </p:nvSpPr>
        <p:spPr>
          <a:xfrm flipH="1" flipV="1" rot="1986600">
            <a:off x="1899720" y="2897640"/>
            <a:ext cx="306720" cy="310320"/>
          </a:xfrm>
          <a:custGeom>
            <a:avLst/>
            <a:gdLst>
              <a:gd name="textAreaLeft" fmla="*/ 360 w 306720"/>
              <a:gd name="textAreaRight" fmla="*/ 307440 w 306720"/>
              <a:gd name="textAreaTop" fmla="*/ 360 h 310320"/>
              <a:gd name="textAreaBottom" fmla="*/ 311040 h 31032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rc 103"/>
          <p:cNvSpPr/>
          <p:nvPr/>
        </p:nvSpPr>
        <p:spPr>
          <a:xfrm flipH="1" flipV="1" rot="1986600">
            <a:off x="1978560" y="2896920"/>
            <a:ext cx="301680" cy="307800"/>
          </a:xfrm>
          <a:custGeom>
            <a:avLst/>
            <a:gdLst>
              <a:gd name="textAreaLeft" fmla="*/ 360 w 301680"/>
              <a:gd name="textAreaRight" fmla="*/ 302400 w 301680"/>
              <a:gd name="textAreaTop" fmla="*/ -360 h 307800"/>
              <a:gd name="textAreaBottom" fmla="*/ 307800 h 3078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6"/>
          <p:cNvSpPr/>
          <p:nvPr/>
        </p:nvSpPr>
        <p:spPr>
          <a:xfrm flipH="1" flipV="1">
            <a:off x="1142640" y="3123720"/>
            <a:ext cx="1143000" cy="3124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7"/>
          <p:cNvSpPr/>
          <p:nvPr/>
        </p:nvSpPr>
        <p:spPr>
          <a:xfrm flipV="1">
            <a:off x="5105520" y="3200400"/>
            <a:ext cx="1143000" cy="2362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08"/>
          <p:cNvSpPr/>
          <p:nvPr/>
        </p:nvSpPr>
        <p:spPr>
          <a:xfrm>
            <a:off x="2153880" y="617220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lued onto bottom half of sti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9"/>
          <p:cNvSpPr/>
          <p:nvPr/>
        </p:nvSpPr>
        <p:spPr>
          <a:xfrm>
            <a:off x="5811840" y="45720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 coil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vered with g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0"/>
          <p:cNvSpPr/>
          <p:nvPr/>
        </p:nvSpPr>
        <p:spPr>
          <a:xfrm flipV="1">
            <a:off x="5486400" y="3124080"/>
            <a:ext cx="2133720" cy="3200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12"/>
          <p:cNvSpPr/>
          <p:nvPr/>
        </p:nvSpPr>
        <p:spPr>
          <a:xfrm flipH="1">
            <a:off x="5790960" y="914400"/>
            <a:ext cx="60948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13"/>
          <p:cNvSpPr/>
          <p:nvPr/>
        </p:nvSpPr>
        <p:spPr>
          <a:xfrm flipH="1" flipV="1">
            <a:off x="1905120" y="3124080"/>
            <a:ext cx="838080" cy="243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6"/>
          <p:cNvSpPr/>
          <p:nvPr/>
        </p:nvSpPr>
        <p:spPr>
          <a:xfrm>
            <a:off x="2567880" y="548640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 ends (strip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17"/>
          <p:cNvSpPr/>
          <p:nvPr/>
        </p:nvSpPr>
        <p:spPr>
          <a:xfrm>
            <a:off x="457200" y="4572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board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18"/>
          <p:cNvSpPr/>
          <p:nvPr/>
        </p:nvSpPr>
        <p:spPr>
          <a:xfrm>
            <a:off x="1573200" y="914400"/>
            <a:ext cx="1017720" cy="1447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19"/>
          <p:cNvSpPr/>
          <p:nvPr/>
        </p:nvSpPr>
        <p:spPr>
          <a:xfrm>
            <a:off x="3276720" y="175248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od sht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20"/>
          <p:cNvSpPr/>
          <p:nvPr/>
        </p:nvSpPr>
        <p:spPr>
          <a:xfrm flipH="1">
            <a:off x="3352680" y="2133720"/>
            <a:ext cx="60984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1"/>
          <p:cNvSpPr/>
          <p:nvPr/>
        </p:nvSpPr>
        <p:spPr>
          <a:xfrm>
            <a:off x="2934720" y="136440"/>
            <a:ext cx="270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Old English Text MT"/>
              </a:rPr>
              <a:t>El Mot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22"/>
          <p:cNvSpPr/>
          <p:nvPr/>
        </p:nvSpPr>
        <p:spPr>
          <a:xfrm>
            <a:off x="5083920" y="76320"/>
            <a:ext cx="29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Old English Text MT"/>
              </a:rPr>
              <a:t>‘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7"/>
          <p:cNvSpPr/>
          <p:nvPr/>
        </p:nvSpPr>
        <p:spPr>
          <a:xfrm>
            <a:off x="648720" y="212760"/>
            <a:ext cx="270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Old English Text MT"/>
              </a:rPr>
              <a:t>El Mot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8"/>
          <p:cNvSpPr/>
          <p:nvPr/>
        </p:nvSpPr>
        <p:spPr>
          <a:xfrm>
            <a:off x="2777400" y="136440"/>
            <a:ext cx="29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Old English Text MT"/>
              </a:rPr>
              <a:t>‘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9" descr=""/>
          <p:cNvPicPr/>
          <p:nvPr/>
        </p:nvPicPr>
        <p:blipFill>
          <a:blip r:embed="rId1"/>
          <a:stretch/>
        </p:blipFill>
        <p:spPr>
          <a:xfrm>
            <a:off x="4497480" y="3124080"/>
            <a:ext cx="4113000" cy="3435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0" descr=""/>
          <p:cNvPicPr/>
          <p:nvPr/>
        </p:nvPicPr>
        <p:blipFill>
          <a:blip r:embed="rId2"/>
          <a:stretch/>
        </p:blipFill>
        <p:spPr>
          <a:xfrm>
            <a:off x="4038480" y="103320"/>
            <a:ext cx="472932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1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610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73"/>
          <p:cNvSpPr/>
          <p:nvPr/>
        </p:nvSpPr>
        <p:spPr>
          <a:xfrm>
            <a:off x="685800" y="2895480"/>
            <a:ext cx="3327480" cy="2514600"/>
          </a:xfrm>
          <a:custGeom>
            <a:avLst/>
            <a:gdLst>
              <a:gd name="textAreaLeft" fmla="*/ 0 w 3327480"/>
              <a:gd name="textAreaRight" fmla="*/ 3327840 w 332748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96" h="1736">
                <a:moveTo>
                  <a:pt x="320" y="0"/>
                </a:moveTo>
                <a:cubicBezTo>
                  <a:pt x="160" y="432"/>
                  <a:pt x="0" y="864"/>
                  <a:pt x="80" y="1152"/>
                </a:cubicBezTo>
                <a:cubicBezTo>
                  <a:pt x="160" y="1440"/>
                  <a:pt x="464" y="1720"/>
                  <a:pt x="800" y="1728"/>
                </a:cubicBezTo>
                <a:cubicBezTo>
                  <a:pt x="1136" y="1736"/>
                  <a:pt x="1616" y="1468"/>
                  <a:pt x="2096" y="12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65"/>
          <p:cNvSpPr/>
          <p:nvPr/>
        </p:nvSpPr>
        <p:spPr>
          <a:xfrm flipV="1">
            <a:off x="1523880" y="3352680"/>
            <a:ext cx="106704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3"/>
          <p:cNvSpPr/>
          <p:nvPr/>
        </p:nvSpPr>
        <p:spPr>
          <a:xfrm rot="5400000">
            <a:off x="2399760" y="3543120"/>
            <a:ext cx="99072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0" descr=""/>
          <p:cNvPicPr/>
          <p:nvPr/>
        </p:nvPicPr>
        <p:blipFill>
          <a:blip r:embed="rId1"/>
          <a:stretch/>
        </p:blipFill>
        <p:spPr>
          <a:xfrm>
            <a:off x="3800520" y="3835440"/>
            <a:ext cx="2600280" cy="7365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26"/>
          <p:cNvSpPr/>
          <p:nvPr/>
        </p:nvSpPr>
        <p:spPr>
          <a:xfrm flipH="1" rot="16200000">
            <a:off x="2590560" y="2819160"/>
            <a:ext cx="152280" cy="457200"/>
          </a:xfrm>
          <a:prstGeom prst="can">
            <a:avLst>
              <a:gd name="adj" fmla="val 1126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23"/>
          <p:cNvSpPr/>
          <p:nvPr/>
        </p:nvSpPr>
        <p:spPr>
          <a:xfrm flipH="1" rot="16200000">
            <a:off x="1636920" y="2857320"/>
            <a:ext cx="2743200" cy="685800"/>
          </a:xfrm>
          <a:prstGeom prst="parallelogram">
            <a:avLst>
              <a:gd name="adj" fmla="val 95611"/>
            </a:avLst>
          </a:prstGeom>
          <a:blipFill rotWithShape="0">
            <a:blip r:embed="rId3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1"/>
          <p:cNvSpPr/>
          <p:nvPr/>
        </p:nvSpPr>
        <p:spPr>
          <a:xfrm>
            <a:off x="2666880" y="3809880"/>
            <a:ext cx="5181840" cy="762120"/>
          </a:xfrm>
          <a:prstGeom prst="parallelogram">
            <a:avLst>
              <a:gd name="adj" fmla="val 100887"/>
            </a:avLst>
          </a:prstGeom>
          <a:blipFill rotWithShape="0">
            <a:blip r:embed="rId4">
              <a:alphaModFix amt="2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5"/>
          <a:stretch/>
        </p:blipFill>
        <p:spPr>
          <a:xfrm>
            <a:off x="2819520" y="1905120"/>
            <a:ext cx="4572000" cy="236052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2"/>
          <p:cNvSpPr/>
          <p:nvPr/>
        </p:nvSpPr>
        <p:spPr>
          <a:xfrm>
            <a:off x="2666880" y="1752480"/>
            <a:ext cx="5181840" cy="762120"/>
          </a:xfrm>
          <a:prstGeom prst="parallelogram">
            <a:avLst>
              <a:gd name="adj" fmla="val 100887"/>
            </a:avLst>
          </a:prstGeom>
          <a:blipFill rotWithShape="0">
            <a:blip r:embed="rId6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24"/>
          <p:cNvSpPr/>
          <p:nvPr/>
        </p:nvSpPr>
        <p:spPr>
          <a:xfrm flipH="1" rot="16200000">
            <a:off x="6056640" y="2857320"/>
            <a:ext cx="2743200" cy="685800"/>
          </a:xfrm>
          <a:prstGeom prst="parallelogram">
            <a:avLst>
              <a:gd name="adj" fmla="val 95611"/>
            </a:avLst>
          </a:prstGeom>
          <a:blipFill rotWithShape="0">
            <a:blip r:embed="rId7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25"/>
          <p:cNvSpPr/>
          <p:nvPr/>
        </p:nvSpPr>
        <p:spPr>
          <a:xfrm rot="5400000">
            <a:off x="7619760" y="2743200"/>
            <a:ext cx="152280" cy="609480"/>
          </a:xfrm>
          <a:prstGeom prst="can">
            <a:avLst>
              <a:gd name="adj" fmla="val 11263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1" descr=""/>
          <p:cNvPicPr/>
          <p:nvPr/>
        </p:nvPicPr>
        <p:blipFill>
          <a:blip r:embed="rId9"/>
          <a:stretch/>
        </p:blipFill>
        <p:spPr>
          <a:xfrm>
            <a:off x="3952800" y="1701720"/>
            <a:ext cx="2600280" cy="736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6"/>
          <p:cNvSpPr/>
          <p:nvPr/>
        </p:nvSpPr>
        <p:spPr>
          <a:xfrm>
            <a:off x="3088440" y="59436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rough bottom of ho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7"/>
          <p:cNvSpPr/>
          <p:nvPr/>
        </p:nvSpPr>
        <p:spPr>
          <a:xfrm>
            <a:off x="914760" y="23623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0"/>
          <p:cNvSpPr/>
          <p:nvPr/>
        </p:nvSpPr>
        <p:spPr>
          <a:xfrm>
            <a:off x="6400800" y="685800"/>
            <a:ext cx="53352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1"/>
          <p:cNvSpPr/>
          <p:nvPr/>
        </p:nvSpPr>
        <p:spPr>
          <a:xfrm>
            <a:off x="5674320" y="2286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2"/>
          <p:cNvSpPr/>
          <p:nvPr/>
        </p:nvSpPr>
        <p:spPr>
          <a:xfrm rot="5400000">
            <a:off x="6971760" y="3543120"/>
            <a:ext cx="99072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4"/>
          <p:cNvSpPr/>
          <p:nvPr/>
        </p:nvSpPr>
        <p:spPr>
          <a:xfrm flipH="1" flipV="1">
            <a:off x="7467480" y="3809520"/>
            <a:ext cx="533520" cy="2133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6"/>
          <p:cNvSpPr/>
          <p:nvPr/>
        </p:nvSpPr>
        <p:spPr>
          <a:xfrm>
            <a:off x="1523880" y="3429000"/>
            <a:ext cx="1600200" cy="2666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67"/>
          <p:cNvSpPr/>
          <p:nvPr/>
        </p:nvSpPr>
        <p:spPr>
          <a:xfrm flipV="1">
            <a:off x="5867280" y="5943240"/>
            <a:ext cx="213372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8"/>
          <p:cNvSpPr/>
          <p:nvPr/>
        </p:nvSpPr>
        <p:spPr>
          <a:xfrm>
            <a:off x="2666880" y="3657600"/>
            <a:ext cx="990720" cy="914400"/>
          </a:xfrm>
          <a:prstGeom prst="rtTriangle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9"/>
          <p:cNvSpPr/>
          <p:nvPr/>
        </p:nvSpPr>
        <p:spPr>
          <a:xfrm rot="10800000">
            <a:off x="6172200" y="2514600"/>
            <a:ext cx="914400" cy="914400"/>
          </a:xfrm>
          <a:prstGeom prst="rtTriangle">
            <a:avLst/>
          </a:prstGeom>
          <a:blipFill rotWithShape="0">
            <a:blip r:embed="rId11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0"/>
          <p:cNvSpPr/>
          <p:nvPr/>
        </p:nvSpPr>
        <p:spPr>
          <a:xfrm rot="5400000">
            <a:off x="2590200" y="2590560"/>
            <a:ext cx="990720" cy="838440"/>
          </a:xfrm>
          <a:prstGeom prst="rtTriangle">
            <a:avLst/>
          </a:prstGeom>
          <a:blipFill rotWithShape="0">
            <a:blip r:embed="rId12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71"/>
          <p:cNvSpPr/>
          <p:nvPr/>
        </p:nvSpPr>
        <p:spPr>
          <a:xfrm rot="16200000">
            <a:off x="6134040" y="3619440"/>
            <a:ext cx="990720" cy="914400"/>
          </a:xfrm>
          <a:prstGeom prst="rtTriangle">
            <a:avLst/>
          </a:prstGeom>
          <a:blipFill rotWithShape="0">
            <a:blip r:embed="rId13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74"/>
          <p:cNvSpPr/>
          <p:nvPr/>
        </p:nvSpPr>
        <p:spPr>
          <a:xfrm flipV="1" rot="476400">
            <a:off x="990360" y="1600200"/>
            <a:ext cx="3124080" cy="914400"/>
          </a:xfrm>
          <a:custGeom>
            <a:avLst/>
            <a:gdLst>
              <a:gd name="textAreaLeft" fmla="*/ 0 w 3124080"/>
              <a:gd name="textAreaRight" fmla="*/ 3124440 w 31240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096" h="1736">
                <a:moveTo>
                  <a:pt x="320" y="0"/>
                </a:moveTo>
                <a:cubicBezTo>
                  <a:pt x="160" y="432"/>
                  <a:pt x="0" y="864"/>
                  <a:pt x="80" y="1152"/>
                </a:cubicBezTo>
                <a:cubicBezTo>
                  <a:pt x="160" y="1440"/>
                  <a:pt x="464" y="1720"/>
                  <a:pt x="800" y="1728"/>
                </a:cubicBezTo>
                <a:cubicBezTo>
                  <a:pt x="1136" y="1736"/>
                  <a:pt x="1616" y="1468"/>
                  <a:pt x="2096" y="12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3" descr=""/>
          <p:cNvPicPr/>
          <p:nvPr/>
        </p:nvPicPr>
        <p:blipFill>
          <a:blip r:embed="rId1"/>
          <a:stretch/>
        </p:blipFill>
        <p:spPr>
          <a:xfrm>
            <a:off x="304920" y="138240"/>
            <a:ext cx="8305560" cy="2833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8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305560" cy="32911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9"/>
          <p:cNvSpPr/>
          <p:nvPr/>
        </p:nvSpPr>
        <p:spPr>
          <a:xfrm>
            <a:off x="8305920" y="990720"/>
            <a:ext cx="380880" cy="12254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4"/>
          <p:cNvSpPr/>
          <p:nvPr/>
        </p:nvSpPr>
        <p:spPr>
          <a:xfrm>
            <a:off x="8305920" y="4419720"/>
            <a:ext cx="380880" cy="16002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23:31Z</dcterms:modified>
  <cp:revision>293</cp:revision>
  <dc:subject/>
  <dc:title>PowerPoint Presentation</dc:title>
</cp:coreProperties>
</file>