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30.gif" ContentType="image/gif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55.gif" ContentType="image/gif"/>
  <Override PartName="/ppt/media/image45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43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64.gif" ContentType="image/gif"/>
  <Override PartName="/ppt/media/image6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21.jpeg" ContentType="image/jpeg"/>
  <Override PartName="/ppt/media/image62.gif" ContentType="image/gif"/>
  <Override PartName="/ppt/media/image72.jpeg" ContentType="image/jpeg"/>
  <Override PartName="/ppt/media/image27.png" ContentType="image/png"/>
  <Override PartName="/ppt/media/image16.jpeg" ContentType="image/jpeg"/>
  <Override PartName="/ppt/media/image60.jpeg" ContentType="image/jpeg"/>
  <Override PartName="/ppt/media/image76.jpeg" ContentType="image/jpeg"/>
  <Override PartName="/ppt/media/image75.jpeg" ContentType="image/jpeg"/>
  <Override PartName="/ppt/media/image68.gif" ContentType="image/gif"/>
  <Override PartName="/ppt/media/image74.jpeg" ContentType="image/jpeg"/>
  <Override PartName="/ppt/media/image31.gif" ContentType="image/gif"/>
  <Override PartName="/ppt/media/image73.jpeg" ContentType="image/jpeg"/>
  <Override PartName="/ppt/media/image24.png" ContentType="image/png"/>
  <Override PartName="/ppt/media/image71.gif" ContentType="image/gif"/>
  <Override PartName="/ppt/media/image29.gif" ContentType="image/gif"/>
  <Override PartName="/ppt/media/image26.jpeg" ContentType="image/jpeg"/>
  <Override PartName="/ppt/media/image67.gif" ContentType="image/gif"/>
  <Override PartName="/ppt/media/image23.png" ContentType="image/png"/>
  <Override PartName="/ppt/media/image70.png" ContentType="image/png"/>
  <Override PartName="/ppt/media/image65.gif" ContentType="image/gif"/>
  <Override PartName="/ppt/media/image32.png" ContentType="image/png"/>
  <Override PartName="/ppt/media/image69.png" ContentType="image/png"/>
  <Override PartName="/ppt/media/image66.gif" ContentType="image/gif"/>
  <Override PartName="/ppt/media/image63.jpeg" ContentType="image/jpeg"/>
  <Override PartName="/ppt/media/image61.png" ContentType="image/png"/>
  <Override PartName="/ppt/media/image15.png" ContentType="image/png"/>
  <Override PartName="/ppt/media/image25.png" ContentType="image/png"/>
  <Override PartName="/ppt/media/image40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8.gif" ContentType="image/gif"/>
  <Override PartName="/ppt/media/image18.png" ContentType="image/png"/>
  <Override PartName="/ppt/media/image42.jpeg" ContentType="image/jpeg"/>
  <Override PartName="/ppt/media/image59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13.jpeg" ContentType="image/jpeg"/>
  <Override PartName="/ppt/media/image77.png" ContentType="image/png"/>
  <Override PartName="/ppt/media/image34.wmf" ContentType="image/x-wmf"/>
  <Override PartName="/ppt/media/image36.png" ContentType="image/png"/>
  <Override PartName="/ppt/media/image3.jpeg" ContentType="image/jpe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A5F019-3437-4182-8B41-A0CC18339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339-D812-4318-BFA4-2208C859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519-C1CA-4DE7-885C-CF672751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865-3461-4B70-A3F5-265F5355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7B6-9AF4-491E-A274-44A0917F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252-B9BA-4987-9109-BED42D5A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75F-1985-4147-8EE4-A6F88EBE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BF8-AB32-4FED-91A1-DB7643B8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971-9E24-4EA7-9B56-20FE12BC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163-5B6A-40A0-9273-C2A786A9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4B5-79F8-47E7-AFF1-845C94A3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B49-840C-4070-BC83-3A20B92E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01E-23E7-465D-B1D9-C4A9F0EA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0E5A-1CDF-4C0B-A886-408B0B7846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3E71-C3E0-4BA2-8DDA-1F00CB10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ror-us-ga1.gallery.hd.org/_exhibits/light/light-bulb-glowing-filament-AHD.jpg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bnlweb/Museum/photos/Science%2520Museum/D0330399.JPEG&amp;imgrefurl=http://www.bnl.gov/bnlweb/Museum/Investigate.html&amp;h=504&amp;w=400&amp;sz=222&amp;hl=en&amp;start=1&amp;um=1&amp;tbnid=IAVf5tE3Wer2PM:&amp;tbnh=130&amp;tbnw=103&amp;prev=/images%3Fq%3Dstatic%2Belectricity%26svnum%3D10%26um%3D1%26hl%3Den%26sa%3DN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www.sitemason.com/files/dqYN6E/generatoredited.JPG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gif"/><Relationship Id="rId4" Type="http://schemas.openxmlformats.org/officeDocument/2006/relationships/image" Target="../media/image63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68.gif"/><Relationship Id="rId5" Type="http://schemas.openxmlformats.org/officeDocument/2006/relationships/image" Target="../media/image71.gif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1.jpeg"/><Relationship Id="rId9" Type="http://schemas.openxmlformats.org/officeDocument/2006/relationships/image" Target="../media/image20.pn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56" descr="19911011%20Gaviota%2036%20Lightning%20Lulu%2011x14%20l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54" descr="lightning-gallery-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8" descr="lightning"/>
          <p:cNvPicPr/>
          <p:nvPr/>
        </p:nvPicPr>
        <p:blipFill>
          <a:blip r:embed="rId3"/>
          <a:srcRect l="6254" t="8667" r="7514" b="11350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533520" y="3809880"/>
            <a:ext cx="7391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958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33333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ectricit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33333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2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390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"/>
          <p:cNvSpPr/>
          <p:nvPr/>
        </p:nvSpPr>
        <p:spPr>
          <a:xfrm>
            <a:off x="3657600" y="4114800"/>
            <a:ext cx="2819520" cy="175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10240" y="5029200"/>
            <a:ext cx="251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6"/>
          <p:cNvSpPr/>
          <p:nvPr/>
        </p:nvSpPr>
        <p:spPr>
          <a:xfrm flipH="1" flipV="1">
            <a:off x="3733920" y="4203720"/>
            <a:ext cx="2590560" cy="673200"/>
          </a:xfrm>
          <a:custGeom>
            <a:avLst/>
            <a:gdLst/>
            <a:ahLst/>
            <a:rect l="l" t="t" r="r" b="b"/>
            <a:pathLst>
              <a:path w="1792" h="536">
                <a:moveTo>
                  <a:pt x="912" y="96"/>
                </a:moveTo>
                <a:cubicBezTo>
                  <a:pt x="760" y="104"/>
                  <a:pt x="512" y="104"/>
                  <a:pt x="384" y="96"/>
                </a:cubicBezTo>
                <a:cubicBezTo>
                  <a:pt x="256" y="88"/>
                  <a:pt x="208" y="16"/>
                  <a:pt x="144" y="48"/>
                </a:cubicBezTo>
                <a:cubicBezTo>
                  <a:pt x="80" y="80"/>
                  <a:pt x="0" y="232"/>
                  <a:pt x="0" y="288"/>
                </a:cubicBezTo>
                <a:cubicBezTo>
                  <a:pt x="0" y="344"/>
                  <a:pt x="32" y="376"/>
                  <a:pt x="144" y="384"/>
                </a:cubicBezTo>
                <a:cubicBezTo>
                  <a:pt x="256" y="392"/>
                  <a:pt x="512" y="336"/>
                  <a:pt x="672" y="336"/>
                </a:cubicBezTo>
                <a:cubicBezTo>
                  <a:pt x="832" y="336"/>
                  <a:pt x="936" y="352"/>
                  <a:pt x="1104" y="384"/>
                </a:cubicBezTo>
                <a:cubicBezTo>
                  <a:pt x="1272" y="416"/>
                  <a:pt x="1568" y="536"/>
                  <a:pt x="1680" y="528"/>
                </a:cubicBezTo>
                <a:cubicBezTo>
                  <a:pt x="1792" y="520"/>
                  <a:pt x="1784" y="416"/>
                  <a:pt x="1776" y="336"/>
                </a:cubicBezTo>
                <a:cubicBezTo>
                  <a:pt x="1768" y="256"/>
                  <a:pt x="1712" y="96"/>
                  <a:pt x="1632" y="48"/>
                </a:cubicBezTo>
                <a:cubicBezTo>
                  <a:pt x="1552" y="0"/>
                  <a:pt x="1416" y="48"/>
                  <a:pt x="1296" y="48"/>
                </a:cubicBezTo>
                <a:cubicBezTo>
                  <a:pt x="1176" y="48"/>
                  <a:pt x="1064" y="88"/>
                  <a:pt x="912" y="9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19215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869080" y="1905120"/>
            <a:ext cx="212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48560" y="-200160"/>
            <a:ext cx="6880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bration/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241880" y="4191120"/>
            <a:ext cx="154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Thumbn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MMj03368490000[1]"/>
          <p:cNvPicPr/>
          <p:nvPr/>
        </p:nvPicPr>
        <p:blipFill>
          <a:blip r:embed="rId3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j0236489"/>
          <p:cNvPicPr/>
          <p:nvPr/>
        </p:nvPicPr>
        <p:blipFill>
          <a:blip r:embed="rId4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0285247"/>
          <p:cNvPicPr/>
          <p:nvPr/>
        </p:nvPicPr>
        <p:blipFill>
          <a:blip r:embed="rId5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9" descr="MMj02835840000[1]"/>
          <p:cNvPicPr/>
          <p:nvPr/>
        </p:nvPicPr>
        <p:blipFill>
          <a:blip r:embed="rId6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7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8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9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11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12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14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0" descr="j0205448"/>
          <p:cNvPicPr/>
          <p:nvPr/>
        </p:nvPicPr>
        <p:blipFill>
          <a:blip r:embed="rId15"/>
          <a:srcRect l="0" t="0" r="0" b="28949"/>
          <a:stretch/>
        </p:blipFill>
        <p:spPr>
          <a:xfrm>
            <a:off x="-1819440" y="5572080"/>
            <a:ext cx="181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7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7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8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8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4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6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1.29948 -0.07292 E">
                                      <p:cBhvr>
                                        <p:cTn id="88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2"/>
          <p:cNvSpPr/>
          <p:nvPr/>
        </p:nvSpPr>
        <p:spPr>
          <a:xfrm>
            <a:off x="-533520" y="518148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-533520" y="205740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1"/>
          <a:stretch/>
        </p:blipFill>
        <p:spPr>
          <a:xfrm>
            <a:off x="-685800" y="2209680"/>
            <a:ext cx="457200" cy="419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1440" y="0"/>
            <a:ext cx="47908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D.C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rect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3" descr=""/>
          <p:cNvPicPr/>
          <p:nvPr/>
        </p:nvPicPr>
        <p:blipFill>
          <a:blip r:embed="rId2"/>
          <a:stretch/>
        </p:blipFill>
        <p:spPr>
          <a:xfrm>
            <a:off x="-533520" y="240048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"/>
          <p:cNvPicPr/>
          <p:nvPr/>
        </p:nvPicPr>
        <p:blipFill>
          <a:blip r:embed="rId3"/>
          <a:stretch/>
        </p:blipFill>
        <p:spPr>
          <a:xfrm>
            <a:off x="-762120" y="205740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"/>
          <p:cNvPicPr/>
          <p:nvPr/>
        </p:nvPicPr>
        <p:blipFill>
          <a:blip r:embed="rId4"/>
          <a:stretch/>
        </p:blipFill>
        <p:spPr>
          <a:xfrm>
            <a:off x="-609480" y="224784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" descr=""/>
          <p:cNvPicPr/>
          <p:nvPr/>
        </p:nvPicPr>
        <p:blipFill>
          <a:blip r:embed="rId5"/>
          <a:stretch/>
        </p:blipFill>
        <p:spPr>
          <a:xfrm>
            <a:off x="-762120" y="53341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7" descr=""/>
          <p:cNvPicPr/>
          <p:nvPr/>
        </p:nvPicPr>
        <p:blipFill>
          <a:blip r:embed="rId6"/>
          <a:stretch/>
        </p:blipFill>
        <p:spPr>
          <a:xfrm>
            <a:off x="-609480" y="57531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8" descr=""/>
          <p:cNvPicPr/>
          <p:nvPr/>
        </p:nvPicPr>
        <p:blipFill>
          <a:blip r:embed="rId7"/>
          <a:stretch/>
        </p:blipFill>
        <p:spPr>
          <a:xfrm>
            <a:off x="-838080" y="5181480"/>
            <a:ext cx="457200" cy="419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"/>
          <p:cNvPicPr/>
          <p:nvPr/>
        </p:nvPicPr>
        <p:blipFill>
          <a:blip r:embed="rId8"/>
          <a:stretch/>
        </p:blipFill>
        <p:spPr>
          <a:xfrm>
            <a:off x="-685800" y="537228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0"/>
          <p:cNvSpPr/>
          <p:nvPr/>
        </p:nvSpPr>
        <p:spPr>
          <a:xfrm>
            <a:off x="1440" y="2971800"/>
            <a:ext cx="64674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A.C.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Alternating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5.78035E-008 L 1.14167 0.01387 E">
                                      <p:cBhvr>
                                        <p:cTn id="9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39306E-006 L 1.11666 0.01942 E">
                                      <p:cBhvr>
                                        <p:cTn id="9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3.4104E-006 L 1.14166 0.01388 E">
                                      <p:cBhvr>
                                        <p:cTn id="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3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33333E-006 0.0111 L 1.125 0.01942 E">
                                      <p:cBhvr>
                                        <p:cTn id="1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15607E-006 L 1.15 0.01387 E">
                                      <p:cBhvr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33333E-006 -4.50867E-006 L 1.14167 0.01943 E">
                                      <p:cBhvr>
                                        <p:cTn id="104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2.31214E-006 L 1.15 0.00278 E"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6.93889E-018 2.02312E-006 L 1.15 0.01942 E">
                                      <p:cBhvr>
                                        <p:cTn id="108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 rot="19058400">
            <a:off x="426708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42670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 rot="21242400">
            <a:off x="182844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5"/>
          <a:stretch/>
        </p:blipFill>
        <p:spPr>
          <a:xfrm>
            <a:off x="67816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 rot="19058400">
            <a:off x="182880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7"/>
          <a:stretch/>
        </p:blipFill>
        <p:spPr>
          <a:xfrm rot="19058400">
            <a:off x="-53316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8"/>
          <a:stretch/>
        </p:blipFill>
        <p:spPr>
          <a:xfrm rot="19058400">
            <a:off x="-533160" y="4038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0"/>
          <p:cNvSpPr/>
          <p:nvPr/>
        </p:nvSpPr>
        <p:spPr>
          <a:xfrm>
            <a:off x="76320" y="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1" descr=""/>
          <p:cNvPicPr/>
          <p:nvPr/>
        </p:nvPicPr>
        <p:blipFill>
          <a:blip r:embed="rId9"/>
          <a:stretch/>
        </p:blipFill>
        <p:spPr>
          <a:xfrm>
            <a:off x="4572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"/>
          <p:cNvPicPr/>
          <p:nvPr/>
        </p:nvPicPr>
        <p:blipFill>
          <a:blip r:embed="rId10"/>
          <a:stretch/>
        </p:blipFill>
        <p:spPr>
          <a:xfrm>
            <a:off x="457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4" dur="12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6019920" y="293544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84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383120" y="104760"/>
            <a:ext cx="555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12569 C -0.13524 -0.12315 -0.12517 -0.12083 -0.10729 -0.1169 C -0.08958 -0.11273 -0.05972 -0.1088 -0.03854 -0.10162 C -0.01736 -0.09467 0.00278 -0.08472 0.01997 -0.075 C 0.03716 -0.06528 0.05226 -0.05579 0.06459 -0.04329 C 0.07691 -0.03079 0.08768 -0.01481 0.09393 -0.00046 C 0.10018 0.01366 0.10296 0.02917 0.10261 0.04259 C 0.10226 0.05602 0.09844 0.06597 0.09167 0.0794 C 0.0849 0.09259 0.07535 0.10926 0.06233 0.12245 C 0.04931 0.13542 0.0323 0.14792 0.01337 0.15764 C -0.00555 0.16759 -0.02343 0.17546 -0.05104 0.18171 C -0.07864 0.18796 -0.12066 0.19375 -0.15191 0.1956 C -0.18333 0.19745 -0.20816 0.19815 -0.23906 0.19306 C -0.26996 0.18796 -0.31336 0.17477 -0.33715 0.16551 C -0.36093 0.15602 -0.371 0.1456 -0.38177 0.1375 C -0.39253 0.1294 -0.396 0.12315 -0.40156 0.11736 C -0.40729 0.11158 -0.41111 0.1081 -0.41545 0.10208 C -0.41979 0.09607 -0.42482 0.0882 -0.42795 0.08171 C -0.43107 0.07546 -0.43263 0.07199 -0.43454 0.06412 C -0.43645 0.05648 -0.43993 0.04583 -0.43958 0.03495 C -0.43941 0.02431 -0.43854 0.01158 -0.43298 -0.00046 C -0.4276 -0.0125 -0.41822 -0.02523 -0.40677 -0.03704 C -0.39513 -0.04884 -0.37934 -0.06065 -0.36354 -0.0713 C -0.34774 -0.08171 -0.33194 -0.09282 -0.31232 -0.10023 C -0.2927 -0.10787 -0.26475 -0.11319 -0.24566 -0.1169 C -0.22673 -0.12037 -0.21197 -0.12037 -0.19809 -0.12199 C -0.1842 -0.12338 -0.16979 -0.12477 -0.16232 -0.12546 E">
                                      <p:cBhvr>
                                        <p:cTn id="12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886 0.01389 C -0.0033 0.01157 0.01423 -0.00509 0.02135 1.48148E-006 C 0.03246 0.00648 0.03524 0.04537 0.04652 0.05 C 0.05746 0.05393 0.07899 0.01991 0.08923 0.02245 C 0.09965 0.02569 0.09791 0.0662 0.10729 0.06944 C 0.1184 0.07338 0.1375 0.03889 0.14739 0.04259 C 0.15989 0.04745 0.16076 0.0875 0.17361 0.09259 C 0.18437 0.09676 0.20451 0.06296 0.21684 0.06944 C 0.22708 0.07292 0.22708 0.11319 0.23663 0.11643 C 0.24705 0.11944 0.26319 0.08449 0.27448 0.08819 C 0.28559 0.09236 0.29271 0.13333 0.30208 0.13796 C 0.31232 0.14236 0.32604 0.10694 0.33715 0.11018 C 0.3467 0.11296 0.35121 0.1537 0.36406 0.15903 C 0.37326 0.1618 0.38698 0.12986 0.39444 0.13125 C 0.40295 0.13472 0.41111 0.17616 0.41823 0.17801 C 0.43021 0.18241 0.44184 0.14815 0.44757 0.15116 C 0.45746 0.15509 0.45989 0.19467 0.46562 0.19583 C 0.47274 0.19838 0.48646 0.16204 0.49323 0.16528 C 0.50503 0.16898 0.51423 0.20463 0.52152 0.21551 E">
                                      <p:cBhvr>
                                        <p:cTn id="124" dur="1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34 -0.69791 C -0.20764 -0.6861 -0.11077 -0.67407 -0.04723 -0.63749 C 0.01632 -0.60092 0.06961 -0.53101 0.07673 -0.47893 C 0.08385 -0.42685 0.03836 -0.36435 -0.00434 -0.32476 C -0.04705 -0.28518 -0.1316 -0.25786 -0.17934 -0.24073 C -0.22709 -0.2236 -0.2592 -0.22268 -0.29115 -0.22175 E">
                                      <p:cBhvr>
                                        <p:cTn id="13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8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3"/>
          <p:cNvSpPr/>
          <p:nvPr/>
        </p:nvSpPr>
        <p:spPr>
          <a:xfrm>
            <a:off x="-88920" y="563868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92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692360" y="104760"/>
            <a:ext cx="493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E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0" descr="merlin"/>
          <p:cNvPicPr/>
          <p:nvPr/>
        </p:nvPicPr>
        <p:blipFill>
          <a:blip r:embed="rId2"/>
          <a:stretch/>
        </p:blipFill>
        <p:spPr>
          <a:xfrm>
            <a:off x="228600" y="5181480"/>
            <a:ext cx="153180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2209680" y="5334120"/>
            <a:ext cx="6019920" cy="1295280"/>
          </a:xfrm>
          <a:prstGeom prst="wedgeRoundRectCallout">
            <a:avLst>
              <a:gd name="adj1" fmla="val -62527"/>
              <a:gd name="adj2" fmla="val -21078"/>
              <a:gd name="adj3" fmla="val 16667"/>
            </a:avLst>
          </a:prstGeom>
          <a:gradFill rotWithShape="0">
            <a:gsLst>
              <a:gs pos="0">
                <a:srgbClr val="ff0066">
                  <a:alpha val="70196"/>
                </a:srgbClr>
              </a:gs>
              <a:gs pos="100000">
                <a:srgbClr val="ff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4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54 -0.23287 C -0.41024 -0.24421 -0.50712 -0.25602 -0.57066 -0.29166 C -0.6342 -0.32731 -0.6875 -0.3956 -0.69462 -0.44629 C -0.70173 -0.49699 -0.65625 -0.5581 -0.61354 -0.59676 C -0.57083 -0.63518 -0.48628 -0.6618 -0.43854 -0.6787 C -0.3908 -0.69537 -0.35868 -0.69629 -0.32673 -0.69722 E">
                                      <p:cBhvr>
                                        <p:cTn id="15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34 0.21899 C 0.50659 0.21158 0.51007 0.1794 0.51909 0.17662 C 0.53021 0.17246 0.55555 0.20811 0.56666 0.2007 C 0.57708 0.19399 0.57465 0.13889 0.58385 0.13149 C 0.59305 0.12547 0.61614 0.16644 0.62517 0.16042 C 0.63541 0.15301 0.63021 0.10093 0.64028 0.09399 C 0.6526 0.08704 0.67708 0.1257 0.68837 0.11783 C 0.70034 0.11112 0.69496 0.05903 0.70868 0.05255 C 0.71927 0.04561 0.74149 0.08612 0.75156 0.07963 C 0.76024 0.07176 0.75225 0.02246 0.76302 0.01459 C 0.77396 0.00811 0.80434 0.04051 0.81423 0.03612 C 0.82396 0.02987 0.81423 -0.01782 0.82448 -0.025 C 0.8335 -0.03194 0.86041 0.00417 0.87378 -0.00416 C 0.88212 -0.01064 0.87413 -0.05509 0.88021 -0.06064 C 0.88958 -0.06574 0.91979 -0.0324 0.92639 -0.03912 C 0.93698 -0.04699 0.92656 -0.0912 0.93298 -0.09375 C 0.94184 -0.10023 0.96805 -0.06365 0.97274 -0.06736 C 0.98003 -0.07222 0.96892 -0.12175 0.97587 -0.12476 C 0.9875 -0.13333 1.01528 -0.10694 1.02708 -0.10324 E">
                                      <p:cBhvr>
                                        <p:cTn id="154" dur="13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222 -0.51667 C 0.53246 -0.51412 0.54253 -0.51181 0.56042 -0.50787 C 0.57812 -0.50371 0.60798 -0.49977 0.62917 -0.4926 C 0.65035 -0.48565 0.67048 -0.4757 0.68767 -0.46598 C 0.70486 -0.45625 0.71996 -0.44676 0.73229 -0.43426 C 0.74462 -0.42176 0.75538 -0.40579 0.76163 -0.39144 C 0.76788 -0.37732 0.77066 -0.36181 0.77031 -0.34838 C 0.76996 -0.33496 0.76614 -0.325 0.75937 -0.31158 C 0.7526 -0.29838 0.74305 -0.28172 0.73003 -0.26852 C 0.71701 -0.25556 0.7 -0.24306 0.68108 -0.23334 C 0.66215 -0.22338 0.64427 -0.21551 0.61667 -0.20926 C 0.58906 -0.20301 0.54705 -0.19723 0.5158 -0.19537 C 0.48437 -0.19352 0.45955 -0.19283 0.42864 -0.19792 C 0.39774 -0.20301 0.35434 -0.21621 0.33055 -0.22547 C 0.30677 -0.23496 0.2967 -0.24537 0.28594 -0.25348 C 0.27517 -0.26158 0.2717 -0.26783 0.26614 -0.27361 C 0.26042 -0.2794 0.2566 -0.28287 0.25226 -0.28889 C 0.24792 -0.29491 0.24288 -0.30278 0.23976 -0.30926 C 0.23663 -0.31551 0.23507 -0.31899 0.23316 -0.32686 C 0.23125 -0.33449 0.22778 -0.34514 0.22812 -0.35602 C 0.2283 -0.36667 0.22917 -0.3794 0.23472 -0.39144 C 0.2401 -0.40348 0.24948 -0.41621 0.26094 -0.42801 C 0.27257 -0.43982 0.28837 -0.45162 0.30417 -0.46227 C 0.31996 -0.47269 0.33576 -0.4838 0.35538 -0.49121 C 0.375 -0.49885 0.40295 -0.50417 0.42205 -0.50787 C 0.44097 -0.51135 0.45573 -0.51135 0.46962 -0.51297 C 0.48351 -0.51436 0.49792 -0.51574 0.50538 -0.51644 E">
                                      <p:cBhvr>
                                        <p:cTn id="15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665 L -3.33333E-006 -1.27168E-006 E">
                                      <p:cBhvr>
                                        <p:cTn id="16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photon_emiss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68580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j0309330"/>
          <p:cNvPicPr/>
          <p:nvPr/>
        </p:nvPicPr>
        <p:blipFill>
          <a:blip r:embed="rId2"/>
          <a:stretch/>
        </p:blipFill>
        <p:spPr>
          <a:xfrm>
            <a:off x="0" y="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3581280" y="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j0227558"/>
          <p:cNvPicPr/>
          <p:nvPr/>
        </p:nvPicPr>
        <p:blipFill>
          <a:blip r:embed="rId4"/>
          <a:stretch/>
        </p:blipFill>
        <p:spPr>
          <a:xfrm>
            <a:off x="4114800" y="5029200"/>
            <a:ext cx="1487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model-bohr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Click to enlarge"/>
          <p:cNvPicPr/>
          <p:nvPr/>
        </p:nvPicPr>
        <p:blipFill>
          <a:blip r:embed="rId1"/>
          <a:stretch/>
        </p:blipFill>
        <p:spPr>
          <a:xfrm>
            <a:off x="0" y="94932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 television is an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Electron Gu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08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3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5" descr="22888647"/>
          <p:cNvPicPr/>
          <p:nvPr/>
        </p:nvPicPr>
        <p:blipFill>
          <a:blip r:embed="rId1"/>
          <a:stretch/>
        </p:blipFill>
        <p:spPr>
          <a:xfrm>
            <a:off x="5391000" y="295272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MCDD00112_0000[1]"/>
          <p:cNvPicPr/>
          <p:nvPr/>
        </p:nvPicPr>
        <p:blipFill>
          <a:blip r:embed="rId2">
            <a:grayscl/>
          </a:blip>
          <a:stretch/>
        </p:blipFill>
        <p:spPr>
          <a:xfrm>
            <a:off x="2362320" y="4267080"/>
            <a:ext cx="2133360" cy="66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2362320" y="1066680"/>
            <a:ext cx="147456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4"/>
          <a:stretch/>
        </p:blipFill>
        <p:spPr>
          <a:xfrm>
            <a:off x="114480" y="152280"/>
            <a:ext cx="18666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5"/>
          <a:stretch/>
        </p:blipFill>
        <p:spPr>
          <a:xfrm>
            <a:off x="76320" y="3581280"/>
            <a:ext cx="201600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6"/>
          <a:stretch/>
        </p:blipFill>
        <p:spPr>
          <a:xfrm>
            <a:off x="6635880" y="76320"/>
            <a:ext cx="227952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6"/>
          <p:cNvSpPr/>
          <p:nvPr/>
        </p:nvSpPr>
        <p:spPr>
          <a:xfrm>
            <a:off x="3796200" y="76320"/>
            <a:ext cx="176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Parallel &amp; Ser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Circuit 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5105520"/>
          <a:ext cx="266724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60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248520" y="5105520"/>
          <a:ext cx="266688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24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63"/>
          <p:cNvSpPr/>
          <p:nvPr/>
        </p:nvSpPr>
        <p:spPr>
          <a:xfrm>
            <a:off x="3886200" y="762120"/>
            <a:ext cx="2438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a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4"/>
          <p:cNvSpPr/>
          <p:nvPr/>
        </p:nvSpPr>
        <p:spPr>
          <a:xfrm>
            <a:off x="133200" y="5486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5"/>
          <p:cNvSpPr/>
          <p:nvPr/>
        </p:nvSpPr>
        <p:spPr>
          <a:xfrm>
            <a:off x="1398240" y="41911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6"/>
          <p:cNvSpPr/>
          <p:nvPr/>
        </p:nvSpPr>
        <p:spPr>
          <a:xfrm>
            <a:off x="39960" y="373392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7"/>
          <p:cNvSpPr/>
          <p:nvPr/>
        </p:nvSpPr>
        <p:spPr>
          <a:xfrm>
            <a:off x="1182960" y="58672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59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23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4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5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76960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7696080" y="2743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8"/>
          <p:cNvSpPr/>
          <p:nvPr/>
        </p:nvSpPr>
        <p:spPr>
          <a:xfrm>
            <a:off x="7696080" y="4724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9"/>
          <p:cNvSpPr/>
          <p:nvPr/>
        </p:nvSpPr>
        <p:spPr>
          <a:xfrm>
            <a:off x="769608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76960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7696080" y="3048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7696080" y="1752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63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3" dur="23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1667 -3.33333E-006 E">
                                      <p:cBhvr>
                                        <p:cTn id="197" dur="19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2.22222E-006 L -0.71667 -0.01111 E">
                                      <p:cBhvr>
                                        <p:cTn id="199" dur="22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33333E-006 -2.22222E-006 L -0.725 -0.01111 E">
                                      <p:cBhvr>
                                        <p:cTn id="20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0 L -0.725 0 E">
                                      <p:cBhvr>
                                        <p:cTn id="203" dur="16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2.22222E-006 L -0.725 2.22222E-006 E">
                                      <p:cBhvr>
                                        <p:cTn id="20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1.11111E-006 L -0.725 1.11111E-006 E">
                                      <p:cBhvr>
                                        <p:cTn id="207" dur="175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914400" y="0"/>
            <a:ext cx="7924680" cy="6959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Static electricity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03303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generatoredi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33920"/>
            <a:ext cx="3119400" cy="312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46" name="AutoShape 4"/>
          <p:cNvSpPr/>
          <p:nvPr/>
        </p:nvSpPr>
        <p:spPr>
          <a:xfrm rot="9165600">
            <a:off x="1599840" y="-990720"/>
            <a:ext cx="2209680" cy="769644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733560" y="0"/>
            <a:ext cx="52578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Static Electricity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 material has an excess or a lack of </a:t>
            </a:r>
            <a:r>
              <a:rPr b="1" lang="en-US" sz="5400" spc="-1" strike="noStrike">
                <a:solidFill>
                  <a:srgbClr val="66ff66"/>
                </a:solidFill>
                <a:latin typeface="Times New Roman"/>
              </a:rPr>
              <a:t>electrons.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5"/>
          <a:stretch/>
        </p:blipFill>
        <p:spPr>
          <a:xfrm>
            <a:off x="3733920" y="457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6"/>
          <a:stretch/>
        </p:blipFill>
        <p:spPr>
          <a:xfrm>
            <a:off x="3581280" y="548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7"/>
          <a:stretch/>
        </p:blipFill>
        <p:spPr>
          <a:xfrm>
            <a:off x="4572000" y="49752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8"/>
          <a:stretch/>
        </p:blipFill>
        <p:spPr>
          <a:xfrm>
            <a:off x="3276720" y="2514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9"/>
          <a:stretch/>
        </p:blipFill>
        <p:spPr>
          <a:xfrm>
            <a:off x="2590920" y="26128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"/>
          <p:cNvPicPr/>
          <p:nvPr/>
        </p:nvPicPr>
        <p:blipFill>
          <a:blip r:embed="rId10"/>
          <a:stretch/>
        </p:blipFill>
        <p:spPr>
          <a:xfrm>
            <a:off x="2057400" y="314640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2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2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30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23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9b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7" descr=""/>
          <p:cNvPicPr/>
          <p:nvPr/>
        </p:nvPicPr>
        <p:blipFill>
          <a:blip r:embed="rId1"/>
          <a:stretch/>
        </p:blipFill>
        <p:spPr>
          <a:xfrm>
            <a:off x="4724280" y="1285920"/>
            <a:ext cx="6713640" cy="549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"/>
          <p:cNvPicPr/>
          <p:nvPr/>
        </p:nvPicPr>
        <p:blipFill>
          <a:blip r:embed="rId2"/>
          <a:stretch/>
        </p:blipFill>
        <p:spPr>
          <a:xfrm>
            <a:off x="-2827440" y="1143000"/>
            <a:ext cx="6713640" cy="5495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3409920" y="1371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"/>
          <p:cNvPicPr/>
          <p:nvPr/>
        </p:nvPicPr>
        <p:blipFill>
          <a:blip r:embed="rId4"/>
          <a:stretch/>
        </p:blipFill>
        <p:spPr>
          <a:xfrm>
            <a:off x="3429000" y="223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"/>
          <p:cNvPicPr/>
          <p:nvPr/>
        </p:nvPicPr>
        <p:blipFill>
          <a:blip r:embed="rId5"/>
          <a:stretch/>
        </p:blipFill>
        <p:spPr>
          <a:xfrm>
            <a:off x="3429000" y="314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" descr=""/>
          <p:cNvPicPr/>
          <p:nvPr/>
        </p:nvPicPr>
        <p:blipFill>
          <a:blip r:embed="rId6"/>
          <a:stretch/>
        </p:blipFill>
        <p:spPr>
          <a:xfrm>
            <a:off x="3429000" y="4137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"/>
          <p:cNvPicPr/>
          <p:nvPr/>
        </p:nvPicPr>
        <p:blipFill>
          <a:blip r:embed="rId7"/>
          <a:stretch/>
        </p:blipFill>
        <p:spPr>
          <a:xfrm>
            <a:off x="3409920" y="51274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2" descr=""/>
          <p:cNvPicPr/>
          <p:nvPr/>
        </p:nvPicPr>
        <p:blipFill>
          <a:blip r:embed="rId8"/>
          <a:stretch/>
        </p:blipFill>
        <p:spPr>
          <a:xfrm>
            <a:off x="3352680" y="5813280"/>
            <a:ext cx="476280" cy="435240"/>
          </a:xfrm>
          <a:prstGeom prst="rect">
            <a:avLst/>
          </a:prstGeom>
          <a:ln w="0">
            <a:noFill/>
          </a:ln>
        </p:spPr>
      </p:pic>
      <p:sp>
        <p:nvSpPr>
          <p:cNvPr id="363" name="PubCross"/>
          <p:cNvSpPr/>
          <p:nvPr/>
        </p:nvSpPr>
        <p:spPr>
          <a:xfrm>
            <a:off x="4800600" y="1600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ubCross"/>
          <p:cNvSpPr/>
          <p:nvPr/>
        </p:nvSpPr>
        <p:spPr>
          <a:xfrm>
            <a:off x="4800600" y="266688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ubCross"/>
          <p:cNvSpPr/>
          <p:nvPr/>
        </p:nvSpPr>
        <p:spPr>
          <a:xfrm>
            <a:off x="4800600" y="3886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ubCross"/>
          <p:cNvSpPr/>
          <p:nvPr/>
        </p:nvSpPr>
        <p:spPr>
          <a:xfrm>
            <a:off x="4800600" y="533412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2" dur="12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4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6" dur="11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8" dur="9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0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2" dur="8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533520" y="228600"/>
            <a:ext cx="8153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j0283029"/>
          <p:cNvPicPr/>
          <p:nvPr/>
        </p:nvPicPr>
        <p:blipFill>
          <a:blip r:embed="rId3"/>
          <a:stretch/>
        </p:blipFill>
        <p:spPr>
          <a:xfrm>
            <a:off x="5105520" y="2895480"/>
            <a:ext cx="3749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068480" y="685800"/>
            <a:ext cx="43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mi-Conduc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j0289053"/>
          <p:cNvPicPr/>
          <p:nvPr/>
        </p:nvPicPr>
        <p:blipFill>
          <a:blip r:embed="rId1"/>
          <a:stretch/>
        </p:blipFill>
        <p:spPr>
          <a:xfrm>
            <a:off x="2438280" y="304812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289054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0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289138"/>
          <p:cNvPicPr/>
          <p:nvPr/>
        </p:nvPicPr>
        <p:blipFill>
          <a:blip r:embed="rId3"/>
          <a:stretch/>
        </p:blipFill>
        <p:spPr>
          <a:xfrm>
            <a:off x="0" y="32004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j0289144"/>
          <p:cNvPicPr/>
          <p:nvPr/>
        </p:nvPicPr>
        <p:blipFill>
          <a:blip r:embed="rId4"/>
          <a:stretch/>
        </p:blipFill>
        <p:spPr>
          <a:xfrm>
            <a:off x="5486400" y="435924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objectlesson_alife_large"/>
          <p:cNvPicPr/>
          <p:nvPr/>
        </p:nvPicPr>
        <p:blipFill>
          <a:blip r:embed="rId1"/>
          <a:stretch/>
        </p:blipFill>
        <p:spPr>
          <a:xfrm>
            <a:off x="457200" y="3581280"/>
            <a:ext cx="2606760" cy="3124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ooler"/>
          <p:cNvPicPr/>
          <p:nvPr/>
        </p:nvPicPr>
        <p:blipFill>
          <a:blip r:embed="rId2"/>
          <a:srcRect l="11998" t="6668" r="8001" b="3335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j0365228"/>
          <p:cNvPicPr/>
          <p:nvPr/>
        </p:nvPicPr>
        <p:blipFill>
          <a:blip r:embed="rId3"/>
          <a:stretch/>
        </p:blipFill>
        <p:spPr>
          <a:xfrm>
            <a:off x="3809880" y="5257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spark_plug"/>
          <p:cNvPicPr/>
          <p:nvPr/>
        </p:nvPicPr>
        <p:blipFill>
          <a:blip r:embed="rId4"/>
          <a:stretch/>
        </p:blipFill>
        <p:spPr>
          <a:xfrm>
            <a:off x="0" y="0"/>
            <a:ext cx="2990880" cy="333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spark_plug"/>
          <p:cNvPicPr/>
          <p:nvPr/>
        </p:nvPicPr>
        <p:blipFill>
          <a:blip r:embed="rId5"/>
          <a:srcRect l="80432" t="73153" r="1317" b="8661"/>
          <a:stretch/>
        </p:blipFill>
        <p:spPr>
          <a:xfrm>
            <a:off x="0" y="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379" name="Line 13"/>
          <p:cNvSpPr/>
          <p:nvPr/>
        </p:nvSpPr>
        <p:spPr>
          <a:xfrm flipH="1">
            <a:off x="1066680" y="609480"/>
            <a:ext cx="4648320" cy="45720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76160" y="30240"/>
            <a:ext cx="8139240" cy="52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sula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7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2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96"/>
                            </p:stCondLst>
                            <p:childTnLst>
                              <p:par>
                                <p:cTn id="2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MMj02832200000[1]"/>
          <p:cNvPicPr/>
          <p:nvPr/>
        </p:nvPicPr>
        <p:blipFill>
          <a:blip r:embed="rId1"/>
          <a:stretch/>
        </p:blipFill>
        <p:spPr>
          <a:xfrm>
            <a:off x="0" y="2719440"/>
            <a:ext cx="3833640" cy="41385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"/>
          <p:cNvSpPr/>
          <p:nvPr/>
        </p:nvSpPr>
        <p:spPr>
          <a:xfrm>
            <a:off x="685800" y="61920"/>
            <a:ext cx="7620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is energy resulting from the force between two objects having different voltag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j0315756"/>
          <p:cNvPicPr/>
          <p:nvPr/>
        </p:nvPicPr>
        <p:blipFill>
          <a:blip r:embed="rId2"/>
          <a:stretch/>
        </p:blipFill>
        <p:spPr>
          <a:xfrm>
            <a:off x="5791320" y="4282920"/>
            <a:ext cx="3352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762120" y="53352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is the force of moving electr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j0315756"/>
          <p:cNvPicPr/>
          <p:nvPr/>
        </p:nvPicPr>
        <p:blipFill>
          <a:blip r:embed="rId1"/>
          <a:stretch/>
        </p:blipFill>
        <p:spPr>
          <a:xfrm>
            <a:off x="1905120" y="3124080"/>
            <a:ext cx="4876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074" descr="j0318127"/>
          <p:cNvPicPr/>
          <p:nvPr/>
        </p:nvPicPr>
        <p:blipFill>
          <a:blip r:embed="rId1"/>
          <a:stretch/>
        </p:blipFill>
        <p:spPr>
          <a:xfrm>
            <a:off x="6248520" y="4038480"/>
            <a:ext cx="2743200" cy="2644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075" descr="j0283501"/>
          <p:cNvPicPr/>
          <p:nvPr/>
        </p:nvPicPr>
        <p:blipFill>
          <a:blip r:embed="rId2"/>
          <a:stretch/>
        </p:blipFill>
        <p:spPr>
          <a:xfrm>
            <a:off x="228600" y="5029200"/>
            <a:ext cx="1676520" cy="16304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077"/>
          <p:cNvSpPr/>
          <p:nvPr/>
        </p:nvSpPr>
        <p:spPr>
          <a:xfrm>
            <a:off x="2132640" y="609480"/>
            <a:ext cx="473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52"/>
          <p:cNvSpPr/>
          <p:nvPr/>
        </p:nvSpPr>
        <p:spPr>
          <a:xfrm>
            <a:off x="1828800" y="1981080"/>
            <a:ext cx="45720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5" descr="steam-train-south-africa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22888647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8"/>
          <p:cNvSpPr/>
          <p:nvPr/>
        </p:nvSpPr>
        <p:spPr>
          <a:xfrm>
            <a:off x="5689440" y="3162240"/>
            <a:ext cx="3149640" cy="64764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984" h="408">
                <a:moveTo>
                  <a:pt x="1872" y="408"/>
                </a:moveTo>
                <a:cubicBezTo>
                  <a:pt x="1860" y="344"/>
                  <a:pt x="1848" y="280"/>
                  <a:pt x="1824" y="216"/>
                </a:cubicBezTo>
                <a:cubicBezTo>
                  <a:pt x="1800" y="152"/>
                  <a:pt x="1984" y="48"/>
                  <a:pt x="1728" y="24"/>
                </a:cubicBezTo>
                <a:cubicBezTo>
                  <a:pt x="1472" y="0"/>
                  <a:pt x="552" y="56"/>
                  <a:pt x="288" y="72"/>
                </a:cubicBezTo>
                <a:cubicBezTo>
                  <a:pt x="24" y="88"/>
                  <a:pt x="192" y="80"/>
                  <a:pt x="144" y="120"/>
                </a:cubicBezTo>
                <a:cubicBezTo>
                  <a:pt x="96" y="160"/>
                  <a:pt x="48" y="236"/>
                  <a:pt x="0" y="312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7920" y="0"/>
            <a:ext cx="9059760" cy="21031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oudy Stout"/>
              </a:rPr>
              <a:t>Cir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Series  Parall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7"/>
          <p:cNvSpPr/>
          <p:nvPr/>
        </p:nvSpPr>
        <p:spPr>
          <a:xfrm rot="5400000">
            <a:off x="4114800" y="-3276720"/>
            <a:ext cx="838080" cy="8763120"/>
          </a:xfrm>
          <a:custGeom>
            <a:avLst/>
            <a:gdLst>
              <a:gd name="textAreaLeft" fmla="*/ 535320 w 838080"/>
              <a:gd name="textAreaRight" fmla="*/ 838440 w 83808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1"/>
          <p:cNvSpPr/>
          <p:nvPr/>
        </p:nvSpPr>
        <p:spPr>
          <a:xfrm>
            <a:off x="317520" y="2921040"/>
            <a:ext cx="3137040" cy="3860640"/>
          </a:xfrm>
          <a:custGeom>
            <a:avLst/>
            <a:gdLst>
              <a:gd name="textAreaLeft" fmla="*/ 0 w 3137040"/>
              <a:gd name="textAreaRight" fmla="*/ 3137400 w 313704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976" h="2432">
                <a:moveTo>
                  <a:pt x="328" y="1376"/>
                </a:moveTo>
                <a:cubicBezTo>
                  <a:pt x="304" y="1372"/>
                  <a:pt x="280" y="1368"/>
                  <a:pt x="280" y="1328"/>
                </a:cubicBezTo>
                <a:cubicBezTo>
                  <a:pt x="280" y="1288"/>
                  <a:pt x="360" y="1224"/>
                  <a:pt x="328" y="1136"/>
                </a:cubicBezTo>
                <a:cubicBezTo>
                  <a:pt x="296" y="1048"/>
                  <a:pt x="136" y="896"/>
                  <a:pt x="88" y="800"/>
                </a:cubicBezTo>
                <a:cubicBezTo>
                  <a:pt x="40" y="704"/>
                  <a:pt x="0" y="680"/>
                  <a:pt x="40" y="560"/>
                </a:cubicBezTo>
                <a:cubicBezTo>
                  <a:pt x="80" y="440"/>
                  <a:pt x="240" y="160"/>
                  <a:pt x="328" y="80"/>
                </a:cubicBezTo>
                <a:cubicBezTo>
                  <a:pt x="416" y="0"/>
                  <a:pt x="416" y="80"/>
                  <a:pt x="568" y="80"/>
                </a:cubicBezTo>
                <a:cubicBezTo>
                  <a:pt x="720" y="80"/>
                  <a:pt x="1064" y="64"/>
                  <a:pt x="1240" y="80"/>
                </a:cubicBezTo>
                <a:cubicBezTo>
                  <a:pt x="1416" y="96"/>
                  <a:pt x="1536" y="80"/>
                  <a:pt x="1624" y="176"/>
                </a:cubicBezTo>
                <a:cubicBezTo>
                  <a:pt x="1712" y="272"/>
                  <a:pt x="1712" y="488"/>
                  <a:pt x="1768" y="656"/>
                </a:cubicBezTo>
                <a:cubicBezTo>
                  <a:pt x="1824" y="824"/>
                  <a:pt x="1944" y="992"/>
                  <a:pt x="1960" y="1184"/>
                </a:cubicBezTo>
                <a:cubicBezTo>
                  <a:pt x="1976" y="1376"/>
                  <a:pt x="1896" y="1616"/>
                  <a:pt x="1864" y="1808"/>
                </a:cubicBezTo>
                <a:cubicBezTo>
                  <a:pt x="1832" y="2000"/>
                  <a:pt x="1920" y="2240"/>
                  <a:pt x="1768" y="2336"/>
                </a:cubicBezTo>
                <a:cubicBezTo>
                  <a:pt x="1616" y="2432"/>
                  <a:pt x="1208" y="2400"/>
                  <a:pt x="952" y="2384"/>
                </a:cubicBezTo>
                <a:cubicBezTo>
                  <a:pt x="696" y="2368"/>
                  <a:pt x="352" y="2280"/>
                  <a:pt x="232" y="2240"/>
                </a:cubicBezTo>
                <a:cubicBezTo>
                  <a:pt x="112" y="2200"/>
                  <a:pt x="172" y="2172"/>
                  <a:pt x="232" y="2144"/>
                </a:cubicBezTo>
              </a:path>
            </a:pathLst>
          </a:custGeom>
          <a:noFill/>
          <a:ln w="101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4" descr="j0286678"/>
          <p:cNvPicPr/>
          <p:nvPr/>
        </p:nvPicPr>
        <p:blipFill>
          <a:blip r:embed="rId1"/>
          <a:stretch/>
        </p:blipFill>
        <p:spPr>
          <a:xfrm>
            <a:off x="1557360" y="5186520"/>
            <a:ext cx="1414440" cy="1595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457200" y="602604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"/>
          <p:cNvPicPr/>
          <p:nvPr/>
        </p:nvPicPr>
        <p:blipFill>
          <a:blip r:embed="rId3"/>
          <a:stretch/>
        </p:blipFill>
        <p:spPr>
          <a:xfrm>
            <a:off x="352440" y="5086440"/>
            <a:ext cx="981000" cy="1314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0" descr="j0286678"/>
          <p:cNvPicPr/>
          <p:nvPr/>
        </p:nvPicPr>
        <p:blipFill>
          <a:blip r:embed="rId4"/>
          <a:stretch/>
        </p:blipFill>
        <p:spPr>
          <a:xfrm>
            <a:off x="1295280" y="1905120"/>
            <a:ext cx="1076400" cy="121428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2"/>
          <p:cNvSpPr/>
          <p:nvPr/>
        </p:nvSpPr>
        <p:spPr>
          <a:xfrm>
            <a:off x="5562720" y="1905120"/>
            <a:ext cx="3162240" cy="4610160"/>
          </a:xfrm>
          <a:custGeom>
            <a:avLst/>
            <a:gdLst>
              <a:gd name="textAreaLeft" fmla="*/ 0 w 3162240"/>
              <a:gd name="textAreaRight" fmla="*/ 3162600 w 3162240"/>
              <a:gd name="textAreaTop" fmla="*/ 0 h 4610160"/>
              <a:gd name="textAreaBottom" fmla="*/ 4610520 h 4610160"/>
            </a:gdLst>
            <a:ahLst/>
            <a:rect l="textAreaLeft" t="textAreaTop" r="textAreaRight" b="textAreaBottom"/>
            <a:pathLst>
              <a:path w="1992" h="2904">
                <a:moveTo>
                  <a:pt x="360" y="2728"/>
                </a:moveTo>
                <a:cubicBezTo>
                  <a:pt x="308" y="2788"/>
                  <a:pt x="256" y="2848"/>
                  <a:pt x="408" y="2872"/>
                </a:cubicBezTo>
                <a:cubicBezTo>
                  <a:pt x="560" y="2896"/>
                  <a:pt x="1040" y="2904"/>
                  <a:pt x="1272" y="2872"/>
                </a:cubicBezTo>
                <a:cubicBezTo>
                  <a:pt x="1504" y="2840"/>
                  <a:pt x="1688" y="2808"/>
                  <a:pt x="1800" y="2680"/>
                </a:cubicBezTo>
                <a:cubicBezTo>
                  <a:pt x="1912" y="2552"/>
                  <a:pt x="1936" y="2496"/>
                  <a:pt x="1944" y="2104"/>
                </a:cubicBezTo>
                <a:cubicBezTo>
                  <a:pt x="1952" y="1712"/>
                  <a:pt x="1992" y="656"/>
                  <a:pt x="1848" y="328"/>
                </a:cubicBezTo>
                <a:cubicBezTo>
                  <a:pt x="1704" y="0"/>
                  <a:pt x="1336" y="160"/>
                  <a:pt x="1080" y="136"/>
                </a:cubicBezTo>
                <a:cubicBezTo>
                  <a:pt x="824" y="112"/>
                  <a:pt x="488" y="104"/>
                  <a:pt x="312" y="184"/>
                </a:cubicBezTo>
                <a:cubicBezTo>
                  <a:pt x="136" y="264"/>
                  <a:pt x="48" y="408"/>
                  <a:pt x="24" y="616"/>
                </a:cubicBezTo>
                <a:cubicBezTo>
                  <a:pt x="0" y="824"/>
                  <a:pt x="96" y="1160"/>
                  <a:pt x="168" y="1432"/>
                </a:cubicBezTo>
                <a:cubicBezTo>
                  <a:pt x="240" y="1704"/>
                  <a:pt x="408" y="2112"/>
                  <a:pt x="456" y="2248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6" descr="j0336481"/>
          <p:cNvPicPr/>
          <p:nvPr/>
        </p:nvPicPr>
        <p:blipFill>
          <a:blip r:embed="rId5"/>
          <a:stretch/>
        </p:blipFill>
        <p:spPr>
          <a:xfrm>
            <a:off x="6934320" y="1343160"/>
            <a:ext cx="750600" cy="109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3" descr=""/>
          <p:cNvPicPr/>
          <p:nvPr/>
        </p:nvPicPr>
        <p:blipFill>
          <a:blip r:embed="rId6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4" descr=""/>
          <p:cNvPicPr/>
          <p:nvPr/>
        </p:nvPicPr>
        <p:blipFill>
          <a:blip r:embed="rId7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"/>
          <p:cNvPicPr/>
          <p:nvPr/>
        </p:nvPicPr>
        <p:blipFill>
          <a:blip r:embed="rId8"/>
          <a:stretch/>
        </p:blipFill>
        <p:spPr>
          <a:xfrm>
            <a:off x="5724360" y="4952880"/>
            <a:ext cx="981360" cy="1314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j0336481"/>
          <p:cNvPicPr/>
          <p:nvPr/>
        </p:nvPicPr>
        <p:blipFill>
          <a:blip r:embed="rId9"/>
          <a:stretch/>
        </p:blipFill>
        <p:spPr>
          <a:xfrm>
            <a:off x="6400800" y="2362320"/>
            <a:ext cx="7509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972 4.81481E-006 C -0.01458 0.01296 -0.01944 0.02592 -0.00972 0.03333 C -3.33333000000075E-006 0.04074 0.01945 0.03703 0.04861 0.04444 C 0.07778 0.05185 0.13611 0.07407 0.16528 0.07777 C 0.19445 0.08148 0.20695 0.06851 0.22361 0.06666 C 0.24028 0.06481 0.25417 0.07222 0.26528 0.06666 C 0.27639 0.06111 0.28611 0.05 0.29028 0.03333 C 0.29445 0.01666 0.28889 -0.01112 0.29028 -0.03334 C 0.29167 -0.05556 0.29584 -0.07778 0.29861 -0.1 C 0.30139 -0.12223 0.30556 -0.14445 0.30695 -0.16667 C 0.30834 -0.18889 0.3125 -0.20371 0.30695 -0.23334 C 0.30139 -0.26297 0.28195 -0.30926 0.27361 -0.34445 C 0.26528 -0.37963 0.27917 -0.42408 0.25695 -0.44445 C 0.23473 -0.46482 0.175 -0.46297 0.14028 -0.46667 C 0.10556 -0.47038 0.06667 -0.46482 0.04861 -0.46667 C 0.03056 -0.46852 0.04306 -0.49075 0.03195 -0.47778 C 0.02084 -0.46482 -0.00833 -0.41297 -0.01805 -0.38889 C -0.02777 -0.36482 -0.02916 -0.35186 -0.02639 -0.33334 C -0.02361 -0.31482 -0.00972 -0.29445 -0.00139 -0.27778 C 0.00695 -0.26112 0.01945 -0.24445 0.02361 -0.23334 C 0.02778 -0.22223 0.025 -0.22038 0.02361 -0.21112 C 0.02223 -0.20186 0.0125 -0.18704 0.01528 -0.17778 C 0.01806 -0.16852 0.02917 -0.16204 0.04028 -0.15556 E">
                                      <p:cBhvr>
                                        <p:cTn id="287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255 C -0.01181 0.06921 -0.0191 0.08588 -0.02188 0.09699 C -0.02483 0.1081 -0.03056 0.11528 -0.02188 0.11898 C -0.01337 0.12269 0.00104 0.11898 0.02968 0.11898 C 0.05833 0.11898 0.11857 0.12269 0.15017 0.11898 C 0.18177 0.11528 0.20173 0.1081 0.21892 0.09699 C 0.23628 0.08588 0.24618 0.07662 0.25347 0.05255 C 0.26059 0.02847 0.2592 0.02662 0.26198 -0.04745 C 0.26493 -0.12153 0.275 -0.31782 0.27066 -0.3919 C 0.26632 -0.46597 0.24618 -0.47153 0.23628 -0.4919 C 0.22621 -0.51227 0.22187 -0.51042 0.21041 -0.51412 C 0.19896 -0.51782 0.18316 -0.51412 0.16736 -0.51412 C 0.15156 -0.51412 0.1401 -0.51412 0.1158 -0.51412 C 0.09132 -0.51412 0.04687 -0.51967 0.02118 -0.51412 C -0.00469 -0.50856 -0.02327 -0.4956 -0.03907 -0.48079 C -0.05486 -0.46597 -0.06771 -0.4493 -0.07344 -0.42523 C -0.07917 -0.40116 -0.07917 -0.38264 -0.07344 -0.33634 C -0.06771 -0.29004 -0.05052 -0.1919 -0.03907 -0.14745 C -0.02761 -0.10301 -0.01615 -0.08634 -0.00469 -0.06967 E">
                                      <p:cBhvr>
                                        <p:cTn id="289" dur="5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73472E-018 -1.85185E-006 C -0.01181 0.04074 -0.02361 0.08148 -0.025 0.1 C -0.02639 0.11852 -0.03056 0.10926 -0.00834 0.11111 C 0.01389 0.11297 0.07222 0.11667 0.10833 0.11111 C 0.14444 0.10556 0.18472 0.08889 0.20833 0.07778 C 0.23194 0.06667 0.24166 0.07963 0.25 0.04445 C 0.25833 0.00926 0.25694 -0.07592 0.25833 -0.13333 C 0.25972 -0.19074 0.26527 -0.26296 0.25833 -0.3 C 0.25139 -0.33703 0.25972 -0.34629 0.21666 -0.35555 C 0.17361 -0.36481 0.04444 -0.36481 1.73472E-018 -0.35555 C -0.04445 -0.34629 -0.04028 -0.31666 -0.05 -0.3 C -0.05973 -0.28333 -0.05973 -0.27407 -0.05834 -0.25555 C -0.05695 -0.23703 -0.05 -0.22037 -0.04167 -0.18889 C -0.03334 -0.1574 -0.02084 -0.11203 -0.00834 -0.06666 E">
                                      <p:cBhvr>
                                        <p:cTn id="291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7" descr="Welding_Machine_Circuit_Board"/>
          <p:cNvPicPr/>
          <p:nvPr/>
        </p:nvPicPr>
        <p:blipFill>
          <a:blip r:embed="rId1"/>
          <a:srcRect l="0" t="13249" r="0" b="13260"/>
          <a:stretch/>
        </p:blipFill>
        <p:spPr>
          <a:xfrm>
            <a:off x="0" y="865080"/>
            <a:ext cx="8153280" cy="59929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8"/>
          <p:cNvSpPr/>
          <p:nvPr/>
        </p:nvSpPr>
        <p:spPr>
          <a:xfrm>
            <a:off x="532440" y="2286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med%20integ3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991080" y="30492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6D4D-D6F6-4800-83DE-20DC77EB1B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5E3A-7A0C-4798-9AF9-D1A905701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" descr="D0330399"/>
          <p:cNvPicPr/>
          <p:nvPr/>
        </p:nvPicPr>
        <p:blipFill>
          <a:blip r:embed="rId1"/>
          <a:stretch/>
        </p:blipFill>
        <p:spPr>
          <a:xfrm>
            <a:off x="6537240" y="0"/>
            <a:ext cx="2597400" cy="3276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generatoredited"/>
          <p:cNvPicPr/>
          <p:nvPr/>
        </p:nvPicPr>
        <p:blipFill>
          <a:blip r:embed="rId2"/>
          <a:stretch/>
        </p:blipFill>
        <p:spPr>
          <a:xfrm>
            <a:off x="3352680" y="0"/>
            <a:ext cx="3229200" cy="33051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5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6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7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"/>
          <p:cNvPicPr/>
          <p:nvPr/>
        </p:nvPicPr>
        <p:blipFill>
          <a:blip r:embed="rId8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9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9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01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07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06B9-3C69-45D6-86BE-3AC4EAA026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85E2-62A4-401E-803B-DAEAD2DC0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3124080" y="1219320"/>
            <a:ext cx="5900760" cy="51814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4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5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6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7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315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19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21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23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30B1-AC42-4874-ABB6-AA62180A1E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E5F5-6553-4D66-9EFC-CE82D5D11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" descr="Thumbnail"/>
          <p:cNvPicPr/>
          <p:nvPr/>
        </p:nvPicPr>
        <p:blipFill>
          <a:blip r:embed="rId1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MMj03368490000[1]"/>
          <p:cNvPicPr/>
          <p:nvPr/>
        </p:nvPicPr>
        <p:blipFill>
          <a:blip r:embed="rId2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j0236489"/>
          <p:cNvPicPr/>
          <p:nvPr/>
        </p:nvPicPr>
        <p:blipFill>
          <a:blip r:embed="rId3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j0285247"/>
          <p:cNvPicPr/>
          <p:nvPr/>
        </p:nvPicPr>
        <p:blipFill>
          <a:blip r:embed="rId4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9" descr="MMj02835840000[1]"/>
          <p:cNvPicPr/>
          <p:nvPr/>
        </p:nvPicPr>
        <p:blipFill>
          <a:blip r:embed="rId5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6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7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/>
          <p:cNvPicPr/>
          <p:nvPr/>
        </p:nvPicPr>
        <p:blipFill>
          <a:blip r:embed="rId8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/>
          <p:cNvPicPr/>
          <p:nvPr/>
        </p:nvPicPr>
        <p:blipFill>
          <a:blip r:embed="rId9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/>
          <p:cNvPicPr/>
          <p:nvPr/>
        </p:nvPicPr>
        <p:blipFill>
          <a:blip r:embed="rId11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"/>
          <p:cNvPicPr/>
          <p:nvPr/>
        </p:nvPicPr>
        <p:blipFill>
          <a:blip r:embed="rId12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Electrici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32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33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333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33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33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33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1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istockphoto_3580732_western_hat_and_boots"/>
          <p:cNvPicPr/>
          <p:nvPr/>
        </p:nvPicPr>
        <p:blipFill>
          <a:blip r:embed="rId1"/>
          <a:stretch/>
        </p:blipFill>
        <p:spPr>
          <a:xfrm>
            <a:off x="3200400" y="11970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"/>
          <p:cNvSpPr/>
          <p:nvPr/>
        </p:nvSpPr>
        <p:spPr>
          <a:xfrm>
            <a:off x="685800" y="-13563720"/>
            <a:ext cx="8001000" cy="156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eorgia Ref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duc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rect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riginal Story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creenpla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ngine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hoto enhancement 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asting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dito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m animation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ocation manag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ecial Effects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ield research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Courier New"/>
              </a:rPr>
              <a:t>©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2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Jacob (Cowboy) Isra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2" descr="panther4"/>
          <p:cNvPicPr/>
          <p:nvPr/>
        </p:nvPicPr>
        <p:blipFill>
          <a:blip r:embed="rId2"/>
          <a:srcRect l="0" t="0" r="0" b="2635"/>
          <a:stretch/>
        </p:blipFill>
        <p:spPr>
          <a:xfrm>
            <a:off x="3413160" y="3962520"/>
            <a:ext cx="2149560" cy="281916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609480" y="548640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Kartika"/>
              </a:rPr>
              <a:t>Panther Produ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Kartika"/>
              <a:ea typeface="Kartik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483800" y="1564920"/>
            <a:ext cx="17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team-train-south-afric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22888647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419720" y="57240"/>
            <a:ext cx="4724280" cy="680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5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6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562720" y="1066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352680" y="175248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838080" y="411480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1371600" y="41907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3886200" y="18284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6019920" y="1142640"/>
            <a:ext cx="0" cy="609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8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"/>
          <p:cNvPicPr/>
          <p:nvPr/>
        </p:nvPicPr>
        <p:blipFill>
          <a:blip r:embed="rId9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10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"/>
          <p:cNvPicPr/>
          <p:nvPr/>
        </p:nvPicPr>
        <p:blipFill>
          <a:blip r:embed="rId11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12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"/>
          <p:cNvPicPr/>
          <p:nvPr/>
        </p:nvPicPr>
        <p:blipFill>
          <a:blip r:embed="rId13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"/>
          <p:cNvPicPr/>
          <p:nvPr/>
        </p:nvPicPr>
        <p:blipFill>
          <a:blip r:embed="rId14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48" dur="6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0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2" dur="6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4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6" dur="6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8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0" dur="6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2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4" dur="6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6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97"/>
          <p:cNvSpPr/>
          <p:nvPr/>
        </p:nvSpPr>
        <p:spPr>
          <a:xfrm rot="5400000">
            <a:off x="3924000" y="-799920"/>
            <a:ext cx="304920" cy="7696080"/>
          </a:xfrm>
          <a:prstGeom prst="can">
            <a:avLst>
              <a:gd name="adj" fmla="val 168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5"/>
          <p:cNvSpPr/>
          <p:nvPr/>
        </p:nvSpPr>
        <p:spPr>
          <a:xfrm>
            <a:off x="617220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4"/>
          <p:cNvSpPr/>
          <p:nvPr/>
        </p:nvSpPr>
        <p:spPr>
          <a:xfrm>
            <a:off x="30492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3"/>
          <p:cNvSpPr/>
          <p:nvPr/>
        </p:nvSpPr>
        <p:spPr>
          <a:xfrm>
            <a:off x="2286000" y="1295280"/>
            <a:ext cx="3657600" cy="365616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535320 h 3656160"/>
              <a:gd name="textAreaBottom" fmla="*/ 3120840 h 365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59" y="10800"/>
                </a:moveTo>
                <a:cubicBezTo>
                  <a:pt x="1359" y="16014"/>
                  <a:pt x="5586" y="20241"/>
                  <a:pt x="10800" y="20241"/>
                </a:cubicBezTo>
                <a:cubicBezTo>
                  <a:pt x="16014" y="20241"/>
                  <a:pt x="20241" y="16014"/>
                  <a:pt x="20241" y="10800"/>
                </a:cubicBezTo>
                <a:cubicBezTo>
                  <a:pt x="20241" y="5586"/>
                  <a:pt x="16014" y="1359"/>
                  <a:pt x="10800" y="1359"/>
                </a:cubicBezTo>
                <a:cubicBezTo>
                  <a:pt x="5586" y="1359"/>
                  <a:pt x="1359" y="5586"/>
                  <a:pt x="1359" y="10800"/>
                </a:cubicBezTo>
                <a:close/>
              </a:path>
            </a:pathLst>
          </a:custGeom>
          <a:solidFill>
            <a:srgbClr val="e6ce74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4"/>
          <p:cNvSpPr/>
          <p:nvPr/>
        </p:nvSpPr>
        <p:spPr>
          <a:xfrm>
            <a:off x="2135160" y="1143000"/>
            <a:ext cx="3960720" cy="3962520"/>
          </a:xfrm>
          <a:custGeom>
            <a:avLst/>
            <a:gdLst>
              <a:gd name="textAreaLeft" fmla="*/ 579960 w 3960720"/>
              <a:gd name="textAreaRight" fmla="*/ 3380760 w 396072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5"/>
          <p:cNvSpPr/>
          <p:nvPr/>
        </p:nvSpPr>
        <p:spPr>
          <a:xfrm>
            <a:off x="2211480" y="1219320"/>
            <a:ext cx="3808440" cy="3809880"/>
          </a:xfrm>
          <a:custGeom>
            <a:avLst/>
            <a:gdLst>
              <a:gd name="textAreaLeft" fmla="*/ 557640 w 3808440"/>
              <a:gd name="textAreaRight" fmla="*/ 3250800 w 3808440"/>
              <a:gd name="textAreaTop" fmla="*/ 557640 h 3809880"/>
              <a:gd name="textAreaBottom" fmla="*/ 325224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6"/>
          <p:cNvSpPr/>
          <p:nvPr/>
        </p:nvSpPr>
        <p:spPr>
          <a:xfrm>
            <a:off x="2133720" y="1143000"/>
            <a:ext cx="3884400" cy="3962520"/>
          </a:xfrm>
          <a:custGeom>
            <a:avLst/>
            <a:gdLst>
              <a:gd name="textAreaLeft" fmla="*/ 568800 w 3884400"/>
              <a:gd name="textAreaRight" fmla="*/ 3315600 w 388440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98"/>
          <p:cNvSpPr/>
          <p:nvPr/>
        </p:nvSpPr>
        <p:spPr>
          <a:xfrm rot="1986600">
            <a:off x="594324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rc 99"/>
          <p:cNvSpPr/>
          <p:nvPr/>
        </p:nvSpPr>
        <p:spPr>
          <a:xfrm rot="1986600">
            <a:off x="601956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100"/>
          <p:cNvSpPr/>
          <p:nvPr/>
        </p:nvSpPr>
        <p:spPr>
          <a:xfrm rot="1986600">
            <a:off x="609552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101"/>
          <p:cNvSpPr/>
          <p:nvPr/>
        </p:nvSpPr>
        <p:spPr>
          <a:xfrm flipH="1" flipV="1" rot="1986600">
            <a:off x="1828440" y="2894400"/>
            <a:ext cx="287280" cy="303480"/>
          </a:xfrm>
          <a:custGeom>
            <a:avLst/>
            <a:gdLst>
              <a:gd name="textAreaLeft" fmla="*/ 360 w 287280"/>
              <a:gd name="textAreaRight" fmla="*/ 288000 w 287280"/>
              <a:gd name="textAreaTop" fmla="*/ -360 h 303480"/>
              <a:gd name="textAreaBottom" fmla="*/ 303480 h 30348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102"/>
          <p:cNvSpPr/>
          <p:nvPr/>
        </p:nvSpPr>
        <p:spPr>
          <a:xfrm flipH="1" flipV="1" rot="1986600">
            <a:off x="1899720" y="2897640"/>
            <a:ext cx="306720" cy="310320"/>
          </a:xfrm>
          <a:custGeom>
            <a:avLst/>
            <a:gdLst>
              <a:gd name="textAreaLeft" fmla="*/ 360 w 306720"/>
              <a:gd name="textAreaRight" fmla="*/ 307440 w 306720"/>
              <a:gd name="textAreaTop" fmla="*/ 360 h 310320"/>
              <a:gd name="textAreaBottom" fmla="*/ 311040 h 31032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103"/>
          <p:cNvSpPr/>
          <p:nvPr/>
        </p:nvSpPr>
        <p:spPr>
          <a:xfrm flipH="1" flipV="1" rot="1986600">
            <a:off x="1978560" y="2896920"/>
            <a:ext cx="301680" cy="307800"/>
          </a:xfrm>
          <a:custGeom>
            <a:avLst/>
            <a:gdLst>
              <a:gd name="textAreaLeft" fmla="*/ 360 w 301680"/>
              <a:gd name="textAreaRight" fmla="*/ 302400 w 301680"/>
              <a:gd name="textAreaTop" fmla="*/ -360 h 307800"/>
              <a:gd name="textAreaBottom" fmla="*/ 307800 h 3078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6"/>
          <p:cNvSpPr/>
          <p:nvPr/>
        </p:nvSpPr>
        <p:spPr>
          <a:xfrm flipH="1" flipV="1">
            <a:off x="1142640" y="3123720"/>
            <a:ext cx="1143000" cy="3124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7"/>
          <p:cNvSpPr/>
          <p:nvPr/>
        </p:nvSpPr>
        <p:spPr>
          <a:xfrm flipV="1">
            <a:off x="5105520" y="3200400"/>
            <a:ext cx="114300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8"/>
          <p:cNvSpPr/>
          <p:nvPr/>
        </p:nvSpPr>
        <p:spPr>
          <a:xfrm>
            <a:off x="2153880" y="617220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lued onto bottom half of sti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9"/>
          <p:cNvSpPr/>
          <p:nvPr/>
        </p:nvSpPr>
        <p:spPr>
          <a:xfrm>
            <a:off x="5811840" y="457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coi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vered with g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0"/>
          <p:cNvSpPr/>
          <p:nvPr/>
        </p:nvSpPr>
        <p:spPr>
          <a:xfrm flipV="1">
            <a:off x="5486400" y="3124080"/>
            <a:ext cx="2133720" cy="3200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2"/>
          <p:cNvSpPr/>
          <p:nvPr/>
        </p:nvSpPr>
        <p:spPr>
          <a:xfrm flipH="1">
            <a:off x="5790960" y="914400"/>
            <a:ext cx="60948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13"/>
          <p:cNvSpPr/>
          <p:nvPr/>
        </p:nvSpPr>
        <p:spPr>
          <a:xfrm flipH="1" flipV="1">
            <a:off x="1905120" y="3124080"/>
            <a:ext cx="838080" cy="243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6"/>
          <p:cNvSpPr/>
          <p:nvPr/>
        </p:nvSpPr>
        <p:spPr>
          <a:xfrm>
            <a:off x="2567880" y="54864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7"/>
          <p:cNvSpPr/>
          <p:nvPr/>
        </p:nvSpPr>
        <p:spPr>
          <a:xfrm>
            <a:off x="457200" y="457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8"/>
          <p:cNvSpPr/>
          <p:nvPr/>
        </p:nvSpPr>
        <p:spPr>
          <a:xfrm>
            <a:off x="1573200" y="914400"/>
            <a:ext cx="101772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9"/>
          <p:cNvSpPr/>
          <p:nvPr/>
        </p:nvSpPr>
        <p:spPr>
          <a:xfrm>
            <a:off x="3276720" y="17524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0"/>
          <p:cNvSpPr/>
          <p:nvPr/>
        </p:nvSpPr>
        <p:spPr>
          <a:xfrm flipH="1">
            <a:off x="3352680" y="213372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1"/>
          <p:cNvSpPr/>
          <p:nvPr/>
        </p:nvSpPr>
        <p:spPr>
          <a:xfrm>
            <a:off x="2934720" y="13644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2"/>
          <p:cNvSpPr/>
          <p:nvPr/>
        </p:nvSpPr>
        <p:spPr>
          <a:xfrm>
            <a:off x="5083920" y="7632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7"/>
          <p:cNvSpPr/>
          <p:nvPr/>
        </p:nvSpPr>
        <p:spPr>
          <a:xfrm>
            <a:off x="648720" y="21276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2777400" y="13644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9" descr=""/>
          <p:cNvPicPr/>
          <p:nvPr/>
        </p:nvPicPr>
        <p:blipFill>
          <a:blip r:embed="rId1"/>
          <a:stretch/>
        </p:blipFill>
        <p:spPr>
          <a:xfrm>
            <a:off x="4497480" y="3124080"/>
            <a:ext cx="4113000" cy="343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038480" y="103320"/>
            <a:ext cx="472932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73"/>
          <p:cNvSpPr/>
          <p:nvPr/>
        </p:nvSpPr>
        <p:spPr>
          <a:xfrm>
            <a:off x="685800" y="2895480"/>
            <a:ext cx="3327480" cy="251460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5"/>
          <p:cNvSpPr/>
          <p:nvPr/>
        </p:nvSpPr>
        <p:spPr>
          <a:xfrm flipV="1">
            <a:off x="1523880" y="3352680"/>
            <a:ext cx="10670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3"/>
          <p:cNvSpPr/>
          <p:nvPr/>
        </p:nvSpPr>
        <p:spPr>
          <a:xfrm rot="5400000">
            <a:off x="2399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0" descr=""/>
          <p:cNvPicPr/>
          <p:nvPr/>
        </p:nvPicPr>
        <p:blipFill>
          <a:blip r:embed="rId1"/>
          <a:stretch/>
        </p:blipFill>
        <p:spPr>
          <a:xfrm>
            <a:off x="3800520" y="383544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6"/>
          <p:cNvSpPr/>
          <p:nvPr/>
        </p:nvSpPr>
        <p:spPr>
          <a:xfrm flipH="1" rot="16200000">
            <a:off x="2590560" y="2819160"/>
            <a:ext cx="152280" cy="457200"/>
          </a:xfrm>
          <a:prstGeom prst="can">
            <a:avLst>
              <a:gd name="adj" fmla="val 1126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3"/>
          <p:cNvSpPr/>
          <p:nvPr/>
        </p:nvSpPr>
        <p:spPr>
          <a:xfrm flipH="1" rot="16200000">
            <a:off x="163692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3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2666880" y="38098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4">
              <a:alphaModFix amt="2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5"/>
          <a:stretch/>
        </p:blipFill>
        <p:spPr>
          <a:xfrm>
            <a:off x="2819520" y="1905120"/>
            <a:ext cx="4572000" cy="23605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2"/>
          <p:cNvSpPr/>
          <p:nvPr/>
        </p:nvSpPr>
        <p:spPr>
          <a:xfrm>
            <a:off x="2666880" y="17524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6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"/>
          <p:cNvSpPr/>
          <p:nvPr/>
        </p:nvSpPr>
        <p:spPr>
          <a:xfrm flipH="1" rot="16200000">
            <a:off x="605664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5"/>
          <p:cNvSpPr/>
          <p:nvPr/>
        </p:nvSpPr>
        <p:spPr>
          <a:xfrm rot="5400000">
            <a:off x="7619760" y="2743200"/>
            <a:ext cx="152280" cy="609480"/>
          </a:xfrm>
          <a:prstGeom prst="can">
            <a:avLst>
              <a:gd name="adj" fmla="val 11263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1" descr=""/>
          <p:cNvPicPr/>
          <p:nvPr/>
        </p:nvPicPr>
        <p:blipFill>
          <a:blip r:embed="rId9"/>
          <a:stretch/>
        </p:blipFill>
        <p:spPr>
          <a:xfrm>
            <a:off x="3952800" y="170172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6"/>
          <p:cNvSpPr/>
          <p:nvPr/>
        </p:nvSpPr>
        <p:spPr>
          <a:xfrm>
            <a:off x="3088440" y="59436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rough bottom of ho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7"/>
          <p:cNvSpPr/>
          <p:nvPr/>
        </p:nvSpPr>
        <p:spPr>
          <a:xfrm>
            <a:off x="914760" y="23623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0"/>
          <p:cNvSpPr/>
          <p:nvPr/>
        </p:nvSpPr>
        <p:spPr>
          <a:xfrm>
            <a:off x="6400800" y="685800"/>
            <a:ext cx="53352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5674320" y="228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2"/>
          <p:cNvSpPr/>
          <p:nvPr/>
        </p:nvSpPr>
        <p:spPr>
          <a:xfrm rot="5400000">
            <a:off x="6971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4"/>
          <p:cNvSpPr/>
          <p:nvPr/>
        </p:nvSpPr>
        <p:spPr>
          <a:xfrm flipH="1" flipV="1">
            <a:off x="7467480" y="3809520"/>
            <a:ext cx="53352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>
            <a:off x="1523880" y="3429000"/>
            <a:ext cx="160020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V="1">
            <a:off x="5867280" y="5943240"/>
            <a:ext cx="21337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2666880" y="3657600"/>
            <a:ext cx="990720" cy="914400"/>
          </a:xfrm>
          <a:prstGeom prst="rtTriangle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9"/>
          <p:cNvSpPr/>
          <p:nvPr/>
        </p:nvSpPr>
        <p:spPr>
          <a:xfrm rot="10800000">
            <a:off x="6172200" y="2514600"/>
            <a:ext cx="914400" cy="914400"/>
          </a:xfrm>
          <a:prstGeom prst="rtTriangle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0"/>
          <p:cNvSpPr/>
          <p:nvPr/>
        </p:nvSpPr>
        <p:spPr>
          <a:xfrm rot="5400000">
            <a:off x="2590200" y="2590560"/>
            <a:ext cx="990720" cy="838440"/>
          </a:xfrm>
          <a:prstGeom prst="rtTriangle">
            <a:avLst/>
          </a:prstGeom>
          <a:blipFill rotWithShape="0">
            <a:blip r:embed="rId12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71"/>
          <p:cNvSpPr/>
          <p:nvPr/>
        </p:nvSpPr>
        <p:spPr>
          <a:xfrm rot="16200000">
            <a:off x="6134040" y="3619440"/>
            <a:ext cx="990720" cy="914400"/>
          </a:xfrm>
          <a:prstGeom prst="rtTriangle">
            <a:avLst/>
          </a:prstGeom>
          <a:blipFill rotWithShape="0">
            <a:blip r:embed="rId13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74"/>
          <p:cNvSpPr/>
          <p:nvPr/>
        </p:nvSpPr>
        <p:spPr>
          <a:xfrm flipV="1" rot="476400">
            <a:off x="990360" y="1600200"/>
            <a:ext cx="3124080" cy="914400"/>
          </a:xfrm>
          <a:custGeom>
            <a:avLst/>
            <a:gdLst>
              <a:gd name="textAreaLeft" fmla="*/ 0 w 3124080"/>
              <a:gd name="textAreaRight" fmla="*/ 3124440 w 31240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3" descr=""/>
          <p:cNvPicPr/>
          <p:nvPr/>
        </p:nvPicPr>
        <p:blipFill>
          <a:blip r:embed="rId1"/>
          <a:stretch/>
        </p:blipFill>
        <p:spPr>
          <a:xfrm>
            <a:off x="304920" y="138240"/>
            <a:ext cx="8305560" cy="283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8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305560" cy="3291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9"/>
          <p:cNvSpPr/>
          <p:nvPr/>
        </p:nvSpPr>
        <p:spPr>
          <a:xfrm>
            <a:off x="8305920" y="990720"/>
            <a:ext cx="380880" cy="1225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305920" y="4419720"/>
            <a:ext cx="380880" cy="16002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23:31Z</dcterms:modified>
  <cp:revision>293</cp:revision>
  <dc:subject/>
  <dc:title>PowerPoint Presentation</dc:title>
</cp:coreProperties>
</file>