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CC60-9208-4941-825F-7396104F273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23, 20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– because it requires work to move it away from the negativ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– because it requires work to move it away from the negative char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 = work/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 = work/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e charge q from far away to the place 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new location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the charge q from far away to the place 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e charge q from far away to the pl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new location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= work/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1000 J/10C = 100 Vo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the charge q from far away to the plac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= work/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 = 1000 J/10C = 100 Vo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BE THE SAME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would also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OULD BE THE SAM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would also incre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is associated with LOCATION, not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is associated with LOCATION, not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vs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harge has more electric potenti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has more potential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vs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charge has more electric potent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has more potential ener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5000 Volts Dangero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5000 Volts Danger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5000 Volts Dangero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P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1 million electrons are added to a neutral balloon, it has an electric potential of 5000 vo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5000 Volts Danger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P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1 million electrons are added to a neutral balloon, it has an electric potential of 5000 vo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s of Electrost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cations of Electrosta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between A and B is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between A and B is 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re is a 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here is a 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 flow from high to low electric pot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ges flow from high to low electric pot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n’t birds on power lines shoc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n’t birds on power lines shoc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Difference between their feet is zero! (0 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otential Difference between their feet is zero! (0 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low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(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 flow of electr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COULOM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million trillion electrons is about - 1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million trillion protons is about + 1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COULOM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 million trillion electrons is about - 1 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 million trillion protons is about + 1 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ring has more SPE when it is com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ring has more SPE when it is com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wise, these charges will have more potential energy when they are pushed clo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wise, these charges will have more potential energy when they are pushed clos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 equals the amount of work done to move a charge from one place to anoth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 equals the amount of work done to move a charge from one place to another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will have the larger electric potential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will have the larger electric potential ener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009-810D-4C79-9721-74BE7CC8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39C-4FD0-43A8-8BDC-2BC0BA9C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73B0-3352-445B-8A00-0B33C1A8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865-2E97-403F-931F-7CDCAD91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FACA-82B4-4175-BCE9-11B308E3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BFA4-5CB7-4B83-ABD5-09D63E69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3509-3847-4142-965B-3A58C97D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82C1-C730-4921-9AD8-B585203A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1125-2551-41C3-8B99-9136693D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B9FA-98ED-4E60-BCCB-9B0AB4EB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074F-D251-4873-A9C3-5B1C799E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69B-FBDE-486E-9F93-546FA127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EF3E-D699-4909-A8FE-4D6DC4FB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5CA4-0BA5-4D9A-A55B-6E30DE09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A7EC-3B08-407B-8E59-E466C1DD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543D-624E-4886-ACC7-96FDF7B7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C77A-8A01-490A-A5A6-9F915EE1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E572-38FE-4F3A-B311-925F5E38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CA9-E251-404E-AD4C-EC3FEDD2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F2A5-4F35-4639-A1CA-3F110F28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461-5434-489B-BC91-4624EA38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FF08-CD72-49C4-8258-3FD3C365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9DA-E51B-44C2-83F2-F68B70CA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A1A-298A-414D-B448-58F8401A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CA81-4719-459B-8324-554613717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D02D-D8B9-404A-8B85-FF22CF3245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lectricity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23, 20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– because it requires work to move it away from the nega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rcRect l="0" t="11292" r="0" b="52582"/>
          <a:stretch/>
        </p:blipFill>
        <p:spPr>
          <a:xfrm>
            <a:off x="914400" y="2286000"/>
            <a:ext cx="7848720" cy="14479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2743200" y="2666880"/>
            <a:ext cx="304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153280" y="2752560"/>
            <a:ext cx="304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26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 = work/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343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 1000 joules of work is done to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the charge q from far away to the place indicated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 1000 joules of work is done 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the charge q from far away to the pla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d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 = work/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= 1000 J/10C = 100 Vo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BE THE SAME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ould also incr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 potential is associated with LOCATION, not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622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vs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038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harge has more electric potenti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has more potential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983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5000 Volts Dangerou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33376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5000 Volts Dangerou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505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P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1 million electrons are added to a neutral balloon, it has an electric potential of 5000 vo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4343400" y="2209680"/>
            <a:ext cx="441972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pplications of Electrosta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6400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difference between A and B is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2057400" y="37339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4300560" y="37450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382840" y="47656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112840" y="3776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3434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819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2438280" y="53132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2209680" y="5181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2209680" y="4876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228600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26668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22096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2819520" y="4876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182880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057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2860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14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21"/>
          <p:cNvSpPr/>
          <p:nvPr/>
        </p:nvSpPr>
        <p:spPr>
          <a:xfrm>
            <a:off x="4648320" y="480060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5084640" y="52927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3"/>
          <p:cNvSpPr/>
          <p:nvPr/>
        </p:nvSpPr>
        <p:spPr>
          <a:xfrm>
            <a:off x="4703760" y="5348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4475160" y="521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>
            <a:off x="4475160" y="49118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455148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493236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>
            <a:off x="5084640" y="49118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9"/>
          <p:cNvSpPr/>
          <p:nvPr/>
        </p:nvSpPr>
        <p:spPr>
          <a:xfrm>
            <a:off x="4800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4724280" y="3733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4038480" y="3962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4343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33"/>
          <p:cNvSpPr/>
          <p:nvPr/>
        </p:nvSpPr>
        <p:spPr>
          <a:xfrm>
            <a:off x="4114800" y="3733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re is a potential dif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2057400" y="37339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4452840" y="42022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2382840" y="47656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112840" y="3776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49568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2819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2438280" y="53132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209680" y="5181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2209680" y="4876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228600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26668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22096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2819520" y="4876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182880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2057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22860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2514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648320" y="480060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22"/>
          <p:cNvSpPr/>
          <p:nvPr/>
        </p:nvSpPr>
        <p:spPr>
          <a:xfrm>
            <a:off x="5084640" y="52927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703760" y="5348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4475160" y="521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5"/>
          <p:cNvSpPr/>
          <p:nvPr/>
        </p:nvSpPr>
        <p:spPr>
          <a:xfrm>
            <a:off x="4475160" y="49118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>
            <a:off x="455148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>
            <a:off x="493236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5084640" y="49118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4952880" y="44956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4876920" y="4191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31"/>
          <p:cNvSpPr/>
          <p:nvPr/>
        </p:nvSpPr>
        <p:spPr>
          <a:xfrm>
            <a:off x="4191120" y="44197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32"/>
          <p:cNvSpPr/>
          <p:nvPr/>
        </p:nvSpPr>
        <p:spPr>
          <a:xfrm>
            <a:off x="44956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33"/>
          <p:cNvSpPr/>
          <p:nvPr/>
        </p:nvSpPr>
        <p:spPr>
          <a:xfrm>
            <a:off x="4267080" y="4191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88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s flow from high to low electric potent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88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191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343400" y="2743200"/>
            <a:ext cx="4419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62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tential Difference between their feet is zero! (0 volt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419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urrent (I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 flow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Char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COULOM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illion trillion electrons is about - 1 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illion trillion protons is about + 1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65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1480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65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wise, these charges will have more potential energy when they are pushed cl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14800" cy="3795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343400" y="1905120"/>
            <a:ext cx="4343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 equals the amount of work done to move a charge from one place to anoth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30556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will have the larger electric potential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1292" r="0" b="52582"/>
          <a:stretch/>
        </p:blipFill>
        <p:spPr>
          <a:xfrm>
            <a:off x="914400" y="2286000"/>
            <a:ext cx="7848720" cy="12193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2743200" y="2590920"/>
            <a:ext cx="304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8153280" y="2590920"/>
            <a:ext cx="304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2:43:55Z</dcterms:created>
  <dc:creator>MDS</dc:creator>
  <dc:description/>
  <dc:language>en-US</dc:language>
  <cp:lastModifiedBy>RomaK</cp:lastModifiedBy>
  <dcterms:modified xsi:type="dcterms:W3CDTF">2015-09-03T12:23:13Z</dcterms:modified>
  <cp:revision>8</cp:revision>
  <dc:subject/>
  <dc:title>Electricity </dc:title>
</cp:coreProperties>
</file>