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D138-BAFE-497D-8BB8-9206D9EA24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1000 J/10C = 1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BE THE SAME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would also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is associated with LOCATION, not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vs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harge has more electric potent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s more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vs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P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s of Electrost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Electrosta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between A and B is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re is a 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flow from high to low electric pot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Difference between their feet is zero! (0 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low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(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COULOM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electrons is about - 1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protons is about + 1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have the larger electric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F0F-DB52-437D-94D0-49E7326D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E89-0396-445B-BADF-70AEC492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BF1-AD78-405B-80BB-3E2449D6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2CD-956A-4D0C-A1F9-66DA3A51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2276-6269-47A7-8F9D-C0B85545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8D8D-2F09-40EB-9405-743E43C8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AB29-A136-4F83-9A63-CCC47565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AA05-4217-48AB-A7FB-70BF460C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38AC-37A9-49D1-AC56-CFF84DB9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B136-0E87-4707-A521-2A4EA467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9E95-61A2-4B42-B1A2-A006D91E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F52-544A-4136-A467-C15CB705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1CBF-8BA1-41E3-9B52-1FB4E6D9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9089-D0C2-47FC-A206-5BC16E62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E3F7-F2E8-4EA8-AE57-B2894420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BF68-1722-48FC-BDB8-C47FE23C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3A4B-0814-451D-80E9-79D5ED1B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336-9099-451F-9B40-803FCB54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ACB-0F08-4FF7-8CE9-AE2EE65F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58DE-C67E-45EC-B075-45AC23F8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157-75D3-4E53-B633-987814F4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592-B447-4988-8072-99B154B2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B9C-B239-413E-A6B8-9DE4359B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202-94A9-4D6E-AAC6-41570745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DC1B-CF50-4B1F-BDD4-F05F47710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00DB-5042-407A-98D3-C4C97F2D82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lectricity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4479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2743200" y="266688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153280" y="275256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343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622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vs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038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983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505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pplications of Electrosta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6400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4300560" y="37450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3434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>
            <a:off x="4800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4724280" y="3733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4038480" y="3962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4343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4114800" y="3733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4452840" y="42022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49568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4952880" y="44956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876920" y="4191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4191120" y="44197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>
            <a:off x="44956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62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urrent (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Char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343400" y="1905120"/>
            <a:ext cx="4343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055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2193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274320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815328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2:43:55Z</dcterms:created>
  <dc:creator>MDS</dc:creator>
  <dc:description/>
  <dc:language>en-US</dc:language>
  <cp:lastModifiedBy>RomaK</cp:lastModifiedBy>
  <dcterms:modified xsi:type="dcterms:W3CDTF">2015-09-03T12:23:13Z</dcterms:modified>
  <cp:revision>8</cp:revision>
  <dc:subject/>
  <dc:title>Electricity </dc:title>
</cp:coreProperties>
</file>