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3315-9805-4ACC-9E78-550448CAAA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’s bright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and times of an inventor and busines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Alva Ed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7 - 19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portant Thurs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oticed that Tom's forehead was unusually wide and his head was bigger than normal.  He made no secret of his belief that Tom’s brains were  scrambl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was born on Thursday February the 11th, 1847 in the town of Milan,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omas was seven his teacher finally lost his patience with his constant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do when you get home from scho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’s first important invention wa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nograph.  A machine that could recor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produce soun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is greatest success was the developm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electric light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en you turn on the light                and listen to music think of Thomas Ed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turn the lights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lay Emin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and f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lectricity spread around the world. The success of his electric light brought Thomas Edison to new heights of fame and weal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ison's electric companies continued to grow until in 1889 they were brought together to form Edison General Electr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sweet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uple married in February 188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ovie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working on the phonograph, Thomas began working on a device that, "does for the eye what the phonograph does for the ear", this was to become motion pictur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first demonstrated motion pictures in 1891, and began making "movies" two years l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very beautiful over ther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dison died on Sunday October the 18th, 1931. He was 84 years 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omas Edison a geni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at he had to say about it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Genius is 1% inspiration and 99%  perspiration. A 'genius' is often simply a talented person who has done all of his or her homework.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D38-A9DB-4819-AD22-E23432CD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0B0-877A-40CA-8DC7-CA01BFF9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544-0166-4E2E-BDA6-323FEC74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6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2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9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6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2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37E4-A820-42B7-A4A6-538596A8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6D2-B97C-4270-BFD5-CD54A43B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0036-DC0F-4A3B-A917-9CC54DD4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81F9-6CC1-40C1-9775-9058FD2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814-2D0C-4633-AD2A-171D983F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9840" y="27432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333-7E0D-4E84-950C-4DF84D88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AAE-6BA7-4626-89CB-5BD3820F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1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F3F-4C25-47D4-AAA4-AC02DB61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1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9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E873-7552-49FC-90CE-126DF3DC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5320" y="624492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248160"/>
            <a:ext cx="129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C21C-9908-4F39-A2C0-088119CAA5A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Thomas Edison’s bright ideas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e life and times of an inventor and business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10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66"/>
                </a:solidFill>
                <a:latin typeface="Gill Sans MT Schoolbook"/>
              </a:rPr>
              <a:t>Thomas Alva Edison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00" name="Picture 8" descr="edison9"/>
          <p:cNvPicPr/>
          <p:nvPr/>
        </p:nvPicPr>
        <p:blipFill>
          <a:blip r:embed="rId1"/>
          <a:stretch/>
        </p:blipFill>
        <p:spPr>
          <a:xfrm>
            <a:off x="3851280" y="1628640"/>
            <a:ext cx="2295360" cy="2737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4140360" y="479736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1847 - 19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156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 important Thursday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60720" y="4724280"/>
            <a:ext cx="69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He noticed that Tom's forehead was unusually wide and his head was bigger than normal.  He made no secret of his belief that Tom’s brains were  scramb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124000" y="1541520"/>
            <a:ext cx="47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omas Edison was born on Thursday February the 11th, 1847 in the town of Milan,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124000" y="3130560"/>
            <a:ext cx="46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When Thomas was seven his teacher finally lost his patience with his constan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baby_drinking_from_sippy_cup_hg_blk"/>
          <p:cNvPicPr/>
          <p:nvPr/>
        </p:nvPicPr>
        <p:blipFill>
          <a:blip r:embed="rId1"/>
          <a:stretch/>
        </p:blipFill>
        <p:spPr>
          <a:xfrm>
            <a:off x="6970680" y="1268280"/>
            <a:ext cx="220968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3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2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8920" y="2420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What do you do when you get home from school?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3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6" descr="boy_yelling_into_microphone_hg_blk"/>
          <p:cNvPicPr/>
          <p:nvPr/>
        </p:nvPicPr>
        <p:blipFill>
          <a:blip r:embed="rId1"/>
          <a:stretch/>
        </p:blipFill>
        <p:spPr>
          <a:xfrm>
            <a:off x="7020000" y="166680"/>
            <a:ext cx="1990800" cy="33336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2708280"/>
            <a:ext cx="6842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’s first important invention was the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phonograph.  A machine that could record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nd reproduce sound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But his greatest success was the development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of the electric light. </a:t>
            </a:r>
            <a:br>
              <a:rPr sz="2400"/>
            </a:br>
            <a:br>
              <a:rPr sz="1800"/>
            </a:b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So when you turn on the light                and listen to music think of Thomas Edison.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268360" y="83664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I turn the lights on </a:t>
            </a:r>
            <a:br>
              <a:rPr sz="3600"/>
            </a:b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and play Emine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4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switch_perspective_lg_blk"/>
          <p:cNvPicPr/>
          <p:nvPr/>
        </p:nvPicPr>
        <p:blipFill>
          <a:blip r:embed="rId2"/>
          <a:stretch/>
        </p:blipFill>
        <p:spPr>
          <a:xfrm>
            <a:off x="6227640" y="5229360"/>
            <a:ext cx="74772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50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Gill Sans MT Schoolbook"/>
              </a:rPr>
              <a:t>Money and fame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268360" y="1881360"/>
            <a:ext cx="5905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As electricity spread around the world. The success of his electric light brought Thomas Edison to new heights of fame and wealth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Edison's electric companies continued to grow until in 1889 they were brought together to form Edison General Electr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money_hand_flipping_bill_lg_blk"/>
          <p:cNvPicPr/>
          <p:nvPr/>
        </p:nvPicPr>
        <p:blipFill>
          <a:blip r:embed="rId1"/>
          <a:stretch/>
        </p:blipFill>
        <p:spPr>
          <a:xfrm>
            <a:off x="7518240" y="5013360"/>
            <a:ext cx="1733760" cy="13618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5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Home sweet hom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2000" y="1988640"/>
            <a:ext cx="7086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In 1884, during this period of success, Tom's wife Mary died.  A year later, while on holiday at a friends house in New England, he met Mina Miller and they fell in lo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e couple married in February 1886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6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2" descr="bride_groom_kissing_lg_blk"/>
          <p:cNvPicPr/>
          <p:nvPr/>
        </p:nvPicPr>
        <p:blipFill>
          <a:blip r:embed="rId1"/>
          <a:stretch/>
        </p:blipFill>
        <p:spPr>
          <a:xfrm>
            <a:off x="7093080" y="4076640"/>
            <a:ext cx="18842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Gill Sans MT Schoolbook"/>
              </a:rPr>
              <a:t>The first movie star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3" name="Picture 9" descr="inventor_explaining_schematics_hg_blk"/>
          <p:cNvPicPr/>
          <p:nvPr/>
        </p:nvPicPr>
        <p:blipFill>
          <a:blip r:embed="rId1"/>
          <a:stretch/>
        </p:blipFill>
        <p:spPr>
          <a:xfrm>
            <a:off x="6710400" y="1484280"/>
            <a:ext cx="2469960" cy="24703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2411280" y="1484280"/>
            <a:ext cx="424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While working on the phonograph, Thomas began working on a device that, "does for the eye what the phonograph does for the ear", this was to become motion pictures.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2340000" y="4508640"/>
            <a:ext cx="59040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first demonstrated motion pictures in 1891, and began making "movies" two years later.</a:t>
            </a:r>
            <a:r>
              <a:rPr b="0" lang="en-GB" sz="1800" spc="-1" strike="noStrike">
                <a:solidFill>
                  <a:srgbClr val="000000"/>
                </a:solidFill>
                <a:latin typeface="Gill Sans MT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33040" y="475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“</a:t>
            </a: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It is very beautiful over there.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050920" y="1773360"/>
            <a:ext cx="6266160" cy="29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Thomas Edison died on Sunday October the 18th, 1931. He was 84 years 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Gill Sans MT Schoolbook"/>
              </a:rPr>
              <a:t>Shortly before passing away, he awoke from a coma and quietly whispered wife Mina, who had been keeping a vigil all night by his side:  "It is very beautiful over there..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american_flag_blowing_over_coffin_hg_blk"/>
          <p:cNvPicPr/>
          <p:nvPr/>
        </p:nvPicPr>
        <p:blipFill>
          <a:blip r:embed="rId1"/>
          <a:stretch/>
        </p:blipFill>
        <p:spPr>
          <a:xfrm>
            <a:off x="5796000" y="4437000"/>
            <a:ext cx="297504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8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48528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Gill Sans MT Schoolbook"/>
              </a:rPr>
              <a:t>Was Thomas Edison a genius?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79640" y="1628280"/>
            <a:ext cx="54007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This is what he had to say about it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484360" y="280368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 MT Schoolbook"/>
              </a:rPr>
              <a:t>"Genius is 1% inspiration and 99%  perspiration. A 'genius' is often simply a talented person who has done all of his or her homework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rade_circled_a_plus_lg_blk"/>
          <p:cNvPicPr/>
          <p:nvPr/>
        </p:nvPicPr>
        <p:blipFill>
          <a:blip r:embed="rId1"/>
          <a:stretch/>
        </p:blipFill>
        <p:spPr>
          <a:xfrm>
            <a:off x="6443640" y="4869000"/>
            <a:ext cx="1609920" cy="1304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34920" y="4428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9 of 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8064360" y="6670800"/>
            <a:ext cx="12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25:32Z</dcterms:created>
  <dc:creator>The Learning Trust</dc:creator>
  <dc:description/>
  <dc:language>en-US</dc:language>
  <cp:lastModifiedBy>RomaK</cp:lastModifiedBy>
  <dcterms:modified xsi:type="dcterms:W3CDTF">2015-09-03T12:22:31Z</dcterms:modified>
  <cp:revision>124</cp:revision>
  <dc:subject/>
  <dc:title>Thomas Edison’s bright idea</dc:title>
</cp:coreProperties>
</file>