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A42A-4409-4F42-B3EE-0E80236F37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’s bright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and times of an inventor and busines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’s bright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and times of an inventor and busines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Alva Ed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7 - 19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Alva Ed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7 - 19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ortant 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noticed that Tom's forehead was unusually wide and his head was bigger than normal.  He made no secret of his belief that Tom’s brains were  scrambl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was born on Thursday February the 11th, 1847 in the town of Milan,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omas was seven his teacher finally lost his patience with his constant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ortant 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noticed that Tom's forehead was unusually wide and his head was bigger than normal.  He made no secret of his belief that Tom’s brains were  scrambl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was born on Thursday February the 11th, 1847 in the town of Milan,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omas was seven his teacher finally lost his patience with his constant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do when you get home from sch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do when you get home from sch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’s first important invention wa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ograph.  A machine that could recor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produce soun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is greatest success was the developm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electric ligh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n you turn on the light                and listen to music think of Thomas Ed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urn the lights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lay Emin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’s first important invention wa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ograph.  A machine that could recor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produce soun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is greatest success was the developm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electric ligh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n you turn on the light                and listen to music think of Thomas Ed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urn the lights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lay Emin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and f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lectricity spread around the world. The success of his electric light brought Thomas Edison to new heights of fame and weal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's electric companies continued to grow until in 1889 they were brought together to form Edison General Electr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and f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lectricity spread around the world. The success of his electric light brought Thomas Edison to new heights of fame and weal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's electric companies continued to grow until in 1889 they were brought together to form Edison General Electr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swee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ple married in February 188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swee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ple married in February 188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ovie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working on the phonograph, Thomas began working on a device that, "does for the eye what the phonograph does for the ear", this was to become motion pic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first demonstrated motion pictures in 1891, and began making "movies" two years l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ovie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working on the phonograph, Thomas began working on a device that, "does for the eye what the phonograph does for the ear", this was to become motion pic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first demonstrated motion pictures in 1891, and began making "movies" two years l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very beautiful over ther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died on Sunday October the 18th, 1931. He was 84 years 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very beautiful over ther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died on Sunday October the 18th, 1931. He was 84 years 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omas Edison a geni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at he had to say about i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enius is 1% inspiration and 99%  perspiration. A 'genius' is often simply a talented person who has done all of his or her homework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omas Edison a geni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at he had to say about i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enius is 1% inspiration and 99%  perspiration. A 'genius' is often simply a talented person who has done all of his or her homework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2B4-FE25-491F-9C2C-85CEDEE4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241-EFB3-43E8-B798-C71A40EF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4DB-DF76-4D39-8411-2A7E0BB7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6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6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218E-63C8-457D-85F5-7ACD5766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CDF-F051-483B-9851-7C6FB4CA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F13-38D8-4702-BED0-313623EE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B99-6A20-43B6-83A9-6F0C7D94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930B-B4F7-4FC4-B6F6-831E615F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2743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8AAF-961E-4E6E-BBE7-92F02F2F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2577-C205-4772-9C6E-2276BD3B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0892-0179-442E-92B3-3F4B46E7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533-1A87-44CC-9689-42BCDD73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020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32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248160"/>
            <a:ext cx="129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329C-927B-432B-ABDF-D8997B04661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Thomas Edison’s bright idea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13336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life and times of an inventor and business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0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66"/>
                </a:solidFill>
                <a:latin typeface="Gill Sans MT Schoolbook"/>
              </a:rPr>
              <a:t>Thomas Alva Edis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0" name="Picture 8" descr="edison9"/>
          <p:cNvPicPr/>
          <p:nvPr/>
        </p:nvPicPr>
        <p:blipFill>
          <a:blip r:embed="rId1"/>
          <a:stretch/>
        </p:blipFill>
        <p:spPr>
          <a:xfrm>
            <a:off x="3851280" y="1628640"/>
            <a:ext cx="2295360" cy="2737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4140360" y="479736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1847 - 19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An important Thursday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160720" y="4724280"/>
            <a:ext cx="69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He noticed that Tom's forehead was unusually wide and his head was bigger than normal.  He made no secret of his belief that Tom’s brains were  scrambl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124000" y="1541520"/>
            <a:ext cx="47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omas Edison was born on Thursday February the 11th, 1847 in the town of Milan,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124000" y="3130560"/>
            <a:ext cx="46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When Thomas was seven his teacher finally lost his patience with his constant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baby_drinking_from_sippy_cup_hg_blk"/>
          <p:cNvPicPr/>
          <p:nvPr/>
        </p:nvPicPr>
        <p:blipFill>
          <a:blip r:embed="rId1"/>
          <a:stretch/>
        </p:blipFill>
        <p:spPr>
          <a:xfrm>
            <a:off x="6970680" y="1268280"/>
            <a:ext cx="2209680" cy="3333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8920" y="2420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What do you do when you get home from school?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3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6" descr="boy_yelling_into_microphone_hg_blk"/>
          <p:cNvPicPr/>
          <p:nvPr/>
        </p:nvPicPr>
        <p:blipFill>
          <a:blip r:embed="rId1"/>
          <a:stretch/>
        </p:blipFill>
        <p:spPr>
          <a:xfrm>
            <a:off x="7020000" y="166680"/>
            <a:ext cx="1990800" cy="33336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9640" y="2708280"/>
            <a:ext cx="68421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Edison’s first important invention was the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phonograph.  A machine that could record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and reproduce sound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But his greatest success was the development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of the electric light. </a:t>
            </a:r>
            <a:br>
              <a:rPr sz="2400"/>
            </a:br>
            <a:br>
              <a:rPr sz="18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So when you turn on the light                and listen to music think of Thomas Edison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268360" y="83664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I turn the lights on 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and play Emine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4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switch_perspective_lg_blk"/>
          <p:cNvPicPr/>
          <p:nvPr/>
        </p:nvPicPr>
        <p:blipFill>
          <a:blip r:embed="rId2"/>
          <a:stretch/>
        </p:blipFill>
        <p:spPr>
          <a:xfrm>
            <a:off x="6227640" y="5229360"/>
            <a:ext cx="74772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50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Money and fam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2268360" y="1881360"/>
            <a:ext cx="59058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As electricity spread around the world. The success of his electric light brought Thomas Edison to new heights of fame and wealt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Edison's electric companies continued to grow until in 1889 they were brought together to form Edison General Electr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money_hand_flipping_bill_lg_blk"/>
          <p:cNvPicPr/>
          <p:nvPr/>
        </p:nvPicPr>
        <p:blipFill>
          <a:blip r:embed="rId1"/>
          <a:stretch/>
        </p:blipFill>
        <p:spPr>
          <a:xfrm>
            <a:off x="7518240" y="5013360"/>
            <a:ext cx="1733760" cy="1361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5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Home sweet hom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92000" y="1988640"/>
            <a:ext cx="7086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couple married in February 1886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6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bride_groom_kissing_lg_blk"/>
          <p:cNvPicPr/>
          <p:nvPr/>
        </p:nvPicPr>
        <p:blipFill>
          <a:blip r:embed="rId1"/>
          <a:stretch/>
        </p:blipFill>
        <p:spPr>
          <a:xfrm>
            <a:off x="7093080" y="4076640"/>
            <a:ext cx="18842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00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Gill Sans MT Schoolbook"/>
              </a:rPr>
              <a:t>The first movie star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83" name="Picture 9" descr="inventor_explaining_schematics_hg_blk"/>
          <p:cNvPicPr/>
          <p:nvPr/>
        </p:nvPicPr>
        <p:blipFill>
          <a:blip r:embed="rId1"/>
          <a:stretch/>
        </p:blipFill>
        <p:spPr>
          <a:xfrm>
            <a:off x="6710400" y="1484280"/>
            <a:ext cx="2469960" cy="2470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411280" y="1484280"/>
            <a:ext cx="4248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hile working on the phonograph, Thomas began working on a device that, "does for the eye what the phonograph does for the ear", this was to become motion pictures.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340000" y="4508640"/>
            <a:ext cx="5904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omas first demonstrated motion pictures in 1891, and began making "movies" two years later.</a:t>
            </a:r>
            <a:r>
              <a:rPr b="0" lang="en-GB" sz="1800" spc="-1" strike="noStrike">
                <a:solidFill>
                  <a:srgbClr val="000000"/>
                </a:solidFill>
                <a:latin typeface="Gill Sans MT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3304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“</a:t>
            </a: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It is very beautiful over there.”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050920" y="1773360"/>
            <a:ext cx="626616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omas Edison died on Sunday October the 18th, 1931. He was 84 years 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american_flag_blowing_over_coffin_hg_blk"/>
          <p:cNvPicPr/>
          <p:nvPr/>
        </p:nvPicPr>
        <p:blipFill>
          <a:blip r:embed="rId1"/>
          <a:stretch/>
        </p:blipFill>
        <p:spPr>
          <a:xfrm>
            <a:off x="5796000" y="4437000"/>
            <a:ext cx="2975040" cy="2057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8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Was Thomas Edison a genius?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54007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is is what he had to say about it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484360" y="2803680"/>
            <a:ext cx="48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"Genius is 1% inspiration and 99%  perspiration. A 'genius' is often simply a talented person who has done all of his or her homework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grade_circled_a_plus_lg_blk"/>
          <p:cNvPicPr/>
          <p:nvPr/>
        </p:nvPicPr>
        <p:blipFill>
          <a:blip r:embed="rId1"/>
          <a:stretch/>
        </p:blipFill>
        <p:spPr>
          <a:xfrm>
            <a:off x="6443640" y="4869000"/>
            <a:ext cx="1609920" cy="1304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9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09:25:32Z</dcterms:created>
  <dc:creator>The Learning Trust</dc:creator>
  <dc:description/>
  <dc:language>en-US</dc:language>
  <cp:lastModifiedBy>RomaK</cp:lastModifiedBy>
  <dcterms:modified xsi:type="dcterms:W3CDTF">2015-09-03T12:22:31Z</dcterms:modified>
  <cp:revision>124</cp:revision>
  <dc:subject/>
  <dc:title>Thomas Edison’s bright idea</dc:title>
</cp:coreProperties>
</file>