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B2C7-9B54-492A-A6D9-79B242A1F8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975-A6E4-4625-AB43-25B9E3B2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127-8899-4F50-97B6-7B9ABD44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3D9-0F87-4473-9E50-C2C95F6D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806-DBF2-4CBC-86AF-3D835FB8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162-66ED-4208-9DFD-3A3449F0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0F1-DBFF-4B75-A849-961708D2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244-F76E-42DF-8562-4C9A4539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0A9-88B2-4BF7-B57C-39C07350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808-3161-438B-9DE3-E3DCE3EB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DCA-81B6-4FD3-B54F-6A9D61A3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FC7-EED0-4D0F-A56F-644819A6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D76-BE9B-46E6-9281-24C11DD1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32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160"/>
            <a:ext cx="129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FCFD-332C-47B6-A863-87CC5653C12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Thomas Edison’s bright idea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life and times of an inventor and business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0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66"/>
                </a:solidFill>
                <a:latin typeface="Gill Sans MT Schoolbook"/>
              </a:rPr>
              <a:t>Thomas Alva Edis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0" name="Picture 8" descr="edison9"/>
          <p:cNvPicPr/>
          <p:nvPr/>
        </p:nvPicPr>
        <p:blipFill>
          <a:blip r:embed="rId1"/>
          <a:stretch/>
        </p:blipFill>
        <p:spPr>
          <a:xfrm>
            <a:off x="3851280" y="1628640"/>
            <a:ext cx="2295360" cy="2737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4140360" y="4797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1847 - 19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 important Thursday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160720" y="4724280"/>
            <a:ext cx="69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He noticed that Tom's forehead was unusually wide and his head was bigger than normal.  He made no secret of his belief that Tom’s brains were  scrambl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124000" y="154152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omas Edison was born on Thursday February the 11th, 1847 in the town of Milan,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24000" y="3130560"/>
            <a:ext cx="46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hen Thomas was seven his teacher finally lost his patience with his constant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baby_drinking_from_sippy_cup_hg_blk"/>
          <p:cNvPicPr/>
          <p:nvPr/>
        </p:nvPicPr>
        <p:blipFill>
          <a:blip r:embed="rId1"/>
          <a:stretch/>
        </p:blipFill>
        <p:spPr>
          <a:xfrm>
            <a:off x="6970680" y="1268280"/>
            <a:ext cx="2209680" cy="3333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2420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What do you do when you get home from school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6" descr="boy_yelling_into_microphone_hg_blk"/>
          <p:cNvPicPr/>
          <p:nvPr/>
        </p:nvPicPr>
        <p:blipFill>
          <a:blip r:embed="rId1"/>
          <a:stretch/>
        </p:blipFill>
        <p:spPr>
          <a:xfrm>
            <a:off x="7020000" y="166680"/>
            <a:ext cx="1990800" cy="3333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2708280"/>
            <a:ext cx="68421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’s first important invention was the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phonograph.  A machine that could record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nd reproduce sound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But his greatest success was the development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of the electric light. </a:t>
            </a:r>
            <a:br>
              <a:rPr sz="2400"/>
            </a:br>
            <a:br>
              <a:rPr sz="18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So when you turn on the light                and listen to music think of Thomas Edison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268360" y="83664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I turn the lights on 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d play Emine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switch_perspective_lg_blk"/>
          <p:cNvPicPr/>
          <p:nvPr/>
        </p:nvPicPr>
        <p:blipFill>
          <a:blip r:embed="rId2"/>
          <a:stretch/>
        </p:blipFill>
        <p:spPr>
          <a:xfrm>
            <a:off x="6227640" y="5229360"/>
            <a:ext cx="74772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50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Money and fam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268360" y="1881360"/>
            <a:ext cx="5905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s electricity spread around the world. The success of his electric light brought Thomas Edison to new heights of fame and weal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's electric companies continued to grow until in 1889 they were brought together to form Edison General Electr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money_hand_flipping_bill_lg_blk"/>
          <p:cNvPicPr/>
          <p:nvPr/>
        </p:nvPicPr>
        <p:blipFill>
          <a:blip r:embed="rId1"/>
          <a:stretch/>
        </p:blipFill>
        <p:spPr>
          <a:xfrm>
            <a:off x="7518240" y="5013360"/>
            <a:ext cx="1733760" cy="1361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Home sweet hom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2000" y="1988640"/>
            <a:ext cx="7086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couple married in February 188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bride_groom_kissing_lg_blk"/>
          <p:cNvPicPr/>
          <p:nvPr/>
        </p:nvPicPr>
        <p:blipFill>
          <a:blip r:embed="rId1"/>
          <a:stretch/>
        </p:blipFill>
        <p:spPr>
          <a:xfrm>
            <a:off x="7093080" y="4076640"/>
            <a:ext cx="18842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Gill Sans MT Schoolbook"/>
              </a:rPr>
              <a:t>The first movie star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3" name="Picture 9" descr="inventor_explaining_schematics_hg_blk"/>
          <p:cNvPicPr/>
          <p:nvPr/>
        </p:nvPicPr>
        <p:blipFill>
          <a:blip r:embed="rId1"/>
          <a:stretch/>
        </p:blipFill>
        <p:spPr>
          <a:xfrm>
            <a:off x="6710400" y="1484280"/>
            <a:ext cx="2469960" cy="2470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411280" y="1484280"/>
            <a:ext cx="424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hile working on the phonograph, Thomas began working on a device that, "does for the eye what the phonograph does for the ear", this was to become motion pictures.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340000" y="4508640"/>
            <a:ext cx="590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first demonstrated motion pictures in 1891, and began making "movies" two years later.</a:t>
            </a:r>
            <a:r>
              <a:rPr b="0" lang="en-GB" sz="1800" spc="-1" strike="noStrike">
                <a:solidFill>
                  <a:srgbClr val="000000"/>
                </a:solidFill>
                <a:latin typeface="Gill Sans MT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304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“</a:t>
            </a: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It is very beautiful over there.”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050920" y="1773360"/>
            <a:ext cx="626616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Edison died on Sunday October the 18th, 1931. He was 84 years 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merican_flag_blowing_over_coffin_hg_blk"/>
          <p:cNvPicPr/>
          <p:nvPr/>
        </p:nvPicPr>
        <p:blipFill>
          <a:blip r:embed="rId1"/>
          <a:stretch/>
        </p:blipFill>
        <p:spPr>
          <a:xfrm>
            <a:off x="5796000" y="4437000"/>
            <a:ext cx="2975040" cy="2057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Was Thomas Edison a genius?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4007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is is what he had to say about it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484360" y="2803680"/>
            <a:ext cx="48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"Genius is 1% inspiration and 99%  perspiration. A 'genius' is often simply a talented person who has done all of his or her homework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rade_circled_a_plus_lg_blk"/>
          <p:cNvPicPr/>
          <p:nvPr/>
        </p:nvPicPr>
        <p:blipFill>
          <a:blip r:embed="rId1"/>
          <a:stretch/>
        </p:blipFill>
        <p:spPr>
          <a:xfrm>
            <a:off x="6443640" y="4869000"/>
            <a:ext cx="1609920" cy="1304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9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9:25:32Z</dcterms:created>
  <dc:creator>The Learning Trust</dc:creator>
  <dc:description/>
  <dc:language>en-US</dc:language>
  <cp:lastModifiedBy>RomaK</cp:lastModifiedBy>
  <dcterms:modified xsi:type="dcterms:W3CDTF">2015-09-03T12:22:31Z</dcterms:modified>
  <cp:revision>124</cp:revision>
  <dc:subject/>
  <dc:title>Thomas Edison’s bright idea</dc:title>
</cp:coreProperties>
</file>