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48A9-8FEF-44A3-9559-5332301E3E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073-9E02-48DB-B156-5F9C3C145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803-6D58-4821-B421-22FE15C3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C24-E970-4A14-832B-3F1ED747D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35E-2587-47BB-9941-EC21D58F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5E6-ECA7-45F8-87CE-45483427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A84-BAAE-44F0-B8E6-AF7106E2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D3B-7B65-4964-BE0A-5F560C85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FFD-9D22-45A8-8E90-B333F73D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564-D217-4D61-9D2C-7133BF6E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DBC-CD75-47AE-9EA9-8780CCB8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A72-9EDB-4CDF-BBA4-C1000059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175-653A-4F5F-8525-9BD6D0AA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481F-165C-4915-824E-EAE7D253F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2743200" y="21337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352680" y="60199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1523880" y="236232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Oval 10"/>
          <p:cNvSpPr/>
          <p:nvPr/>
        </p:nvSpPr>
        <p:spPr>
          <a:xfrm flipV="1">
            <a:off x="3505320" y="2285280"/>
            <a:ext cx="38088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429000" y="2133720"/>
            <a:ext cx="45720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657600" y="2209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447920" y="220968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352680" y="39625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summarize about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vector representing acceleration of all these ob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gnit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rth, what would it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gn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9e7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7920" y="1600200"/>
            <a:ext cx="66294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solidFill>
            <a:srgbClr val="fefed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s can be represented by an arrow to show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gnitu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V="1">
            <a:off x="1523880" y="5334120"/>
            <a:ext cx="27432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7391520" y="2590920"/>
            <a:ext cx="9144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590920" y="1143000"/>
            <a:ext cx="30456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drawn to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886200" y="3048120"/>
            <a:ext cx="0" cy="28191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886200" y="29718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88620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 the p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0:41:26Z</dcterms:created>
  <dc:creator>Home</dc:creator>
  <dc:description/>
  <dc:language>en-US</dc:language>
  <cp:lastModifiedBy>RomaK</cp:lastModifiedBy>
  <dcterms:modified xsi:type="dcterms:W3CDTF">2015-09-03T12:21:28Z</dcterms:modified>
  <cp:revision>5</cp:revision>
  <dc:subject/>
  <dc:title>Direction of acceleration due to gravity</dc:title>
</cp:coreProperties>
</file>