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9BE8-A2BB-4834-988F-D089EBC626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ion of acceleration due to gravity v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 of acceleration due to gravity v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A baseball tossed up in the air, at the top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A baseball tossed up in the air, at the top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A baseball tossed up in the air, right before it strikes the gr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A baseball tossed up in the air, right before it strikes the gr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A baseball tossed up in the air, right before it strikes the gr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A baseball tossed up in the air, right before it strikes the gr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A football is thrown at a 450 angle, at the top of its 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A football is thrown at a 450 angle, at the top of its 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A football is thrown at a 450 angle, at the top of its 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A football is thrown at a 450 angle, at the top of its 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A cannonball rolling off a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A cannonball rolling off a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A cannonball rolling off a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A cannonball rolling off a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you summarize about the direction of the vector representing acceleration of all these objec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other examp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summarize about the direction of the vector representing acceleration of all these obje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other examp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ck pebble football and all have different masses. How does this affect the magnitude of the acceleration vecto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Earth, what would its magnitude b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ck pebble football and all have different masses. How does this affect the magnitude of the acceleration ve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Earth, what would its magnitude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due to gravity is a vector quant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due to gravity is a vector quant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ctors can be represented by an arrow to show magnitude and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s can be represented by an arrow to show magnitude and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whiteboards, draw the direction of acceleration for the following ob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shed line represents its p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not drawn to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, draw the direction of acceleration for the following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shed line represents it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not drawn to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A pebble dropped from a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A pebble dropped from a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A pebble dropped from a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A pebble dropped from a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A baseball tossed up in the air, halfway up the path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A baseball tossed up in the air, halfway up the path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A baseball tossed up in the air, halfway up the pa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A baseball tossed up in the air, halfway up the p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A baseball tossed up in the air, at the top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A baseball tossed up in the air, at the top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2557-FCB2-48BD-8BF8-A7EC349D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86BF-A81F-47D3-88BC-DE98F355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891B-E25E-46D5-B8A7-BA22F5E0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FB95-951C-4BDF-BDB1-3375BC48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1EAB-564D-4FC1-BACB-E3B4C7E3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DC8E-A4FC-4D89-BF98-D55FCB30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1B14-2522-4DF7-AFA3-EB279A7C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35B4-D9A9-45A4-B065-FE896F35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7F41-E65C-4ADD-9D45-7492F381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3FC7-4E81-40BC-890E-DCC7117E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EFD8-DAA5-4B21-852B-86C2BB1E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9514-D4A3-4A98-8085-7D61F650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B5D4-7371-4391-AEF1-00D261F17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 of acceleration due to gravity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A baseball tossed up in the air, at the top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>
            <a:off x="2666880" y="19051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2666880" y="1981080"/>
            <a:ext cx="228600" cy="38862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2743200" y="21337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aseball tossed up in the air, right before it strikes the gro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4"/>
          <p:cNvSpPr/>
          <p:nvPr/>
        </p:nvSpPr>
        <p:spPr>
          <a:xfrm>
            <a:off x="3200400" y="59436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>
            <a:off x="2057400" y="6324480"/>
            <a:ext cx="4267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0" name="Freeform 7"/>
          <p:cNvSpPr/>
          <p:nvPr/>
        </p:nvSpPr>
        <p:spPr>
          <a:xfrm>
            <a:off x="3124080" y="2133720"/>
            <a:ext cx="228600" cy="41148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aseball tossed up in the air, right before it strikes the gro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"/>
          <p:cNvSpPr/>
          <p:nvPr/>
        </p:nvSpPr>
        <p:spPr>
          <a:xfrm>
            <a:off x="3200400" y="59436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2057400" y="6324480"/>
            <a:ext cx="4267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7"/>
          <p:cNvSpPr/>
          <p:nvPr/>
        </p:nvSpPr>
        <p:spPr>
          <a:xfrm>
            <a:off x="3124080" y="2133720"/>
            <a:ext cx="228600" cy="41148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3352680" y="60199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A football is thrown at a 4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gle, at the top of its p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7"/>
          <p:cNvSpPr/>
          <p:nvPr/>
        </p:nvSpPr>
        <p:spPr>
          <a:xfrm>
            <a:off x="1523880" y="2362320"/>
            <a:ext cx="4572000" cy="4064040"/>
          </a:xfrm>
          <a:custGeom>
            <a:avLst/>
            <a:gdLst/>
            <a:ahLst/>
            <a:rect l="l" t="t" r="r" b="b"/>
            <a:pathLst>
              <a:path w="2320" h="2608">
                <a:moveTo>
                  <a:pt x="160" y="2320"/>
                </a:moveTo>
                <a:cubicBezTo>
                  <a:pt x="80" y="2464"/>
                  <a:pt x="0" y="2608"/>
                  <a:pt x="160" y="2224"/>
                </a:cubicBezTo>
                <a:cubicBezTo>
                  <a:pt x="320" y="1840"/>
                  <a:pt x="760" y="0"/>
                  <a:pt x="1120" y="16"/>
                </a:cubicBezTo>
                <a:cubicBezTo>
                  <a:pt x="1480" y="32"/>
                  <a:pt x="1900" y="1176"/>
                  <a:pt x="2320" y="23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8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3" name="Oval 10"/>
          <p:cNvSpPr/>
          <p:nvPr/>
        </p:nvSpPr>
        <p:spPr>
          <a:xfrm flipV="1">
            <a:off x="3505320" y="2285280"/>
            <a:ext cx="380880" cy="2286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A football is thrown at a 4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gle, at the top of its p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"/>
          <p:cNvSpPr/>
          <p:nvPr/>
        </p:nvSpPr>
        <p:spPr>
          <a:xfrm>
            <a:off x="3429000" y="2133720"/>
            <a:ext cx="457200" cy="1522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3657600" y="2209680"/>
            <a:ext cx="0" cy="838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8"/>
          <p:cNvSpPr/>
          <p:nvPr/>
        </p:nvSpPr>
        <p:spPr>
          <a:xfrm>
            <a:off x="1447920" y="2209680"/>
            <a:ext cx="4572000" cy="4064040"/>
          </a:xfrm>
          <a:custGeom>
            <a:avLst/>
            <a:gdLst/>
            <a:ahLst/>
            <a:rect l="l" t="t" r="r" b="b"/>
            <a:pathLst>
              <a:path w="2320" h="2608">
                <a:moveTo>
                  <a:pt x="160" y="2320"/>
                </a:moveTo>
                <a:cubicBezTo>
                  <a:pt x="80" y="2464"/>
                  <a:pt x="0" y="2608"/>
                  <a:pt x="160" y="2224"/>
                </a:cubicBezTo>
                <a:cubicBezTo>
                  <a:pt x="320" y="1840"/>
                  <a:pt x="760" y="0"/>
                  <a:pt x="1120" y="16"/>
                </a:cubicBezTo>
                <a:cubicBezTo>
                  <a:pt x="1480" y="32"/>
                  <a:pt x="1900" y="1176"/>
                  <a:pt x="2320" y="23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cannonball rolling off a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7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0" y="38862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2209680" y="38862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3200400" y="36576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1"/>
          <p:cNvSpPr/>
          <p:nvPr/>
        </p:nvSpPr>
        <p:spPr>
          <a:xfrm>
            <a:off x="2209680" y="3733920"/>
            <a:ext cx="2743200" cy="2133360"/>
          </a:xfrm>
          <a:custGeom>
            <a:avLst/>
            <a:gdLst/>
            <a:ahLst/>
            <a:rect l="l" t="t" r="r" b="b"/>
            <a:pathLst>
              <a:path w="1728" h="1344">
                <a:moveTo>
                  <a:pt x="0" y="48"/>
                </a:moveTo>
                <a:cubicBezTo>
                  <a:pt x="264" y="24"/>
                  <a:pt x="528" y="0"/>
                  <a:pt x="768" y="96"/>
                </a:cubicBezTo>
                <a:cubicBezTo>
                  <a:pt x="1008" y="192"/>
                  <a:pt x="1280" y="416"/>
                  <a:pt x="1440" y="624"/>
                </a:cubicBezTo>
                <a:cubicBezTo>
                  <a:pt x="1600" y="832"/>
                  <a:pt x="1664" y="1088"/>
                  <a:pt x="1728" y="13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0" y="3809880"/>
            <a:ext cx="2209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9072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cannonball rolling off a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0" y="38862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2209680" y="38862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9"/>
          <p:cNvSpPr/>
          <p:nvPr/>
        </p:nvSpPr>
        <p:spPr>
          <a:xfrm>
            <a:off x="3200400" y="36576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10"/>
          <p:cNvSpPr/>
          <p:nvPr/>
        </p:nvSpPr>
        <p:spPr>
          <a:xfrm>
            <a:off x="2209680" y="3733920"/>
            <a:ext cx="2743200" cy="2133360"/>
          </a:xfrm>
          <a:custGeom>
            <a:avLst/>
            <a:gdLst/>
            <a:ahLst/>
            <a:rect l="l" t="t" r="r" b="b"/>
            <a:pathLst>
              <a:path w="1728" h="1344">
                <a:moveTo>
                  <a:pt x="0" y="48"/>
                </a:moveTo>
                <a:cubicBezTo>
                  <a:pt x="264" y="24"/>
                  <a:pt x="528" y="0"/>
                  <a:pt x="768" y="96"/>
                </a:cubicBezTo>
                <a:cubicBezTo>
                  <a:pt x="1008" y="192"/>
                  <a:pt x="1280" y="416"/>
                  <a:pt x="1440" y="624"/>
                </a:cubicBezTo>
                <a:cubicBezTo>
                  <a:pt x="1600" y="832"/>
                  <a:pt x="1664" y="1088"/>
                  <a:pt x="1728" y="13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0" y="3809880"/>
            <a:ext cx="2209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>
            <a:off x="3352680" y="39625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an you summarize about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irec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vector representing acceleration of all these objec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re other exampl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ck pebble football and all have different masses. How does this affect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gnitu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ele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c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Earth, what would it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magnitu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solidFill>
            <a:srgbClr val="f9e7f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7920" y="1600200"/>
            <a:ext cx="662940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celeration due to gravity is a vector quantit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19560"/>
          </a:xfrm>
          <a:prstGeom prst="rect">
            <a:avLst/>
          </a:prstGeom>
          <a:solidFill>
            <a:srgbClr val="fefeda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ctors can be represented by an arrow to show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gnitud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ir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 flipV="1">
            <a:off x="1523880" y="5334120"/>
            <a:ext cx="274320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 flipH="1">
            <a:off x="7391520" y="2590920"/>
            <a:ext cx="91440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2590920" y="1143000"/>
            <a:ext cx="30456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n your whiteboards, draw the direction of acceleration for the following objec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ashed line represents its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t drawn to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pebble dropped from a bri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"/>
          <p:cNvSpPr/>
          <p:nvPr/>
        </p:nvSpPr>
        <p:spPr>
          <a:xfrm>
            <a:off x="3809880" y="2895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1" name="Line 7"/>
          <p:cNvSpPr/>
          <p:nvPr/>
        </p:nvSpPr>
        <p:spPr>
          <a:xfrm>
            <a:off x="3886200" y="3048120"/>
            <a:ext cx="0" cy="28191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A pebble dropped from a bri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"/>
          <p:cNvSpPr/>
          <p:nvPr/>
        </p:nvSpPr>
        <p:spPr>
          <a:xfrm>
            <a:off x="3809880" y="2895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3886200" y="297180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3886200" y="28954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aseball tossed up in the air, halfway up the pa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4"/>
          <p:cNvSpPr/>
          <p:nvPr/>
        </p:nvSpPr>
        <p:spPr>
          <a:xfrm>
            <a:off x="2666880" y="4038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6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4" name="Freeform 7"/>
          <p:cNvSpPr/>
          <p:nvPr/>
        </p:nvSpPr>
        <p:spPr>
          <a:xfrm>
            <a:off x="2743200" y="1981080"/>
            <a:ext cx="228600" cy="38862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aseball tossed up in the air, halfway u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a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"/>
          <p:cNvSpPr/>
          <p:nvPr/>
        </p:nvSpPr>
        <p:spPr>
          <a:xfrm>
            <a:off x="2666880" y="4038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7"/>
          <p:cNvSpPr/>
          <p:nvPr/>
        </p:nvSpPr>
        <p:spPr>
          <a:xfrm>
            <a:off x="2743200" y="1981080"/>
            <a:ext cx="228600" cy="38862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2743200" y="41911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A baseball tossed up in the air, at the top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"/>
          <p:cNvSpPr/>
          <p:nvPr/>
        </p:nvSpPr>
        <p:spPr>
          <a:xfrm>
            <a:off x="2666880" y="19051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6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2666880" y="1981080"/>
            <a:ext cx="228600" cy="38862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7T00:41:26Z</dcterms:created>
  <dc:creator>Home</dc:creator>
  <dc:description/>
  <dc:language>en-US</dc:language>
  <cp:lastModifiedBy>RomaK</cp:lastModifiedBy>
  <dcterms:modified xsi:type="dcterms:W3CDTF">2015-09-03T12:21:28Z</dcterms:modified>
  <cp:revision>5</cp:revision>
  <dc:subject/>
  <dc:title>Direction of acceleration due to gravity</dc:title>
</cp:coreProperties>
</file>