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301A-021D-4471-BDA4-6ADA32E839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  answer  3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answer  6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answer    5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3AC-8128-483D-A989-5FA21C32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5D8-33EF-4548-94ED-C804C9A3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D33-24A7-4904-A757-240DCCAD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64A-060E-4084-BA9A-D0CCBD26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6B7-B09F-4BD8-B397-A80A27E0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B55-FFFA-4E3A-9D02-BBAF0328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148-F5A9-4F53-A1E5-069729BC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B33-41B7-4DF2-BB4F-ACE04D6B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AB2-90A3-4B8A-B381-65471EC6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A88-9F26-4825-A2E8-F29168B1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A3C-4F44-4947-8FAD-5E46398F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0F4-B94A-4B5D-A50D-26C4974D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0D77-4FCB-4A05-A19D-762175B03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8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49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  answer  3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49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0"/>
          <p:cNvSpPr/>
          <p:nvPr/>
        </p:nvSpPr>
        <p:spPr>
          <a:xfrm>
            <a:off x="457200" y="2527200"/>
            <a:ext cx="2133720" cy="2463840"/>
          </a:xfrm>
          <a:custGeom>
            <a:avLst/>
            <a:gdLst/>
            <a:ahLst/>
            <a:rect l="l" t="t" r="r" b="b"/>
            <a:pathLst>
              <a:path w="1344" h="1552">
                <a:moveTo>
                  <a:pt x="0" y="808"/>
                </a:moveTo>
                <a:cubicBezTo>
                  <a:pt x="44" y="552"/>
                  <a:pt x="88" y="296"/>
                  <a:pt x="144" y="184"/>
                </a:cubicBezTo>
                <a:cubicBezTo>
                  <a:pt x="200" y="72"/>
                  <a:pt x="248" y="0"/>
                  <a:pt x="336" y="136"/>
                </a:cubicBezTo>
                <a:cubicBezTo>
                  <a:pt x="424" y="272"/>
                  <a:pt x="576" y="768"/>
                  <a:pt x="672" y="1000"/>
                </a:cubicBezTo>
                <a:cubicBezTo>
                  <a:pt x="768" y="1232"/>
                  <a:pt x="816" y="1504"/>
                  <a:pt x="912" y="1528"/>
                </a:cubicBezTo>
                <a:cubicBezTo>
                  <a:pt x="1008" y="1552"/>
                  <a:pt x="1176" y="1264"/>
                  <a:pt x="1248" y="1144"/>
                </a:cubicBezTo>
                <a:cubicBezTo>
                  <a:pt x="1320" y="1024"/>
                  <a:pt x="1332" y="916"/>
                  <a:pt x="1344" y="8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1"/>
          <p:cNvSpPr/>
          <p:nvPr/>
        </p:nvSpPr>
        <p:spPr>
          <a:xfrm>
            <a:off x="2590920" y="2666880"/>
            <a:ext cx="2209680" cy="2286000"/>
          </a:xfrm>
          <a:custGeom>
            <a:avLst/>
            <a:gdLst/>
            <a:ahLst/>
            <a:rect l="l" t="t" r="r" b="b"/>
            <a:pathLst>
              <a:path w="1392" h="1440">
                <a:moveTo>
                  <a:pt x="48" y="720"/>
                </a:moveTo>
                <a:cubicBezTo>
                  <a:pt x="24" y="680"/>
                  <a:pt x="0" y="640"/>
                  <a:pt x="48" y="528"/>
                </a:cubicBezTo>
                <a:cubicBezTo>
                  <a:pt x="96" y="416"/>
                  <a:pt x="256" y="96"/>
                  <a:pt x="336" y="48"/>
                </a:cubicBezTo>
                <a:cubicBezTo>
                  <a:pt x="416" y="0"/>
                  <a:pt x="464" y="120"/>
                  <a:pt x="528" y="240"/>
                </a:cubicBezTo>
                <a:cubicBezTo>
                  <a:pt x="592" y="360"/>
                  <a:pt x="632" y="568"/>
                  <a:pt x="720" y="768"/>
                </a:cubicBezTo>
                <a:cubicBezTo>
                  <a:pt x="808" y="968"/>
                  <a:pt x="944" y="1440"/>
                  <a:pt x="1056" y="1440"/>
                </a:cubicBezTo>
                <a:cubicBezTo>
                  <a:pt x="1168" y="1440"/>
                  <a:pt x="1280" y="1104"/>
                  <a:pt x="1392" y="768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2"/>
          <p:cNvSpPr/>
          <p:nvPr/>
        </p:nvSpPr>
        <p:spPr>
          <a:xfrm>
            <a:off x="4788000" y="2641680"/>
            <a:ext cx="2222280" cy="2361960"/>
          </a:xfrm>
          <a:custGeom>
            <a:avLst/>
            <a:gdLst/>
            <a:ahLst/>
            <a:rect l="l" t="t" r="r" b="b"/>
            <a:pathLst>
              <a:path w="1400" h="1488">
                <a:moveTo>
                  <a:pt x="8" y="688"/>
                </a:moveTo>
                <a:cubicBezTo>
                  <a:pt x="4" y="644"/>
                  <a:pt x="0" y="600"/>
                  <a:pt x="56" y="496"/>
                </a:cubicBezTo>
                <a:cubicBezTo>
                  <a:pt x="112" y="392"/>
                  <a:pt x="232" y="0"/>
                  <a:pt x="344" y="64"/>
                </a:cubicBezTo>
                <a:cubicBezTo>
                  <a:pt x="456" y="128"/>
                  <a:pt x="616" y="648"/>
                  <a:pt x="728" y="880"/>
                </a:cubicBezTo>
                <a:cubicBezTo>
                  <a:pt x="840" y="1112"/>
                  <a:pt x="920" y="1424"/>
                  <a:pt x="1016" y="1456"/>
                </a:cubicBezTo>
                <a:cubicBezTo>
                  <a:pt x="1112" y="1488"/>
                  <a:pt x="1240" y="1192"/>
                  <a:pt x="1304" y="1072"/>
                </a:cubicBezTo>
                <a:cubicBezTo>
                  <a:pt x="1368" y="952"/>
                  <a:pt x="1384" y="844"/>
                  <a:pt x="1400" y="736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answer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1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2"/>
          <p:cNvSpPr/>
          <p:nvPr/>
        </p:nvSpPr>
        <p:spPr>
          <a:xfrm>
            <a:off x="457200" y="2336760"/>
            <a:ext cx="655308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3"/>
          <p:cNvSpPr/>
          <p:nvPr/>
        </p:nvSpPr>
        <p:spPr>
          <a:xfrm>
            <a:off x="419040" y="2273400"/>
            <a:ext cx="1104840" cy="3619440"/>
          </a:xfrm>
          <a:custGeom>
            <a:avLst/>
            <a:gdLst/>
            <a:ahLst/>
            <a:rect l="l" t="t" r="r" b="b"/>
            <a:pathLst>
              <a:path w="696" h="2280">
                <a:moveTo>
                  <a:pt x="24" y="1208"/>
                </a:moveTo>
                <a:cubicBezTo>
                  <a:pt x="12" y="1000"/>
                  <a:pt x="0" y="792"/>
                  <a:pt x="24" y="632"/>
                </a:cubicBezTo>
                <a:cubicBezTo>
                  <a:pt x="48" y="472"/>
                  <a:pt x="88" y="0"/>
                  <a:pt x="168" y="248"/>
                </a:cubicBezTo>
                <a:cubicBezTo>
                  <a:pt x="248" y="496"/>
                  <a:pt x="416" y="1960"/>
                  <a:pt x="504" y="2120"/>
                </a:cubicBezTo>
                <a:cubicBezTo>
                  <a:pt x="592" y="2280"/>
                  <a:pt x="644" y="1744"/>
                  <a:pt x="696" y="12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4"/>
          <p:cNvSpPr/>
          <p:nvPr/>
        </p:nvSpPr>
        <p:spPr>
          <a:xfrm>
            <a:off x="1523880" y="2413080"/>
            <a:ext cx="990720" cy="3314520"/>
          </a:xfrm>
          <a:custGeom>
            <a:avLst/>
            <a:gdLst/>
            <a:ahLst/>
            <a:rect l="l" t="t" r="r" b="b"/>
            <a:pathLst>
              <a:path w="624" h="2088">
                <a:moveTo>
                  <a:pt x="0" y="1072"/>
                </a:moveTo>
                <a:cubicBezTo>
                  <a:pt x="12" y="864"/>
                  <a:pt x="24" y="656"/>
                  <a:pt x="48" y="496"/>
                </a:cubicBezTo>
                <a:cubicBezTo>
                  <a:pt x="72" y="336"/>
                  <a:pt x="96" y="0"/>
                  <a:pt x="144" y="112"/>
                </a:cubicBezTo>
                <a:cubicBezTo>
                  <a:pt x="192" y="224"/>
                  <a:pt x="280" y="840"/>
                  <a:pt x="336" y="1168"/>
                </a:cubicBezTo>
                <a:cubicBezTo>
                  <a:pt x="392" y="1496"/>
                  <a:pt x="432" y="2088"/>
                  <a:pt x="480" y="2080"/>
                </a:cubicBezTo>
                <a:cubicBezTo>
                  <a:pt x="528" y="2072"/>
                  <a:pt x="576" y="1596"/>
                  <a:pt x="624" y="112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5"/>
          <p:cNvSpPr/>
          <p:nvPr/>
        </p:nvSpPr>
        <p:spPr>
          <a:xfrm>
            <a:off x="2489040" y="2540160"/>
            <a:ext cx="1168560" cy="3187440"/>
          </a:xfrm>
          <a:custGeom>
            <a:avLst/>
            <a:gdLst/>
            <a:ahLst/>
            <a:rect l="l" t="t" r="r" b="b"/>
            <a:pathLst>
              <a:path w="736" h="2008">
                <a:moveTo>
                  <a:pt x="16" y="992"/>
                </a:moveTo>
                <a:cubicBezTo>
                  <a:pt x="8" y="1004"/>
                  <a:pt x="0" y="1016"/>
                  <a:pt x="16" y="896"/>
                </a:cubicBezTo>
                <a:cubicBezTo>
                  <a:pt x="32" y="776"/>
                  <a:pt x="80" y="400"/>
                  <a:pt x="112" y="272"/>
                </a:cubicBezTo>
                <a:cubicBezTo>
                  <a:pt x="144" y="144"/>
                  <a:pt x="160" y="0"/>
                  <a:pt x="208" y="128"/>
                </a:cubicBezTo>
                <a:cubicBezTo>
                  <a:pt x="256" y="256"/>
                  <a:pt x="336" y="728"/>
                  <a:pt x="400" y="1040"/>
                </a:cubicBezTo>
                <a:cubicBezTo>
                  <a:pt x="464" y="1352"/>
                  <a:pt x="536" y="2008"/>
                  <a:pt x="592" y="2000"/>
                </a:cubicBezTo>
                <a:cubicBezTo>
                  <a:pt x="648" y="1992"/>
                  <a:pt x="692" y="1492"/>
                  <a:pt x="736" y="99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6"/>
          <p:cNvSpPr/>
          <p:nvPr/>
        </p:nvSpPr>
        <p:spPr>
          <a:xfrm>
            <a:off x="3657600" y="2565360"/>
            <a:ext cx="1143000" cy="3162240"/>
          </a:xfrm>
          <a:custGeom>
            <a:avLst/>
            <a:gdLst/>
            <a:ahLst/>
            <a:rect l="l" t="t" r="r" b="b"/>
            <a:pathLst>
              <a:path w="720" h="1992">
                <a:moveTo>
                  <a:pt x="0" y="976"/>
                </a:moveTo>
                <a:cubicBezTo>
                  <a:pt x="20" y="488"/>
                  <a:pt x="40" y="0"/>
                  <a:pt x="96" y="16"/>
                </a:cubicBezTo>
                <a:cubicBezTo>
                  <a:pt x="152" y="32"/>
                  <a:pt x="272" y="744"/>
                  <a:pt x="336" y="1072"/>
                </a:cubicBezTo>
                <a:cubicBezTo>
                  <a:pt x="400" y="1400"/>
                  <a:pt x="416" y="1992"/>
                  <a:pt x="480" y="1984"/>
                </a:cubicBezTo>
                <a:cubicBezTo>
                  <a:pt x="544" y="1976"/>
                  <a:pt x="632" y="1500"/>
                  <a:pt x="720" y="102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7"/>
          <p:cNvSpPr/>
          <p:nvPr/>
        </p:nvSpPr>
        <p:spPr>
          <a:xfrm>
            <a:off x="4800600" y="2374920"/>
            <a:ext cx="990720" cy="3403440"/>
          </a:xfrm>
          <a:custGeom>
            <a:avLst/>
            <a:gdLst/>
            <a:ahLst/>
            <a:rect l="l" t="t" r="r" b="b"/>
            <a:pathLst>
              <a:path w="624" h="2144">
                <a:moveTo>
                  <a:pt x="0" y="1144"/>
                </a:moveTo>
                <a:cubicBezTo>
                  <a:pt x="36" y="792"/>
                  <a:pt x="72" y="440"/>
                  <a:pt x="96" y="280"/>
                </a:cubicBezTo>
                <a:cubicBezTo>
                  <a:pt x="120" y="120"/>
                  <a:pt x="104" y="0"/>
                  <a:pt x="144" y="184"/>
                </a:cubicBezTo>
                <a:cubicBezTo>
                  <a:pt x="184" y="368"/>
                  <a:pt x="280" y="1064"/>
                  <a:pt x="336" y="1384"/>
                </a:cubicBezTo>
                <a:cubicBezTo>
                  <a:pt x="392" y="1704"/>
                  <a:pt x="432" y="2144"/>
                  <a:pt x="480" y="2104"/>
                </a:cubicBezTo>
                <a:cubicBezTo>
                  <a:pt x="528" y="2064"/>
                  <a:pt x="576" y="1604"/>
                  <a:pt x="624" y="1144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8"/>
          <p:cNvSpPr/>
          <p:nvPr/>
        </p:nvSpPr>
        <p:spPr>
          <a:xfrm>
            <a:off x="5791320" y="2400480"/>
            <a:ext cx="1218960" cy="3352680"/>
          </a:xfrm>
          <a:custGeom>
            <a:avLst/>
            <a:gdLst/>
            <a:ahLst/>
            <a:rect l="l" t="t" r="r" b="b"/>
            <a:pathLst>
              <a:path w="768" h="2112">
                <a:moveTo>
                  <a:pt x="0" y="1080"/>
                </a:moveTo>
                <a:cubicBezTo>
                  <a:pt x="12" y="896"/>
                  <a:pt x="24" y="712"/>
                  <a:pt x="48" y="552"/>
                </a:cubicBezTo>
                <a:cubicBezTo>
                  <a:pt x="72" y="392"/>
                  <a:pt x="88" y="0"/>
                  <a:pt x="144" y="120"/>
                </a:cubicBezTo>
                <a:cubicBezTo>
                  <a:pt x="200" y="240"/>
                  <a:pt x="312" y="944"/>
                  <a:pt x="384" y="1272"/>
                </a:cubicBezTo>
                <a:cubicBezTo>
                  <a:pt x="456" y="1600"/>
                  <a:pt x="512" y="2112"/>
                  <a:pt x="576" y="2088"/>
                </a:cubicBezTo>
                <a:cubicBezTo>
                  <a:pt x="640" y="2064"/>
                  <a:pt x="704" y="1596"/>
                  <a:pt x="768" y="11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answer    5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3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4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6"/>
          <p:cNvSpPr/>
          <p:nvPr/>
        </p:nvSpPr>
        <p:spPr>
          <a:xfrm>
            <a:off x="419040" y="2235240"/>
            <a:ext cx="1333440" cy="3594240"/>
          </a:xfrm>
          <a:custGeom>
            <a:avLst/>
            <a:gdLst/>
            <a:ahLst/>
            <a:rect l="l" t="t" r="r" b="b"/>
            <a:pathLst>
              <a:path w="840" h="2264">
                <a:moveTo>
                  <a:pt x="24" y="1136"/>
                </a:moveTo>
                <a:cubicBezTo>
                  <a:pt x="12" y="1168"/>
                  <a:pt x="0" y="1200"/>
                  <a:pt x="24" y="1040"/>
                </a:cubicBezTo>
                <a:cubicBezTo>
                  <a:pt x="48" y="880"/>
                  <a:pt x="72" y="0"/>
                  <a:pt x="168" y="176"/>
                </a:cubicBezTo>
                <a:cubicBezTo>
                  <a:pt x="264" y="352"/>
                  <a:pt x="488" y="1928"/>
                  <a:pt x="600" y="2096"/>
                </a:cubicBezTo>
                <a:cubicBezTo>
                  <a:pt x="712" y="2264"/>
                  <a:pt x="776" y="1724"/>
                  <a:pt x="840" y="118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57"/>
          <p:cNvSpPr/>
          <p:nvPr/>
        </p:nvSpPr>
        <p:spPr>
          <a:xfrm>
            <a:off x="1701720" y="2463840"/>
            <a:ext cx="1498680" cy="3111480"/>
          </a:xfrm>
          <a:custGeom>
            <a:avLst/>
            <a:gdLst/>
            <a:ahLst/>
            <a:rect l="l" t="t" r="r" b="b"/>
            <a:pathLst>
              <a:path w="944" h="1960">
                <a:moveTo>
                  <a:pt x="32" y="1040"/>
                </a:moveTo>
                <a:cubicBezTo>
                  <a:pt x="16" y="1004"/>
                  <a:pt x="0" y="968"/>
                  <a:pt x="32" y="800"/>
                </a:cubicBezTo>
                <a:cubicBezTo>
                  <a:pt x="64" y="632"/>
                  <a:pt x="144" y="0"/>
                  <a:pt x="224" y="32"/>
                </a:cubicBezTo>
                <a:cubicBezTo>
                  <a:pt x="304" y="64"/>
                  <a:pt x="432" y="672"/>
                  <a:pt x="512" y="992"/>
                </a:cubicBezTo>
                <a:cubicBezTo>
                  <a:pt x="592" y="1312"/>
                  <a:pt x="632" y="1944"/>
                  <a:pt x="704" y="1952"/>
                </a:cubicBezTo>
                <a:cubicBezTo>
                  <a:pt x="776" y="1960"/>
                  <a:pt x="860" y="1500"/>
                  <a:pt x="944" y="104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58"/>
          <p:cNvSpPr/>
          <p:nvPr/>
        </p:nvSpPr>
        <p:spPr>
          <a:xfrm>
            <a:off x="3162240" y="2502000"/>
            <a:ext cx="1409760" cy="3200400"/>
          </a:xfrm>
          <a:custGeom>
            <a:avLst/>
            <a:gdLst/>
            <a:ahLst/>
            <a:rect l="l" t="t" r="r" b="b"/>
            <a:pathLst>
              <a:path w="888" h="2016">
                <a:moveTo>
                  <a:pt x="24" y="1016"/>
                </a:moveTo>
                <a:cubicBezTo>
                  <a:pt x="12" y="1048"/>
                  <a:pt x="0" y="1080"/>
                  <a:pt x="24" y="920"/>
                </a:cubicBezTo>
                <a:cubicBezTo>
                  <a:pt x="48" y="760"/>
                  <a:pt x="96" y="0"/>
                  <a:pt x="168" y="56"/>
                </a:cubicBezTo>
                <a:cubicBezTo>
                  <a:pt x="240" y="112"/>
                  <a:pt x="376" y="936"/>
                  <a:pt x="456" y="1256"/>
                </a:cubicBezTo>
                <a:cubicBezTo>
                  <a:pt x="536" y="1576"/>
                  <a:pt x="576" y="2016"/>
                  <a:pt x="648" y="1976"/>
                </a:cubicBezTo>
                <a:cubicBezTo>
                  <a:pt x="720" y="1936"/>
                  <a:pt x="804" y="1476"/>
                  <a:pt x="888" y="101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60"/>
          <p:cNvSpPr/>
          <p:nvPr/>
        </p:nvSpPr>
        <p:spPr>
          <a:xfrm>
            <a:off x="4521240" y="2298600"/>
            <a:ext cx="1346040" cy="3594240"/>
          </a:xfrm>
          <a:custGeom>
            <a:avLst/>
            <a:gdLst/>
            <a:ahLst/>
            <a:rect l="l" t="t" r="r" b="b"/>
            <a:pathLst>
              <a:path w="848" h="2264">
                <a:moveTo>
                  <a:pt x="32" y="1144"/>
                </a:moveTo>
                <a:cubicBezTo>
                  <a:pt x="16" y="1152"/>
                  <a:pt x="0" y="1160"/>
                  <a:pt x="32" y="1000"/>
                </a:cubicBezTo>
                <a:cubicBezTo>
                  <a:pt x="64" y="840"/>
                  <a:pt x="120" y="0"/>
                  <a:pt x="224" y="184"/>
                </a:cubicBezTo>
                <a:cubicBezTo>
                  <a:pt x="328" y="368"/>
                  <a:pt x="552" y="1944"/>
                  <a:pt x="656" y="2104"/>
                </a:cubicBezTo>
                <a:cubicBezTo>
                  <a:pt x="760" y="2264"/>
                  <a:pt x="804" y="1704"/>
                  <a:pt x="848" y="1144"/>
                </a:cubicBezTo>
              </a:path>
            </a:pathLst>
          </a:custGeom>
          <a:noFill/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1"/>
          <p:cNvSpPr/>
          <p:nvPr/>
        </p:nvSpPr>
        <p:spPr>
          <a:xfrm>
            <a:off x="5867280" y="2438280"/>
            <a:ext cx="1371600" cy="3264120"/>
          </a:xfrm>
          <a:custGeom>
            <a:avLst/>
            <a:gdLst/>
            <a:ahLst/>
            <a:rect l="l" t="t" r="r" b="b"/>
            <a:pathLst>
              <a:path w="864" h="2056">
                <a:moveTo>
                  <a:pt x="0" y="1008"/>
                </a:moveTo>
                <a:cubicBezTo>
                  <a:pt x="56" y="504"/>
                  <a:pt x="112" y="0"/>
                  <a:pt x="192" y="48"/>
                </a:cubicBezTo>
                <a:cubicBezTo>
                  <a:pt x="272" y="96"/>
                  <a:pt x="400" y="968"/>
                  <a:pt x="480" y="1296"/>
                </a:cubicBezTo>
                <a:cubicBezTo>
                  <a:pt x="560" y="1624"/>
                  <a:pt x="608" y="2056"/>
                  <a:pt x="672" y="2016"/>
                </a:cubicBezTo>
                <a:cubicBezTo>
                  <a:pt x="736" y="1976"/>
                  <a:pt x="800" y="1516"/>
                  <a:pt x="864" y="1056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431640" y="1523880"/>
            <a:ext cx="6578640" cy="4660920"/>
          </a:xfrm>
          <a:custGeom>
            <a:avLst/>
            <a:gdLst/>
            <a:ahLst/>
            <a:rect l="l" t="t" r="r" b="b"/>
            <a:pathLst>
              <a:path w="4144" h="2936">
                <a:moveTo>
                  <a:pt x="16" y="1488"/>
                </a:moveTo>
                <a:cubicBezTo>
                  <a:pt x="8" y="1496"/>
                  <a:pt x="0" y="1504"/>
                  <a:pt x="16" y="1392"/>
                </a:cubicBezTo>
                <a:cubicBezTo>
                  <a:pt x="32" y="1280"/>
                  <a:pt x="40" y="1008"/>
                  <a:pt x="112" y="816"/>
                </a:cubicBezTo>
                <a:cubicBezTo>
                  <a:pt x="184" y="624"/>
                  <a:pt x="296" y="368"/>
                  <a:pt x="448" y="240"/>
                </a:cubicBezTo>
                <a:cubicBezTo>
                  <a:pt x="600" y="112"/>
                  <a:pt x="840" y="0"/>
                  <a:pt x="1024" y="48"/>
                </a:cubicBezTo>
                <a:cubicBezTo>
                  <a:pt x="1208" y="96"/>
                  <a:pt x="1392" y="320"/>
                  <a:pt x="1552" y="528"/>
                </a:cubicBezTo>
                <a:cubicBezTo>
                  <a:pt x="1712" y="736"/>
                  <a:pt x="1896" y="1136"/>
                  <a:pt x="1984" y="1296"/>
                </a:cubicBezTo>
                <a:cubicBezTo>
                  <a:pt x="2072" y="1456"/>
                  <a:pt x="1992" y="1328"/>
                  <a:pt x="2080" y="1488"/>
                </a:cubicBezTo>
                <a:cubicBezTo>
                  <a:pt x="2168" y="1648"/>
                  <a:pt x="2360" y="2032"/>
                  <a:pt x="2512" y="2256"/>
                </a:cubicBezTo>
                <a:cubicBezTo>
                  <a:pt x="2664" y="2480"/>
                  <a:pt x="2888" y="2728"/>
                  <a:pt x="2992" y="2832"/>
                </a:cubicBezTo>
                <a:cubicBezTo>
                  <a:pt x="3096" y="2936"/>
                  <a:pt x="3056" y="2888"/>
                  <a:pt x="3136" y="2880"/>
                </a:cubicBezTo>
                <a:cubicBezTo>
                  <a:pt x="3216" y="2872"/>
                  <a:pt x="3344" y="2872"/>
                  <a:pt x="3472" y="2784"/>
                </a:cubicBezTo>
                <a:cubicBezTo>
                  <a:pt x="3600" y="2696"/>
                  <a:pt x="3800" y="2544"/>
                  <a:pt x="3904" y="2352"/>
                </a:cubicBezTo>
                <a:cubicBezTo>
                  <a:pt x="4008" y="2160"/>
                  <a:pt x="4056" y="1776"/>
                  <a:pt x="4096" y="1632"/>
                </a:cubicBezTo>
                <a:cubicBezTo>
                  <a:pt x="4136" y="1488"/>
                  <a:pt x="4140" y="1488"/>
                  <a:pt x="4144" y="14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5410080" y="1600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6"/>
          <p:cNvSpPr/>
          <p:nvPr/>
        </p:nvSpPr>
        <p:spPr>
          <a:xfrm>
            <a:off x="380880" y="1600200"/>
            <a:ext cx="7010640" cy="4584600"/>
          </a:xfrm>
          <a:custGeom>
            <a:avLst/>
            <a:gdLst/>
            <a:ahLst/>
            <a:rect l="l" t="t" r="r" b="b"/>
            <a:pathLst>
              <a:path w="4416" h="2888">
                <a:moveTo>
                  <a:pt x="0" y="1472"/>
                </a:moveTo>
                <a:cubicBezTo>
                  <a:pt x="44" y="1276"/>
                  <a:pt x="88" y="1080"/>
                  <a:pt x="144" y="896"/>
                </a:cubicBezTo>
                <a:cubicBezTo>
                  <a:pt x="200" y="712"/>
                  <a:pt x="240" y="512"/>
                  <a:pt x="336" y="368"/>
                </a:cubicBezTo>
                <a:cubicBezTo>
                  <a:pt x="432" y="224"/>
                  <a:pt x="600" y="64"/>
                  <a:pt x="720" y="32"/>
                </a:cubicBezTo>
                <a:cubicBezTo>
                  <a:pt x="840" y="0"/>
                  <a:pt x="960" y="96"/>
                  <a:pt x="1056" y="176"/>
                </a:cubicBezTo>
                <a:cubicBezTo>
                  <a:pt x="1152" y="256"/>
                  <a:pt x="1232" y="360"/>
                  <a:pt x="1296" y="512"/>
                </a:cubicBezTo>
                <a:cubicBezTo>
                  <a:pt x="1360" y="664"/>
                  <a:pt x="1408" y="928"/>
                  <a:pt x="1440" y="1088"/>
                </a:cubicBezTo>
                <a:cubicBezTo>
                  <a:pt x="1472" y="1248"/>
                  <a:pt x="1464" y="1312"/>
                  <a:pt x="1488" y="1472"/>
                </a:cubicBezTo>
                <a:cubicBezTo>
                  <a:pt x="1512" y="1632"/>
                  <a:pt x="1536" y="1856"/>
                  <a:pt x="1584" y="2048"/>
                </a:cubicBezTo>
                <a:cubicBezTo>
                  <a:pt x="1632" y="2240"/>
                  <a:pt x="1672" y="2488"/>
                  <a:pt x="1776" y="2624"/>
                </a:cubicBezTo>
                <a:cubicBezTo>
                  <a:pt x="1880" y="2760"/>
                  <a:pt x="2072" y="2840"/>
                  <a:pt x="2208" y="2864"/>
                </a:cubicBezTo>
                <a:cubicBezTo>
                  <a:pt x="2344" y="2888"/>
                  <a:pt x="2480" y="2872"/>
                  <a:pt x="2592" y="2768"/>
                </a:cubicBezTo>
                <a:cubicBezTo>
                  <a:pt x="2704" y="2664"/>
                  <a:pt x="2816" y="2456"/>
                  <a:pt x="2880" y="2240"/>
                </a:cubicBezTo>
                <a:cubicBezTo>
                  <a:pt x="2944" y="2024"/>
                  <a:pt x="2952" y="1680"/>
                  <a:pt x="2976" y="1472"/>
                </a:cubicBezTo>
                <a:cubicBezTo>
                  <a:pt x="3000" y="1264"/>
                  <a:pt x="2984" y="1184"/>
                  <a:pt x="3024" y="992"/>
                </a:cubicBezTo>
                <a:cubicBezTo>
                  <a:pt x="3064" y="800"/>
                  <a:pt x="3104" y="480"/>
                  <a:pt x="3216" y="320"/>
                </a:cubicBezTo>
                <a:cubicBezTo>
                  <a:pt x="3328" y="160"/>
                  <a:pt x="3544" y="40"/>
                  <a:pt x="3696" y="32"/>
                </a:cubicBezTo>
                <a:cubicBezTo>
                  <a:pt x="3848" y="24"/>
                  <a:pt x="4024" y="160"/>
                  <a:pt x="4128" y="272"/>
                </a:cubicBezTo>
                <a:cubicBezTo>
                  <a:pt x="4232" y="384"/>
                  <a:pt x="4272" y="504"/>
                  <a:pt x="4320" y="704"/>
                </a:cubicBezTo>
                <a:cubicBezTo>
                  <a:pt x="4368" y="904"/>
                  <a:pt x="4392" y="1188"/>
                  <a:pt x="4416" y="147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5410080" y="9144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1/2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59"/>
          <p:cNvSpPr/>
          <p:nvPr/>
        </p:nvSpPr>
        <p:spPr>
          <a:xfrm>
            <a:off x="291960" y="1600200"/>
            <a:ext cx="4775400" cy="4648320"/>
          </a:xfrm>
          <a:custGeom>
            <a:avLst/>
            <a:gdLst/>
            <a:ahLst/>
            <a:rect l="l" t="t" r="r" b="b"/>
            <a:pathLst>
              <a:path w="3008" h="2928">
                <a:moveTo>
                  <a:pt x="56" y="1440"/>
                </a:moveTo>
                <a:cubicBezTo>
                  <a:pt x="28" y="1412"/>
                  <a:pt x="0" y="1384"/>
                  <a:pt x="56" y="1200"/>
                </a:cubicBezTo>
                <a:cubicBezTo>
                  <a:pt x="112" y="1016"/>
                  <a:pt x="272" y="536"/>
                  <a:pt x="392" y="336"/>
                </a:cubicBezTo>
                <a:cubicBezTo>
                  <a:pt x="512" y="136"/>
                  <a:pt x="632" y="0"/>
                  <a:pt x="776" y="0"/>
                </a:cubicBezTo>
                <a:cubicBezTo>
                  <a:pt x="920" y="0"/>
                  <a:pt x="1136" y="152"/>
                  <a:pt x="1256" y="336"/>
                </a:cubicBezTo>
                <a:cubicBezTo>
                  <a:pt x="1376" y="520"/>
                  <a:pt x="1424" y="768"/>
                  <a:pt x="1496" y="1104"/>
                </a:cubicBezTo>
                <a:cubicBezTo>
                  <a:pt x="1568" y="1440"/>
                  <a:pt x="1632" y="2104"/>
                  <a:pt x="1688" y="2352"/>
                </a:cubicBezTo>
                <a:cubicBezTo>
                  <a:pt x="1744" y="2600"/>
                  <a:pt x="1776" y="2520"/>
                  <a:pt x="1832" y="2592"/>
                </a:cubicBezTo>
                <a:cubicBezTo>
                  <a:pt x="1888" y="2664"/>
                  <a:pt x="1920" y="2736"/>
                  <a:pt x="2024" y="2784"/>
                </a:cubicBezTo>
                <a:cubicBezTo>
                  <a:pt x="2128" y="2832"/>
                  <a:pt x="2320" y="2928"/>
                  <a:pt x="2456" y="2880"/>
                </a:cubicBezTo>
                <a:cubicBezTo>
                  <a:pt x="2592" y="2832"/>
                  <a:pt x="2752" y="2664"/>
                  <a:pt x="2840" y="2496"/>
                </a:cubicBezTo>
                <a:cubicBezTo>
                  <a:pt x="2928" y="2328"/>
                  <a:pt x="2960" y="2056"/>
                  <a:pt x="2984" y="1872"/>
                </a:cubicBezTo>
                <a:cubicBezTo>
                  <a:pt x="3008" y="1688"/>
                  <a:pt x="2984" y="1472"/>
                  <a:pt x="2984" y="1392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7"/>
          <p:cNvSpPr/>
          <p:nvPr/>
        </p:nvSpPr>
        <p:spPr>
          <a:xfrm>
            <a:off x="1676520" y="2514600"/>
            <a:ext cx="4495680" cy="2654280"/>
          </a:xfrm>
          <a:custGeom>
            <a:avLst/>
            <a:gdLst/>
            <a:ahLst/>
            <a:rect l="l" t="t" r="r" b="b"/>
            <a:pathLst>
              <a:path w="2832" h="1672">
                <a:moveTo>
                  <a:pt x="0" y="840"/>
                </a:moveTo>
                <a:cubicBezTo>
                  <a:pt x="80" y="420"/>
                  <a:pt x="160" y="0"/>
                  <a:pt x="336" y="120"/>
                </a:cubicBezTo>
                <a:cubicBezTo>
                  <a:pt x="512" y="240"/>
                  <a:pt x="824" y="1560"/>
                  <a:pt x="1056" y="1560"/>
                </a:cubicBezTo>
                <a:cubicBezTo>
                  <a:pt x="1288" y="1560"/>
                  <a:pt x="1504" y="120"/>
                  <a:pt x="1728" y="120"/>
                </a:cubicBezTo>
                <a:cubicBezTo>
                  <a:pt x="1952" y="120"/>
                  <a:pt x="2216" y="1448"/>
                  <a:pt x="2400" y="1560"/>
                </a:cubicBezTo>
                <a:cubicBezTo>
                  <a:pt x="2584" y="1672"/>
                  <a:pt x="2708" y="1232"/>
                  <a:pt x="2832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0"/>
          <p:cNvSpPr/>
          <p:nvPr/>
        </p:nvSpPr>
        <p:spPr>
          <a:xfrm>
            <a:off x="1676520" y="2451240"/>
            <a:ext cx="2209680" cy="2692440"/>
          </a:xfrm>
          <a:custGeom>
            <a:avLst/>
            <a:gdLst/>
            <a:ahLst/>
            <a:rect l="l" t="t" r="r" b="b"/>
            <a:pathLst>
              <a:path w="1392" h="1696">
                <a:moveTo>
                  <a:pt x="0" y="856"/>
                </a:moveTo>
                <a:cubicBezTo>
                  <a:pt x="64" y="572"/>
                  <a:pt x="128" y="288"/>
                  <a:pt x="192" y="184"/>
                </a:cubicBezTo>
                <a:cubicBezTo>
                  <a:pt x="256" y="80"/>
                  <a:pt x="248" y="0"/>
                  <a:pt x="384" y="232"/>
                </a:cubicBezTo>
                <a:cubicBezTo>
                  <a:pt x="520" y="464"/>
                  <a:pt x="840" y="1456"/>
                  <a:pt x="1008" y="1576"/>
                </a:cubicBezTo>
                <a:cubicBezTo>
                  <a:pt x="1176" y="1696"/>
                  <a:pt x="1284" y="1324"/>
                  <a:pt x="1392" y="95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91"/>
          <p:cNvSpPr/>
          <p:nvPr/>
        </p:nvSpPr>
        <p:spPr>
          <a:xfrm>
            <a:off x="3886200" y="2629080"/>
            <a:ext cx="2286000" cy="2527200"/>
          </a:xfrm>
          <a:custGeom>
            <a:avLst/>
            <a:gdLst/>
            <a:ahLst/>
            <a:rect l="l" t="t" r="r" b="b"/>
            <a:pathLst>
              <a:path w="1440" h="1592">
                <a:moveTo>
                  <a:pt x="0" y="744"/>
                </a:moveTo>
                <a:cubicBezTo>
                  <a:pt x="76" y="444"/>
                  <a:pt x="152" y="144"/>
                  <a:pt x="240" y="72"/>
                </a:cubicBezTo>
                <a:cubicBezTo>
                  <a:pt x="328" y="0"/>
                  <a:pt x="408" y="80"/>
                  <a:pt x="528" y="312"/>
                </a:cubicBezTo>
                <a:cubicBezTo>
                  <a:pt x="648" y="544"/>
                  <a:pt x="824" y="1336"/>
                  <a:pt x="960" y="1464"/>
                </a:cubicBezTo>
                <a:cubicBezTo>
                  <a:pt x="1096" y="1592"/>
                  <a:pt x="1264" y="1200"/>
                  <a:pt x="1344" y="1080"/>
                </a:cubicBezTo>
                <a:cubicBezTo>
                  <a:pt x="1424" y="960"/>
                  <a:pt x="1432" y="852"/>
                  <a:pt x="1440" y="744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2"/>
          <p:cNvSpPr/>
          <p:nvPr/>
        </p:nvSpPr>
        <p:spPr>
          <a:xfrm>
            <a:off x="5638680" y="1371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9"/>
          <p:cNvSpPr/>
          <p:nvPr/>
        </p:nvSpPr>
        <p:spPr>
          <a:xfrm>
            <a:off x="533520" y="2489040"/>
            <a:ext cx="6781680" cy="2387880"/>
          </a:xfrm>
          <a:custGeom>
            <a:avLst/>
            <a:gdLst/>
            <a:ahLst/>
            <a:rect l="l" t="t" r="r" b="b"/>
            <a:pathLst>
              <a:path w="4272" h="1504">
                <a:moveTo>
                  <a:pt x="0" y="784"/>
                </a:moveTo>
                <a:cubicBezTo>
                  <a:pt x="104" y="392"/>
                  <a:pt x="208" y="0"/>
                  <a:pt x="384" y="112"/>
                </a:cubicBezTo>
                <a:cubicBezTo>
                  <a:pt x="560" y="224"/>
                  <a:pt x="832" y="1456"/>
                  <a:pt x="1056" y="1456"/>
                </a:cubicBezTo>
                <a:cubicBezTo>
                  <a:pt x="1280" y="1456"/>
                  <a:pt x="1496" y="128"/>
                  <a:pt x="1728" y="112"/>
                </a:cubicBezTo>
                <a:cubicBezTo>
                  <a:pt x="1960" y="96"/>
                  <a:pt x="2216" y="1352"/>
                  <a:pt x="2448" y="1360"/>
                </a:cubicBezTo>
                <a:cubicBezTo>
                  <a:pt x="2680" y="1368"/>
                  <a:pt x="2888" y="152"/>
                  <a:pt x="3120" y="160"/>
                </a:cubicBezTo>
                <a:cubicBezTo>
                  <a:pt x="3352" y="168"/>
                  <a:pt x="3648" y="1312"/>
                  <a:pt x="3840" y="1408"/>
                </a:cubicBezTo>
                <a:cubicBezTo>
                  <a:pt x="4032" y="1504"/>
                  <a:pt x="4152" y="1120"/>
                  <a:pt x="4272" y="7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0"/>
          <p:cNvSpPr/>
          <p:nvPr/>
        </p:nvSpPr>
        <p:spPr>
          <a:xfrm>
            <a:off x="533520" y="37339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1"/>
          <p:cNvSpPr/>
          <p:nvPr/>
        </p:nvSpPr>
        <p:spPr>
          <a:xfrm>
            <a:off x="533520" y="2476440"/>
            <a:ext cx="2209680" cy="2349720"/>
          </a:xfrm>
          <a:custGeom>
            <a:avLst/>
            <a:gdLst/>
            <a:ahLst/>
            <a:rect l="l" t="t" r="r" b="b"/>
            <a:pathLst>
              <a:path w="1392" h="1480">
                <a:moveTo>
                  <a:pt x="0" y="792"/>
                </a:moveTo>
                <a:cubicBezTo>
                  <a:pt x="8" y="796"/>
                  <a:pt x="16" y="800"/>
                  <a:pt x="48" y="696"/>
                </a:cubicBezTo>
                <a:cubicBezTo>
                  <a:pt x="80" y="592"/>
                  <a:pt x="136" y="264"/>
                  <a:pt x="192" y="168"/>
                </a:cubicBezTo>
                <a:cubicBezTo>
                  <a:pt x="248" y="72"/>
                  <a:pt x="296" y="0"/>
                  <a:pt x="384" y="120"/>
                </a:cubicBezTo>
                <a:cubicBezTo>
                  <a:pt x="472" y="240"/>
                  <a:pt x="624" y="672"/>
                  <a:pt x="720" y="888"/>
                </a:cubicBezTo>
                <a:cubicBezTo>
                  <a:pt x="816" y="1104"/>
                  <a:pt x="880" y="1352"/>
                  <a:pt x="960" y="1416"/>
                </a:cubicBezTo>
                <a:cubicBezTo>
                  <a:pt x="1040" y="1480"/>
                  <a:pt x="1128" y="1376"/>
                  <a:pt x="1200" y="1272"/>
                </a:cubicBezTo>
                <a:cubicBezTo>
                  <a:pt x="1272" y="1168"/>
                  <a:pt x="1332" y="980"/>
                  <a:pt x="1392" y="79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2"/>
          <p:cNvSpPr/>
          <p:nvPr/>
        </p:nvSpPr>
        <p:spPr>
          <a:xfrm>
            <a:off x="2743200" y="2540160"/>
            <a:ext cx="2209680" cy="2108160"/>
          </a:xfrm>
          <a:custGeom>
            <a:avLst/>
            <a:gdLst/>
            <a:ahLst/>
            <a:rect l="l" t="t" r="r" b="b"/>
            <a:pathLst>
              <a:path w="1392" h="1328">
                <a:moveTo>
                  <a:pt x="0" y="704"/>
                </a:moveTo>
                <a:cubicBezTo>
                  <a:pt x="20" y="540"/>
                  <a:pt x="40" y="376"/>
                  <a:pt x="96" y="272"/>
                </a:cubicBezTo>
                <a:cubicBezTo>
                  <a:pt x="152" y="168"/>
                  <a:pt x="232" y="0"/>
                  <a:pt x="336" y="80"/>
                </a:cubicBezTo>
                <a:cubicBezTo>
                  <a:pt x="440" y="160"/>
                  <a:pt x="608" y="544"/>
                  <a:pt x="720" y="752"/>
                </a:cubicBezTo>
                <a:cubicBezTo>
                  <a:pt x="832" y="960"/>
                  <a:pt x="896" y="1328"/>
                  <a:pt x="1008" y="1328"/>
                </a:cubicBezTo>
                <a:cubicBezTo>
                  <a:pt x="1120" y="1328"/>
                  <a:pt x="1256" y="1040"/>
                  <a:pt x="1392" y="752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3"/>
          <p:cNvSpPr/>
          <p:nvPr/>
        </p:nvSpPr>
        <p:spPr>
          <a:xfrm>
            <a:off x="4863960" y="2692440"/>
            <a:ext cx="2451240" cy="2108160"/>
          </a:xfrm>
          <a:custGeom>
            <a:avLst/>
            <a:gdLst/>
            <a:ahLst/>
            <a:rect l="l" t="t" r="r" b="b"/>
            <a:pathLst>
              <a:path w="1544" h="1328">
                <a:moveTo>
                  <a:pt x="8" y="560"/>
                </a:moveTo>
                <a:cubicBezTo>
                  <a:pt x="4" y="580"/>
                  <a:pt x="0" y="600"/>
                  <a:pt x="56" y="512"/>
                </a:cubicBezTo>
                <a:cubicBezTo>
                  <a:pt x="112" y="424"/>
                  <a:pt x="224" y="0"/>
                  <a:pt x="344" y="32"/>
                </a:cubicBezTo>
                <a:cubicBezTo>
                  <a:pt x="464" y="64"/>
                  <a:pt x="648" y="496"/>
                  <a:pt x="776" y="704"/>
                </a:cubicBezTo>
                <a:cubicBezTo>
                  <a:pt x="904" y="912"/>
                  <a:pt x="1000" y="1232"/>
                  <a:pt x="1112" y="1280"/>
                </a:cubicBezTo>
                <a:cubicBezTo>
                  <a:pt x="1224" y="1328"/>
                  <a:pt x="1376" y="1096"/>
                  <a:pt x="1448" y="992"/>
                </a:cubicBezTo>
                <a:cubicBezTo>
                  <a:pt x="1520" y="888"/>
                  <a:pt x="1532" y="772"/>
                  <a:pt x="1544" y="65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6324480" y="1447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90720" y="6858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lf-Qui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2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1"/>
          <p:cNvSpPr/>
          <p:nvPr/>
        </p:nvSpPr>
        <p:spPr>
          <a:xfrm>
            <a:off x="45720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6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7"/>
          <p:cNvSpPr/>
          <p:nvPr/>
        </p:nvSpPr>
        <p:spPr>
          <a:xfrm>
            <a:off x="1523880" y="1981080"/>
            <a:ext cx="655344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7:22:51Z</dcterms:created>
  <dc:creator>administrator</dc:creator>
  <dc:description/>
  <dc:language>en-US</dc:language>
  <cp:lastModifiedBy>RomaK</cp:lastModifiedBy>
  <dcterms:modified xsi:type="dcterms:W3CDTF">2015-09-03T12:21:09Z</dcterms:modified>
  <cp:revision>4</cp:revision>
  <dc:subject/>
  <dc:title>Determining the number of wavelengths</dc:title>
</cp:coreProperties>
</file>