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82BF-D715-4568-8EDB-FD68830E50C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) Which weighs more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kilogram of feathers or a kilogram of i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L200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Q) Which weighs more: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kilogram of feathers or a kilogram of ir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an empty Measuring Cyl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a certain Volume of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Measuring Cylinder an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Mass of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Density of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of Liquid = Mass of Measuring Cylinder and Liquid – Mass of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ty Measuring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.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 – 25 = 2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20 =1.0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 LIQU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an empty Measuring Cylind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a certain Volume of Liqu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Measuring Cylinder and Liqu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Mass of Liqu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Density of Liqu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ss of Liquid = Mass of Measuring Cylinder and Liquid – Mass of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mpty Measuring Cylind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5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0.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5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5 – 25 = 2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20 =1.0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the air from a flask of a known Volume, using a vacuum pu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its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gas to be te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weig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 is the Mass  of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vacuum fl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0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20 =0.020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 -150 = 20.0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move the air from a flask of a known Volume, using a vacuum pum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its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the gas to be tes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weig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is the Mass  of ga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Dens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vacuum flas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00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0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70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20 =0.020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70 -150 = 20.0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ens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Mass per unit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take the same volume of different substances, then they will weigh different amo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0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) Which has the greatest mass and therefore the most den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is Densit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is the Mass per unit Volu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you take the same volume of different substances, then they will weigh different amou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.5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.0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.0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Q) Which has the greatest mass and therefore the most dens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or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m3 or kg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cm-3 or kg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) Liquid water has a density of 1000kgm-3, while ice has density of 920kgm-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volume occupied by 0.25kg of ea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 m = 0.25 = 0.000250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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 m = 0.25 = 0.000272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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 or k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m3 or k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cm-3 or kgm-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Q) Liquid water has a density of 1000kgm-3, while ice has density of 920kgm-3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volume occupied by 0.25kg of ea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Equa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=  m = 0.25 = 0.000250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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=  m = 0.25 = 0.000272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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 REGULA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solid on a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he three lengths and calculate the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e V = l x w x h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 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0 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240 =10.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 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4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 REGULAR SOL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asure the three lengths and calculate the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(ie V = l x w x h 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.0 c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.0   c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.0  c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240 =10.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  2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 = 24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N IRREGULA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solid on a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the Measuring Cylinder with Water to a known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out the Volume of Water that is displa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6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360 =12.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 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N IRREGULAR SOL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ll the Measuring Cylinder with Water to a known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ork out the Volume of Water that is displac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 = 36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360 =12.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 3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N IRREGULA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use a Eureka Can to find the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solid on a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water until just overflo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a Measuring Cylinder under the sp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 the Water and read off the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44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.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440 =11.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 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N IRREGULAR SOL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R use a Eureka Can to find the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water until just overflow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lace a Measuring Cylinder under the spo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llect the Water and read off the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Den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 = 44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0.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440 =11.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39D-258E-4411-959D-537F0E1A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51B-FDD8-42BC-9555-F74FD6C6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51C-83D7-43D1-9791-0E7957BB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E2E-2035-40E4-B70B-AF7A5793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838C-271F-406D-9514-126542D1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A92A-8E5F-4FF7-A513-230E1CB8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A394-FAC2-4CDB-9BCA-4DCF0270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7EFA-73D4-4BB9-800B-58E7FD34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A7BA-DA56-440D-AF1A-77F611A2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1B16-07C9-4A6D-9911-85C1B51C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7F55-174E-4A08-927C-FBB43CEE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A94B-CF2F-4150-B81B-6E51063C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646F-F959-4BF8-BCE6-7FB03742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A02B-6F1A-441E-912A-DC3C19C1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55F8-A6AD-49E7-8EE7-E3617623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131B-C8DF-4AA1-BE3C-B3F0C836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7854-5880-4D98-99BC-7CC837AB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CC9-147F-4080-BE4E-08CAD67E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505-EAB4-4216-9713-BD2F8190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51F-E436-4D80-833D-8650879A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8841-F538-469F-A9F9-3FC4616B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11C7-DFDD-4BB4-B0C0-DB7BF320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F2D8-771E-440F-89BB-6A52E023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490E-5D62-4517-87FD-AC863D8F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44AC-BE0A-4B62-A16E-1837A7986A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1400-C064-4F7D-A0E8-2CD01E024F6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rtonionline.com/personaggi/iron_ma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bbd71"/>
                </a:solidFill>
                <a:latin typeface="Arial"/>
              </a:rPr>
              <a:t>DENSIT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EL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6" descr="dd00583_[1]"/>
          <p:cNvPicPr/>
          <p:nvPr/>
        </p:nvPicPr>
        <p:blipFill>
          <a:blip r:embed="rId1"/>
          <a:stretch/>
        </p:blipFill>
        <p:spPr>
          <a:xfrm>
            <a:off x="1619280" y="4508640"/>
            <a:ext cx="12492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j0140395[1]"/>
          <p:cNvPicPr/>
          <p:nvPr/>
        </p:nvPicPr>
        <p:blipFill>
          <a:blip r:embed="rId2"/>
          <a:stretch/>
        </p:blipFill>
        <p:spPr>
          <a:xfrm>
            <a:off x="5867280" y="5084640"/>
            <a:ext cx="1052640" cy="881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468360" y="549360"/>
            <a:ext cx="8280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Tahoma"/>
              </a:rPr>
              <a:t>Q) Which weighs more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Tahoma"/>
              </a:rPr>
              <a:t>A kilogram of feathers or a kilogram of ir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DENSITY OF A LIQUI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59280" y="1196640"/>
            <a:ext cx="608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ind the Mass of an empty Measuring Cylin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d a certain Volume of Liqu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ind the Mass of the Measuring Cylinder and Liq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lculate the Mass of Liqu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lculate Density of Liqu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1" name="Picture 6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4464000" cy="44643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7"/>
          <p:cNvSpPr/>
          <p:nvPr/>
        </p:nvSpPr>
        <p:spPr>
          <a:xfrm>
            <a:off x="0" y="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Mass of Liquid = Mass of Measuring Cylinder and Liquid – Mass of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                                                         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empty Measuring Cyli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0" y="2924280"/>
            <a:ext cx="12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25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826920" y="3141720"/>
            <a:ext cx="865440" cy="142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219564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20.0 cm</a:t>
            </a:r>
            <a:r>
              <a:rPr b="0" lang="en-GB" sz="1800" spc="-1" strike="noStrike" baseline="30000">
                <a:solidFill>
                  <a:srgbClr val="f8a5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Line 11"/>
          <p:cNvSpPr/>
          <p:nvPr/>
        </p:nvSpPr>
        <p:spPr>
          <a:xfrm>
            <a:off x="1979640" y="4076640"/>
            <a:ext cx="28872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0" y="29242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45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900000" y="558972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8a500"/>
                </a:solidFill>
                <a:latin typeface="Tahoma"/>
              </a:rPr>
              <a:t>45 – 25 = 20 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3492360" y="5661000"/>
            <a:ext cx="4392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20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1.00 g/cm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V    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1187280" y="260280"/>
          <a:ext cx="6480360" cy="6381720"/>
        </p:xfrm>
        <a:graphic>
          <a:graphicData uri="http://schemas.openxmlformats.org/drawingml/2006/table">
            <a:tbl>
              <a:tblPr/>
              <a:tblGrid>
                <a:gridCol w="1081080"/>
                <a:gridCol w="1079640"/>
                <a:gridCol w="1081080"/>
                <a:gridCol w="1077840"/>
                <a:gridCol w="1079640"/>
                <a:gridCol w="1081080"/>
              </a:tblGrid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qu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 of empty Measuring Cylin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 of Measuring Cylinder and Liqu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 of Liqu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lu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ns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/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DENSITY OF A GA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16360" y="1628640"/>
            <a:ext cx="3981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move the air from a flask of a known Volume, using a vacuum pu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its Ma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the gas to be tes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weig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difference is the Mass  of g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Den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Picture 7" descr="BOILFLS2"/>
          <p:cNvPicPr/>
          <p:nvPr/>
        </p:nvPicPr>
        <p:blipFill>
          <a:blip r:embed="rId1"/>
          <a:stretch/>
        </p:blipFill>
        <p:spPr>
          <a:xfrm rot="5400000">
            <a:off x="734760" y="1607760"/>
            <a:ext cx="1584360" cy="24066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21"/>
          <p:cNvGrpSpPr/>
          <p:nvPr/>
        </p:nvGrpSpPr>
        <p:grpSpPr>
          <a:xfrm>
            <a:off x="1692360" y="2708280"/>
            <a:ext cx="2016000" cy="216000"/>
            <a:chOff x="1692360" y="2708280"/>
            <a:chExt cx="2016000" cy="216000"/>
          </a:xfrm>
        </p:grpSpPr>
        <p:sp>
          <p:nvSpPr>
            <p:cNvPr id="325" name="Line 8"/>
            <p:cNvSpPr/>
            <p:nvPr/>
          </p:nvSpPr>
          <p:spPr>
            <a:xfrm>
              <a:off x="1692360" y="2708280"/>
              <a:ext cx="50472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1692360" y="2924280"/>
              <a:ext cx="50472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2700360" y="2708280"/>
              <a:ext cx="100800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2700360" y="2924280"/>
              <a:ext cx="100800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9" name="Text Box 12"/>
          <p:cNvSpPr/>
          <p:nvPr/>
        </p:nvSpPr>
        <p:spPr>
          <a:xfrm>
            <a:off x="2268360" y="2060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To vacuum flas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Line 13"/>
          <p:cNvSpPr/>
          <p:nvPr/>
        </p:nvSpPr>
        <p:spPr>
          <a:xfrm>
            <a:off x="3348000" y="2781360"/>
            <a:ext cx="8650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46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1000 cm</a:t>
            </a:r>
            <a:r>
              <a:rPr b="0" lang="en-GB" sz="1800" spc="-1" strike="noStrike" baseline="30000">
                <a:solidFill>
                  <a:srgbClr val="f8a5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15"/>
          <p:cNvSpPr/>
          <p:nvPr/>
        </p:nvSpPr>
        <p:spPr>
          <a:xfrm flipV="1">
            <a:off x="900000" y="3357720"/>
            <a:ext cx="0" cy="57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1835280" y="3429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150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Line 17"/>
          <p:cNvSpPr/>
          <p:nvPr/>
        </p:nvSpPr>
        <p:spPr>
          <a:xfrm flipH="1" flipV="1">
            <a:off x="1547280" y="3357360"/>
            <a:ext cx="28764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19"/>
          <p:cNvSpPr/>
          <p:nvPr/>
        </p:nvSpPr>
        <p:spPr>
          <a:xfrm>
            <a:off x="1902600" y="3429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170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0" y="5373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20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0.0200 g/cm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V   1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22"/>
          <p:cNvSpPr/>
          <p:nvPr/>
        </p:nvSpPr>
        <p:spPr>
          <a:xfrm flipH="1">
            <a:off x="3276360" y="2781360"/>
            <a:ext cx="9363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Text Box 23"/>
          <p:cNvSpPr/>
          <p:nvPr/>
        </p:nvSpPr>
        <p:spPr>
          <a:xfrm>
            <a:off x="1116000" y="472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a500"/>
                </a:solidFill>
                <a:latin typeface="Tahoma"/>
              </a:rPr>
              <a:t>170 -150 = 20.0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What is Dens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544500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66"/>
                </a:solidFill>
                <a:latin typeface="Tahoma"/>
              </a:rPr>
              <a:t>Density is the Mass per unit Volu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6" name="Group 16"/>
          <p:cNvGrpSpPr/>
          <p:nvPr/>
        </p:nvGrpSpPr>
        <p:grpSpPr>
          <a:xfrm>
            <a:off x="1763640" y="2636640"/>
            <a:ext cx="1081080" cy="1008360"/>
            <a:chOff x="1763640" y="2636640"/>
            <a:chExt cx="1081080" cy="1008360"/>
          </a:xfrm>
        </p:grpSpPr>
        <p:sp>
          <p:nvSpPr>
            <p:cNvPr id="167" name="Line 4"/>
            <p:cNvSpPr/>
            <p:nvPr/>
          </p:nvSpPr>
          <p:spPr>
            <a:xfrm>
              <a:off x="1763640" y="2852640"/>
              <a:ext cx="0" cy="79200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>
              <a:off x="1763640" y="2852640"/>
              <a:ext cx="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Line 6"/>
            <p:cNvSpPr/>
            <p:nvPr/>
          </p:nvSpPr>
          <p:spPr>
            <a:xfrm>
              <a:off x="1763640" y="2852640"/>
              <a:ext cx="72072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Line 7"/>
            <p:cNvSpPr/>
            <p:nvPr/>
          </p:nvSpPr>
          <p:spPr>
            <a:xfrm>
              <a:off x="2484360" y="2852640"/>
              <a:ext cx="0" cy="79200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Line 9"/>
            <p:cNvSpPr/>
            <p:nvPr/>
          </p:nvSpPr>
          <p:spPr>
            <a:xfrm>
              <a:off x="1763640" y="3645000"/>
              <a:ext cx="72072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Line 11"/>
            <p:cNvSpPr/>
            <p:nvPr/>
          </p:nvSpPr>
          <p:spPr>
            <a:xfrm>
              <a:off x="2124000" y="2637000"/>
              <a:ext cx="72072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Line 12"/>
            <p:cNvSpPr/>
            <p:nvPr/>
          </p:nvSpPr>
          <p:spPr>
            <a:xfrm>
              <a:off x="2844720" y="2637000"/>
              <a:ext cx="0" cy="79200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Line 13"/>
            <p:cNvSpPr/>
            <p:nvPr/>
          </p:nvSpPr>
          <p:spPr>
            <a:xfrm flipV="1">
              <a:off x="2484360" y="2636640"/>
              <a:ext cx="360360" cy="21564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 flipV="1">
              <a:off x="1763640" y="2636640"/>
              <a:ext cx="360360" cy="21564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 flipV="1">
              <a:off x="2484360" y="3428640"/>
              <a:ext cx="360360" cy="21564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17"/>
          <p:cNvGrpSpPr/>
          <p:nvPr/>
        </p:nvGrpSpPr>
        <p:grpSpPr>
          <a:xfrm>
            <a:off x="3780000" y="2636640"/>
            <a:ext cx="1081080" cy="1008360"/>
            <a:chOff x="3780000" y="2636640"/>
            <a:chExt cx="1081080" cy="1008360"/>
          </a:xfrm>
        </p:grpSpPr>
        <p:sp>
          <p:nvSpPr>
            <p:cNvPr id="178" name="Line 18"/>
            <p:cNvSpPr/>
            <p:nvPr/>
          </p:nvSpPr>
          <p:spPr>
            <a:xfrm>
              <a:off x="3780000" y="2852640"/>
              <a:ext cx="0" cy="792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Line 19"/>
            <p:cNvSpPr/>
            <p:nvPr/>
          </p:nvSpPr>
          <p:spPr>
            <a:xfrm>
              <a:off x="3780000" y="2852640"/>
              <a:ext cx="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Line 20"/>
            <p:cNvSpPr/>
            <p:nvPr/>
          </p:nvSpPr>
          <p:spPr>
            <a:xfrm>
              <a:off x="3780000" y="2852640"/>
              <a:ext cx="720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Line 21"/>
            <p:cNvSpPr/>
            <p:nvPr/>
          </p:nvSpPr>
          <p:spPr>
            <a:xfrm>
              <a:off x="4500720" y="2852640"/>
              <a:ext cx="0" cy="792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3780000" y="3645000"/>
              <a:ext cx="720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Line 23"/>
            <p:cNvSpPr/>
            <p:nvPr/>
          </p:nvSpPr>
          <p:spPr>
            <a:xfrm>
              <a:off x="4140360" y="2637000"/>
              <a:ext cx="720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Line 24"/>
            <p:cNvSpPr/>
            <p:nvPr/>
          </p:nvSpPr>
          <p:spPr>
            <a:xfrm>
              <a:off x="4861080" y="2637000"/>
              <a:ext cx="0" cy="792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Line 25"/>
            <p:cNvSpPr/>
            <p:nvPr/>
          </p:nvSpPr>
          <p:spPr>
            <a:xfrm flipV="1">
              <a:off x="4500720" y="2636640"/>
              <a:ext cx="360360" cy="215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Line 26"/>
            <p:cNvSpPr/>
            <p:nvPr/>
          </p:nvSpPr>
          <p:spPr>
            <a:xfrm flipV="1">
              <a:off x="3780000" y="2636640"/>
              <a:ext cx="360360" cy="215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V="1">
              <a:off x="4500720" y="3428640"/>
              <a:ext cx="360360" cy="215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8" name="Group 28"/>
          <p:cNvGrpSpPr/>
          <p:nvPr/>
        </p:nvGrpSpPr>
        <p:grpSpPr>
          <a:xfrm>
            <a:off x="5867280" y="2565000"/>
            <a:ext cx="1081080" cy="1008360"/>
            <a:chOff x="5867280" y="2565000"/>
            <a:chExt cx="1081080" cy="1008360"/>
          </a:xfrm>
        </p:grpSpPr>
        <p:sp>
          <p:nvSpPr>
            <p:cNvPr id="189" name="Line 29"/>
            <p:cNvSpPr/>
            <p:nvPr/>
          </p:nvSpPr>
          <p:spPr>
            <a:xfrm>
              <a:off x="5867280" y="2781000"/>
              <a:ext cx="0" cy="79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Line 30"/>
            <p:cNvSpPr/>
            <p:nvPr/>
          </p:nvSpPr>
          <p:spPr>
            <a:xfrm>
              <a:off x="5867280" y="2781000"/>
              <a:ext cx="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Line 31"/>
            <p:cNvSpPr/>
            <p:nvPr/>
          </p:nvSpPr>
          <p:spPr>
            <a:xfrm>
              <a:off x="5867280" y="2781000"/>
              <a:ext cx="720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Line 32"/>
            <p:cNvSpPr/>
            <p:nvPr/>
          </p:nvSpPr>
          <p:spPr>
            <a:xfrm>
              <a:off x="6588000" y="2781000"/>
              <a:ext cx="0" cy="79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Line 33"/>
            <p:cNvSpPr/>
            <p:nvPr/>
          </p:nvSpPr>
          <p:spPr>
            <a:xfrm>
              <a:off x="5867280" y="3573360"/>
              <a:ext cx="720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Line 34"/>
            <p:cNvSpPr/>
            <p:nvPr/>
          </p:nvSpPr>
          <p:spPr>
            <a:xfrm>
              <a:off x="6227640" y="2565360"/>
              <a:ext cx="720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Line 35"/>
            <p:cNvSpPr/>
            <p:nvPr/>
          </p:nvSpPr>
          <p:spPr>
            <a:xfrm>
              <a:off x="6948360" y="2565360"/>
              <a:ext cx="0" cy="79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Line 36"/>
            <p:cNvSpPr/>
            <p:nvPr/>
          </p:nvSpPr>
          <p:spPr>
            <a:xfrm flipV="1">
              <a:off x="6588000" y="2565000"/>
              <a:ext cx="360360" cy="2156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Line 37"/>
            <p:cNvSpPr/>
            <p:nvPr/>
          </p:nvSpPr>
          <p:spPr>
            <a:xfrm flipV="1">
              <a:off x="5867280" y="2565000"/>
              <a:ext cx="360360" cy="2156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Line 38"/>
            <p:cNvSpPr/>
            <p:nvPr/>
          </p:nvSpPr>
          <p:spPr>
            <a:xfrm flipV="1">
              <a:off x="6588000" y="3357000"/>
              <a:ext cx="360360" cy="2156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9" name="Text Box 39"/>
          <p:cNvSpPr/>
          <p:nvPr/>
        </p:nvSpPr>
        <p:spPr>
          <a:xfrm>
            <a:off x="1979640" y="213372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W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40"/>
          <p:cNvSpPr/>
          <p:nvPr/>
        </p:nvSpPr>
        <p:spPr>
          <a:xfrm>
            <a:off x="3995640" y="2133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41"/>
          <p:cNvSpPr/>
          <p:nvPr/>
        </p:nvSpPr>
        <p:spPr>
          <a:xfrm>
            <a:off x="6300720" y="21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r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42"/>
          <p:cNvSpPr/>
          <p:nvPr/>
        </p:nvSpPr>
        <p:spPr>
          <a:xfrm>
            <a:off x="176364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3780000" y="3068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586728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45"/>
          <p:cNvSpPr/>
          <p:nvPr/>
        </p:nvSpPr>
        <p:spPr>
          <a:xfrm>
            <a:off x="324000" y="119700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If you take the same volume of different substances, then they will weigh different amou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176364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0.5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47"/>
          <p:cNvSpPr/>
          <p:nvPr/>
        </p:nvSpPr>
        <p:spPr>
          <a:xfrm>
            <a:off x="370836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.0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48"/>
          <p:cNvSpPr/>
          <p:nvPr/>
        </p:nvSpPr>
        <p:spPr>
          <a:xfrm>
            <a:off x="586728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8.0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9"/>
          <p:cNvSpPr/>
          <p:nvPr/>
        </p:nvSpPr>
        <p:spPr>
          <a:xfrm>
            <a:off x="250920" y="4724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Q) Which has the greatest mass and therefore the most dens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51" descr="is?M9Hz5Cr5PCooSMJrO65kAMhrQ_O4D1esCBIN7CYDj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421000"/>
            <a:ext cx="1218960" cy="106668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52"/>
          <p:cNvSpPr/>
          <p:nvPr/>
        </p:nvSpPr>
        <p:spPr>
          <a:xfrm>
            <a:off x="7020000" y="3716280"/>
            <a:ext cx="1152360" cy="792360"/>
          </a:xfrm>
          <a:prstGeom prst="wedgeRoundRectCallout">
            <a:avLst>
              <a:gd name="adj1" fmla="val 43527"/>
              <a:gd name="adj2" fmla="val -165430"/>
              <a:gd name="adj3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ahoma"/>
              </a:rPr>
              <a:t>IR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1763640" y="1484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ensity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780000" y="1413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M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635280" y="1916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79"/>
          <p:cNvSpPr/>
          <p:nvPr/>
        </p:nvSpPr>
        <p:spPr>
          <a:xfrm>
            <a:off x="4859280" y="907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g or k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80"/>
          <p:cNvSpPr/>
          <p:nvPr/>
        </p:nvSpPr>
        <p:spPr>
          <a:xfrm>
            <a:off x="4932360" y="2997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or kg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81"/>
          <p:cNvSpPr/>
          <p:nvPr/>
        </p:nvSpPr>
        <p:spPr>
          <a:xfrm>
            <a:off x="324000" y="263700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g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-3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or kg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82"/>
          <p:cNvSpPr/>
          <p:nvPr/>
        </p:nvSpPr>
        <p:spPr>
          <a:xfrm flipH="1">
            <a:off x="4284720" y="1125360"/>
            <a:ext cx="50328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83"/>
          <p:cNvSpPr/>
          <p:nvPr/>
        </p:nvSpPr>
        <p:spPr>
          <a:xfrm>
            <a:off x="4427640" y="2492280"/>
            <a:ext cx="72072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84"/>
          <p:cNvSpPr/>
          <p:nvPr/>
        </p:nvSpPr>
        <p:spPr>
          <a:xfrm flipV="1">
            <a:off x="971640" y="1916280"/>
            <a:ext cx="115236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85"/>
          <p:cNvSpPr/>
          <p:nvPr/>
        </p:nvSpPr>
        <p:spPr>
          <a:xfrm>
            <a:off x="1835280" y="3645000"/>
            <a:ext cx="1728720" cy="147708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8a5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=  </a:t>
            </a:r>
            <a:r>
              <a:rPr b="0" lang="en-GB" sz="3600" spc="-1" strike="noStrike" u="sng">
                <a:solidFill>
                  <a:srgbClr val="f8a500"/>
                </a:solidFill>
                <a:uFillTx/>
                <a:latin typeface="Tahoma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       </a:t>
            </a: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86"/>
          <p:cNvSpPr/>
          <p:nvPr/>
        </p:nvSpPr>
        <p:spPr>
          <a:xfrm>
            <a:off x="4248000" y="3645000"/>
            <a:ext cx="4896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Q) Liquid water has a density of 1000kgm</a:t>
            </a:r>
            <a:r>
              <a:rPr b="0" lang="en-GB" sz="2400" spc="-1" strike="noStrike" baseline="30000">
                <a:solidFill>
                  <a:srgbClr val="ff7c80"/>
                </a:solidFill>
                <a:latin typeface="Tahoma"/>
              </a:rPr>
              <a:t>-3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, while ice has density of 920kgm</a:t>
            </a:r>
            <a:r>
              <a:rPr b="0" lang="en-GB" sz="2400" spc="-1" strike="noStrike" baseline="30000">
                <a:solidFill>
                  <a:srgbClr val="ff7c80"/>
                </a:solidFill>
                <a:latin typeface="Tahoma"/>
              </a:rPr>
              <a:t>-3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Calculate the volume occupied by 0.25kg of eac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195120" y="76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88"/>
          <p:cNvSpPr/>
          <p:nvPr/>
        </p:nvSpPr>
        <p:spPr>
          <a:xfrm>
            <a:off x="900000" y="260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Tahoma"/>
              </a:rPr>
              <a:t>Density Equatio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5" name="Group 97"/>
          <p:cNvGrpSpPr/>
          <p:nvPr/>
        </p:nvGrpSpPr>
        <p:grpSpPr>
          <a:xfrm>
            <a:off x="6012000" y="1197000"/>
            <a:ext cx="2895480" cy="2438280"/>
            <a:chOff x="6012000" y="1197000"/>
            <a:chExt cx="2895480" cy="2438280"/>
          </a:xfrm>
        </p:grpSpPr>
        <p:sp>
          <p:nvSpPr>
            <p:cNvPr id="226" name="AutoShape 98"/>
            <p:cNvSpPr/>
            <p:nvPr/>
          </p:nvSpPr>
          <p:spPr>
            <a:xfrm>
              <a:off x="6012000" y="1197000"/>
              <a:ext cx="2895480" cy="2438280"/>
            </a:xfrm>
            <a:prstGeom prst="flowChartExtra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Text Box 99"/>
            <p:cNvSpPr/>
            <p:nvPr/>
          </p:nvSpPr>
          <p:spPr>
            <a:xfrm>
              <a:off x="7230960" y="16542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Text Box 100"/>
            <p:cNvSpPr/>
            <p:nvPr/>
          </p:nvSpPr>
          <p:spPr>
            <a:xfrm>
              <a:off x="7916760" y="30258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V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Text Box 101"/>
            <p:cNvSpPr/>
            <p:nvPr/>
          </p:nvSpPr>
          <p:spPr>
            <a:xfrm>
              <a:off x="6469200" y="30258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Line 102"/>
            <p:cNvSpPr/>
            <p:nvPr/>
          </p:nvSpPr>
          <p:spPr>
            <a:xfrm>
              <a:off x="6773760" y="2568600"/>
              <a:ext cx="12956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Line 103"/>
            <p:cNvSpPr/>
            <p:nvPr/>
          </p:nvSpPr>
          <p:spPr>
            <a:xfrm flipV="1">
              <a:off x="7230960" y="3025800"/>
              <a:ext cx="38124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Line 104"/>
            <p:cNvSpPr/>
            <p:nvPr/>
          </p:nvSpPr>
          <p:spPr>
            <a:xfrm flipH="1" flipV="1">
              <a:off x="7230600" y="3025800"/>
              <a:ext cx="38124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3" name="Rectangle 105"/>
          <p:cNvSpPr/>
          <p:nvPr/>
        </p:nvSpPr>
        <p:spPr>
          <a:xfrm>
            <a:off x="0" y="522936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V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0.25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0.000250m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106"/>
          <p:cNvSpPr/>
          <p:nvPr/>
        </p:nvSpPr>
        <p:spPr>
          <a:xfrm>
            <a:off x="0" y="603576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V =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0.25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0.000272m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9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DENSITY OF A REGULAR SOLID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508360" y="1628640"/>
            <a:ext cx="338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asure the three lengths and calculate the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ie V = l x w x h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7" name="Group 26"/>
          <p:cNvGrpSpPr/>
          <p:nvPr/>
        </p:nvGrpSpPr>
        <p:grpSpPr>
          <a:xfrm>
            <a:off x="900000" y="2421000"/>
            <a:ext cx="4392720" cy="2808360"/>
            <a:chOff x="900000" y="2421000"/>
            <a:chExt cx="4392720" cy="2808360"/>
          </a:xfrm>
        </p:grpSpPr>
        <p:sp>
          <p:nvSpPr>
            <p:cNvPr id="238" name="Line 4"/>
            <p:cNvSpPr/>
            <p:nvPr/>
          </p:nvSpPr>
          <p:spPr>
            <a:xfrm>
              <a:off x="900000" y="314172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Line 5"/>
            <p:cNvSpPr/>
            <p:nvPr/>
          </p:nvSpPr>
          <p:spPr>
            <a:xfrm>
              <a:off x="900000" y="314172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900000" y="522936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3995640" y="314172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Line 8"/>
            <p:cNvSpPr/>
            <p:nvPr/>
          </p:nvSpPr>
          <p:spPr>
            <a:xfrm flipV="1">
              <a:off x="900000" y="242100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Line 9"/>
            <p:cNvSpPr/>
            <p:nvPr/>
          </p:nvSpPr>
          <p:spPr>
            <a:xfrm flipV="1">
              <a:off x="3995640" y="450864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Line 10"/>
            <p:cNvSpPr/>
            <p:nvPr/>
          </p:nvSpPr>
          <p:spPr>
            <a:xfrm flipV="1">
              <a:off x="3995640" y="242100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 flipV="1">
              <a:off x="900000" y="450864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5292720" y="242100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2195640" y="242100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2195640" y="242100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Line 15"/>
            <p:cNvSpPr/>
            <p:nvPr/>
          </p:nvSpPr>
          <p:spPr>
            <a:xfrm>
              <a:off x="2195640" y="450864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0" name="Line 16"/>
          <p:cNvSpPr/>
          <p:nvPr/>
        </p:nvSpPr>
        <p:spPr>
          <a:xfrm>
            <a:off x="468360" y="3141720"/>
            <a:ext cx="0" cy="201600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900000" y="5589720"/>
            <a:ext cx="3095640" cy="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Line 18"/>
          <p:cNvSpPr/>
          <p:nvPr/>
        </p:nvSpPr>
        <p:spPr>
          <a:xfrm flipV="1">
            <a:off x="611280" y="2349360"/>
            <a:ext cx="1224000" cy="64800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1835280" y="5589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4.0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611280" y="2492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2.0  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0" y="422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3.0 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Rectangle 23"/>
          <p:cNvSpPr/>
          <p:nvPr/>
        </p:nvSpPr>
        <p:spPr>
          <a:xfrm flipV="1" rot="10800000">
            <a:off x="900000" y="3499200"/>
            <a:ext cx="49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240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10.0 g/cm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V      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24"/>
          <p:cNvSpPr/>
          <p:nvPr/>
        </p:nvSpPr>
        <p:spPr>
          <a:xfrm>
            <a:off x="3132000" y="184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m = 24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Line 25"/>
          <p:cNvSpPr/>
          <p:nvPr/>
        </p:nvSpPr>
        <p:spPr>
          <a:xfrm flipH="1">
            <a:off x="2916000" y="2205000"/>
            <a:ext cx="360360" cy="57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187280" y="260280"/>
          <a:ext cx="6096240" cy="613116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er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ng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id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igh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lu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ns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/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0" name="Picture 134" descr="j0140395[1]"/>
          <p:cNvPicPr/>
          <p:nvPr/>
        </p:nvPicPr>
        <p:blipFill>
          <a:blip r:embed="rId1"/>
          <a:stretch/>
        </p:blipFill>
        <p:spPr>
          <a:xfrm>
            <a:off x="7740720" y="333360"/>
            <a:ext cx="10522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403280" y="836640"/>
          <a:ext cx="6096240" cy="6397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ENSI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g/cm</a:t>
                      </a:r>
                      <a:r>
                        <a:rPr b="0" lang="en-GB" sz="3600" spc="-1" strike="noStrike" baseline="30000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403280" y="1484280"/>
          <a:ext cx="6096240" cy="576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Alumin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1403280" y="2637000"/>
          <a:ext cx="6096240" cy="5760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Br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403280" y="2060640"/>
          <a:ext cx="6096240" cy="576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I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1403280" y="3213000"/>
          <a:ext cx="6096240" cy="51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W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1403280" y="3716280"/>
          <a:ext cx="6096240" cy="576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Sl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403280" y="4292640"/>
          <a:ext cx="6096240" cy="6476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403280" y="4941720"/>
          <a:ext cx="6096240" cy="51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L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1403280" y="5445000"/>
          <a:ext cx="6096240" cy="51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Mar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403280" y="5950080"/>
          <a:ext cx="6096240" cy="5173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Wa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DENSITY OF AN IRREGULAR SOLID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2012760" cy="4319640"/>
          </a:xfrm>
          <a:prstGeom prst="rect">
            <a:avLst/>
          </a:prstGeom>
          <a:ln w="0">
            <a:noFill/>
          </a:ln>
        </p:spPr>
      </p:pic>
      <p:sp>
        <p:nvSpPr>
          <p:cNvPr id="273" name="Line 5"/>
          <p:cNvSpPr/>
          <p:nvPr/>
        </p:nvSpPr>
        <p:spPr>
          <a:xfrm>
            <a:off x="2340000" y="4437000"/>
            <a:ext cx="576360" cy="0"/>
          </a:xfrm>
          <a:prstGeom prst="line">
            <a:avLst/>
          </a:prstGeom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4284720" y="2349360"/>
            <a:ext cx="4608360" cy="50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ll the Measuring Cylinder with Water to a known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ork out the Volume of Water that is displac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Freeform 9"/>
          <p:cNvSpPr/>
          <p:nvPr/>
        </p:nvSpPr>
        <p:spPr>
          <a:xfrm rot="16864800">
            <a:off x="2108880" y="1427760"/>
            <a:ext cx="1065240" cy="314280"/>
          </a:xfrm>
          <a:custGeom>
            <a:avLst/>
            <a:gdLst/>
            <a:ahLst/>
            <a:rect l="l" t="t" r="r" b="b"/>
            <a:pathLst>
              <a:path w="981" h="614">
                <a:moveTo>
                  <a:pt x="279" y="0"/>
                </a:moveTo>
                <a:cubicBezTo>
                  <a:pt x="246" y="21"/>
                  <a:pt x="208" y="36"/>
                  <a:pt x="179" y="63"/>
                </a:cubicBezTo>
                <a:cubicBezTo>
                  <a:pt x="140" y="99"/>
                  <a:pt x="117" y="150"/>
                  <a:pt x="79" y="188"/>
                </a:cubicBezTo>
                <a:cubicBezTo>
                  <a:pt x="45" y="331"/>
                  <a:pt x="0" y="543"/>
                  <a:pt x="142" y="614"/>
                </a:cubicBezTo>
                <a:cubicBezTo>
                  <a:pt x="225" y="610"/>
                  <a:pt x="309" y="612"/>
                  <a:pt x="392" y="601"/>
                </a:cubicBezTo>
                <a:cubicBezTo>
                  <a:pt x="425" y="597"/>
                  <a:pt x="449" y="564"/>
                  <a:pt x="480" y="551"/>
                </a:cubicBezTo>
                <a:cubicBezTo>
                  <a:pt x="504" y="541"/>
                  <a:pt x="555" y="526"/>
                  <a:pt x="555" y="526"/>
                </a:cubicBezTo>
                <a:cubicBezTo>
                  <a:pt x="598" y="468"/>
                  <a:pt x="636" y="403"/>
                  <a:pt x="668" y="338"/>
                </a:cubicBezTo>
                <a:cubicBezTo>
                  <a:pt x="676" y="323"/>
                  <a:pt x="689" y="256"/>
                  <a:pt x="705" y="251"/>
                </a:cubicBezTo>
                <a:cubicBezTo>
                  <a:pt x="765" y="233"/>
                  <a:pt x="830" y="242"/>
                  <a:pt x="893" y="238"/>
                </a:cubicBezTo>
                <a:cubicBezTo>
                  <a:pt x="910" y="234"/>
                  <a:pt x="927" y="231"/>
                  <a:pt x="943" y="226"/>
                </a:cubicBezTo>
                <a:cubicBezTo>
                  <a:pt x="956" y="222"/>
                  <a:pt x="981" y="226"/>
                  <a:pt x="981" y="213"/>
                </a:cubicBezTo>
                <a:cubicBezTo>
                  <a:pt x="981" y="154"/>
                  <a:pt x="848" y="123"/>
                  <a:pt x="805" y="113"/>
                </a:cubicBezTo>
                <a:cubicBezTo>
                  <a:pt x="730" y="143"/>
                  <a:pt x="658" y="174"/>
                  <a:pt x="580" y="188"/>
                </a:cubicBezTo>
                <a:cubicBezTo>
                  <a:pt x="567" y="196"/>
                  <a:pt x="557" y="216"/>
                  <a:pt x="542" y="213"/>
                </a:cubicBezTo>
                <a:cubicBezTo>
                  <a:pt x="493" y="203"/>
                  <a:pt x="530" y="89"/>
                  <a:pt x="530" y="88"/>
                </a:cubicBezTo>
                <a:cubicBezTo>
                  <a:pt x="475" y="70"/>
                  <a:pt x="423" y="51"/>
                  <a:pt x="367" y="38"/>
                </a:cubicBezTo>
                <a:cubicBezTo>
                  <a:pt x="315" y="3"/>
                  <a:pt x="344" y="17"/>
                  <a:pt x="279" y="0"/>
                </a:cubicBez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2340000" y="3429000"/>
            <a:ext cx="576360" cy="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Line 11"/>
          <p:cNvSpPr/>
          <p:nvPr/>
        </p:nvSpPr>
        <p:spPr>
          <a:xfrm flipV="1">
            <a:off x="3132000" y="3429000"/>
            <a:ext cx="0" cy="1008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1332000" y="4292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ff"/>
                </a:solidFill>
                <a:latin typeface="Tahoma"/>
              </a:rPr>
              <a:t>50 cm</a:t>
            </a:r>
            <a:r>
              <a:rPr b="1" lang="en-GB" sz="1800" spc="-1" strike="noStrike" baseline="30000">
                <a:solidFill>
                  <a:srgbClr val="6699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1360800" y="3284640"/>
            <a:ext cx="9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ff"/>
                </a:solidFill>
                <a:latin typeface="Tahoma"/>
              </a:rPr>
              <a:t>80 cm</a:t>
            </a:r>
            <a:r>
              <a:rPr b="1" lang="en-GB" sz="1800" spc="-1" strike="noStrike" baseline="30000">
                <a:solidFill>
                  <a:srgbClr val="6699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479880" y="14130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m = 36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1763640" y="1628640"/>
            <a:ext cx="720720" cy="14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4284720" y="1413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360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12.0 g/cm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V     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6944 L -0.00139 0.56296 E">
                                      <p:cBhvr>
                                        <p:cTn id="476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DENSITY OF AN IRREGULAR SOLID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R use a Eureka Can to find the Volu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749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1332000" y="2781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1332000" y="494172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Line 6"/>
          <p:cNvSpPr/>
          <p:nvPr/>
        </p:nvSpPr>
        <p:spPr>
          <a:xfrm flipV="1">
            <a:off x="2987640" y="3573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2987640" y="357336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2987640" y="328464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9"/>
          <p:cNvSpPr/>
          <p:nvPr/>
        </p:nvSpPr>
        <p:spPr>
          <a:xfrm flipV="1">
            <a:off x="2987640" y="278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3059280" y="393372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3492360" y="393372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2916360" y="580536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Line 13"/>
          <p:cNvSpPr/>
          <p:nvPr/>
        </p:nvSpPr>
        <p:spPr>
          <a:xfrm flipV="1">
            <a:off x="2916360" y="5589360"/>
            <a:ext cx="1429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Line 14"/>
          <p:cNvSpPr/>
          <p:nvPr/>
        </p:nvSpPr>
        <p:spPr>
          <a:xfrm flipH="1" flipV="1">
            <a:off x="3492000" y="5589360"/>
            <a:ext cx="1429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1332000" y="3573360"/>
            <a:ext cx="1655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Freeform 16"/>
          <p:cNvSpPr/>
          <p:nvPr/>
        </p:nvSpPr>
        <p:spPr>
          <a:xfrm rot="16864800">
            <a:off x="1589040" y="2234520"/>
            <a:ext cx="1065240" cy="1004760"/>
          </a:xfrm>
          <a:custGeom>
            <a:avLst/>
            <a:gdLst/>
            <a:ahLst/>
            <a:rect l="l" t="t" r="r" b="b"/>
            <a:pathLst>
              <a:path w="981" h="614">
                <a:moveTo>
                  <a:pt x="279" y="0"/>
                </a:moveTo>
                <a:cubicBezTo>
                  <a:pt x="246" y="21"/>
                  <a:pt x="208" y="36"/>
                  <a:pt x="179" y="63"/>
                </a:cubicBezTo>
                <a:cubicBezTo>
                  <a:pt x="140" y="99"/>
                  <a:pt x="117" y="150"/>
                  <a:pt x="79" y="188"/>
                </a:cubicBezTo>
                <a:cubicBezTo>
                  <a:pt x="45" y="331"/>
                  <a:pt x="0" y="543"/>
                  <a:pt x="142" y="614"/>
                </a:cubicBezTo>
                <a:cubicBezTo>
                  <a:pt x="225" y="610"/>
                  <a:pt x="309" y="612"/>
                  <a:pt x="392" y="601"/>
                </a:cubicBezTo>
                <a:cubicBezTo>
                  <a:pt x="425" y="597"/>
                  <a:pt x="449" y="564"/>
                  <a:pt x="480" y="551"/>
                </a:cubicBezTo>
                <a:cubicBezTo>
                  <a:pt x="504" y="541"/>
                  <a:pt x="555" y="526"/>
                  <a:pt x="555" y="526"/>
                </a:cubicBezTo>
                <a:cubicBezTo>
                  <a:pt x="598" y="468"/>
                  <a:pt x="636" y="403"/>
                  <a:pt x="668" y="338"/>
                </a:cubicBezTo>
                <a:cubicBezTo>
                  <a:pt x="676" y="323"/>
                  <a:pt x="689" y="256"/>
                  <a:pt x="705" y="251"/>
                </a:cubicBezTo>
                <a:cubicBezTo>
                  <a:pt x="765" y="233"/>
                  <a:pt x="830" y="242"/>
                  <a:pt x="893" y="238"/>
                </a:cubicBezTo>
                <a:cubicBezTo>
                  <a:pt x="910" y="234"/>
                  <a:pt x="927" y="231"/>
                  <a:pt x="943" y="226"/>
                </a:cubicBezTo>
                <a:cubicBezTo>
                  <a:pt x="956" y="222"/>
                  <a:pt x="981" y="226"/>
                  <a:pt x="981" y="213"/>
                </a:cubicBezTo>
                <a:cubicBezTo>
                  <a:pt x="981" y="154"/>
                  <a:pt x="848" y="123"/>
                  <a:pt x="805" y="113"/>
                </a:cubicBezTo>
                <a:cubicBezTo>
                  <a:pt x="730" y="143"/>
                  <a:pt x="658" y="174"/>
                  <a:pt x="580" y="188"/>
                </a:cubicBezTo>
                <a:cubicBezTo>
                  <a:pt x="567" y="196"/>
                  <a:pt x="557" y="216"/>
                  <a:pt x="542" y="213"/>
                </a:cubicBezTo>
                <a:cubicBezTo>
                  <a:pt x="493" y="203"/>
                  <a:pt x="530" y="89"/>
                  <a:pt x="530" y="88"/>
                </a:cubicBezTo>
                <a:cubicBezTo>
                  <a:pt x="475" y="70"/>
                  <a:pt x="423" y="51"/>
                  <a:pt x="367" y="38"/>
                </a:cubicBezTo>
                <a:cubicBezTo>
                  <a:pt x="315" y="3"/>
                  <a:pt x="344" y="17"/>
                  <a:pt x="279" y="0"/>
                </a:cubicBez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2987640" y="3573360"/>
            <a:ext cx="289080" cy="28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3276720" y="3860640"/>
            <a:ext cx="0" cy="1944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3059280" y="5805360"/>
            <a:ext cx="433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3276720" y="3860640"/>
            <a:ext cx="0" cy="792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3851280" y="2133720"/>
            <a:ext cx="529272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water until just overflow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lace a Measuring Cylinder under the spou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llect the Water and read off the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Den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11520" y="24922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m = 44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Line 26"/>
          <p:cNvSpPr/>
          <p:nvPr/>
        </p:nvSpPr>
        <p:spPr>
          <a:xfrm flipH="1" flipV="1">
            <a:off x="1186920" y="2707920"/>
            <a:ext cx="50508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1619280" y="522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40.0 cm</a:t>
            </a:r>
            <a:r>
              <a:rPr b="0" lang="en-GB" sz="1800" spc="-1" strike="noStrike" baseline="30000">
                <a:solidFill>
                  <a:srgbClr val="f8a5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Line 28"/>
          <p:cNvSpPr/>
          <p:nvPr/>
        </p:nvSpPr>
        <p:spPr>
          <a:xfrm flipV="1">
            <a:off x="2771640" y="4797360"/>
            <a:ext cx="43200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Rectangle 29"/>
          <p:cNvSpPr/>
          <p:nvPr/>
        </p:nvSpPr>
        <p:spPr>
          <a:xfrm>
            <a:off x="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Tahoma"/>
              </a:rPr>
              <a:t>440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=11.0 g/cm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V     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5903 L 0.00035 0.2375 E">
                                      <p:cBhvr>
                                        <p:cTn id="602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13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22222E-006 L 0.00017 -0.16806 E">
                                      <p:cBhvr>
                                        <p:cTn id="620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457200" y="277920"/>
          <a:ext cx="8229600" cy="5852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ENSI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g/cm</a:t>
                      </a:r>
                      <a:r>
                        <a:rPr b="0" lang="en-GB" sz="3600" spc="-1" strike="noStrike" baseline="30000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Alumin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I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Br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W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Sl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0:20:28Z</dcterms:created>
  <dc:creator>gel</dc:creator>
  <dc:description/>
  <dc:language>en-US</dc:language>
  <cp:lastModifiedBy>RomaK</cp:lastModifiedBy>
  <dcterms:modified xsi:type="dcterms:W3CDTF">2015-09-03T12:20:26Z</dcterms:modified>
  <cp:revision>43</cp:revision>
  <dc:subject/>
  <dc:title>DENSITY</dc:title>
</cp:coreProperties>
</file>