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CDE0-BA06-42B9-9DFB-0B43B09A0DA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) Which weighs more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kilogram of feathers or a kilogram of ir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L200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Q) Which weighs more: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kilogram of feathers or a kilogram of ir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an empty Measuring Cylin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a certain Volume of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the Measuring Cylinder and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Mass of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Density of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of Liquid = Mass of Measuring Cylinder and Liquid – Mass of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ty Measuring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.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.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.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 – 25 = 2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20 =1.0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 LIQU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an empty Measuring Cylind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a certain Volume of Liqu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the Measuring Cylinder and Liqu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the Mass of Liqu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Density of Liqu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ass of Liquid = Mass of Measuring Cylinder and Liquid – Mass of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mpty Measuring Cylind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5.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0.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5.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5 – 25 = 2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20 =1.0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 2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 the air from a flask of a known Volume, using a vacuum pum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its M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gas to be tes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weig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ce is the Mass  of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vacuum fl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0.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0.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20 =0.020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0 -150 = 20.0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move the air from a flask of a known Volume, using a vacuum pump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its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the gas to be tes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weig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difference is the Mass  of ga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Dens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 vacuum flas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00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0.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70.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20 =0.020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1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70 -150 = 20.0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ens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is the Mass per unit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take the same volume of different substances, then they will weigh different amou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0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) Which has the greatest mass and therefore the most den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is Densit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is the Mass per unit Volu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you take the same volume of different substances, then they will weigh different amoun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.5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.0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.0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Q) Which has the greatest mass and therefore the most dens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or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m3 or kg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cm-3 or kgm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) Liquid water has a density of 1000kgm-3, while ice has density of 920kgm-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volume occupied by 0.25kg of ea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 m = 0.25 = 0.000250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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 m = 0.25 = 0.000272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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 or k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m3 or kg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cm-3 or kgm-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Q) Liquid water has a density of 1000kgm-3, while ice has density of 920kgm-3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the volume occupied by 0.25kg of ea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Equatio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=  m = 0.25 = 0.000250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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=  m = 0.25 = 0.000272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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2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 REGULAR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the solid on a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the three lengths and calculate the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e V = l x w x h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 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0 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240 =10.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  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4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 REGULAR SOL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easure the three lengths and calculate the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(ie V = l x w x h 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the Dens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.0 c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.0   c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.0  c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240 =10.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   2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 = 24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N IRREGULAR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the solid on a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the Measuring Cylinder with Water to a known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out the Volume of Water that is displa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6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360 =12.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  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N IRREGULAR SOL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ll the Measuring Cylinder with Water to a known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the O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ork out the Volume of Water that is displac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the Dens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 = 36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360 =12.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  3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N IRREGULAR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use a Eureka Can to find the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the solid on a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water until just overflo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a Measuring Cylinder under the sp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ect the Water and read off the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44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.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440 =11.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  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N IRREGULAR SOL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R use a Eureka Can to find the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water until just overflow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lace a Measuring Cylinder under the spo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the O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llect the Water and read off the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Dens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 = 44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0.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440 =11.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  4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CF7D-7057-47F7-B264-8BE9D0A3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3E34-BFD1-4F6B-904B-F0F2120B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A78F-EBCE-41BE-A6E0-5A6DFF65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C1C3-1A4E-4B8F-AA24-9EA44546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4708-E023-4E26-BAB0-EC37E045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1EC5-D65F-46EF-AA07-F0A189B4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9542-BC06-47E3-B67C-4A277244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B16B-D6AD-4B3B-BA9A-3EB135BC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BA89-60E9-49F9-B8D4-B84FFE79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159F-F98F-4276-A78B-038F7D15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C18B-E8D3-46C8-8EF7-AA22DD8D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4780-8EAF-4BA5-9010-118F3DAB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F452-3145-45DB-8B77-52984D0C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DC20-F18E-49DD-895B-98DF935B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B6DF-0588-4D3B-90A0-21148889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3228-9A60-4C9F-B673-02C5C2FE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3536-D5C5-438B-851E-95571733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71E9-5E07-4AFB-8FAC-6B9825A0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C676-7B2B-4483-870A-47C10F46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1E95-E7A2-4096-A198-A31BF941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BC5B-8611-4DE6-ADBF-B2586308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8FE0-E8CD-4DE0-AAEE-86E06709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24ED-0B37-44D1-973D-3F558957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010D-AB91-4B5F-B47E-117C2D47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681B-5866-42F5-887D-E77CB29274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7886-8B61-4DB7-A493-BE36D45E4D2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artonionline.com/personaggi/iron_ma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bbd71"/>
                </a:solidFill>
                <a:latin typeface="Arial"/>
              </a:rPr>
              <a:t>DENSITY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EL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6" descr="dd00583_[1]"/>
          <p:cNvPicPr/>
          <p:nvPr/>
        </p:nvPicPr>
        <p:blipFill>
          <a:blip r:embed="rId1"/>
          <a:stretch/>
        </p:blipFill>
        <p:spPr>
          <a:xfrm>
            <a:off x="1619280" y="4508640"/>
            <a:ext cx="124920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j0140395[1]"/>
          <p:cNvPicPr/>
          <p:nvPr/>
        </p:nvPicPr>
        <p:blipFill>
          <a:blip r:embed="rId2"/>
          <a:stretch/>
        </p:blipFill>
        <p:spPr>
          <a:xfrm>
            <a:off x="5867280" y="5084640"/>
            <a:ext cx="1052640" cy="881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468360" y="549360"/>
            <a:ext cx="8280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Tahoma"/>
              </a:rPr>
              <a:t>Q) Which weighs more: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Tahoma"/>
              </a:rPr>
              <a:t>A kilogram of feathers or a kilogram of ir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700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"/>
              </a:rPr>
              <a:t>DENSITY OF A LIQUI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59280" y="1196640"/>
            <a:ext cx="608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ind the Mass of an empty Measuring Cylin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dd a certain Volume of Liqu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ind the Mass of the Measuring Cylinder and Liqu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alculate the Mass of Liqu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ow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alculate Density of Liqu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1" name="Picture 6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4464000" cy="44643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7"/>
          <p:cNvSpPr/>
          <p:nvPr/>
        </p:nvSpPr>
        <p:spPr>
          <a:xfrm>
            <a:off x="0" y="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Mass of Liquid = Mass of Measuring Cylinder and Liquid – Mass of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                                                         </a:t>
            </a: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empty Measuring Cylin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0" y="2924280"/>
            <a:ext cx="12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25.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Line 9"/>
          <p:cNvSpPr/>
          <p:nvPr/>
        </p:nvSpPr>
        <p:spPr>
          <a:xfrm>
            <a:off x="826920" y="3141720"/>
            <a:ext cx="865440" cy="142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219564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20.0 cm</a:t>
            </a:r>
            <a:r>
              <a:rPr b="0" lang="en-GB" sz="1800" spc="-1" strike="noStrike" baseline="30000">
                <a:solidFill>
                  <a:srgbClr val="f8a5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Line 11"/>
          <p:cNvSpPr/>
          <p:nvPr/>
        </p:nvSpPr>
        <p:spPr>
          <a:xfrm>
            <a:off x="1979640" y="4076640"/>
            <a:ext cx="28872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0" y="29242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45.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900000" y="558972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8a500"/>
                </a:solidFill>
                <a:latin typeface="Tahoma"/>
              </a:rPr>
              <a:t>45 – 25 = 20 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3492360" y="5661000"/>
            <a:ext cx="4392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20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1.00 g/cm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V    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9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1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1187280" y="260280"/>
          <a:ext cx="6480360" cy="6381720"/>
        </p:xfrm>
        <a:graphic>
          <a:graphicData uri="http://schemas.openxmlformats.org/drawingml/2006/table">
            <a:tbl>
              <a:tblPr/>
              <a:tblGrid>
                <a:gridCol w="1081080"/>
                <a:gridCol w="1079640"/>
                <a:gridCol w="1081080"/>
                <a:gridCol w="1077840"/>
                <a:gridCol w="1079640"/>
                <a:gridCol w="1081080"/>
              </a:tblGrid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qu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s of empty Measuring Cylin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s of Measuring Cylinder and Liqu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s of Liqu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lu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r>
                        <a:rPr b="0" lang="en-GB" sz="1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ns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/cm</a:t>
                      </a:r>
                      <a:r>
                        <a:rPr b="0" lang="en-GB" sz="1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"/>
              </a:rPr>
              <a:t>DENSITY OF A GA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716360" y="1628640"/>
            <a:ext cx="3981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move the air from a flask of a known Volume, using a vacuum pu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nd its Ma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the gas to be tes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weig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difference is the Mass  of g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lculate Dens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3" name="Picture 7" descr="BOILFLS2"/>
          <p:cNvPicPr/>
          <p:nvPr/>
        </p:nvPicPr>
        <p:blipFill>
          <a:blip r:embed="rId1"/>
          <a:stretch/>
        </p:blipFill>
        <p:spPr>
          <a:xfrm rot="5400000">
            <a:off x="734760" y="1607760"/>
            <a:ext cx="1584360" cy="24066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21"/>
          <p:cNvGrpSpPr/>
          <p:nvPr/>
        </p:nvGrpSpPr>
        <p:grpSpPr>
          <a:xfrm>
            <a:off x="1692360" y="2708280"/>
            <a:ext cx="2016000" cy="216000"/>
            <a:chOff x="1692360" y="2708280"/>
            <a:chExt cx="2016000" cy="216000"/>
          </a:xfrm>
        </p:grpSpPr>
        <p:sp>
          <p:nvSpPr>
            <p:cNvPr id="325" name="Line 8"/>
            <p:cNvSpPr/>
            <p:nvPr/>
          </p:nvSpPr>
          <p:spPr>
            <a:xfrm>
              <a:off x="1692360" y="2708280"/>
              <a:ext cx="504720" cy="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1692360" y="2924280"/>
              <a:ext cx="504720" cy="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Line 10"/>
            <p:cNvSpPr/>
            <p:nvPr/>
          </p:nvSpPr>
          <p:spPr>
            <a:xfrm>
              <a:off x="2700360" y="2708280"/>
              <a:ext cx="1008000" cy="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Line 11"/>
            <p:cNvSpPr/>
            <p:nvPr/>
          </p:nvSpPr>
          <p:spPr>
            <a:xfrm>
              <a:off x="2700360" y="2924280"/>
              <a:ext cx="1008000" cy="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9" name="Text Box 12"/>
          <p:cNvSpPr/>
          <p:nvPr/>
        </p:nvSpPr>
        <p:spPr>
          <a:xfrm>
            <a:off x="2268360" y="2060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To vacuum flas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Line 13"/>
          <p:cNvSpPr/>
          <p:nvPr/>
        </p:nvSpPr>
        <p:spPr>
          <a:xfrm>
            <a:off x="3348000" y="2781360"/>
            <a:ext cx="8650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Text Box 14"/>
          <p:cNvSpPr/>
          <p:nvPr/>
        </p:nvSpPr>
        <p:spPr>
          <a:xfrm>
            <a:off x="468360" y="393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1000 cm</a:t>
            </a:r>
            <a:r>
              <a:rPr b="0" lang="en-GB" sz="1800" spc="-1" strike="noStrike" baseline="30000">
                <a:solidFill>
                  <a:srgbClr val="f8a5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Line 15"/>
          <p:cNvSpPr/>
          <p:nvPr/>
        </p:nvSpPr>
        <p:spPr>
          <a:xfrm flipV="1">
            <a:off x="900000" y="3357720"/>
            <a:ext cx="0" cy="57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1835280" y="34290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150.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Line 17"/>
          <p:cNvSpPr/>
          <p:nvPr/>
        </p:nvSpPr>
        <p:spPr>
          <a:xfrm flipH="1" flipV="1">
            <a:off x="1547280" y="3357360"/>
            <a:ext cx="28764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Rectangle 19"/>
          <p:cNvSpPr/>
          <p:nvPr/>
        </p:nvSpPr>
        <p:spPr>
          <a:xfrm>
            <a:off x="1902600" y="3429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170.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0" y="5373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20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0.0200 g/cm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V   1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Line 22"/>
          <p:cNvSpPr/>
          <p:nvPr/>
        </p:nvSpPr>
        <p:spPr>
          <a:xfrm flipH="1">
            <a:off x="3276360" y="2781360"/>
            <a:ext cx="9363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Text Box 23"/>
          <p:cNvSpPr/>
          <p:nvPr/>
        </p:nvSpPr>
        <p:spPr>
          <a:xfrm>
            <a:off x="1116000" y="4724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a500"/>
                </a:solidFill>
                <a:latin typeface="Tahoma"/>
              </a:rPr>
              <a:t>170 -150 = 20.0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1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2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1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10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2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"/>
              </a:rPr>
              <a:t>What is Dens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544500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66"/>
                </a:solidFill>
                <a:latin typeface="Tahoma"/>
              </a:rPr>
              <a:t>Density is the Mass per unit Volum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6" name="Group 16"/>
          <p:cNvGrpSpPr/>
          <p:nvPr/>
        </p:nvGrpSpPr>
        <p:grpSpPr>
          <a:xfrm>
            <a:off x="1763640" y="2636640"/>
            <a:ext cx="1081080" cy="1008360"/>
            <a:chOff x="1763640" y="2636640"/>
            <a:chExt cx="1081080" cy="1008360"/>
          </a:xfrm>
        </p:grpSpPr>
        <p:sp>
          <p:nvSpPr>
            <p:cNvPr id="167" name="Line 4"/>
            <p:cNvSpPr/>
            <p:nvPr/>
          </p:nvSpPr>
          <p:spPr>
            <a:xfrm>
              <a:off x="1763640" y="2852640"/>
              <a:ext cx="0" cy="79200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Line 5"/>
            <p:cNvSpPr/>
            <p:nvPr/>
          </p:nvSpPr>
          <p:spPr>
            <a:xfrm>
              <a:off x="1763640" y="2852640"/>
              <a:ext cx="0" cy="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Line 6"/>
            <p:cNvSpPr/>
            <p:nvPr/>
          </p:nvSpPr>
          <p:spPr>
            <a:xfrm>
              <a:off x="1763640" y="2852640"/>
              <a:ext cx="720720" cy="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Line 7"/>
            <p:cNvSpPr/>
            <p:nvPr/>
          </p:nvSpPr>
          <p:spPr>
            <a:xfrm>
              <a:off x="2484360" y="2852640"/>
              <a:ext cx="0" cy="79200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Line 9"/>
            <p:cNvSpPr/>
            <p:nvPr/>
          </p:nvSpPr>
          <p:spPr>
            <a:xfrm>
              <a:off x="1763640" y="3645000"/>
              <a:ext cx="720720" cy="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Line 11"/>
            <p:cNvSpPr/>
            <p:nvPr/>
          </p:nvSpPr>
          <p:spPr>
            <a:xfrm>
              <a:off x="2124000" y="2637000"/>
              <a:ext cx="720720" cy="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Line 12"/>
            <p:cNvSpPr/>
            <p:nvPr/>
          </p:nvSpPr>
          <p:spPr>
            <a:xfrm>
              <a:off x="2844720" y="2637000"/>
              <a:ext cx="0" cy="79200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Line 13"/>
            <p:cNvSpPr/>
            <p:nvPr/>
          </p:nvSpPr>
          <p:spPr>
            <a:xfrm flipV="1">
              <a:off x="2484360" y="2636640"/>
              <a:ext cx="360360" cy="21564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Line 14"/>
            <p:cNvSpPr/>
            <p:nvPr/>
          </p:nvSpPr>
          <p:spPr>
            <a:xfrm flipV="1">
              <a:off x="1763640" y="2636640"/>
              <a:ext cx="360360" cy="21564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 flipV="1">
              <a:off x="2484360" y="3428640"/>
              <a:ext cx="360360" cy="21564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7" name="Group 17"/>
          <p:cNvGrpSpPr/>
          <p:nvPr/>
        </p:nvGrpSpPr>
        <p:grpSpPr>
          <a:xfrm>
            <a:off x="3780000" y="2636640"/>
            <a:ext cx="1081080" cy="1008360"/>
            <a:chOff x="3780000" y="2636640"/>
            <a:chExt cx="1081080" cy="1008360"/>
          </a:xfrm>
        </p:grpSpPr>
        <p:sp>
          <p:nvSpPr>
            <p:cNvPr id="178" name="Line 18"/>
            <p:cNvSpPr/>
            <p:nvPr/>
          </p:nvSpPr>
          <p:spPr>
            <a:xfrm>
              <a:off x="3780000" y="2852640"/>
              <a:ext cx="0" cy="792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Line 19"/>
            <p:cNvSpPr/>
            <p:nvPr/>
          </p:nvSpPr>
          <p:spPr>
            <a:xfrm>
              <a:off x="3780000" y="2852640"/>
              <a:ext cx="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Line 20"/>
            <p:cNvSpPr/>
            <p:nvPr/>
          </p:nvSpPr>
          <p:spPr>
            <a:xfrm>
              <a:off x="3780000" y="2852640"/>
              <a:ext cx="7207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Line 21"/>
            <p:cNvSpPr/>
            <p:nvPr/>
          </p:nvSpPr>
          <p:spPr>
            <a:xfrm>
              <a:off x="4500720" y="2852640"/>
              <a:ext cx="0" cy="792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Line 22"/>
            <p:cNvSpPr/>
            <p:nvPr/>
          </p:nvSpPr>
          <p:spPr>
            <a:xfrm>
              <a:off x="3780000" y="3645000"/>
              <a:ext cx="7207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Line 23"/>
            <p:cNvSpPr/>
            <p:nvPr/>
          </p:nvSpPr>
          <p:spPr>
            <a:xfrm>
              <a:off x="4140360" y="2637000"/>
              <a:ext cx="7207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Line 24"/>
            <p:cNvSpPr/>
            <p:nvPr/>
          </p:nvSpPr>
          <p:spPr>
            <a:xfrm>
              <a:off x="4861080" y="2637000"/>
              <a:ext cx="0" cy="792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Line 25"/>
            <p:cNvSpPr/>
            <p:nvPr/>
          </p:nvSpPr>
          <p:spPr>
            <a:xfrm flipV="1">
              <a:off x="4500720" y="2636640"/>
              <a:ext cx="360360" cy="2156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Line 26"/>
            <p:cNvSpPr/>
            <p:nvPr/>
          </p:nvSpPr>
          <p:spPr>
            <a:xfrm flipV="1">
              <a:off x="3780000" y="2636640"/>
              <a:ext cx="360360" cy="2156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V="1">
              <a:off x="4500720" y="3428640"/>
              <a:ext cx="360360" cy="2156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8" name="Group 28"/>
          <p:cNvGrpSpPr/>
          <p:nvPr/>
        </p:nvGrpSpPr>
        <p:grpSpPr>
          <a:xfrm>
            <a:off x="5867280" y="2565000"/>
            <a:ext cx="1081080" cy="1008360"/>
            <a:chOff x="5867280" y="2565000"/>
            <a:chExt cx="1081080" cy="1008360"/>
          </a:xfrm>
        </p:grpSpPr>
        <p:sp>
          <p:nvSpPr>
            <p:cNvPr id="189" name="Line 29"/>
            <p:cNvSpPr/>
            <p:nvPr/>
          </p:nvSpPr>
          <p:spPr>
            <a:xfrm>
              <a:off x="5867280" y="2781000"/>
              <a:ext cx="0" cy="7920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Line 30"/>
            <p:cNvSpPr/>
            <p:nvPr/>
          </p:nvSpPr>
          <p:spPr>
            <a:xfrm>
              <a:off x="5867280" y="2781000"/>
              <a:ext cx="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Line 31"/>
            <p:cNvSpPr/>
            <p:nvPr/>
          </p:nvSpPr>
          <p:spPr>
            <a:xfrm>
              <a:off x="5867280" y="2781000"/>
              <a:ext cx="720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Line 32"/>
            <p:cNvSpPr/>
            <p:nvPr/>
          </p:nvSpPr>
          <p:spPr>
            <a:xfrm>
              <a:off x="6588000" y="2781000"/>
              <a:ext cx="0" cy="7920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Line 33"/>
            <p:cNvSpPr/>
            <p:nvPr/>
          </p:nvSpPr>
          <p:spPr>
            <a:xfrm>
              <a:off x="5867280" y="3573360"/>
              <a:ext cx="720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Line 34"/>
            <p:cNvSpPr/>
            <p:nvPr/>
          </p:nvSpPr>
          <p:spPr>
            <a:xfrm>
              <a:off x="6227640" y="2565360"/>
              <a:ext cx="720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Line 35"/>
            <p:cNvSpPr/>
            <p:nvPr/>
          </p:nvSpPr>
          <p:spPr>
            <a:xfrm>
              <a:off x="6948360" y="2565360"/>
              <a:ext cx="0" cy="7920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Line 36"/>
            <p:cNvSpPr/>
            <p:nvPr/>
          </p:nvSpPr>
          <p:spPr>
            <a:xfrm flipV="1">
              <a:off x="6588000" y="2565000"/>
              <a:ext cx="360360" cy="2156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Line 37"/>
            <p:cNvSpPr/>
            <p:nvPr/>
          </p:nvSpPr>
          <p:spPr>
            <a:xfrm flipV="1">
              <a:off x="5867280" y="2565000"/>
              <a:ext cx="360360" cy="2156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Line 38"/>
            <p:cNvSpPr/>
            <p:nvPr/>
          </p:nvSpPr>
          <p:spPr>
            <a:xfrm flipV="1">
              <a:off x="6588000" y="3357000"/>
              <a:ext cx="360360" cy="2156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9" name="Text Box 39"/>
          <p:cNvSpPr/>
          <p:nvPr/>
        </p:nvSpPr>
        <p:spPr>
          <a:xfrm>
            <a:off x="1979640" y="213372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W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40"/>
          <p:cNvSpPr/>
          <p:nvPr/>
        </p:nvSpPr>
        <p:spPr>
          <a:xfrm>
            <a:off x="3995640" y="2133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41"/>
          <p:cNvSpPr/>
          <p:nvPr/>
        </p:nvSpPr>
        <p:spPr>
          <a:xfrm>
            <a:off x="6300720" y="21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r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42"/>
          <p:cNvSpPr/>
          <p:nvPr/>
        </p:nvSpPr>
        <p:spPr>
          <a:xfrm>
            <a:off x="176364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43"/>
          <p:cNvSpPr/>
          <p:nvPr/>
        </p:nvSpPr>
        <p:spPr>
          <a:xfrm>
            <a:off x="3780000" y="30686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5867280" y="299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45"/>
          <p:cNvSpPr/>
          <p:nvPr/>
        </p:nvSpPr>
        <p:spPr>
          <a:xfrm>
            <a:off x="324000" y="119700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If you take the same volume of different substances, then they will weigh different amou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46"/>
          <p:cNvSpPr/>
          <p:nvPr/>
        </p:nvSpPr>
        <p:spPr>
          <a:xfrm>
            <a:off x="1763640" y="3789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0.5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47"/>
          <p:cNvSpPr/>
          <p:nvPr/>
        </p:nvSpPr>
        <p:spPr>
          <a:xfrm>
            <a:off x="3708360" y="3789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.0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48"/>
          <p:cNvSpPr/>
          <p:nvPr/>
        </p:nvSpPr>
        <p:spPr>
          <a:xfrm>
            <a:off x="5867280" y="3789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8.0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49"/>
          <p:cNvSpPr/>
          <p:nvPr/>
        </p:nvSpPr>
        <p:spPr>
          <a:xfrm>
            <a:off x="250920" y="4724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Q) Which has the greatest mass and therefore the most dens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51" descr="is?M9Hz5Cr5PCooSMJrO65kAMhrQ_O4D1esCBIN7CYDjm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421000"/>
            <a:ext cx="1218960" cy="106668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52"/>
          <p:cNvSpPr/>
          <p:nvPr/>
        </p:nvSpPr>
        <p:spPr>
          <a:xfrm>
            <a:off x="7020000" y="3716280"/>
            <a:ext cx="1152360" cy="792360"/>
          </a:xfrm>
          <a:prstGeom prst="wedgeRoundRectCallout">
            <a:avLst>
              <a:gd name="adj1" fmla="val 43527"/>
              <a:gd name="adj2" fmla="val -165430"/>
              <a:gd name="adj3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Tahoma"/>
              </a:rPr>
              <a:t>IR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1763640" y="1484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ensity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780000" y="1413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M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635280" y="19162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79"/>
          <p:cNvSpPr/>
          <p:nvPr/>
        </p:nvSpPr>
        <p:spPr>
          <a:xfrm>
            <a:off x="4859280" y="907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g or k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80"/>
          <p:cNvSpPr/>
          <p:nvPr/>
        </p:nvSpPr>
        <p:spPr>
          <a:xfrm>
            <a:off x="4932360" y="2997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or kg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81"/>
          <p:cNvSpPr/>
          <p:nvPr/>
        </p:nvSpPr>
        <p:spPr>
          <a:xfrm>
            <a:off x="324000" y="263700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g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-3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or kg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Line 82"/>
          <p:cNvSpPr/>
          <p:nvPr/>
        </p:nvSpPr>
        <p:spPr>
          <a:xfrm flipH="1">
            <a:off x="4284720" y="1125360"/>
            <a:ext cx="50328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Line 83"/>
          <p:cNvSpPr/>
          <p:nvPr/>
        </p:nvSpPr>
        <p:spPr>
          <a:xfrm>
            <a:off x="4427640" y="2492280"/>
            <a:ext cx="720720" cy="5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Line 84"/>
          <p:cNvSpPr/>
          <p:nvPr/>
        </p:nvSpPr>
        <p:spPr>
          <a:xfrm flipV="1">
            <a:off x="971640" y="1916280"/>
            <a:ext cx="115236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85"/>
          <p:cNvSpPr/>
          <p:nvPr/>
        </p:nvSpPr>
        <p:spPr>
          <a:xfrm>
            <a:off x="1835280" y="3645000"/>
            <a:ext cx="1728720" cy="147708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8a5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a5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8a500"/>
                </a:solidFill>
                <a:latin typeface="Tahoma"/>
              </a:rPr>
              <a:t>=  </a:t>
            </a:r>
            <a:r>
              <a:rPr b="0" lang="en-GB" sz="3600" spc="-1" strike="noStrike" u="sng">
                <a:solidFill>
                  <a:srgbClr val="f8a500"/>
                </a:solidFill>
                <a:uFillTx/>
                <a:latin typeface="Tahoma"/>
              </a:rPr>
              <a:t>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a500"/>
                </a:solidFill>
                <a:latin typeface="Tahoma"/>
              </a:rPr>
              <a:t>       </a:t>
            </a:r>
            <a:r>
              <a:rPr b="0" lang="en-GB" sz="3600" spc="-1" strike="noStrike">
                <a:solidFill>
                  <a:srgbClr val="f8a500"/>
                </a:solidFill>
                <a:latin typeface="Tahoma"/>
              </a:rPr>
              <a:t>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86"/>
          <p:cNvSpPr/>
          <p:nvPr/>
        </p:nvSpPr>
        <p:spPr>
          <a:xfrm>
            <a:off x="4248000" y="3645000"/>
            <a:ext cx="4896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Q) Liquid water has a density of 1000kgm</a:t>
            </a:r>
            <a:r>
              <a:rPr b="0" lang="en-GB" sz="2400" spc="-1" strike="noStrike" baseline="30000">
                <a:solidFill>
                  <a:srgbClr val="ff7c80"/>
                </a:solidFill>
                <a:latin typeface="Tahoma"/>
              </a:rPr>
              <a:t>-3</a:t>
            </a: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, while ice has density of 920kgm</a:t>
            </a:r>
            <a:r>
              <a:rPr b="0" lang="en-GB" sz="2400" spc="-1" strike="noStrike" baseline="30000">
                <a:solidFill>
                  <a:srgbClr val="ff7c80"/>
                </a:solidFill>
                <a:latin typeface="Tahoma"/>
              </a:rPr>
              <a:t>-3</a:t>
            </a: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Calculate the volume occupied by 0.25kg of eac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87"/>
          <p:cNvSpPr/>
          <p:nvPr/>
        </p:nvSpPr>
        <p:spPr>
          <a:xfrm>
            <a:off x="195120" y="76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88"/>
          <p:cNvSpPr/>
          <p:nvPr/>
        </p:nvSpPr>
        <p:spPr>
          <a:xfrm>
            <a:off x="900000" y="260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66"/>
                </a:solidFill>
                <a:latin typeface="Tahoma"/>
              </a:rPr>
              <a:t>Density Equatio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5" name="Group 97"/>
          <p:cNvGrpSpPr/>
          <p:nvPr/>
        </p:nvGrpSpPr>
        <p:grpSpPr>
          <a:xfrm>
            <a:off x="6012000" y="1197000"/>
            <a:ext cx="2895480" cy="2438280"/>
            <a:chOff x="6012000" y="1197000"/>
            <a:chExt cx="2895480" cy="2438280"/>
          </a:xfrm>
        </p:grpSpPr>
        <p:sp>
          <p:nvSpPr>
            <p:cNvPr id="226" name="AutoShape 98"/>
            <p:cNvSpPr/>
            <p:nvPr/>
          </p:nvSpPr>
          <p:spPr>
            <a:xfrm>
              <a:off x="6012000" y="1197000"/>
              <a:ext cx="2895480" cy="2438280"/>
            </a:xfrm>
            <a:prstGeom prst="flowChartExtra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Text Box 99"/>
            <p:cNvSpPr/>
            <p:nvPr/>
          </p:nvSpPr>
          <p:spPr>
            <a:xfrm>
              <a:off x="7230960" y="16542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Text Box 100"/>
            <p:cNvSpPr/>
            <p:nvPr/>
          </p:nvSpPr>
          <p:spPr>
            <a:xfrm>
              <a:off x="7916760" y="30258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V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Text Box 101"/>
            <p:cNvSpPr/>
            <p:nvPr/>
          </p:nvSpPr>
          <p:spPr>
            <a:xfrm>
              <a:off x="6469200" y="30258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Line 102"/>
            <p:cNvSpPr/>
            <p:nvPr/>
          </p:nvSpPr>
          <p:spPr>
            <a:xfrm>
              <a:off x="6773760" y="2568600"/>
              <a:ext cx="129564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Line 103"/>
            <p:cNvSpPr/>
            <p:nvPr/>
          </p:nvSpPr>
          <p:spPr>
            <a:xfrm flipV="1">
              <a:off x="7230960" y="3025800"/>
              <a:ext cx="381240" cy="380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Line 104"/>
            <p:cNvSpPr/>
            <p:nvPr/>
          </p:nvSpPr>
          <p:spPr>
            <a:xfrm flipH="1" flipV="1">
              <a:off x="7230600" y="3025800"/>
              <a:ext cx="381240" cy="380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3" name="Rectangle 105"/>
          <p:cNvSpPr/>
          <p:nvPr/>
        </p:nvSpPr>
        <p:spPr>
          <a:xfrm>
            <a:off x="0" y="522936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V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0.25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0.000250m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0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Rectangle 106"/>
          <p:cNvSpPr/>
          <p:nvPr/>
        </p:nvSpPr>
        <p:spPr>
          <a:xfrm>
            <a:off x="0" y="603576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V = 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0.25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0.000272m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9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bd71"/>
                </a:solidFill>
                <a:latin typeface="Arial"/>
              </a:rPr>
              <a:t>DENSITY OF A REGULAR SOLID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508360" y="1628640"/>
            <a:ext cx="338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asure the three lengths and calculate the Volu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(ie V = l x w x h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lculate the Dens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7" name="Group 26"/>
          <p:cNvGrpSpPr/>
          <p:nvPr/>
        </p:nvGrpSpPr>
        <p:grpSpPr>
          <a:xfrm>
            <a:off x="900000" y="2421000"/>
            <a:ext cx="4392720" cy="2808360"/>
            <a:chOff x="900000" y="2421000"/>
            <a:chExt cx="4392720" cy="2808360"/>
          </a:xfrm>
        </p:grpSpPr>
        <p:sp>
          <p:nvSpPr>
            <p:cNvPr id="238" name="Line 4"/>
            <p:cNvSpPr/>
            <p:nvPr/>
          </p:nvSpPr>
          <p:spPr>
            <a:xfrm>
              <a:off x="900000" y="3141720"/>
              <a:ext cx="30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Line 5"/>
            <p:cNvSpPr/>
            <p:nvPr/>
          </p:nvSpPr>
          <p:spPr>
            <a:xfrm>
              <a:off x="900000" y="3141720"/>
              <a:ext cx="0" cy="20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Line 6"/>
            <p:cNvSpPr/>
            <p:nvPr/>
          </p:nvSpPr>
          <p:spPr>
            <a:xfrm>
              <a:off x="900000" y="5229360"/>
              <a:ext cx="30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Line 7"/>
            <p:cNvSpPr/>
            <p:nvPr/>
          </p:nvSpPr>
          <p:spPr>
            <a:xfrm>
              <a:off x="3995640" y="3141720"/>
              <a:ext cx="0" cy="20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Line 8"/>
            <p:cNvSpPr/>
            <p:nvPr/>
          </p:nvSpPr>
          <p:spPr>
            <a:xfrm flipV="1">
              <a:off x="900000" y="2421000"/>
              <a:ext cx="129564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Line 9"/>
            <p:cNvSpPr/>
            <p:nvPr/>
          </p:nvSpPr>
          <p:spPr>
            <a:xfrm flipV="1">
              <a:off x="3995640" y="4508640"/>
              <a:ext cx="129564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Line 10"/>
            <p:cNvSpPr/>
            <p:nvPr/>
          </p:nvSpPr>
          <p:spPr>
            <a:xfrm flipV="1">
              <a:off x="3995640" y="2421000"/>
              <a:ext cx="129564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Line 11"/>
            <p:cNvSpPr/>
            <p:nvPr/>
          </p:nvSpPr>
          <p:spPr>
            <a:xfrm flipV="1">
              <a:off x="900000" y="4508640"/>
              <a:ext cx="129564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>
              <a:off x="5292720" y="2421000"/>
              <a:ext cx="0" cy="20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Line 13"/>
            <p:cNvSpPr/>
            <p:nvPr/>
          </p:nvSpPr>
          <p:spPr>
            <a:xfrm>
              <a:off x="2195640" y="2421000"/>
              <a:ext cx="0" cy="20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Line 14"/>
            <p:cNvSpPr/>
            <p:nvPr/>
          </p:nvSpPr>
          <p:spPr>
            <a:xfrm>
              <a:off x="2195640" y="2421000"/>
              <a:ext cx="30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Line 15"/>
            <p:cNvSpPr/>
            <p:nvPr/>
          </p:nvSpPr>
          <p:spPr>
            <a:xfrm>
              <a:off x="2195640" y="4508640"/>
              <a:ext cx="30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0" name="Line 16"/>
          <p:cNvSpPr/>
          <p:nvPr/>
        </p:nvSpPr>
        <p:spPr>
          <a:xfrm>
            <a:off x="468360" y="3141720"/>
            <a:ext cx="0" cy="201600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Line 17"/>
          <p:cNvSpPr/>
          <p:nvPr/>
        </p:nvSpPr>
        <p:spPr>
          <a:xfrm>
            <a:off x="900000" y="5589720"/>
            <a:ext cx="3095640" cy="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Line 18"/>
          <p:cNvSpPr/>
          <p:nvPr/>
        </p:nvSpPr>
        <p:spPr>
          <a:xfrm flipV="1">
            <a:off x="611280" y="2349360"/>
            <a:ext cx="1224000" cy="64800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1835280" y="5589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4.0 c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611280" y="2492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2.0   c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0" y="422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3.0  c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Rectangle 23"/>
          <p:cNvSpPr/>
          <p:nvPr/>
        </p:nvSpPr>
        <p:spPr>
          <a:xfrm flipV="1" rot="10800000">
            <a:off x="900000" y="3499200"/>
            <a:ext cx="495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240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10.0 g/cm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V      2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24"/>
          <p:cNvSpPr/>
          <p:nvPr/>
        </p:nvSpPr>
        <p:spPr>
          <a:xfrm>
            <a:off x="3132000" y="184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m = 24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Line 25"/>
          <p:cNvSpPr/>
          <p:nvPr/>
        </p:nvSpPr>
        <p:spPr>
          <a:xfrm flipH="1">
            <a:off x="2916000" y="2205000"/>
            <a:ext cx="360360" cy="57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1187280" y="260280"/>
          <a:ext cx="6096240" cy="613116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er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ng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id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eigh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lu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r>
                        <a:rPr b="0" lang="en-GB" sz="1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ns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/cm</a:t>
                      </a:r>
                      <a:r>
                        <a:rPr b="0" lang="en-GB" sz="1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0" name="Picture 134" descr="j0140395[1]"/>
          <p:cNvPicPr/>
          <p:nvPr/>
        </p:nvPicPr>
        <p:blipFill>
          <a:blip r:embed="rId1"/>
          <a:stretch/>
        </p:blipFill>
        <p:spPr>
          <a:xfrm>
            <a:off x="7740720" y="333360"/>
            <a:ext cx="105228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1403280" y="836640"/>
          <a:ext cx="6096240" cy="6397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ENSI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g/cm</a:t>
                      </a:r>
                      <a:r>
                        <a:rPr b="0" lang="en-GB" sz="3600" spc="-1" strike="noStrike" baseline="30000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403280" y="1484280"/>
          <a:ext cx="6096240" cy="576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Alumin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1403280" y="2637000"/>
          <a:ext cx="6096240" cy="5760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Br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1403280" y="2060640"/>
          <a:ext cx="6096240" cy="576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I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1403280" y="3213000"/>
          <a:ext cx="6096240" cy="517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W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1403280" y="3716280"/>
          <a:ext cx="6096240" cy="576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Sl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403280" y="4292640"/>
          <a:ext cx="6096240" cy="6476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G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1403280" y="4941720"/>
          <a:ext cx="6096240" cy="517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L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1403280" y="5445000"/>
          <a:ext cx="6096240" cy="517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Mar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1403280" y="5950080"/>
          <a:ext cx="6096240" cy="5173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Wa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bd71"/>
                </a:solidFill>
                <a:latin typeface="Arial"/>
              </a:rPr>
              <a:t>DENSITY OF AN IRREGULAR SOLID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2012760" cy="4319640"/>
          </a:xfrm>
          <a:prstGeom prst="rect">
            <a:avLst/>
          </a:prstGeom>
          <a:ln w="0">
            <a:noFill/>
          </a:ln>
        </p:spPr>
      </p:pic>
      <p:sp>
        <p:nvSpPr>
          <p:cNvPr id="273" name="Line 5"/>
          <p:cNvSpPr/>
          <p:nvPr/>
        </p:nvSpPr>
        <p:spPr>
          <a:xfrm>
            <a:off x="2340000" y="4437000"/>
            <a:ext cx="576360" cy="0"/>
          </a:xfrm>
          <a:prstGeom prst="line">
            <a:avLst/>
          </a:prstGeom>
          <a:ln w="255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4284720" y="2349360"/>
            <a:ext cx="4608360" cy="50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ll the Measuring Cylinder with Water to a known Volu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the Obj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ork out the Volume of Water that is displac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lculate the Dens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Freeform 9"/>
          <p:cNvSpPr/>
          <p:nvPr/>
        </p:nvSpPr>
        <p:spPr>
          <a:xfrm rot="16864800">
            <a:off x="2108880" y="1427760"/>
            <a:ext cx="1065240" cy="314280"/>
          </a:xfrm>
          <a:custGeom>
            <a:avLst/>
            <a:gdLst/>
            <a:ahLst/>
            <a:rect l="l" t="t" r="r" b="b"/>
            <a:pathLst>
              <a:path w="981" h="614">
                <a:moveTo>
                  <a:pt x="279" y="0"/>
                </a:moveTo>
                <a:cubicBezTo>
                  <a:pt x="246" y="21"/>
                  <a:pt x="208" y="36"/>
                  <a:pt x="179" y="63"/>
                </a:cubicBezTo>
                <a:cubicBezTo>
                  <a:pt x="140" y="99"/>
                  <a:pt x="117" y="150"/>
                  <a:pt x="79" y="188"/>
                </a:cubicBezTo>
                <a:cubicBezTo>
                  <a:pt x="45" y="331"/>
                  <a:pt x="0" y="543"/>
                  <a:pt x="142" y="614"/>
                </a:cubicBezTo>
                <a:cubicBezTo>
                  <a:pt x="225" y="610"/>
                  <a:pt x="309" y="612"/>
                  <a:pt x="392" y="601"/>
                </a:cubicBezTo>
                <a:cubicBezTo>
                  <a:pt x="425" y="597"/>
                  <a:pt x="449" y="564"/>
                  <a:pt x="480" y="551"/>
                </a:cubicBezTo>
                <a:cubicBezTo>
                  <a:pt x="504" y="541"/>
                  <a:pt x="555" y="526"/>
                  <a:pt x="555" y="526"/>
                </a:cubicBezTo>
                <a:cubicBezTo>
                  <a:pt x="598" y="468"/>
                  <a:pt x="636" y="403"/>
                  <a:pt x="668" y="338"/>
                </a:cubicBezTo>
                <a:cubicBezTo>
                  <a:pt x="676" y="323"/>
                  <a:pt x="689" y="256"/>
                  <a:pt x="705" y="251"/>
                </a:cubicBezTo>
                <a:cubicBezTo>
                  <a:pt x="765" y="233"/>
                  <a:pt x="830" y="242"/>
                  <a:pt x="893" y="238"/>
                </a:cubicBezTo>
                <a:cubicBezTo>
                  <a:pt x="910" y="234"/>
                  <a:pt x="927" y="231"/>
                  <a:pt x="943" y="226"/>
                </a:cubicBezTo>
                <a:cubicBezTo>
                  <a:pt x="956" y="222"/>
                  <a:pt x="981" y="226"/>
                  <a:pt x="981" y="213"/>
                </a:cubicBezTo>
                <a:cubicBezTo>
                  <a:pt x="981" y="154"/>
                  <a:pt x="848" y="123"/>
                  <a:pt x="805" y="113"/>
                </a:cubicBezTo>
                <a:cubicBezTo>
                  <a:pt x="730" y="143"/>
                  <a:pt x="658" y="174"/>
                  <a:pt x="580" y="188"/>
                </a:cubicBezTo>
                <a:cubicBezTo>
                  <a:pt x="567" y="196"/>
                  <a:pt x="557" y="216"/>
                  <a:pt x="542" y="213"/>
                </a:cubicBezTo>
                <a:cubicBezTo>
                  <a:pt x="493" y="203"/>
                  <a:pt x="530" y="89"/>
                  <a:pt x="530" y="88"/>
                </a:cubicBezTo>
                <a:cubicBezTo>
                  <a:pt x="475" y="70"/>
                  <a:pt x="423" y="51"/>
                  <a:pt x="367" y="38"/>
                </a:cubicBezTo>
                <a:cubicBezTo>
                  <a:pt x="315" y="3"/>
                  <a:pt x="344" y="17"/>
                  <a:pt x="279" y="0"/>
                </a:cubicBez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Line 10"/>
          <p:cNvSpPr/>
          <p:nvPr/>
        </p:nvSpPr>
        <p:spPr>
          <a:xfrm>
            <a:off x="2340000" y="3429000"/>
            <a:ext cx="576360" cy="0"/>
          </a:xfrm>
          <a:prstGeom prst="line">
            <a:avLst/>
          </a:prstGeom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Line 11"/>
          <p:cNvSpPr/>
          <p:nvPr/>
        </p:nvSpPr>
        <p:spPr>
          <a:xfrm flipV="1">
            <a:off x="3132000" y="3429000"/>
            <a:ext cx="0" cy="1008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1332000" y="429264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ff"/>
                </a:solidFill>
                <a:latin typeface="Tahoma"/>
              </a:rPr>
              <a:t>50 cm</a:t>
            </a:r>
            <a:r>
              <a:rPr b="1" lang="en-GB" sz="1800" spc="-1" strike="noStrike" baseline="30000">
                <a:solidFill>
                  <a:srgbClr val="6699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1360800" y="3284640"/>
            <a:ext cx="9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ff"/>
                </a:solidFill>
                <a:latin typeface="Tahoma"/>
              </a:rPr>
              <a:t>80 cm</a:t>
            </a:r>
            <a:r>
              <a:rPr b="1" lang="en-GB" sz="1800" spc="-1" strike="noStrike" baseline="30000">
                <a:solidFill>
                  <a:srgbClr val="6699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479880" y="14130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m = 36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1763640" y="1628640"/>
            <a:ext cx="720720" cy="14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Rectangle 16"/>
          <p:cNvSpPr/>
          <p:nvPr/>
        </p:nvSpPr>
        <p:spPr>
          <a:xfrm>
            <a:off x="4284720" y="1413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360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12.0 g/cm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V     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6944 L -0.00139 0.56296 E">
                                      <p:cBhvr>
                                        <p:cTn id="476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bd71"/>
                </a:solidFill>
                <a:latin typeface="Arial"/>
              </a:rPr>
              <a:t>DENSITY OF AN IRREGULAR SOLID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R use a Eureka Can to find the Volu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749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Line 4"/>
          <p:cNvSpPr/>
          <p:nvPr/>
        </p:nvSpPr>
        <p:spPr>
          <a:xfrm>
            <a:off x="1332000" y="278136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1332000" y="4941720"/>
            <a:ext cx="165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Line 6"/>
          <p:cNvSpPr/>
          <p:nvPr/>
        </p:nvSpPr>
        <p:spPr>
          <a:xfrm flipV="1">
            <a:off x="2987640" y="357300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Line 7"/>
          <p:cNvSpPr/>
          <p:nvPr/>
        </p:nvSpPr>
        <p:spPr>
          <a:xfrm>
            <a:off x="2987640" y="357336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Line 8"/>
          <p:cNvSpPr/>
          <p:nvPr/>
        </p:nvSpPr>
        <p:spPr>
          <a:xfrm>
            <a:off x="2987640" y="328464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Line 9"/>
          <p:cNvSpPr/>
          <p:nvPr/>
        </p:nvSpPr>
        <p:spPr>
          <a:xfrm flipV="1">
            <a:off x="2987640" y="278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3059280" y="393372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Line 11"/>
          <p:cNvSpPr/>
          <p:nvPr/>
        </p:nvSpPr>
        <p:spPr>
          <a:xfrm>
            <a:off x="3492360" y="393372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Line 12"/>
          <p:cNvSpPr/>
          <p:nvPr/>
        </p:nvSpPr>
        <p:spPr>
          <a:xfrm>
            <a:off x="2916360" y="580536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Line 13"/>
          <p:cNvSpPr/>
          <p:nvPr/>
        </p:nvSpPr>
        <p:spPr>
          <a:xfrm flipV="1">
            <a:off x="2916360" y="5589360"/>
            <a:ext cx="14292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Line 14"/>
          <p:cNvSpPr/>
          <p:nvPr/>
        </p:nvSpPr>
        <p:spPr>
          <a:xfrm flipH="1" flipV="1">
            <a:off x="3492000" y="5589360"/>
            <a:ext cx="14292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1332000" y="3573360"/>
            <a:ext cx="1655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Freeform 16"/>
          <p:cNvSpPr/>
          <p:nvPr/>
        </p:nvSpPr>
        <p:spPr>
          <a:xfrm rot="16864800">
            <a:off x="1589040" y="2234520"/>
            <a:ext cx="1065240" cy="1004760"/>
          </a:xfrm>
          <a:custGeom>
            <a:avLst/>
            <a:gdLst/>
            <a:ahLst/>
            <a:rect l="l" t="t" r="r" b="b"/>
            <a:pathLst>
              <a:path w="981" h="614">
                <a:moveTo>
                  <a:pt x="279" y="0"/>
                </a:moveTo>
                <a:cubicBezTo>
                  <a:pt x="246" y="21"/>
                  <a:pt x="208" y="36"/>
                  <a:pt x="179" y="63"/>
                </a:cubicBezTo>
                <a:cubicBezTo>
                  <a:pt x="140" y="99"/>
                  <a:pt x="117" y="150"/>
                  <a:pt x="79" y="188"/>
                </a:cubicBezTo>
                <a:cubicBezTo>
                  <a:pt x="45" y="331"/>
                  <a:pt x="0" y="543"/>
                  <a:pt x="142" y="614"/>
                </a:cubicBezTo>
                <a:cubicBezTo>
                  <a:pt x="225" y="610"/>
                  <a:pt x="309" y="612"/>
                  <a:pt x="392" y="601"/>
                </a:cubicBezTo>
                <a:cubicBezTo>
                  <a:pt x="425" y="597"/>
                  <a:pt x="449" y="564"/>
                  <a:pt x="480" y="551"/>
                </a:cubicBezTo>
                <a:cubicBezTo>
                  <a:pt x="504" y="541"/>
                  <a:pt x="555" y="526"/>
                  <a:pt x="555" y="526"/>
                </a:cubicBezTo>
                <a:cubicBezTo>
                  <a:pt x="598" y="468"/>
                  <a:pt x="636" y="403"/>
                  <a:pt x="668" y="338"/>
                </a:cubicBezTo>
                <a:cubicBezTo>
                  <a:pt x="676" y="323"/>
                  <a:pt x="689" y="256"/>
                  <a:pt x="705" y="251"/>
                </a:cubicBezTo>
                <a:cubicBezTo>
                  <a:pt x="765" y="233"/>
                  <a:pt x="830" y="242"/>
                  <a:pt x="893" y="238"/>
                </a:cubicBezTo>
                <a:cubicBezTo>
                  <a:pt x="910" y="234"/>
                  <a:pt x="927" y="231"/>
                  <a:pt x="943" y="226"/>
                </a:cubicBezTo>
                <a:cubicBezTo>
                  <a:pt x="956" y="222"/>
                  <a:pt x="981" y="226"/>
                  <a:pt x="981" y="213"/>
                </a:cubicBezTo>
                <a:cubicBezTo>
                  <a:pt x="981" y="154"/>
                  <a:pt x="848" y="123"/>
                  <a:pt x="805" y="113"/>
                </a:cubicBezTo>
                <a:cubicBezTo>
                  <a:pt x="730" y="143"/>
                  <a:pt x="658" y="174"/>
                  <a:pt x="580" y="188"/>
                </a:cubicBezTo>
                <a:cubicBezTo>
                  <a:pt x="567" y="196"/>
                  <a:pt x="557" y="216"/>
                  <a:pt x="542" y="213"/>
                </a:cubicBezTo>
                <a:cubicBezTo>
                  <a:pt x="493" y="203"/>
                  <a:pt x="530" y="89"/>
                  <a:pt x="530" y="88"/>
                </a:cubicBezTo>
                <a:cubicBezTo>
                  <a:pt x="475" y="70"/>
                  <a:pt x="423" y="51"/>
                  <a:pt x="367" y="38"/>
                </a:cubicBezTo>
                <a:cubicBezTo>
                  <a:pt x="315" y="3"/>
                  <a:pt x="344" y="17"/>
                  <a:pt x="279" y="0"/>
                </a:cubicBez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Line 17"/>
          <p:cNvSpPr/>
          <p:nvPr/>
        </p:nvSpPr>
        <p:spPr>
          <a:xfrm>
            <a:off x="2987640" y="3573360"/>
            <a:ext cx="289080" cy="28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Line 18"/>
          <p:cNvSpPr/>
          <p:nvPr/>
        </p:nvSpPr>
        <p:spPr>
          <a:xfrm>
            <a:off x="3276720" y="3860640"/>
            <a:ext cx="0" cy="1944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Line 19"/>
          <p:cNvSpPr/>
          <p:nvPr/>
        </p:nvSpPr>
        <p:spPr>
          <a:xfrm>
            <a:off x="3059280" y="5805360"/>
            <a:ext cx="433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3276720" y="3860640"/>
            <a:ext cx="0" cy="792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Text Box 24"/>
          <p:cNvSpPr/>
          <p:nvPr/>
        </p:nvSpPr>
        <p:spPr>
          <a:xfrm>
            <a:off x="3851280" y="2133720"/>
            <a:ext cx="529272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water until just overflow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lace a Measuring Cylinder under the spou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the Obj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llect the Water and read off the Volu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lculate Den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11520" y="24922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m = 44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Line 26"/>
          <p:cNvSpPr/>
          <p:nvPr/>
        </p:nvSpPr>
        <p:spPr>
          <a:xfrm flipH="1" flipV="1">
            <a:off x="1186920" y="2707920"/>
            <a:ext cx="50508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1619280" y="522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40.0 cm</a:t>
            </a:r>
            <a:r>
              <a:rPr b="0" lang="en-GB" sz="1800" spc="-1" strike="noStrike" baseline="30000">
                <a:solidFill>
                  <a:srgbClr val="f8a5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Line 28"/>
          <p:cNvSpPr/>
          <p:nvPr/>
        </p:nvSpPr>
        <p:spPr>
          <a:xfrm flipV="1">
            <a:off x="2771640" y="4797360"/>
            <a:ext cx="43200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Rectangle 29"/>
          <p:cNvSpPr/>
          <p:nvPr/>
        </p:nvSpPr>
        <p:spPr>
          <a:xfrm>
            <a:off x="0" y="6216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18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1800" spc="-1" strike="noStrike" u="sng">
                <a:solidFill>
                  <a:srgbClr val="ffff00"/>
                </a:solidFill>
                <a:uFillTx/>
                <a:latin typeface="Tahoma"/>
              </a:rPr>
              <a:t>440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=11.0 g/cm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V     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5903 L 0.00035 0.2375 E">
                                      <p:cBhvr>
                                        <p:cTn id="602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2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13" dur="3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22222E-006 L 0.00017 -0.16806 E">
                                      <p:cBhvr>
                                        <p:cTn id="620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457200" y="277920"/>
          <a:ext cx="8229600" cy="5852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ENSI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g/cm</a:t>
                      </a:r>
                      <a:r>
                        <a:rPr b="0" lang="en-GB" sz="3600" spc="-1" strike="noStrike" baseline="30000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Alumin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I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Br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W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Sl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G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0:20:28Z</dcterms:created>
  <dc:creator>gel</dc:creator>
  <dc:description/>
  <dc:language>en-US</dc:language>
  <cp:lastModifiedBy>RomaK</cp:lastModifiedBy>
  <dcterms:modified xsi:type="dcterms:W3CDTF">2015-09-03T12:20:26Z</dcterms:modified>
  <cp:revision>43</cp:revision>
  <dc:subject/>
  <dc:title>DENSITY</dc:title>
</cp:coreProperties>
</file>