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FFEA-BEAE-4D04-9258-5CAA0EF2208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tter is composed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he smallest particle of an element that retains its identity in a chemical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comes from the Greek word atomos meaning indi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fining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matter is composed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he smallest particle of an element that retains its identity in a chemical reac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 comes from the Greek word atomos meaning indivis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32 English physicist James Chadwick (1891-1974) confirmed the existence of another subatomic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subatomic particles with no charge but a mass nearly equal to th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 1932 English physicist James Chadwick (1891-1974) confirmed the existence of another subatomic partic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 are subatomic particles with no charge but a mass nearly equal to the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Gold-Foil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change the prevailing thought of the 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Gold-Foil Experi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experiment change the prevailing thought of the 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of the atom is the tiny central core of an atom and is composed of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is the nuclear atom: In the nuclear atom, the proton and neutron are located in the nucleus. The electrons are distributed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ater be revised, let’s sneak peak @ page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cleus of the atom is the tiny central core of an atom and is composed of protons and 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will later be revised, let’s sneak peak @ page 12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nguishing Amo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yesterday that atoms are composed of protons, neutrons, and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in the nucleus and electrons sur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elements differ if they all contai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tinguishing Among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We learned yesterday that atoms are composed of protons, neutrons, and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nd Neutrons are in the nucleus and electrons surround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o how do elements differ if they all contain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s are different because they contain different numbers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of an element is the number of protons in the nucleus of an atom in that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The atomic number of Hydrogen (H) is 1, so all hydrogen atoms have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All Oxygen atoms (O) have 8 protons, so the atomic number of Oxygen i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ments are different because they contain different numbers of 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of an element is the number of protons in the nucleus of an atom in that ele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The atomic number of Hydrogen (H) is 1, so all hydrogen atoms have 1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All Oxygen atoms (O) have 8 protons, so the atomic number of Oxygen is 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l atoms are electrically neu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number of Protons equal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 the number of negatively charged particles must equal the number of pos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emember all atoms are electrically neutral.</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fore; the number of Protons equal the number of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eaning the number of negatively charged particles must equal the number of pos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ass of an atom is concentrated in it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ss number of an atom is the total number of protons and neutrons in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Helium (He) has 2 protons and 2 neutrons: its mass number is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Carbon (C) has 6 protons and 6 neutrons: its mass number is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ost of the mass of an atom is concentrated in its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ass number of an atom is the total number of protons and neutrons in an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Helium (He) has 2 protons and 2 neutrons: its mass number is 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Carbon (C) has 6 protons and 6 neutrons: its mass number is12.</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know the atomic number and mass number of an atom, you can determine its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neutrons in an atom is the difference between the mass number and 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neutrons = Mass # -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f you know the atomic number and mass number of an atom, you can determine its composi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mber of neutrons in an atom is the difference between the mass number and 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 of neutrons = Mass # - Atomic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sition of an atom can be written in Shorthand notation using atomic number and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Look at Figure 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is the subscript and the mass number is the superscrip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elec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neu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composition of an atom can be written in Shorthand notation using atomic number and 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Look at Figure 4.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is the subscript and the mass number is the superscript.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elec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neu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460 BC – 370 BC) was among the 1st to suggest the existence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believed that atoms were indivisible and indestruc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pproached was not based on scientific method and was not accepted until later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460 BC – 370 BC) was among the 1st to suggest the existence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believed that atoms were indivisible and indestruct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is approached was not based on scientific method and was not accepted until later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atomic thought began with John Dalton (1766-18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used experimental method to transform Democritus’s idea of atoms into a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studied the ratios in which elements combine and the result was 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odern atomic thought began with John Dalton (1766-184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used experimental method to transform Democritus’s idea of atoms into a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studied the ratios in which elements combine and the result was 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Dalton’s Theor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lements are composed of tiny particles call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the same element are identical. Atoms of different elements are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different elements can physically mix together or chemically combine in simple whole number ratios to form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s occur when atoms are separated, joined, or rearranged. Atoms of one element are never cha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ideas of Dalton’s Theory ar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elements are composed of tiny particles called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the same element are identical. Atoms of different elements are differ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different elements can physically mix together or chemically combine in simple whole number ratios to form compound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Chemical reactions occur when atoms are separated, joined, or rearranged. Atoms of one element are never chang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zing Up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I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ure copper coin the size of a penny contains 2.4 x 1022   copper atoms. There are only about 6 x 109 people o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s are observable with instruments such as scanning tunneling microsc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izing Up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IN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 pure copper coin the size of a penny contains 2.4 x 1022   copper atoms. There are only about 6 x 109 people on Earth!!!</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dividual atoms are observable with instruments such as scanning tunneling microscop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now know to be broken down into smaller, more fundamental particles call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kinds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now know to be broken down into smaller, more fundamental particles call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 are 3 kinds of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ed in 1897 by J.J. Thomson (1856-1940) an English physic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ga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performed experiments using a sealed glass tube with gases in it. He passed an electric current through the tube and the result was a cathode 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covered in 1897 by J.J. Thomson (1856-1940) an English physicis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y are nega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omson performed experiments using a sealed glass tube with gases in it. He passed an electric current through the tube and the result was a cathode r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physicist Robert A. Millikan (1868-1953) carried out experiments to find the quantity of charge carried out by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culated the mass of the electron; that is very similar to the excepted mass given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 Continu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U.S. physicist Robert A. Millikan (1868-1953) carried out experiments to find the quantity of charge carried out by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e calculated the mass of the electron; that is very similar to the excepted mass given tod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gen Goldstein (1850-1930) observed in 1886 that in a cathode-ray tube there were rays going in the opposite direction. He concluded they were 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has a mass about 1840 times that of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re posi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ach proton has a mass about 1840 times that of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1C75E-BF13-48E1-8A75-3C19E0D9A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22E4F-CBF5-4BFD-AB94-6790D66F1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AE8E1-E5CA-4DF3-974A-5C4D8DCF9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41244-9D5F-4188-86DE-F75A98E06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B4939-FA8C-4A82-A8A0-A470773E5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7"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2D086-028E-4723-9875-F78C498C2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9"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8E6AD-D02D-4B8B-8861-A032693E4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1"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2"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6929C-9470-4A91-9F3D-F87200FC6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BC110-2493-42FB-87AD-3288770E8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4464F-C47C-4753-B342-163771961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6"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8"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52B71-25D2-48F9-A75E-53C99C3E5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01183-82B8-4B23-B97A-65A9A7B62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2"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5A7E0-ECC5-4C18-B8A2-C241578D9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4"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6"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F7F86-C8F6-488F-81F0-9943ED6B0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8"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9"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C72F9-CEC8-45F1-8915-A91FEDB6A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1"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4"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5E423-826C-4935-BC2F-697C27B35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6"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1"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59F20-21E1-4A70-92BB-FA344320D1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E5357-2F28-4461-B7FE-65C8C57FE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B6E22-0829-4491-B31B-B49A235BC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01DA2-97C8-471C-9F67-BA5DB6174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54300-F391-44DB-B05E-20E99AE96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66AC-030A-4DE3-BD76-8A2B00FBB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2AAF-3CEA-4FB0-A278-88C378D6E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EA6F2-2E5D-484A-9B2A-AE1A2637B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95AA-D16A-4225-93A0-09AFC7460D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42"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43" name="PlaceHolder 3"/>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AA39-EF7B-473F-AB97-1FA8B9071CA9}"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fining the Atom</a:t>
            </a:r>
            <a:endParaRPr b="0" lang="en-US" sz="4000" spc="-1" strike="noStrike">
              <a:solidFill>
                <a:srgbClr val="99eff1"/>
              </a:solidFill>
              <a:latin typeface="Arial Black"/>
            </a:endParaRPr>
          </a:p>
        </p:txBody>
      </p:sp>
      <p:sp>
        <p:nvSpPr>
          <p:cNvPr id="9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l matter is composed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he smallest particle of an element that retains its identity in a chemical reac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 comes from the Greek word atomos meaning indivisible.</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Neutrons</a:t>
            </a:r>
            <a:endParaRPr b="0" lang="en-US" sz="4000" spc="-1" strike="noStrike">
              <a:solidFill>
                <a:srgbClr val="99eff1"/>
              </a:solidFill>
              <a:latin typeface="Arial Black"/>
            </a:endParaRPr>
          </a:p>
        </p:txBody>
      </p:sp>
      <p:sp>
        <p:nvSpPr>
          <p:cNvPr id="10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 1932 English physicist James Chadwick (1891-1974) confirmed the existence of another subatomic partic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Neutrons are subatomic particles with no charge but a mass nearly equal to the prot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Rutherford’s Gold-Foil Experiment</a:t>
            </a:r>
            <a:endParaRPr b="0" lang="en-US" sz="4000" spc="-1" strike="noStrike">
              <a:solidFill>
                <a:srgbClr val="99eff1"/>
              </a:solidFill>
              <a:latin typeface="Arial Black"/>
            </a:endParaRPr>
          </a:p>
        </p:txBody>
      </p:sp>
      <p:sp>
        <p:nvSpPr>
          <p:cNvPr id="11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experiment change the prevailing thought of the structure of the atom.</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tructure of the atom</a:t>
            </a:r>
            <a:endParaRPr b="0" lang="en-US" sz="4000" spc="-1" strike="noStrike">
              <a:solidFill>
                <a:srgbClr val="99eff1"/>
              </a:solidFill>
              <a:latin typeface="Arial Black"/>
            </a:endParaRPr>
          </a:p>
        </p:txBody>
      </p:sp>
      <p:sp>
        <p:nvSpPr>
          <p:cNvPr id="11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cleus of the atom is the tiny central core of an atom and is composed of protons and neutron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will later be revised, let’s sneak peak @ page 128.</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istinguishing Among Atoms</a:t>
            </a:r>
            <a:endParaRPr b="0" lang="en-US" sz="4000" spc="-1" strike="noStrike">
              <a:solidFill>
                <a:srgbClr val="99eff1"/>
              </a:solidFill>
              <a:latin typeface="Arial Black"/>
            </a:endParaRPr>
          </a:p>
        </p:txBody>
      </p:sp>
      <p:sp>
        <p:nvSpPr>
          <p:cNvPr id="11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We learned yesterday that atoms are composed of protons, neutrons, and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nd Neutrons are in the nucleus and electrons surround the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o how do elements differ if they all contain atom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lements are different because they contain different numbers of prot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atomic number of an element is the number of protons in the nucleus of an atom in that element.</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The atomic number of Hydrogen (H) is 1, so all hydrogen atoms have 1 proton.</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All Oxygen atoms (O) have 8 protons, so the atomic number of Oxygen is 8.</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member all atoms are electrically neutral.</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fore; the number of Protons equal the number of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eaning the number of negatively charged particles must equal the number of postively charged particl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st of the mass of an atom is concentrated in its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ass number of an atom is the total number of protons and neutrons in an atom.</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Helium (He) has 2 protons and 2 neutrons: its mass number is 4.</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Carbon (C) has 6 protons and 6 neutrons: its mass number is12.</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f you know the atomic number and mass number of an atom, you can determine its composi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mber of neutrons in an atom is the difference between the mass number and atomic number.</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of neutrons = Mass # - Atomic #</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composition of an atom can be written in Shorthand notation using atomic number and mass number.</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Look at Figure 4.8</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atomic number is the subscript and the mass number is the superscript. </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electrons does a gold atom have?</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neutrons does a gold atom have?</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mocritus</a:t>
            </a:r>
            <a:endParaRPr b="0" lang="en-US" sz="4000" spc="-1" strike="noStrike">
              <a:solidFill>
                <a:srgbClr val="99eff1"/>
              </a:solidFill>
              <a:latin typeface="Arial Black"/>
            </a:endParaRPr>
          </a:p>
        </p:txBody>
      </p:sp>
      <p:sp>
        <p:nvSpPr>
          <p:cNvPr id="9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460 BC – 370 BC) was among the 1</a:t>
            </a:r>
            <a:r>
              <a:rPr b="0" lang="en-US" sz="3200" spc="-1" strike="noStrike" baseline="30000">
                <a:solidFill>
                  <a:srgbClr val="969696"/>
                </a:solidFill>
                <a:latin typeface="Arial"/>
              </a:rPr>
              <a:t>st</a:t>
            </a:r>
            <a:r>
              <a:rPr b="0" lang="en-US" sz="3200" spc="-1" strike="noStrike">
                <a:solidFill>
                  <a:srgbClr val="969696"/>
                </a:solidFill>
                <a:latin typeface="Arial"/>
              </a:rPr>
              <a:t> to suggest the existence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believed that atoms were indivisible and indestructib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is approached was not based on scientific method and was not accepted until later scientif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odern atomic thought began with John Dalton (1766-1844)</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used experimental method to transform Democritus’s idea of atoms into a scientific theor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studied the ratios in which elements combine and the result was Dalton’s atom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ideas of Dalton’s Theory are:</a:t>
            </a:r>
            <a:endParaRPr b="0" lang="en-US" sz="28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l elements are composed of tiny particles called atom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the same element are identical. Atoms of different elements are different.</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different elements can physically mix together or chemically combine in simple whole number ratios to form compound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hemical reactions occur when atoms are separated, joined, or rearranged. Atoms of one element are never changed.</a:t>
            </a:r>
            <a:endParaRPr b="0" lang="en-US" sz="2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izing Up Atoms</a:t>
            </a:r>
            <a:endParaRPr b="0" lang="en-US" sz="4000" spc="-1" strike="noStrike">
              <a:solidFill>
                <a:srgbClr val="99eff1"/>
              </a:solidFill>
              <a:latin typeface="Arial Black"/>
            </a:endParaRPr>
          </a:p>
        </p:txBody>
      </p:sp>
      <p:sp>
        <p:nvSpPr>
          <p:cNvPr id="9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IN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 pure copper coin the size of a penny contains 2.4 x 10</a:t>
            </a:r>
            <a:r>
              <a:rPr b="0" lang="en-US" sz="3200" spc="-1" strike="noStrike" baseline="30000">
                <a:solidFill>
                  <a:srgbClr val="969696"/>
                </a:solidFill>
                <a:latin typeface="Arial"/>
              </a:rPr>
              <a:t>22 </a:t>
            </a:r>
            <a:r>
              <a:rPr b="0" lang="en-US" sz="3200" spc="-1" strike="noStrike">
                <a:solidFill>
                  <a:srgbClr val="969696"/>
                </a:solidFill>
                <a:latin typeface="Arial"/>
              </a:rPr>
              <a:t>  copper atoms. There are only about 6 x 10</a:t>
            </a:r>
            <a:r>
              <a:rPr b="0" lang="en-US" sz="3200" spc="-1" strike="noStrike" baseline="30000">
                <a:solidFill>
                  <a:srgbClr val="969696"/>
                </a:solidFill>
                <a:latin typeface="Arial"/>
              </a:rPr>
              <a:t>9</a:t>
            </a:r>
            <a:r>
              <a:rPr b="0" lang="en-US" sz="3200" spc="-1" strike="noStrike">
                <a:solidFill>
                  <a:srgbClr val="969696"/>
                </a:solidFill>
                <a:latin typeface="Arial"/>
              </a:rPr>
              <a:t> people on Earth!!!</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dividual atoms are observable with instruments such as scanning tunneling microscop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ubatomic Particles</a:t>
            </a:r>
            <a:endParaRPr b="0" lang="en-US" sz="4000" spc="-1" strike="noStrike">
              <a:solidFill>
                <a:srgbClr val="99eff1"/>
              </a:solidFill>
              <a:latin typeface="Arial Black"/>
            </a:endParaRPr>
          </a:p>
        </p:txBody>
      </p:sp>
      <p:sp>
        <p:nvSpPr>
          <p:cNvPr id="10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now know to be broken down into smaller, more fundamental particles call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 are 3 kinds of subatomic Particles.</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lectr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rot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utrons</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a:t>
            </a:r>
            <a:endParaRPr b="0" lang="en-US" sz="4000" spc="-1" strike="noStrike">
              <a:solidFill>
                <a:srgbClr val="99eff1"/>
              </a:solidFill>
              <a:latin typeface="Arial Black"/>
            </a:endParaRPr>
          </a:p>
        </p:txBody>
      </p:sp>
      <p:sp>
        <p:nvSpPr>
          <p:cNvPr id="10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iscovered in 1897 by J.J. Thomson (1856-1940) an English physicist.</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y are negatively charg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omson performed experiments using a sealed glass tube with gases in it. He passed an electric current through the tube and the result was a cathode r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 Continued</a:t>
            </a:r>
            <a:endParaRPr b="0" lang="en-US" sz="4000" spc="-1" strike="noStrike">
              <a:solidFill>
                <a:srgbClr val="99eff1"/>
              </a:solidFill>
              <a:latin typeface="Arial Black"/>
            </a:endParaRPr>
          </a:p>
        </p:txBody>
      </p:sp>
      <p:sp>
        <p:nvSpPr>
          <p:cNvPr id="10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U.S. physicist Robert A. Millikan (1868-1953) carried out experiments to find the quantity of charge carried out by an electr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e calculated the mass of the electron; that is very similar to the excepted mass given tod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Protons</a:t>
            </a:r>
            <a:endParaRPr b="0" lang="en-US" sz="4000" spc="-1" strike="noStrike">
              <a:solidFill>
                <a:srgbClr val="99eff1"/>
              </a:solidFill>
              <a:latin typeface="Arial Black"/>
            </a:endParaRPr>
          </a:p>
        </p:txBody>
      </p:sp>
      <p:sp>
        <p:nvSpPr>
          <p:cNvPr id="10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re positively charged subatomic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ach proton has a mass about 1840 times that of an electr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1:40:42Z</dcterms:created>
  <dc:creator>Chesterfield County Public Schools</dc:creator>
  <dc:description/>
  <cp:keywords/>
  <dc:language>en-US</dc:language>
  <cp:lastModifiedBy>RomaK</cp:lastModifiedBy>
  <dcterms:modified xsi:type="dcterms:W3CDTF">2015-09-03T12:20:10Z</dcterms:modified>
  <cp:revision>6</cp:revision>
  <dc:subject/>
  <dc:title>Defining the At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