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92A0-4718-42E1-8D57-C1B81AAF2CE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tter is composed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he smallest particle of an element that retains its identity in a chemical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comes from the Greek word atomos meaning indi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fining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matter is composed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he smallest particle of an element that retains its identity in a chemical reac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 comes from the Greek word atomos meaning indivis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32 English physicist James Chadwick (1891-1974) confirmed the existence of another subatomic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subatomic particles with no charge but a mass nearly equal to th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 1932 English physicist James Chadwick (1891-1974) confirmed the existence of another subatomic partic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 are subatomic particles with no charge but a mass nearly equal to the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Gold-Foil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change the prevailing thought of the 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Gold-Foil Experi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experiment change the prevailing thought of the 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of the atom is the tiny central core of an atom and is composed of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is the nuclear atom: In the nuclear atom, the proton and neutron are located in the nucleus. The electrons are distributed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ater be revised, let’s sneak peak @ page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cleus of the atom is the tiny central core of an atom and is composed of protons and 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will later be revised, let’s sneak peak @ page 12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nguishing Amo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yesterday that atoms are composed of protons, neutrons, and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in the nucleus and electrons sur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elements differ if they all contai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tinguishing Among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We learned yesterday that atoms are composed of protons, neutrons, and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nd Neutrons are in the nucleus and electrons surround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o how do elements differ if they all contain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s are different because they contain different numbers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of an element is the number of protons in the nucleus of an atom in that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The atomic number of Hydrogen (H) is 1, so all hydrogen atoms have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All Oxygen atoms (O) have 8 protons, so the atomic number of Oxygen i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ments are different because they contain different numbers of 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of an element is the number of protons in the nucleus of an atom in that ele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The atomic number of Hydrogen (H) is 1, so all hydrogen atoms have 1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All Oxygen atoms (O) have 8 protons, so the atomic number of Oxygen is 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l atoms are electrically neu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number of Protons equal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 the number of negatively charged particles must equal the number of pos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emember all atoms are electrically neutral.</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fore; the number of Protons equal the number of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eaning the number of negatively charged particles must equal the number of pos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ass of an atom is concentrated in it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ss number of an atom is the total number of protons and neutrons in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Helium (He) has 2 protons and 2 neutrons: its mass number is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Carbon (C) has 6 protons and 6 neutrons: its mass number is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ost of the mass of an atom is concentrated in its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ass number of an atom is the total number of protons and neutrons in an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Helium (He) has 2 protons and 2 neutrons: its mass number is 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Carbon (C) has 6 protons and 6 neutrons: its mass number is12.</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know the atomic number and mass number of an atom, you can determine its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neutrons in an atom is the difference between the mass number and 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neutrons = Mass # -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f you know the atomic number and mass number of an atom, you can determine its composi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mber of neutrons in an atom is the difference between the mass number and 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 of neutrons = Mass # - Atomic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sition of an atom can be written in Shorthand notation using atomic number and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Look at Figure 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is the subscript and the mass number is the superscrip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elec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neu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composition of an atom can be written in Shorthand notation using atomic number and 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Look at Figure 4.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is the subscript and the mass number is the superscript.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elec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neu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460 BC – 370 BC) was among the 1st to suggest the existence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believed that atoms were indivisible and indestruc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pproached was not based on scientific method and was not accepted until later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460 BC – 370 BC) was among the 1st to suggest the existence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believed that atoms were indivisible and indestruct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is approached was not based on scientific method and was not accepted until later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atomic thought began with John Dalton (1766-18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used experimental method to transform Democritus’s idea of atoms into a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studied the ratios in which elements combine and the result was 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odern atomic thought began with John Dalton (1766-184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used experimental method to transform Democritus’s idea of atoms into a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studied the ratios in which elements combine and the result was 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Dalton’s Theor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lements are composed of tiny particles call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the same element are identical. Atoms of different elements are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different elements can physically mix together or chemically combine in simple whole number ratios to form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s occur when atoms are separated, joined, or rearranged. Atoms of one element are never cha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ideas of Dalton’s Theory ar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elements are composed of tiny particles called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the same element are identical. Atoms of different elements are differ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different elements can physically mix together or chemically combine in simple whole number ratios to form compound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Chemical reactions occur when atoms are separated, joined, or rearranged. Atoms of one element are never chang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zing Up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I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ure copper coin the size of a penny contains 2.4 x 1022   copper atoms. There are only about 6 x 109 people o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s are observable with instruments such as scanning tunneling microsc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izing Up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IN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 pure copper coin the size of a penny contains 2.4 x 1022   copper atoms. There are only about 6 x 109 people on Earth!!!</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dividual atoms are observable with instruments such as scanning tunneling microscop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now know to be broken down into smaller, more fundamental particles call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kinds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now know to be broken down into smaller, more fundamental particles call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 are 3 kinds of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ed in 1897 by J.J. Thomson (1856-1940) an English physic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ga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performed experiments using a sealed glass tube with gases in it. He passed an electric current through the tube and the result was a cathode 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covered in 1897 by J.J. Thomson (1856-1940) an English physicis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y are nega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omson performed experiments using a sealed glass tube with gases in it. He passed an electric current through the tube and the result was a cathode r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physicist Robert A. Millikan (1868-1953) carried out experiments to find the quantity of charge carried out by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culated the mass of the electron; that is very similar to the excepted mass given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 Continu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U.S. physicist Robert A. Millikan (1868-1953) carried out experiments to find the quantity of charge carried out by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e calculated the mass of the electron; that is very similar to the excepted mass given tod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gen Goldstein (1850-1930) observed in 1886 that in a cathode-ray tube there were rays going in the opposite direction. He concluded they were 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has a mass about 1840 times that of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re posi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ach proton has a mass about 1840 times that of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82B7E-76DC-4C0B-BD33-F0D2FBD05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3E841-1CF4-438C-B9D3-172328D33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CA10C-D487-45E0-9046-F302B7541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1F0AB-FC82-473A-9872-86A2DA7EE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9DA29-9FCF-49D5-8283-863187738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7"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CE6F4-6CD9-452E-B35E-EA8F43362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9"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B8FF6-C7CA-4137-8790-ACF400F3D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1"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2"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BB0C8-CDBA-459F-9641-2E64CED10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E649E-8BE8-406F-8C17-257944F94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D27B1-A2B7-410E-8C63-0157DBBF1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6"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8"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5BC5E-AE91-4BB1-9BF6-4460FC3F7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91390-2878-4C6E-BA4A-E53759B17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2"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C26A4-0699-4379-9C06-8EFF788EF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4"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6"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5D263-3662-44DF-A4E2-350D78758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8"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9"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E86CB-062A-46ED-AD87-48379E1F8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1"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4"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1229D-42B1-492F-8DDA-3FA69203A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6"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1"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11FCA-08AE-45C3-B6FF-ECCE34879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97D3B-BC0C-402D-8EA0-9E2A9A26E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FE1EE-75FD-47C5-AF3D-843C221E2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0161D-B1CB-43C9-BA96-F8619CBBF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F2DE3-6A3F-4361-9A99-F4BA1C1F1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691C5-EA4A-4B3F-B8CB-6EE201053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E910F-0615-43DF-8B2D-8D0E7C0CE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A9949-FA4A-4701-B057-7FCB65AD2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FD1F-46D3-4F18-9B06-67743F9E79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42"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43" name="PlaceHolder 3"/>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053E-7671-4330-A9B7-5F70524554E6}"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fining the Atom</a:t>
            </a:r>
            <a:endParaRPr b="0" lang="en-US" sz="4000" spc="-1" strike="noStrike">
              <a:solidFill>
                <a:srgbClr val="99eff1"/>
              </a:solidFill>
              <a:latin typeface="Arial Black"/>
            </a:endParaRPr>
          </a:p>
        </p:txBody>
      </p:sp>
      <p:sp>
        <p:nvSpPr>
          <p:cNvPr id="9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l matter is composed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he smallest particle of an element that retains its identity in a chemical reac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 comes from the Greek word atomos meaning indivisible.</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Neutrons</a:t>
            </a:r>
            <a:endParaRPr b="0" lang="en-US" sz="4000" spc="-1" strike="noStrike">
              <a:solidFill>
                <a:srgbClr val="99eff1"/>
              </a:solidFill>
              <a:latin typeface="Arial Black"/>
            </a:endParaRPr>
          </a:p>
        </p:txBody>
      </p:sp>
      <p:sp>
        <p:nvSpPr>
          <p:cNvPr id="10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 1932 English physicist James Chadwick (1891-1974) confirmed the existence of another subatomic partic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Neutrons are subatomic particles with no charge but a mass nearly equal to the prot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Rutherford’s Gold-Foil Experiment</a:t>
            </a:r>
            <a:endParaRPr b="0" lang="en-US" sz="4000" spc="-1" strike="noStrike">
              <a:solidFill>
                <a:srgbClr val="99eff1"/>
              </a:solidFill>
              <a:latin typeface="Arial Black"/>
            </a:endParaRPr>
          </a:p>
        </p:txBody>
      </p:sp>
      <p:sp>
        <p:nvSpPr>
          <p:cNvPr id="11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experiment change the prevailing thought of the structure of the atom.</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tructure of the atom</a:t>
            </a:r>
            <a:endParaRPr b="0" lang="en-US" sz="4000" spc="-1" strike="noStrike">
              <a:solidFill>
                <a:srgbClr val="99eff1"/>
              </a:solidFill>
              <a:latin typeface="Arial Black"/>
            </a:endParaRPr>
          </a:p>
        </p:txBody>
      </p:sp>
      <p:sp>
        <p:nvSpPr>
          <p:cNvPr id="11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cleus of the atom is the tiny central core of an atom and is composed of protons and neutron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will later be revised, let’s sneak peak @ page 128.</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istinguishing Among Atoms</a:t>
            </a:r>
            <a:endParaRPr b="0" lang="en-US" sz="4000" spc="-1" strike="noStrike">
              <a:solidFill>
                <a:srgbClr val="99eff1"/>
              </a:solidFill>
              <a:latin typeface="Arial Black"/>
            </a:endParaRPr>
          </a:p>
        </p:txBody>
      </p:sp>
      <p:sp>
        <p:nvSpPr>
          <p:cNvPr id="11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We learned yesterday that atoms are composed of protons, neutrons, and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nd Neutrons are in the nucleus and electrons surround the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o how do elements differ if they all contain atom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lements are different because they contain different numbers of prot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atomic number of an element is the number of protons in the nucleus of an atom in that element.</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The atomic number of Hydrogen (H) is 1, so all hydrogen atoms have 1 proton.</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All Oxygen atoms (O) have 8 protons, so the atomic number of Oxygen is 8.</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member all atoms are electrically neutral.</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fore; the number of Protons equal the number of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eaning the number of negatively charged particles must equal the number of postively charged particl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st of the mass of an atom is concentrated in its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ass number of an atom is the total number of protons and neutrons in an atom.</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Helium (He) has 2 protons and 2 neutrons: its mass number is 4.</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Carbon (C) has 6 protons and 6 neutrons: its mass number is12.</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f you know the atomic number and mass number of an atom, you can determine its composi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mber of neutrons in an atom is the difference between the mass number and atomic number.</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of neutrons = Mass # - Atomic #</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composition of an atom can be written in Shorthand notation using atomic number and mass number.</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Look at Figure 4.8</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atomic number is the subscript and the mass number is the superscript. </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electrons does a gold atom have?</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neutrons does a gold atom have?</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mocritus</a:t>
            </a:r>
            <a:endParaRPr b="0" lang="en-US" sz="4000" spc="-1" strike="noStrike">
              <a:solidFill>
                <a:srgbClr val="99eff1"/>
              </a:solidFill>
              <a:latin typeface="Arial Black"/>
            </a:endParaRPr>
          </a:p>
        </p:txBody>
      </p:sp>
      <p:sp>
        <p:nvSpPr>
          <p:cNvPr id="9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460 BC – 370 BC) was among the 1</a:t>
            </a:r>
            <a:r>
              <a:rPr b="0" lang="en-US" sz="3200" spc="-1" strike="noStrike" baseline="30000">
                <a:solidFill>
                  <a:srgbClr val="969696"/>
                </a:solidFill>
                <a:latin typeface="Arial"/>
              </a:rPr>
              <a:t>st</a:t>
            </a:r>
            <a:r>
              <a:rPr b="0" lang="en-US" sz="3200" spc="-1" strike="noStrike">
                <a:solidFill>
                  <a:srgbClr val="969696"/>
                </a:solidFill>
                <a:latin typeface="Arial"/>
              </a:rPr>
              <a:t> to suggest the existence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believed that atoms were indivisible and indestructib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is approached was not based on scientific method and was not accepted until later scientif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odern atomic thought began with John Dalton (1766-1844)</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used experimental method to transform Democritus’s idea of atoms into a scientific theor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studied the ratios in which elements combine and the result was Dalton’s atom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ideas of Dalton’s Theory are:</a:t>
            </a:r>
            <a:endParaRPr b="0" lang="en-US" sz="28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l elements are composed of tiny particles called atom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the same element are identical. Atoms of different elements are different.</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different elements can physically mix together or chemically combine in simple whole number ratios to form compound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hemical reactions occur when atoms are separated, joined, or rearranged. Atoms of one element are never changed.</a:t>
            </a:r>
            <a:endParaRPr b="0" lang="en-US" sz="2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izing Up Atoms</a:t>
            </a:r>
            <a:endParaRPr b="0" lang="en-US" sz="4000" spc="-1" strike="noStrike">
              <a:solidFill>
                <a:srgbClr val="99eff1"/>
              </a:solidFill>
              <a:latin typeface="Arial Black"/>
            </a:endParaRPr>
          </a:p>
        </p:txBody>
      </p:sp>
      <p:sp>
        <p:nvSpPr>
          <p:cNvPr id="9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IN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 pure copper coin the size of a penny contains 2.4 x 10</a:t>
            </a:r>
            <a:r>
              <a:rPr b="0" lang="en-US" sz="3200" spc="-1" strike="noStrike" baseline="30000">
                <a:solidFill>
                  <a:srgbClr val="969696"/>
                </a:solidFill>
                <a:latin typeface="Arial"/>
              </a:rPr>
              <a:t>22 </a:t>
            </a:r>
            <a:r>
              <a:rPr b="0" lang="en-US" sz="3200" spc="-1" strike="noStrike">
                <a:solidFill>
                  <a:srgbClr val="969696"/>
                </a:solidFill>
                <a:latin typeface="Arial"/>
              </a:rPr>
              <a:t>  copper atoms. There are only about 6 x 10</a:t>
            </a:r>
            <a:r>
              <a:rPr b="0" lang="en-US" sz="3200" spc="-1" strike="noStrike" baseline="30000">
                <a:solidFill>
                  <a:srgbClr val="969696"/>
                </a:solidFill>
                <a:latin typeface="Arial"/>
              </a:rPr>
              <a:t>9</a:t>
            </a:r>
            <a:r>
              <a:rPr b="0" lang="en-US" sz="3200" spc="-1" strike="noStrike">
                <a:solidFill>
                  <a:srgbClr val="969696"/>
                </a:solidFill>
                <a:latin typeface="Arial"/>
              </a:rPr>
              <a:t> people on Earth!!!</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dividual atoms are observable with instruments such as scanning tunneling microscop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ubatomic Particles</a:t>
            </a:r>
            <a:endParaRPr b="0" lang="en-US" sz="4000" spc="-1" strike="noStrike">
              <a:solidFill>
                <a:srgbClr val="99eff1"/>
              </a:solidFill>
              <a:latin typeface="Arial Black"/>
            </a:endParaRPr>
          </a:p>
        </p:txBody>
      </p:sp>
      <p:sp>
        <p:nvSpPr>
          <p:cNvPr id="10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now know to be broken down into smaller, more fundamental particles call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 are 3 kinds of subatomic Particles.</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lectr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rot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utrons</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a:t>
            </a:r>
            <a:endParaRPr b="0" lang="en-US" sz="4000" spc="-1" strike="noStrike">
              <a:solidFill>
                <a:srgbClr val="99eff1"/>
              </a:solidFill>
              <a:latin typeface="Arial Black"/>
            </a:endParaRPr>
          </a:p>
        </p:txBody>
      </p:sp>
      <p:sp>
        <p:nvSpPr>
          <p:cNvPr id="10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iscovered in 1897 by J.J. Thomson (1856-1940) an English physicist.</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y are negatively charg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omson performed experiments using a sealed glass tube with gases in it. He passed an electric current through the tube and the result was a cathode r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 Continued</a:t>
            </a:r>
            <a:endParaRPr b="0" lang="en-US" sz="4000" spc="-1" strike="noStrike">
              <a:solidFill>
                <a:srgbClr val="99eff1"/>
              </a:solidFill>
              <a:latin typeface="Arial Black"/>
            </a:endParaRPr>
          </a:p>
        </p:txBody>
      </p:sp>
      <p:sp>
        <p:nvSpPr>
          <p:cNvPr id="10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U.S. physicist Robert A. Millikan (1868-1953) carried out experiments to find the quantity of charge carried out by an electr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e calculated the mass of the electron; that is very similar to the excepted mass given tod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Protons</a:t>
            </a:r>
            <a:endParaRPr b="0" lang="en-US" sz="4000" spc="-1" strike="noStrike">
              <a:solidFill>
                <a:srgbClr val="99eff1"/>
              </a:solidFill>
              <a:latin typeface="Arial Black"/>
            </a:endParaRPr>
          </a:p>
        </p:txBody>
      </p:sp>
      <p:sp>
        <p:nvSpPr>
          <p:cNvPr id="10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re positively charged subatomic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ach proton has a mass about 1840 times that of an electr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1:40:42Z</dcterms:created>
  <dc:creator>Chesterfield County Public Schools</dc:creator>
  <dc:description/>
  <cp:keywords/>
  <dc:language>en-US</dc:language>
  <cp:lastModifiedBy>RomaK</cp:lastModifiedBy>
  <dcterms:modified xsi:type="dcterms:W3CDTF">2015-09-03T12:20:10Z</dcterms:modified>
  <cp:revision>6</cp:revision>
  <dc:subject/>
  <dc:title>Defining the At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