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59F2C-9AF3-48F2-A952-9FEADEFDBC9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 the highway of life, are you the bug or the windshiel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 the highway of life, are you the bug or the windshiel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ime of impact is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ame- It would be impossible for the bug to hit the windshield for 2 seconds while the windshield hits the bug for 3 sec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ime of impact i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me- It would be impossible for the bug to hit the windshield for 2 seconds while the windshield hits the bug for 3 sec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ange of velocity on each is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ightly Different – The car, slows down   noticeably, The bug slows down stops and reverses dir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ange of velocity on each i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lightly Different – The car, slows down   noticeably, The bug slows down stops and reverses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 Why Does the bug go splat, but a windshield doesn’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Why Does the bug go splat, but a windshield doesn’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s only a Small force when a bug hits the windshie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only takes a small force to kill a bug. That same size force won’t hurt the windshie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s only a Small force when a bug hits the windshie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only takes a small force to kill a bug. That same size force won’t hurt the windshie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ifference, the size of the force impulse and momentum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mall bug, the less force,impulse,change in momentum, the bigger the bug the more of ea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fference, the size of the force impulse and momentum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all bug, the less force,impulse,change in momentum, the bigger the bug the more of ea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f the bug is the same mass and same speed as a ca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f the bug is the same mass and same speed as a ca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st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s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re some approximate numb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 mass 1500 k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 speed 60 mph   33m/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g mass   1 g  = .001 k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g speed bug speed 10 mph 7 m/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some approximate numb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 mass 1500 k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 speed 60 mph   33m/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g mass   1 g  = .001 k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g speed bug speed 10 mph 7 m/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00*33 + .001*-7 = ( 1500 + .001)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9500+ -.007 = 1500.001*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9499.993=1500.01*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2.99= 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 the car’s velocity changes from 33 to 32.99, while the bug changes from -1 to 32.9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00*33 + .001*-7 = ( 1500 + .001)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9500+ -.007 = 1500.001*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9499.993=1500.01*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2.99= 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 the car’s velocity changes from 33 to 32.99, while the bug changes from -1 to 32.9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g hits windshie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g hits windshie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g hits windshie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g hits windshie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orce on each is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ame- Newtons third law You can only exert back as much force is exerted on yo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rce on each i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me- Newtons third law You can only exert back as much force is exerted on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ime of impact is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ame- It would be impossible for the bug to hit the windshield for 2 seconds while the windshield hits the bug for 3 sec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ime of impact i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me- It would be impossible for the bug to hit the windshield for 2 seconds while the windshield hits the bug for 3 secon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hange of velocity on each is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ry Different – The car, hardly noticeable. The bug very noticeable. The bug slows down, stops and reverses dir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hange of velocity on each i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y Different – The car, hardly noticeable. The bug very noticeable. The bug slows down, stops and reverses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mentum before and after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ame – momentum is conserved in a colli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mentum before and after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me – momentum is conserved in a coll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about a BIGGER BUG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bout a BIGGER BU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orce on each is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ame- Newtons third law You can only exert back as much force is exerted on yo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rce on each i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me- Newtons third law You can only exert back as much force is exerted on 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F6B6B-5750-4B36-BA55-51208B815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6F98-944E-4A58-AE81-957B6FF14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A120-D837-42B2-BD41-F5D957953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302F3-EA56-4550-9426-292154886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69EE-0858-4149-882D-8539AEC1A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78B0-58F9-475F-A384-AE63DC505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B8940-F806-41A9-8278-32B02E40C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089C-89F7-44E9-8711-AB3C3E06A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555F-A765-41A6-ABD6-90D952D0EE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55D0-461D-49BC-B075-CC9207AB0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826F-8F62-4E88-8DC8-F277A4262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28E0-79F0-4EED-A937-887CF16C0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83FE4-2390-425F-88CD-A42AA2444E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On the highway of life, are you the bug or the windshield?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j0233182"/>
          <p:cNvPicPr/>
          <p:nvPr/>
        </p:nvPicPr>
        <p:blipFill>
          <a:blip r:embed="rId1"/>
          <a:stretch/>
        </p:blipFill>
        <p:spPr>
          <a:xfrm>
            <a:off x="0" y="2666880"/>
            <a:ext cx="4459320" cy="31356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j0197385"/>
          <p:cNvPicPr/>
          <p:nvPr/>
        </p:nvPicPr>
        <p:blipFill>
          <a:blip r:embed="rId2"/>
          <a:stretch/>
        </p:blipFill>
        <p:spPr>
          <a:xfrm>
            <a:off x="6781680" y="54000"/>
            <a:ext cx="2133720" cy="169380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4"/>
          <p:cNvSpPr/>
          <p:nvPr/>
        </p:nvSpPr>
        <p:spPr>
          <a:xfrm>
            <a:off x="609480" y="380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ime of impact i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1295280" y="1295280"/>
            <a:ext cx="3505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same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t would be impossible for the bug to hit the windshield for 2 seconds while the windshield hits the bug for 3 seco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85437E-006 L 0.33958 -0.00624 E">
                                      <p:cBhvr>
                                        <p:cTn id="109" dur="2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 0.04484 L -0.275 0.27785 E">
                                      <p:cBhvr>
                                        <p:cTn id="111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3958 -0.00624 L 0.58958 -0.00624 E">
                                      <p:cBhvr>
                                        <p:cTn id="114" dur="5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8333 0.39052 L -0.04166 0.39052 E">
                                      <p:cBhvr>
                                        <p:cTn id="116" dur="5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j0233182"/>
          <p:cNvPicPr/>
          <p:nvPr/>
        </p:nvPicPr>
        <p:blipFill>
          <a:blip r:embed="rId1"/>
          <a:stretch/>
        </p:blipFill>
        <p:spPr>
          <a:xfrm>
            <a:off x="0" y="2666880"/>
            <a:ext cx="4459320" cy="31356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3" descr="j0197385"/>
          <p:cNvPicPr/>
          <p:nvPr/>
        </p:nvPicPr>
        <p:blipFill>
          <a:blip r:embed="rId2"/>
          <a:stretch/>
        </p:blipFill>
        <p:spPr>
          <a:xfrm>
            <a:off x="6781680" y="54000"/>
            <a:ext cx="2133720" cy="169380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4"/>
          <p:cNvSpPr/>
          <p:nvPr/>
        </p:nvSpPr>
        <p:spPr>
          <a:xfrm>
            <a:off x="609480" y="380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change of velocit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on each i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2133720" y="1523880"/>
            <a:ext cx="3504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lightly Different – The car, slows down   noticeably, The bug slows down stops and reverses dir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85437E-006 L 0.33958 -0.00624 E">
                                      <p:cBhvr>
                                        <p:cTn id="127" dur="2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 0.04484 L -0.275 0.27785 E">
                                      <p:cBhvr>
                                        <p:cTn id="129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1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3958 -0.00624 L 0.58958 -0.00624 E">
                                      <p:cBhvr>
                                        <p:cTn id="132" dur="5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75 0.41272 L -0.03333 0.41272 E">
                                      <p:cBhvr>
                                        <p:cTn id="134" dur="5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Why Does the bug go splat, but a windshield doesn’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3" descr="j0233182"/>
          <p:cNvPicPr/>
          <p:nvPr/>
        </p:nvPicPr>
        <p:blipFill>
          <a:blip r:embed="rId1"/>
          <a:stretch/>
        </p:blipFill>
        <p:spPr>
          <a:xfrm>
            <a:off x="874800" y="2736720"/>
            <a:ext cx="3201840" cy="22510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j0197385"/>
          <p:cNvPicPr/>
          <p:nvPr/>
        </p:nvPicPr>
        <p:blipFill>
          <a:blip r:embed="rId2"/>
          <a:stretch/>
        </p:blipFill>
        <p:spPr>
          <a:xfrm>
            <a:off x="5486400" y="1447920"/>
            <a:ext cx="762120" cy="604800"/>
          </a:xfrm>
          <a:prstGeom prst="rect">
            <a:avLst/>
          </a:prstGeom>
          <a:ln w="0">
            <a:noFill/>
          </a:ln>
        </p:spPr>
      </p:pic>
      <p:sp>
        <p:nvSpPr>
          <p:cNvPr id="89" name="Text Box 10"/>
          <p:cNvSpPr/>
          <p:nvPr/>
        </p:nvSpPr>
        <p:spPr>
          <a:xfrm rot="1153800">
            <a:off x="2056320" y="380520"/>
            <a:ext cx="312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s only a Small force when a bug hits the windshie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2"/>
          <p:cNvSpPr/>
          <p:nvPr/>
        </p:nvSpPr>
        <p:spPr>
          <a:xfrm flipV="1" rot="11318400">
            <a:off x="969480" y="5179680"/>
            <a:ext cx="7091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only takes a small force to kill a bug. That same size force won’t hurt the windshie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648320" y="1600200"/>
            <a:ext cx="40384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3.3526E-006 L 0.31267 -0.00763 E">
                                      <p:cBhvr>
                                        <p:cTn id="145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2.31214E-006 L -0.16667 0.23352 E">
                                      <p:cBhvr>
                                        <p:cTn id="147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j0233182"/>
          <p:cNvPicPr/>
          <p:nvPr/>
        </p:nvPicPr>
        <p:blipFill>
          <a:blip r:embed="rId1"/>
          <a:stretch/>
        </p:blipFill>
        <p:spPr>
          <a:xfrm>
            <a:off x="874800" y="2736720"/>
            <a:ext cx="3201840" cy="22510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j0197385"/>
          <p:cNvPicPr/>
          <p:nvPr/>
        </p:nvPicPr>
        <p:blipFill>
          <a:blip r:embed="rId2"/>
          <a:stretch/>
        </p:blipFill>
        <p:spPr>
          <a:xfrm>
            <a:off x="6389640" y="944640"/>
            <a:ext cx="2068560" cy="19270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j0197385"/>
          <p:cNvPicPr/>
          <p:nvPr/>
        </p:nvPicPr>
        <p:blipFill>
          <a:blip r:embed="rId3"/>
          <a:stretch/>
        </p:blipFill>
        <p:spPr>
          <a:xfrm>
            <a:off x="5486400" y="1447920"/>
            <a:ext cx="762120" cy="604800"/>
          </a:xfrm>
          <a:prstGeom prst="rect">
            <a:avLst/>
          </a:prstGeom>
          <a:ln w="0">
            <a:noFill/>
          </a:ln>
        </p:spPr>
      </p:pic>
      <p:sp>
        <p:nvSpPr>
          <p:cNvPr id="95" name="Text Box 5"/>
          <p:cNvSpPr/>
          <p:nvPr/>
        </p:nvSpPr>
        <p:spPr>
          <a:xfrm rot="20014200">
            <a:off x="229680" y="456840"/>
            <a:ext cx="3124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ifference, the size of the force impulse and momentum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6"/>
          <p:cNvSpPr/>
          <p:nvPr/>
        </p:nvSpPr>
        <p:spPr>
          <a:xfrm flipV="1" rot="10562400">
            <a:off x="985680" y="5178960"/>
            <a:ext cx="7089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mall bug, the less force,impulse,change in momentum, the bigger the bug the more of e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85437E-006 L 0.33958 -0.00624 E">
                                      <p:cBhvr>
                                        <p:cTn id="163" dur="2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 0.04484 L -0.275 0.27785 E">
                                      <p:cBhvr>
                                        <p:cTn id="165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2.5104E-006 L -0.2 0.2774 E">
                                      <p:cBhvr>
                                        <p:cTn id="167" dur="2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if the bug is the same mass and same speed as a car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j0233182"/>
          <p:cNvPicPr/>
          <p:nvPr/>
        </p:nvPicPr>
        <p:blipFill>
          <a:blip r:embed="rId1"/>
          <a:stretch/>
        </p:blipFill>
        <p:spPr>
          <a:xfrm>
            <a:off x="762120" y="3352680"/>
            <a:ext cx="3201840" cy="22510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j0197385"/>
          <p:cNvPicPr/>
          <p:nvPr/>
        </p:nvPicPr>
        <p:blipFill>
          <a:blip r:embed="rId2"/>
          <a:stretch/>
        </p:blipFill>
        <p:spPr>
          <a:xfrm>
            <a:off x="6248520" y="3048120"/>
            <a:ext cx="3047760" cy="2419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33526E-006 L 0.225 -0.00855 E">
                                      <p:cBhvr>
                                        <p:cTn id="183" dur="20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167 0.01248 L -0.325 0.01248 E">
                                      <p:cBhvr>
                                        <p:cTn id="185" dur="20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y sto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3" descr="j0233182"/>
          <p:cNvPicPr/>
          <p:nvPr/>
        </p:nvPicPr>
        <p:blipFill>
          <a:blip r:embed="rId1"/>
          <a:stretch/>
        </p:blipFill>
        <p:spPr>
          <a:xfrm>
            <a:off x="762120" y="3352680"/>
            <a:ext cx="3201840" cy="22510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j0197385"/>
          <p:cNvPicPr/>
          <p:nvPr/>
        </p:nvPicPr>
        <p:blipFill>
          <a:blip r:embed="rId2"/>
          <a:stretch/>
        </p:blipFill>
        <p:spPr>
          <a:xfrm>
            <a:off x="6248520" y="3048120"/>
            <a:ext cx="3047760" cy="2419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4.33526E-006 L 0.225 -0.00855 E">
                                      <p:cBhvr>
                                        <p:cTn id="191" dur="2000" fill="hold"/>
                                        <p:tgtEl>
                                          <p:spTgt spid="1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167 0.01248 L -0.325 0.01248 E">
                                      <p:cBhvr>
                                        <p:cTn id="193" dur="2000" fill="hold"/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are some approximate 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 mass 1500 k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r speed 60 mph   33m/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g mass   1 g  = .001 k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g speed bug speed 10 mph 7 m/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00*33 + .001*-7 = ( 1500 + .001)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9500+ -.007 = 1500.001*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9499.993=1500.01*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2.99= 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the car’s velocity changes from 33 to 32.99, while the bug changes from -1 to 32.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g hits windshie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j0233182"/>
          <p:cNvPicPr/>
          <p:nvPr/>
        </p:nvPicPr>
        <p:blipFill>
          <a:blip r:embed="rId1"/>
          <a:stretch/>
        </p:blipFill>
        <p:spPr>
          <a:xfrm>
            <a:off x="874800" y="2736720"/>
            <a:ext cx="4459320" cy="3135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j0197385"/>
          <p:cNvPicPr/>
          <p:nvPr/>
        </p:nvPicPr>
        <p:blipFill>
          <a:blip r:embed="rId2"/>
          <a:stretch/>
        </p:blipFill>
        <p:spPr>
          <a:xfrm>
            <a:off x="6095880" y="1981080"/>
            <a:ext cx="762120" cy="60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ug hits windshie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" descr="j0233182"/>
          <p:cNvPicPr/>
          <p:nvPr/>
        </p:nvPicPr>
        <p:blipFill>
          <a:blip r:embed="rId1"/>
          <a:stretch/>
        </p:blipFill>
        <p:spPr>
          <a:xfrm>
            <a:off x="0" y="2666880"/>
            <a:ext cx="4459320" cy="31356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j0197385"/>
          <p:cNvPicPr/>
          <p:nvPr/>
        </p:nvPicPr>
        <p:blipFill>
          <a:blip r:embed="rId2"/>
          <a:stretch/>
        </p:blipFill>
        <p:spPr>
          <a:xfrm>
            <a:off x="8153280" y="1143000"/>
            <a:ext cx="762120" cy="60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85437E-006 L 0.33958 -0.00624 E">
                                      <p:cBhvr>
                                        <p:cTn id="6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 0.04484 L -0.275 0.27785 E">
                                      <p:cBhvr>
                                        <p:cTn id="8" dur="2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3958 -0.00624 L 0.58958 -0.00624 E">
                                      <p:cBhvr>
                                        <p:cTn id="11" dur="3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4166 0.34443 L -0.1 0.34443 E">
                                      <p:cBhvr>
                                        <p:cTn id="13" dur="3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3" descr="j0233182"/>
          <p:cNvPicPr/>
          <p:nvPr/>
        </p:nvPicPr>
        <p:blipFill>
          <a:blip r:embed="rId1"/>
          <a:stretch/>
        </p:blipFill>
        <p:spPr>
          <a:xfrm>
            <a:off x="0" y="2666880"/>
            <a:ext cx="4459320" cy="31356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" descr="j0197385"/>
          <p:cNvPicPr/>
          <p:nvPr/>
        </p:nvPicPr>
        <p:blipFill>
          <a:blip r:embed="rId2"/>
          <a:stretch/>
        </p:blipFill>
        <p:spPr>
          <a:xfrm>
            <a:off x="8153280" y="1143000"/>
            <a:ext cx="762120" cy="60480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5"/>
          <p:cNvSpPr/>
          <p:nvPr/>
        </p:nvSpPr>
        <p:spPr>
          <a:xfrm>
            <a:off x="609480" y="380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orce on each i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3276720" y="1676520"/>
            <a:ext cx="350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same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ewtons third law You can only exert back as much force is exerted on y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85437E-006 L 0.33958 -0.00624 E">
                                      <p:cBhvr>
                                        <p:cTn id="19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 0.04484 L -0.275 0.27785 E">
                                      <p:cBhvr>
                                        <p:cTn id="21" dur="2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3958 -0.00624 L 0.58958 -0.00624 E">
                                      <p:cBhvr>
                                        <p:cTn id="24" dur="3000" fill="hold"/>
                                        <p:tgtEl>
                                          <p:spTgt spid="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4166 0.34443 L -0.1 0.34443 E">
                                      <p:cBhvr>
                                        <p:cTn id="26" dur="30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j0233182"/>
          <p:cNvPicPr/>
          <p:nvPr/>
        </p:nvPicPr>
        <p:blipFill>
          <a:blip r:embed="rId1"/>
          <a:stretch/>
        </p:blipFill>
        <p:spPr>
          <a:xfrm>
            <a:off x="0" y="2666880"/>
            <a:ext cx="4459320" cy="313560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j0197385"/>
          <p:cNvPicPr/>
          <p:nvPr/>
        </p:nvPicPr>
        <p:blipFill>
          <a:blip r:embed="rId2"/>
          <a:stretch/>
        </p:blipFill>
        <p:spPr>
          <a:xfrm>
            <a:off x="8153280" y="1143000"/>
            <a:ext cx="762120" cy="60480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4"/>
          <p:cNvSpPr/>
          <p:nvPr/>
        </p:nvSpPr>
        <p:spPr>
          <a:xfrm>
            <a:off x="609480" y="380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time of impact i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1295280" y="1295280"/>
            <a:ext cx="3505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same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It would be impossible for the bug to hit the windshield for 2 seconds while the windshield hits the bug for 3 seco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85437E-006 L 0.33958 -0.00624 E">
                                      <p:cBhvr>
                                        <p:cTn id="37" dur="2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 0.04484 L -0.275 0.27785 E">
                                      <p:cBhvr>
                                        <p:cTn id="39" dur="2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3958 -0.00624 L 0.58958 -0.00624 E">
                                      <p:cBhvr>
                                        <p:cTn id="42" dur="3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4166 0.34443 L -0.1 0.34443 E">
                                      <p:cBhvr>
                                        <p:cTn id="44" dur="3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j0233182"/>
          <p:cNvPicPr/>
          <p:nvPr/>
        </p:nvPicPr>
        <p:blipFill>
          <a:blip r:embed="rId1"/>
          <a:stretch/>
        </p:blipFill>
        <p:spPr>
          <a:xfrm>
            <a:off x="0" y="2666880"/>
            <a:ext cx="4459320" cy="31356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j0197385"/>
          <p:cNvPicPr/>
          <p:nvPr/>
        </p:nvPicPr>
        <p:blipFill>
          <a:blip r:embed="rId2"/>
          <a:stretch/>
        </p:blipFill>
        <p:spPr>
          <a:xfrm>
            <a:off x="8153280" y="1143000"/>
            <a:ext cx="762120" cy="60480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4"/>
          <p:cNvSpPr/>
          <p:nvPr/>
        </p:nvSpPr>
        <p:spPr>
          <a:xfrm>
            <a:off x="609480" y="380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change of velocity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on each i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1447920" y="152388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y Different – The car, hardly noticeable. The bug very noticeable. The bug slows down, stops and reverses dir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85437E-006 L 0.33958 -0.00624 E">
                                      <p:cBhvr>
                                        <p:cTn id="55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 0.04484 L -0.275 0.27785 E">
                                      <p:cBhvr>
                                        <p:cTn id="57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9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3958 -0.00624 L 0.58958 -0.00624 E">
                                      <p:cBhvr>
                                        <p:cTn id="60" dur="3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4166 0.34443 L -0.1 0.34443 E">
                                      <p:cBhvr>
                                        <p:cTn id="62" dur="3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j0233182"/>
          <p:cNvPicPr/>
          <p:nvPr/>
        </p:nvPicPr>
        <p:blipFill>
          <a:blip r:embed="rId1"/>
          <a:stretch/>
        </p:blipFill>
        <p:spPr>
          <a:xfrm>
            <a:off x="0" y="2666880"/>
            <a:ext cx="4459320" cy="31356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j0197385"/>
          <p:cNvPicPr/>
          <p:nvPr/>
        </p:nvPicPr>
        <p:blipFill>
          <a:blip r:embed="rId2"/>
          <a:stretch/>
        </p:blipFill>
        <p:spPr>
          <a:xfrm>
            <a:off x="8153280" y="1143000"/>
            <a:ext cx="762120" cy="60480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>
            <a:off x="609480" y="380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momentum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and after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2133720" y="1523880"/>
            <a:ext cx="350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same – momentum is conserved in a coll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85437E-006 L 0.33958 -0.00624 E">
                                      <p:cBhvr>
                                        <p:cTn id="73" dur="2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 0.04484 L -0.275 0.27785 E">
                                      <p:cBhvr>
                                        <p:cTn id="75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7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3958 -0.00624 L 0.58958 -0.00624 E">
                                      <p:cBhvr>
                                        <p:cTn id="78" dur="3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4166 0.34443 L -0.1 0.34443 E">
                                      <p:cBhvr>
                                        <p:cTn id="80" dur="3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hat about a BIGGER BUG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j0233182"/>
          <p:cNvPicPr/>
          <p:nvPr/>
        </p:nvPicPr>
        <p:blipFill>
          <a:blip r:embed="rId1"/>
          <a:stretch/>
        </p:blipFill>
        <p:spPr>
          <a:xfrm>
            <a:off x="0" y="2666880"/>
            <a:ext cx="4459320" cy="31356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" descr="j0197385"/>
          <p:cNvPicPr/>
          <p:nvPr/>
        </p:nvPicPr>
        <p:blipFill>
          <a:blip r:embed="rId2"/>
          <a:stretch/>
        </p:blipFill>
        <p:spPr>
          <a:xfrm>
            <a:off x="7010280" y="235080"/>
            <a:ext cx="1905120" cy="151272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4"/>
          <p:cNvSpPr/>
          <p:nvPr/>
        </p:nvSpPr>
        <p:spPr>
          <a:xfrm>
            <a:off x="609480" y="380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force on each is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3276720" y="1676520"/>
            <a:ext cx="350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same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Newtons third law You can only exert back as much force is exerted on y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85437E-006 L 0.33958 -0.00624 E">
                                      <p:cBhvr>
                                        <p:cTn id="91" dur="2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5 0.04484 L -0.275 0.27785 E">
                                      <p:cBhvr>
                                        <p:cTn id="93" dur="2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3958 -0.00624 L 0.58958 -0.00624 E">
                                      <p:cBhvr>
                                        <p:cTn id="96" dur="5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2875 0.38844 L -0.04583 0.38844 E">
                                      <p:cBhvr>
                                        <p:cTn id="98" dur="5000" fill="hold"/>
                                        <p:tgtEl>
                                          <p:spTgt spid="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6T18:51:15Z</dcterms:created>
  <dc:creator>administrator</dc:creator>
  <dc:description>newtons laws bug on windshield</dc:description>
  <cp:keywords>newtons laws bug on windshield</cp:keywords>
  <dc:language>en-US</dc:language>
  <cp:lastModifiedBy>RomaK</cp:lastModifiedBy>
  <dcterms:modified xsi:type="dcterms:W3CDTF">2015-09-03T12:18:20Z</dcterms:modified>
  <cp:revision>7</cp:revision>
  <dc:subject>newtons laws bug on windshield</dc:subject>
  <dc:title>newtons laws bug on windshield</dc:title>
</cp:coreProperties>
</file>