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EB76-82B7-422B-8B7F-D537494FFC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A86-032C-4523-ABB6-15FCA4C5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618-FD3E-46AF-8B87-D249F26D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CA1-B101-4068-8FAC-52B7B280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04C-8942-45F0-BC13-CD5D73AF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4DD-2514-4445-A9BF-E65F6540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F76-8B9A-4AA7-A3DF-1380B683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A93-CEB9-4408-A4BE-E3C5A738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D7F-2BF2-495E-AD29-792B5A33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43E-83F5-4D59-89F7-8880B784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F0F-BCEF-4E61-A021-23A1DB73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CE6-CC15-4C49-8ED6-29A9B168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220-E191-4802-A24D-21C66AE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0E68-637E-471E-9F51-EF8586DA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3720" y="1523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153800">
            <a:off x="2056320" y="380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 flipV="1" rot="11318400">
            <a:off x="969480" y="517968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 rot="20014200">
            <a:off x="229680" y="4568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7920" y="1523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33720" y="1523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RomaK</cp:lastModifiedBy>
  <dcterms:modified xsi:type="dcterms:W3CDTF">2015-09-03T12:18:20Z</dcterms:modified>
  <cp:revision>7</cp:revision>
  <dc:subject>newtons laws bug on windshield</dc:subject>
  <dc:title>newtons laws bug on windshield</dc:title>
</cp:coreProperties>
</file>