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2934-A847-424B-95CA-CE9BD55ABB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0EF-6861-4022-9EC0-B3F75F4B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1D4-FBCC-43B8-B41B-09332CB9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7F3-533E-40F0-80C0-01E24C4C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1D10-EA14-415F-9B4E-36049497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5921-E3FD-4054-9720-A66D91A7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572D-8B15-46CE-9729-681AF791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9294-5A08-419C-A801-A9CC68C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EC80-643B-4FC0-9791-798E25EF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A971-BFD6-4C87-84F0-85E00AF1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E67E-2728-4E39-A1C1-982DE3E4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DB03-E912-4117-BFDA-3509B7B5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AEF-1076-4630-9C4D-FE1D2CB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A73F-4E35-4DF1-927E-9CA48F1A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E3A-D45D-4F72-806D-D47F77B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4DAF-F630-4412-81F1-878ED8ED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22ED-B8ED-44E5-82C8-78149A40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801-3343-4B90-AC6F-F8D7B8DD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6A1-FABF-47EF-9512-6E82CD7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792-386C-4F38-BFCE-1491B6F1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4DB-009D-49E3-A710-C4468AE9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D25-2165-43EA-A60E-CD008270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A9F-EB96-455D-AF7B-1C179148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BE29-4CAC-4702-A7F4-8386EF8E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DF6-2F34-413B-950A-8830530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F0AA-316B-45CE-8AC2-E5B7B1395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DBCE-CFB9-4AA4-830F-06D9E1658C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18:09Z</dcterms:modified>
  <cp:revision>32</cp:revision>
  <dc:subject/>
  <dc:title>basic space</dc:title>
</cp:coreProperties>
</file>