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40B3-184C-4294-81AB-941FC1B459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E62-25BD-4E73-B6EB-717E30C8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756-C6DB-486A-B85B-4767CED2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890-0BB4-4987-B17B-672348AF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FD3-8F12-41C2-8238-ADA34799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E639-41B5-4018-AEA0-D8B818CA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2C79-574E-4192-A09E-05D36DF1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C7C2-29BD-498D-B563-BC04A430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9F04-960A-484C-A9B8-492554EA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C8DD-5EA1-454A-A6BE-2070DAC6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19F1-129A-4AD9-B1BA-F7CDBFAD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85EA-2B85-4AE4-916A-C923B3D9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52F-AFDC-41A1-82E3-0912B794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539E-6828-4E97-B325-B3EA8D35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E265-BCDD-49FD-9AA4-90AC589E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3190-CF1D-4D4D-853A-28EEEA4B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4957-B407-4B7E-B722-248EE57F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C9D6-3A86-4B5E-8E86-DF9C0C11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839-1EDC-49AE-8A40-699D8EB4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5C35-26F5-454F-AFBE-49B915AC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359-8E9F-4B33-91A9-C2F9950D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9E2-A24B-4EF7-8DCB-02B6DF80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FFBD-1C4A-48B1-8F30-CA77D981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38E-F069-4885-892D-3E83E77B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345-0DDB-4374-970C-ACB99861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3090-9537-4FBC-81B1-5233EB297C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0992-F300-42A7-8537-044739BE2A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18:09Z</dcterms:modified>
  <cp:revision>32</cp:revision>
  <dc:subject/>
  <dc:title>basic space</dc:title>
</cp:coreProperties>
</file>