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E541-8C9A-429C-AA02-5BC9C9BCA9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67CA-D6D6-4CFF-84DD-1A73BA94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FDB-D624-419E-A35B-BA649C1A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F62-6FBA-45A1-A745-A7AB184B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21C-1024-4D6E-A202-2EC0A290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5903-4869-4032-B155-4D70BC99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A188-D973-40BA-9A5F-24603F4B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EAB2-7E47-4B3B-B447-0F0B974B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9063-2159-4E51-84B8-0DA7FCDD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1D95-3B61-4373-A1A7-2F3EB400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4A16-CFFA-4C7B-BAA4-8E3E98C3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7B35-056B-4131-B270-48453A52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67F-22BE-4EB5-A094-1E8139DA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79BC-A723-419E-B1EE-CC198419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96D8-34DA-4E78-9060-0565AE63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8DD0-5D72-4C03-ACC0-2103EB18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7704-08EC-4A52-8AFE-04AD75B2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45EC-E39C-4DEC-939B-4089F90F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69B-953E-4A68-8DD7-6CBF84F5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B48-40B5-4737-BC7E-0E2A38F2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45E-7C9A-4229-A274-1E92B636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8CD-3854-4BAB-9481-B5A56BD3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0EE-4DEC-4F88-8F95-0E6A99C4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8B1-D210-4E03-A152-911A213A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C78-4B7D-40FA-9753-8777808A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9E5E-6F52-4376-A023-CB45C3F4E7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CFA8-30B5-4E3F-8837-A7788D98FB8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star (our sun )is part of a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planet (earth) orbits a st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moon (our moon) orbits a planet (earth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Radio waves are detected by large curved dishes similar to the dish aerials in T.V.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One light year is the distance travelled by light in a ye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from the sun 8 minutes to get to the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4 light years for light to reach the nearest star (alpha centauri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100,000 light years to get to the edge of our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ere are two types of telescope ,the refractor and the reflecto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ractor works by light bending or refra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lector works by light refle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ahoma"/>
              </a:rPr>
              <a:t>The Refracting Telesc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1295280"/>
            <a:ext cx="8915400" cy="80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refracting telescope consi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of  two convex le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objective lens collects 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rom distant objects such a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planets and stars.  It forms an image of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eyepiece lens then magnifies this ima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55760" y="2567160"/>
            <a:ext cx="4632480" cy="2560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Use can be made of  light ,radio and micro waves from the electromagnetic spectru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18:09Z</dcterms:modified>
  <cp:revision>32</cp:revision>
  <dc:subject/>
  <dc:title>basic space</dc:title>
</cp:coreProperties>
</file>