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6.png" ContentType="image/png"/>
  <Override PartName="/ppt/media/image15.png" ContentType="image/png"/>
  <Override PartName="/ppt/media/image7.gif" ContentType="image/gif"/>
  <Override PartName="/ppt/media/image5.jpeg" ContentType="image/jpeg"/>
  <Override PartName="/ppt/media/image9.png" ContentType="image/png"/>
  <Override PartName="/ppt/media/image6.gif" ContentType="image/gif"/>
  <Override PartName="/ppt/media/image14.png" ContentType="image/png"/>
  <Override PartName="/ppt/media/image1.gif" ContentType="image/gif"/>
  <Override PartName="/ppt/media/image10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4.gif" ContentType="image/gif"/>
  <Override PartName="/ppt/media/image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56FA-4039-413C-BD0A-91FB763B7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 - Eureka! Episode 7 - Weight vs.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 - Eureka! Episode 6 -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ing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 - Eureka! Episode 7 - Weight vs.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 - Eureka! Episode 6 -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ing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ut each term along with its correct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lockwise moments = clockwis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boys of different weights sit opposite each other on a see saw, both the same distance from the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rning effect of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 PHYSICS: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ut each term along with its correct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lockwise moments = clockwis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boys of different weights sit opposite each other on a see saw, both the same distance from the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rning effect of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 PHYSICS: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na weighs 500 N and stands on one end of a seesaw. She is 0.5 m from the piv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ment does she exe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= 500 x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5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na weighs 500 N and stands on one end of a seesaw. She is 0.5 m from the piv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ment does she exe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= 500 x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5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ment of a force is given by the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s are measured in Newton centimetres (Ncm) or Newton metres (N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equ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ment of a force is given by the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s are measured in Newton centimetres (Ncm) or Newton metres (N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equ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 on the right exerts a clockwise moment, which equals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 on the left exe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ti-clockwise mom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equal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weight  x  her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weight  x  her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 on the right exerts a clockwise moment, which equals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 on the left exe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ti-clockwise mom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equal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weight  x  her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weight  x  her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something is balanced about a pivo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lockwise moment = total anticlockwise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anticlockwise moment and clockwise moment are equal then the see-saw is balanced. This is known as the principle of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something is balanced about a pivo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lockwise moment = total anticlockwise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anticlockwise moment and clockwise moment are equal then the see-saw is balanced. This is known as the principle of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irls are sitting on opposite sides of on a see-saw. One girl weighs 200 N and is 1.5 m from the pivot. Where must her 150 N friend sit if the seesaw is to bal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ee-saw is balanc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 –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lockwise moment  =  total anticlockwise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 x 1.5 m  = 150 N x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x 1.5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of second girl  =  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irls are sitting on opposite sides of on a see-saw. One girl weighs 200 N and is 1.5 m from the pivot. Where must her 150 N friend sit if the seesaw is to bal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ee-saw is balanc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 –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lockwise moment  =  total anticlockwise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 x 1.5 m  = 150 N x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x 1.5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of second girl  =  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er cranes are essential at any major construction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counterweights are fitted to the crane’s short arm.  Why are these needed for lifting heavy lo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er cranes are essential at any major construction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counterweights are fitted to the crane’s short arm.  Why are these needed for lifting heavy lo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principle of moments, when is the crane balanc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of    =     mome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counterwe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10,000 N counterweight is three metres from the tower, what weight can be lifted when the loading platform is six metres from the tow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principle of moments, when is the crane balanc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of    =     mome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counterwe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10,000 N counterweight is three metres from the tower, what weight can be lifted when the loading platform is six metres from the tow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hould the loading platform be on the loading arm to carry each load saf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ne operato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hould the loading platform be on the loading arm to carry each load saf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ne operato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ut the statements that are tru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r the lever, the bigger the force that is needed to move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easier to close a door if you push the door close to the h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lever, the bigger the force that is needed to move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s are examples of pivo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 are examples of le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ut the statements that are tru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r the lever, the bigger the force that is needed to move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easier to close a door if you push the door close to the h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lever, the bigger the force that is needed to move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s are examples of pivo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 are examples of le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, D and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, D and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nvestigate, through practical experimentation, the principle of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nvestigate, through practical experimentation, the principle of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need to recor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columns will we need in our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need to recor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columns will we need in our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EB77-6809-4558-B708-BA8136FC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DB83-BF37-4246-BE53-3D1955CC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4030-4FA7-48CB-9446-50AAA808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BDA9-5483-4578-A73E-EA4E3E62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6243-6B78-487E-9BB1-8FDBD124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1DDB-5715-405E-80CB-A567F254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2517-04EC-47A3-AA50-02AAA9E6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D7D8-09BA-4058-AED4-7086C99F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94E2-7F00-43B2-9D81-04C09A5C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90B0-5E44-41CD-AC08-F2726FC5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EEE1-5454-49D2-88E1-4452A639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4BDC-2CE2-4787-A7CE-0064E927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EA50-4FA6-42DE-87F2-F9E60992D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hotobucket.com/mediadetail/?media=http%3A%2F%2Fi45.photobucket.com%2Falbums%2Ff94%2Fgkn1%2FMarks%2520Stuff%2Fphysics.gif&amp;searchTerm=physics&amp;pageOffset=10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PHysic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2819520"/>
            <a:ext cx="419112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Image: showing how an astronaut would weigh less on the Moon than on the Earth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6451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ght and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Tube - Eureka! Episode 7 - Weight vs.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609480" y="32767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Tube - Eureka! Episode 6 - 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90720" y="5943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ing B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rite out each term along with its correct d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25603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ticlockwise moments = clockwise mo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boys of different weights sit opposite each other on a see saw, both the same distance from the piv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urning effect of a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 rot="19776600">
            <a:off x="777960" y="18997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o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 rot="955200">
            <a:off x="6078240" y="205380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balanced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971800" y="17524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Arial"/>
              </a:rPr>
              <a:t>unbalanced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6095880" y="5562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r Princ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248520" y="59421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SE PHYSICS: Mo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seesaw1"/>
          <p:cNvPicPr/>
          <p:nvPr/>
        </p:nvPicPr>
        <p:blipFill>
          <a:blip r:embed="rId1"/>
          <a:stretch/>
        </p:blipFill>
        <p:spPr>
          <a:xfrm>
            <a:off x="838080" y="2571840"/>
            <a:ext cx="7029720" cy="4286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457200" y="1447920"/>
            <a:ext cx="7850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Gina weighs 500</a:t>
            </a:r>
            <a:r>
              <a:rPr b="0" lang="en-US" sz="12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N and stands on one end of a seesaw. She is 0.5</a:t>
            </a:r>
            <a:r>
              <a:rPr b="0" lang="en-US" sz="12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 from the piv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at moment does she exe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791240" y="2957400"/>
            <a:ext cx="3705120" cy="93996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ment = 500 x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2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5"/>
          <p:cNvGrpSpPr/>
          <p:nvPr/>
        </p:nvGrpSpPr>
        <p:grpSpPr>
          <a:xfrm>
            <a:off x="2389320" y="4037040"/>
            <a:ext cx="1730160" cy="459720"/>
            <a:chOff x="2389320" y="4037040"/>
            <a:chExt cx="1730160" cy="459720"/>
          </a:xfrm>
        </p:grpSpPr>
        <p:sp>
          <p:nvSpPr>
            <p:cNvPr id="84" name="Text Box 6"/>
            <p:cNvSpPr/>
            <p:nvPr/>
          </p:nvSpPr>
          <p:spPr>
            <a:xfrm>
              <a:off x="2843280" y="4037040"/>
              <a:ext cx="10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0.5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7"/>
            <p:cNvSpPr/>
            <p:nvPr/>
          </p:nvSpPr>
          <p:spPr>
            <a:xfrm flipV="1">
              <a:off x="2389320" y="4466880"/>
              <a:ext cx="1730160" cy="1116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1285920" y="4794120"/>
            <a:ext cx="1295280" cy="976320"/>
            <a:chOff x="1285920" y="4794120"/>
            <a:chExt cx="1295280" cy="976320"/>
          </a:xfrm>
        </p:grpSpPr>
        <p:sp>
          <p:nvSpPr>
            <p:cNvPr id="87" name="Text Box 9"/>
            <p:cNvSpPr/>
            <p:nvPr/>
          </p:nvSpPr>
          <p:spPr>
            <a:xfrm>
              <a:off x="1285920" y="5165640"/>
              <a:ext cx="113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00</a:t>
              </a: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0"/>
            <p:cNvSpPr/>
            <p:nvPr/>
          </p:nvSpPr>
          <p:spPr>
            <a:xfrm>
              <a:off x="2209680" y="4794120"/>
              <a:ext cx="371520" cy="976320"/>
            </a:xfrm>
            <a:prstGeom prst="downArrow">
              <a:avLst>
                <a:gd name="adj1" fmla="val 50000"/>
                <a:gd name="adj2" fmla="val 6569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4430160" y="5578920"/>
            <a:ext cx="2554920" cy="891360"/>
            <a:chOff x="4430160" y="5578920"/>
            <a:chExt cx="2554920" cy="891360"/>
          </a:xfrm>
        </p:grpSpPr>
        <p:sp>
          <p:nvSpPr>
            <p:cNvPr id="90" name="Text Box 12"/>
            <p:cNvSpPr/>
            <p:nvPr/>
          </p:nvSpPr>
          <p:spPr>
            <a:xfrm>
              <a:off x="5281560" y="594972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pivo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3"/>
            <p:cNvSpPr/>
            <p:nvPr/>
          </p:nvSpPr>
          <p:spPr>
            <a:xfrm>
              <a:off x="4430160" y="5578920"/>
              <a:ext cx="909360" cy="5875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ment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609480" y="1828800"/>
            <a:ext cx="8064360" cy="1041120"/>
            <a:chOff x="609480" y="1828800"/>
            <a:chExt cx="8064360" cy="1041120"/>
          </a:xfrm>
        </p:grpSpPr>
        <p:sp>
          <p:nvSpPr>
            <p:cNvPr id="94" name="AutoShape 3"/>
            <p:cNvSpPr/>
            <p:nvPr/>
          </p:nvSpPr>
          <p:spPr>
            <a:xfrm>
              <a:off x="609480" y="1828800"/>
              <a:ext cx="8064360" cy="936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4"/>
            <p:cNvSpPr/>
            <p:nvPr/>
          </p:nvSpPr>
          <p:spPr>
            <a:xfrm>
              <a:off x="801360" y="2044440"/>
              <a:ext cx="7826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moment  =  force (N) x distance from pivot (cm or m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5"/>
          <p:cNvSpPr/>
          <p:nvPr/>
        </p:nvSpPr>
        <p:spPr>
          <a:xfrm>
            <a:off x="596880" y="701640"/>
            <a:ext cx="82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moment of a force is given by the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39640" y="563868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oments are measured in Newton centimetres (Ncm) or Newton metres (N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3200400" y="2895480"/>
            <a:ext cx="2590560" cy="2438640"/>
            <a:chOff x="3200400" y="2895480"/>
            <a:chExt cx="2590560" cy="2438640"/>
          </a:xfrm>
        </p:grpSpPr>
        <p:sp>
          <p:nvSpPr>
            <p:cNvPr id="99" name="AutoShape 8"/>
            <p:cNvSpPr/>
            <p:nvPr/>
          </p:nvSpPr>
          <p:spPr>
            <a:xfrm>
              <a:off x="3200400" y="2895480"/>
              <a:ext cx="2590560" cy="2438640"/>
            </a:xfrm>
            <a:prstGeom prst="triangle">
              <a:avLst>
                <a:gd name="adj" fmla="val 50000"/>
              </a:avLst>
            </a:prstGeom>
            <a:solidFill>
              <a:srgbClr val="66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>
              <a:off x="3733560" y="4343400"/>
              <a:ext cx="1524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3827520" y="390528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3783960" y="454644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4344840" y="4546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4878000" y="45464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ment equ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952880" y="4079880"/>
            <a:ext cx="3867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girl on the right exerts a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clockwise moment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, which equals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11280" y="407664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girl on the left exe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anti-clockwise moment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ich equal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seesaw2"/>
          <p:cNvPicPr/>
          <p:nvPr/>
        </p:nvPicPr>
        <p:blipFill>
          <a:blip r:embed="rId1"/>
          <a:stretch/>
        </p:blipFill>
        <p:spPr>
          <a:xfrm>
            <a:off x="1143000" y="457200"/>
            <a:ext cx="7029360" cy="42861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88960" y="5300640"/>
            <a:ext cx="4127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her weight  x  her d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from p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965840" y="5307120"/>
            <a:ext cx="4127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her weight  x  her d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from p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5486400"/>
            <a:ext cx="80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n something is balanced about a piv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total clockwise moment = total anticlockwise 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57200" y="4267080"/>
            <a:ext cx="81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If the anticlockwise moment and clockwise moment are equal then the see-saw is balanced. This is known as the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principle of moment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seesaw2"/>
          <p:cNvPicPr/>
          <p:nvPr/>
        </p:nvPicPr>
        <p:blipFill>
          <a:blip r:embed="rId1"/>
          <a:stretch/>
        </p:blipFill>
        <p:spPr>
          <a:xfrm>
            <a:off x="838080" y="380880"/>
            <a:ext cx="70297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3520" y="1752480"/>
            <a:ext cx="819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wo girls are sitting on opposite sides of on a see-saw. One girl weighs 200</a:t>
            </a:r>
            <a:r>
              <a:rPr b="0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N and is 1.5</a:t>
            </a:r>
            <a:r>
              <a:rPr b="0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 from the pivot. Where must her 150</a:t>
            </a:r>
            <a:r>
              <a:rPr b="0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N friend sit if the seesaw is to bal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85800" y="3124080"/>
            <a:ext cx="4964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n the see-saw is balanced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52472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nciple of moments –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939960" y="373392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total clockwise moment  =  total anticlockwise 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363760" y="4495680"/>
            <a:ext cx="47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200</a:t>
            </a:r>
            <a:r>
              <a:rPr b="1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N x 1.5</a:t>
            </a:r>
            <a:r>
              <a:rPr b="1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m  = 150</a:t>
            </a:r>
            <a:r>
              <a:rPr b="1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N x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2895480" y="5029200"/>
            <a:ext cx="34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10066"/>
                </a:solidFill>
                <a:uFillTx/>
                <a:latin typeface="Arial"/>
              </a:rPr>
              <a:t>200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x 1.5  =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988200" y="5943600"/>
            <a:ext cx="456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distance of second girl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 =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ShockwaveFlash1"/>
          <p:cNvGraphicFramePr/>
          <p:nvPr/>
        </p:nvGraphicFramePr>
        <p:xfrm>
          <a:off x="444600" y="45720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600" y="457200"/>
                    <a:ext cx="8699400" cy="5308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652320" y="810000"/>
            <a:ext cx="802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ower cranes are essential at any major construction s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531720" y="1378080"/>
            <a:ext cx="7775640" cy="3922560"/>
            <a:chOff x="531720" y="1378080"/>
            <a:chExt cx="7775640" cy="3922560"/>
          </a:xfrm>
        </p:grpSpPr>
        <p:sp>
          <p:nvSpPr>
            <p:cNvPr id="129" name="Rectangle 4"/>
            <p:cNvSpPr/>
            <p:nvPr/>
          </p:nvSpPr>
          <p:spPr>
            <a:xfrm>
              <a:off x="531720" y="1378080"/>
              <a:ext cx="7775640" cy="392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5" descr="crane image"/>
            <p:cNvPicPr/>
            <p:nvPr/>
          </p:nvPicPr>
          <p:blipFill>
            <a:blip r:embed="rId1"/>
            <a:stretch/>
          </p:blipFill>
          <p:spPr>
            <a:xfrm>
              <a:off x="577800" y="1378080"/>
              <a:ext cx="6667560" cy="39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Group 6"/>
          <p:cNvGrpSpPr/>
          <p:nvPr/>
        </p:nvGrpSpPr>
        <p:grpSpPr>
          <a:xfrm>
            <a:off x="677520" y="2097000"/>
            <a:ext cx="1451880" cy="820080"/>
            <a:chOff x="677520" y="2097000"/>
            <a:chExt cx="1451880" cy="820080"/>
          </a:xfrm>
        </p:grpSpPr>
        <p:sp>
          <p:nvSpPr>
            <p:cNvPr id="132" name="Text Box 7"/>
            <p:cNvSpPr/>
            <p:nvPr/>
          </p:nvSpPr>
          <p:spPr>
            <a:xfrm>
              <a:off x="677520" y="245736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8000"/>
                  </a:solidFill>
                  <a:latin typeface="Arial"/>
                </a:rPr>
                <a:t>load a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 flipV="1">
              <a:off x="1395360" y="2097000"/>
              <a:ext cx="0" cy="43200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9"/>
          <p:cNvGrpSpPr/>
          <p:nvPr/>
        </p:nvGrpSpPr>
        <p:grpSpPr>
          <a:xfrm>
            <a:off x="3968280" y="2101320"/>
            <a:ext cx="1405800" cy="503280"/>
            <a:chOff x="3968280" y="2101320"/>
            <a:chExt cx="1405800" cy="503280"/>
          </a:xfrm>
        </p:grpSpPr>
        <p:sp>
          <p:nvSpPr>
            <p:cNvPr id="135" name="Text Box 10"/>
            <p:cNvSpPr/>
            <p:nvPr/>
          </p:nvSpPr>
          <p:spPr>
            <a:xfrm>
              <a:off x="4277520" y="214488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8000"/>
                  </a:solidFill>
                  <a:latin typeface="Arial"/>
                </a:rPr>
                <a:t>troll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 flipH="1" flipV="1">
              <a:off x="3968280" y="2101320"/>
              <a:ext cx="327240" cy="28188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2"/>
          <p:cNvGrpSpPr/>
          <p:nvPr/>
        </p:nvGrpSpPr>
        <p:grpSpPr>
          <a:xfrm>
            <a:off x="2499480" y="3825720"/>
            <a:ext cx="2570400" cy="794880"/>
            <a:chOff x="2499480" y="3825720"/>
            <a:chExt cx="2570400" cy="794880"/>
          </a:xfrm>
        </p:grpSpPr>
        <p:sp>
          <p:nvSpPr>
            <p:cNvPr id="138" name="Text Box 13"/>
            <p:cNvSpPr/>
            <p:nvPr/>
          </p:nvSpPr>
          <p:spPr>
            <a:xfrm>
              <a:off x="2499480" y="4160880"/>
              <a:ext cx="257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8000"/>
                  </a:solidFill>
                  <a:latin typeface="Arial"/>
                </a:rPr>
                <a:t>loading platfo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4"/>
            <p:cNvSpPr/>
            <p:nvPr/>
          </p:nvSpPr>
          <p:spPr>
            <a:xfrm flipV="1">
              <a:off x="3916440" y="3825720"/>
              <a:ext cx="0" cy="43200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5"/>
          <p:cNvGrpSpPr/>
          <p:nvPr/>
        </p:nvGrpSpPr>
        <p:grpSpPr>
          <a:xfrm>
            <a:off x="5932440" y="4670280"/>
            <a:ext cx="1422720" cy="459720"/>
            <a:chOff x="5932440" y="4670280"/>
            <a:chExt cx="1422720" cy="459720"/>
          </a:xfrm>
        </p:grpSpPr>
        <p:sp>
          <p:nvSpPr>
            <p:cNvPr id="141" name="Text Box 16"/>
            <p:cNvSpPr/>
            <p:nvPr/>
          </p:nvSpPr>
          <p:spPr>
            <a:xfrm>
              <a:off x="6360480" y="467028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8000"/>
                  </a:solidFill>
                  <a:latin typeface="Arial"/>
                </a:rPr>
                <a:t>to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 flipH="1">
              <a:off x="5932440" y="4923000"/>
              <a:ext cx="432000" cy="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18"/>
          <p:cNvSpPr/>
          <p:nvPr/>
        </p:nvSpPr>
        <p:spPr>
          <a:xfrm>
            <a:off x="582480" y="5413680"/>
            <a:ext cx="835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Concrete counterweights are fitted to the crane’s short arm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 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Why are these needed for lifting heavy load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6047280" y="2960640"/>
            <a:ext cx="2264040" cy="929520"/>
            <a:chOff x="6047280" y="2960640"/>
            <a:chExt cx="2264040" cy="929520"/>
          </a:xfrm>
        </p:grpSpPr>
        <p:sp>
          <p:nvSpPr>
            <p:cNvPr id="145" name="Text Box 20"/>
            <p:cNvSpPr/>
            <p:nvPr/>
          </p:nvSpPr>
          <p:spPr>
            <a:xfrm>
              <a:off x="6047280" y="3430440"/>
              <a:ext cx="2264040" cy="45972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counterwe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1"/>
            <p:cNvSpPr/>
            <p:nvPr/>
          </p:nvSpPr>
          <p:spPr>
            <a:xfrm flipV="1">
              <a:off x="7054560" y="2960640"/>
              <a:ext cx="0" cy="43200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12720" y="1413000"/>
            <a:ext cx="7415280" cy="35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crane image"/>
          <p:cNvPicPr/>
          <p:nvPr/>
        </p:nvPicPr>
        <p:blipFill>
          <a:blip r:embed="rId1"/>
          <a:stretch/>
        </p:blipFill>
        <p:spPr>
          <a:xfrm>
            <a:off x="654120" y="1449360"/>
            <a:ext cx="5987880" cy="34844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579600" y="697320"/>
            <a:ext cx="84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Using the principle of moments, when is the crane balanc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236760" y="3990960"/>
            <a:ext cx="4681800" cy="8254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ment of    =     momen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a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counterweigh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539640" y="5022720"/>
            <a:ext cx="76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If a 10,000</a:t>
            </a:r>
            <a:r>
              <a:rPr b="0" lang="en-US" sz="12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N counterweight is three metres from the tower, what weight can be lifted when the loading platform is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six metres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from the to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3608280" y="2098800"/>
            <a:ext cx="1755720" cy="459720"/>
            <a:chOff x="3608280" y="2098800"/>
            <a:chExt cx="1755720" cy="459720"/>
          </a:xfrm>
        </p:grpSpPr>
        <p:sp>
          <p:nvSpPr>
            <p:cNvPr id="154" name="Line 8"/>
            <p:cNvSpPr/>
            <p:nvPr/>
          </p:nvSpPr>
          <p:spPr>
            <a:xfrm>
              <a:off x="3608280" y="2133720"/>
              <a:ext cx="17557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4164480" y="2098800"/>
              <a:ext cx="66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0"/>
          <p:cNvGrpSpPr/>
          <p:nvPr/>
        </p:nvGrpSpPr>
        <p:grpSpPr>
          <a:xfrm>
            <a:off x="5292720" y="1528920"/>
            <a:ext cx="934920" cy="460080"/>
            <a:chOff x="5292720" y="1528920"/>
            <a:chExt cx="934920" cy="460080"/>
          </a:xfrm>
        </p:grpSpPr>
        <p:sp>
          <p:nvSpPr>
            <p:cNvPr id="157" name="Line 11"/>
            <p:cNvSpPr/>
            <p:nvPr/>
          </p:nvSpPr>
          <p:spPr>
            <a:xfrm>
              <a:off x="5292720" y="1989000"/>
              <a:ext cx="934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2"/>
            <p:cNvSpPr/>
            <p:nvPr/>
          </p:nvSpPr>
          <p:spPr>
            <a:xfrm>
              <a:off x="5455080" y="1528920"/>
              <a:ext cx="66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3"/>
          <p:cNvGrpSpPr/>
          <p:nvPr/>
        </p:nvGrpSpPr>
        <p:grpSpPr>
          <a:xfrm>
            <a:off x="5654880" y="2781000"/>
            <a:ext cx="1374480" cy="821880"/>
            <a:chOff x="5654880" y="2781000"/>
            <a:chExt cx="1374480" cy="821880"/>
          </a:xfrm>
        </p:grpSpPr>
        <p:sp>
          <p:nvSpPr>
            <p:cNvPr id="160" name="Rectangle 14"/>
            <p:cNvSpPr/>
            <p:nvPr/>
          </p:nvSpPr>
          <p:spPr>
            <a:xfrm>
              <a:off x="5654880" y="3143160"/>
              <a:ext cx="137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5"/>
            <p:cNvSpPr/>
            <p:nvPr/>
          </p:nvSpPr>
          <p:spPr>
            <a:xfrm flipV="1">
              <a:off x="6300720" y="2781000"/>
              <a:ext cx="0" cy="4316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16"/>
          <p:cNvSpPr/>
          <p:nvPr/>
        </p:nvSpPr>
        <p:spPr>
          <a:xfrm>
            <a:off x="3476520" y="30830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pivot"/>
          <p:cNvPicPr/>
          <p:nvPr/>
        </p:nvPicPr>
        <p:blipFill>
          <a:blip r:embed="rId1"/>
          <a:stretch/>
        </p:blipFill>
        <p:spPr>
          <a:xfrm>
            <a:off x="838080" y="1600200"/>
            <a:ext cx="76964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574560" y="2514600"/>
            <a:ext cx="8569440" cy="1800360"/>
            <a:chOff x="574560" y="2514600"/>
            <a:chExt cx="8569440" cy="1800360"/>
          </a:xfrm>
        </p:grpSpPr>
        <p:sp>
          <p:nvSpPr>
            <p:cNvPr id="165" name="Rectangle 3"/>
            <p:cNvSpPr/>
            <p:nvPr/>
          </p:nvSpPr>
          <p:spPr>
            <a:xfrm>
              <a:off x="574560" y="2514600"/>
              <a:ext cx="8567640" cy="180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4"/>
            <p:cNvSpPr/>
            <p:nvPr/>
          </p:nvSpPr>
          <p:spPr>
            <a:xfrm>
              <a:off x="595800" y="2556000"/>
              <a:ext cx="207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moment o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ounterwe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"/>
            <p:cNvSpPr/>
            <p:nvPr/>
          </p:nvSpPr>
          <p:spPr>
            <a:xfrm>
              <a:off x="5398920" y="2556000"/>
              <a:ext cx="3745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distance of counterweight         from to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2734920" y="25858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2733480" y="3378240"/>
              <a:ext cx="457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  10,000  x 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  30,000 N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3076560" y="2548080"/>
              <a:ext cx="25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ounterweight 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9"/>
          <p:cNvGrpSpPr/>
          <p:nvPr/>
        </p:nvGrpSpPr>
        <p:grpSpPr>
          <a:xfrm>
            <a:off x="576360" y="1143000"/>
            <a:ext cx="8567640" cy="1152000"/>
            <a:chOff x="576360" y="1143000"/>
            <a:chExt cx="8567640" cy="1152000"/>
          </a:xfrm>
        </p:grpSpPr>
        <p:sp>
          <p:nvSpPr>
            <p:cNvPr id="172" name="Rectangle 10"/>
            <p:cNvSpPr/>
            <p:nvPr/>
          </p:nvSpPr>
          <p:spPr>
            <a:xfrm>
              <a:off x="576360" y="1158480"/>
              <a:ext cx="8567640" cy="11365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1"/>
            <p:cNvSpPr/>
            <p:nvPr/>
          </p:nvSpPr>
          <p:spPr>
            <a:xfrm>
              <a:off x="781200" y="1143000"/>
              <a:ext cx="170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moment o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2736720" y="127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3"/>
            <p:cNvSpPr/>
            <p:nvPr/>
          </p:nvSpPr>
          <p:spPr>
            <a:xfrm>
              <a:off x="2735280" y="179532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  ?  x 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4"/>
            <p:cNvSpPr/>
            <p:nvPr/>
          </p:nvSpPr>
          <p:spPr>
            <a:xfrm>
              <a:off x="3078360" y="1247400"/>
              <a:ext cx="53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load  x  distance of load from to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5"/>
          <p:cNvGrpSpPr/>
          <p:nvPr/>
        </p:nvGrpSpPr>
        <p:grpSpPr>
          <a:xfrm>
            <a:off x="1447920" y="4495680"/>
            <a:ext cx="6781680" cy="1983600"/>
            <a:chOff x="1447920" y="4495680"/>
            <a:chExt cx="6781680" cy="1983600"/>
          </a:xfrm>
        </p:grpSpPr>
        <p:sp>
          <p:nvSpPr>
            <p:cNvPr id="178" name="Text Box 16"/>
            <p:cNvSpPr/>
            <p:nvPr/>
          </p:nvSpPr>
          <p:spPr>
            <a:xfrm>
              <a:off x="1447920" y="4495680"/>
              <a:ext cx="6781680" cy="1983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moment of load  =  moment of counterweight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? x 6 =  30</a:t>
              </a: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? =  3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= 5,000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7"/>
            <p:cNvSpPr/>
            <p:nvPr/>
          </p:nvSpPr>
          <p:spPr>
            <a:xfrm>
              <a:off x="4322520" y="5638680"/>
              <a:ext cx="934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611280" y="797040"/>
            <a:ext cx="819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re should the loading platform be on the loading arm to carry each load safe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ane operator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ShockwaveFlash1"/>
          <p:cNvGraphicFramePr/>
          <p:nvPr/>
        </p:nvGraphicFramePr>
        <p:xfrm>
          <a:off x="0" y="2057400"/>
          <a:ext cx="8699400" cy="44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057400"/>
                    <a:ext cx="8699400" cy="4408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rite out the statements that are tru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onger the lever, the bigger the force that is needed to move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easier to close a door if you push the door close to the hi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horter the lever, the bigger the force that is needed to move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ts are examples of piv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nes are examples of lev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ivot"/>
          <p:cNvPicPr/>
          <p:nvPr/>
        </p:nvPicPr>
        <p:blipFill>
          <a:blip r:embed="rId1"/>
          <a:stretch/>
        </p:blipFill>
        <p:spPr>
          <a:xfrm>
            <a:off x="5334120" y="457200"/>
            <a:ext cx="29718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, D and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Arm diagram"/>
          <p:cNvPicPr/>
          <p:nvPr/>
        </p:nvPicPr>
        <p:blipFill>
          <a:blip r:embed="rId1"/>
          <a:stretch/>
        </p:blipFill>
        <p:spPr>
          <a:xfrm>
            <a:off x="1752480" y="1523880"/>
            <a:ext cx="5410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Smileyyougogirl.gif picture by durack_bucket"/>
          <p:cNvPicPr/>
          <p:nvPr/>
        </p:nvPicPr>
        <p:blipFill>
          <a:blip r:embed="rId1"/>
          <a:stretch/>
        </p:blipFill>
        <p:spPr>
          <a:xfrm>
            <a:off x="3200400" y="3795840"/>
            <a:ext cx="3062160" cy="3062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arning Object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cc00"/>
                </a:solidFill>
                <a:latin typeface="Arial"/>
              </a:rPr>
              <a:t>To investigate, through practical experimentation, the principle of momen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1" descr="physics.jpg physics image by scarsaresexy"/>
          <p:cNvPicPr/>
          <p:nvPr/>
        </p:nvPicPr>
        <p:blipFill>
          <a:blip r:embed="rId1"/>
          <a:stretch/>
        </p:blipFill>
        <p:spPr>
          <a:xfrm>
            <a:off x="0" y="762120"/>
            <a:ext cx="8077320" cy="5578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2007-12-30_122320_pop_star"/>
          <p:cNvPicPr/>
          <p:nvPr/>
        </p:nvPicPr>
        <p:blipFill>
          <a:blip r:embed="rId2"/>
          <a:stretch/>
        </p:blipFill>
        <p:spPr>
          <a:xfrm>
            <a:off x="4572000" y="3808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What do we need to rec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How many columns will we need in our 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puzzled_ape.gif image by qaseh2007"/>
          <p:cNvPicPr/>
          <p:nvPr/>
        </p:nvPicPr>
        <p:blipFill>
          <a:blip r:embed="rId1"/>
          <a:stretch/>
        </p:blipFill>
        <p:spPr>
          <a:xfrm>
            <a:off x="3200400" y="2895480"/>
            <a:ext cx="2529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YoureAwsome1.gif picture by durack_bucket"/>
          <p:cNvPicPr/>
          <p:nvPr/>
        </p:nvPicPr>
        <p:blipFill>
          <a:blip r:embed="rId1"/>
          <a:stretch/>
        </p:blipFill>
        <p:spPr>
          <a:xfrm>
            <a:off x="-457200" y="727200"/>
            <a:ext cx="1005840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77166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Black"/>
              </a:rPr>
              <a:t>Recording your resul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7:50:39Z</dcterms:created>
  <dc:creator>Sean Durack</dc:creator>
  <dc:description/>
  <dc:language>en-US</dc:language>
  <cp:lastModifiedBy>RomaK</cp:lastModifiedBy>
  <dcterms:modified xsi:type="dcterms:W3CDTF">2015-09-03T12:18:02Z</dcterms:modified>
  <cp:revision>52</cp:revision>
  <dc:subject/>
  <dc:title>Slide 1</dc:title>
</cp:coreProperties>
</file>