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43D5-AF76-4F70-AC02-9C6E0086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55D-EAE6-484A-A4A7-9F846C56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429-FAD0-4BA2-9C9D-DB46597F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98C-0E07-4303-A7B1-CC74A79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B3E-2F08-4461-BD66-6A189243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5EE-E488-475F-96D9-3B93E08B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58E-11E9-4AA5-8D63-49654D3E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E23-4CE0-431A-B5E9-D5BCDE7C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1F8-CE21-4ACC-9C3F-A6F82077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EF5-A772-4E26-904A-1020269C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F92-F7BC-4468-8654-B19B80EA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7E4-B3DB-4404-B476-78D6968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787-C0C1-4135-865B-7073728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B767-A6CE-4307-8E60-A58DA627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bucket.com/mediadetail/?media=http%3A%2F%2Fi45.photobucket.com%2Falbums%2Ff94%2Fgkn1%2FMarks%2520Stuff%2Fphysics.gif&amp;searchTerm=physics&amp;pageOffset=1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Hys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81952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: showing how an astronaut would weigh less on the Moon than on the Eart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90720" y="5943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560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9776600">
            <a:off x="777960" y="189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 rot="955200">
            <a:off x="6078240" y="2053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97180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un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0958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248520" y="5942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eesaw1"/>
          <p:cNvPicPr/>
          <p:nvPr/>
        </p:nvPicPr>
        <p:blipFill>
          <a:blip r:embed="rId1"/>
          <a:stretch/>
        </p:blipFill>
        <p:spPr>
          <a:xfrm>
            <a:off x="838080" y="2571840"/>
            <a:ext cx="702972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447920"/>
            <a:ext cx="7850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Gina weighs 500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stands on one end of a seesaw. She is 0.5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moment does she ex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791240" y="2957400"/>
            <a:ext cx="3705120" cy="939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ent = 500 x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389320" y="4037040"/>
            <a:ext cx="1730160" cy="459720"/>
            <a:chOff x="2389320" y="4037040"/>
            <a:chExt cx="1730160" cy="459720"/>
          </a:xfrm>
        </p:grpSpPr>
        <p:sp>
          <p:nvSpPr>
            <p:cNvPr id="84" name="Text Box 6"/>
            <p:cNvSpPr/>
            <p:nvPr/>
          </p:nvSpPr>
          <p:spPr>
            <a:xfrm>
              <a:off x="2843280" y="403704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0.5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V="1">
              <a:off x="2389320" y="4466880"/>
              <a:ext cx="1730160" cy="111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285920" y="4794120"/>
            <a:ext cx="1295280" cy="976320"/>
            <a:chOff x="1285920" y="4794120"/>
            <a:chExt cx="1295280" cy="976320"/>
          </a:xfrm>
        </p:grpSpPr>
        <p:sp>
          <p:nvSpPr>
            <p:cNvPr id="87" name="Text Box 9"/>
            <p:cNvSpPr/>
            <p:nvPr/>
          </p:nvSpPr>
          <p:spPr>
            <a:xfrm>
              <a:off x="1285920" y="516564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0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2209680" y="4794120"/>
              <a:ext cx="371520" cy="976320"/>
            </a:xfrm>
            <a:prstGeom prst="downArrow">
              <a:avLst>
                <a:gd name="adj1" fmla="val 50000"/>
                <a:gd name="adj2" fmla="val 656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4430160" y="5578920"/>
            <a:ext cx="2554920" cy="891360"/>
            <a:chOff x="4430160" y="5578920"/>
            <a:chExt cx="2554920" cy="891360"/>
          </a:xfrm>
        </p:grpSpPr>
        <p:sp>
          <p:nvSpPr>
            <p:cNvPr id="90" name="Text Box 12"/>
            <p:cNvSpPr/>
            <p:nvPr/>
          </p:nvSpPr>
          <p:spPr>
            <a:xfrm>
              <a:off x="5281560" y="594972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430160" y="5578920"/>
              <a:ext cx="909360" cy="587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09480" y="1828800"/>
            <a:ext cx="8064360" cy="1041120"/>
            <a:chOff x="609480" y="1828800"/>
            <a:chExt cx="8064360" cy="1041120"/>
          </a:xfrm>
        </p:grpSpPr>
        <p:sp>
          <p:nvSpPr>
            <p:cNvPr id="94" name="AutoShape 3"/>
            <p:cNvSpPr/>
            <p:nvPr/>
          </p:nvSpPr>
          <p:spPr>
            <a:xfrm>
              <a:off x="609480" y="1828800"/>
              <a:ext cx="8064360" cy="93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801360" y="2044440"/>
              <a:ext cx="782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oment  =  force (N) x distance from pivot (cm or m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596880" y="70164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moment of a force is given by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56386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oments are measured in Newton centimetres (Ncm) or Newton metres (N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200400" y="2895480"/>
            <a:ext cx="2590560" cy="2438640"/>
            <a:chOff x="3200400" y="2895480"/>
            <a:chExt cx="2590560" cy="2438640"/>
          </a:xfrm>
        </p:grpSpPr>
        <p:sp>
          <p:nvSpPr>
            <p:cNvPr id="99" name="AutoShape 8"/>
            <p:cNvSpPr/>
            <p:nvPr/>
          </p:nvSpPr>
          <p:spPr>
            <a:xfrm>
              <a:off x="3200400" y="2895480"/>
              <a:ext cx="2590560" cy="243864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733560" y="43434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27520" y="39052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3960" y="45464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344840" y="454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878000" y="4546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952880" y="4079880"/>
            <a:ext cx="3867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right exert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equal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40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left ex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nti-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ich equal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esaw2"/>
          <p:cNvPicPr/>
          <p:nvPr/>
        </p:nvPicPr>
        <p:blipFill>
          <a:blip r:embed="rId1"/>
          <a:stretch/>
        </p:blipFill>
        <p:spPr>
          <a:xfrm>
            <a:off x="1143000" y="457200"/>
            <a:ext cx="70293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88960" y="530064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65840" y="530712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548640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something is balanced about a piv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otal clockwise moment =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426708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the anticlockwise moment and clockwise moment are equal then the see-saw is balanced. This is known a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rinciple of moment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eesaw2"/>
          <p:cNvPicPr/>
          <p:nvPr/>
        </p:nvPicPr>
        <p:blipFill>
          <a:blip r:embed="rId1"/>
          <a:stretch/>
        </p:blipFill>
        <p:spPr>
          <a:xfrm>
            <a:off x="838080" y="380880"/>
            <a:ext cx="7029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1752480"/>
            <a:ext cx="81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wo girls are sitting on opposite sides of on a see-saw. One girl weighs 20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is 1.5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Where must her 15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friend sit if the seesaw is to bal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3124080"/>
            <a:ext cx="4964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see-saw is balanced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5247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39960" y="3733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otal clockwise moment  = 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363760" y="44956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1.5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m  = 15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895480" y="502920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66"/>
                </a:solidFill>
                <a:uFillTx/>
                <a:latin typeface="Arial"/>
              </a:rPr>
              <a:t>200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x 1.5  =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988200" y="5943600"/>
            <a:ext cx="45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distance of second girl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ShockwaveFlash1"/>
          <p:cNvGraphicFramePr/>
          <p:nvPr/>
        </p:nvGraphicFramePr>
        <p:xfrm>
          <a:off x="444600" y="4572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45720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2320" y="81000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ower cranes are essential at any major construction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1720" y="1378080"/>
            <a:ext cx="7775640" cy="3922560"/>
            <a:chOff x="531720" y="1378080"/>
            <a:chExt cx="7775640" cy="3922560"/>
          </a:xfrm>
        </p:grpSpPr>
        <p:sp>
          <p:nvSpPr>
            <p:cNvPr id="129" name="Rectangle 4"/>
            <p:cNvSpPr/>
            <p:nvPr/>
          </p:nvSpPr>
          <p:spPr>
            <a:xfrm>
              <a:off x="531720" y="1378080"/>
              <a:ext cx="7775640" cy="39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crane image"/>
            <p:cNvPicPr/>
            <p:nvPr/>
          </p:nvPicPr>
          <p:blipFill>
            <a:blip r:embed="rId1"/>
            <a:stretch/>
          </p:blipFill>
          <p:spPr>
            <a:xfrm>
              <a:off x="577800" y="1378080"/>
              <a:ext cx="6667560" cy="39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6"/>
          <p:cNvGrpSpPr/>
          <p:nvPr/>
        </p:nvGrpSpPr>
        <p:grpSpPr>
          <a:xfrm>
            <a:off x="677520" y="2097000"/>
            <a:ext cx="1451880" cy="820080"/>
            <a:chOff x="677520" y="2097000"/>
            <a:chExt cx="1451880" cy="820080"/>
          </a:xfrm>
        </p:grpSpPr>
        <p:sp>
          <p:nvSpPr>
            <p:cNvPr id="132" name="Text Box 7"/>
            <p:cNvSpPr/>
            <p:nvPr/>
          </p:nvSpPr>
          <p:spPr>
            <a:xfrm>
              <a:off x="677520" y="2457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 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1395360" y="209700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3968280" y="2101320"/>
            <a:ext cx="1405800" cy="503280"/>
            <a:chOff x="3968280" y="2101320"/>
            <a:chExt cx="1405800" cy="503280"/>
          </a:xfrm>
        </p:grpSpPr>
        <p:sp>
          <p:nvSpPr>
            <p:cNvPr id="135" name="Text Box 10"/>
            <p:cNvSpPr/>
            <p:nvPr/>
          </p:nvSpPr>
          <p:spPr>
            <a:xfrm>
              <a:off x="4277520" y="21448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roll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 flipV="1">
              <a:off x="3968280" y="2101320"/>
              <a:ext cx="327240" cy="2818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2499480" y="3825720"/>
            <a:ext cx="2570400" cy="794880"/>
            <a:chOff x="2499480" y="3825720"/>
            <a:chExt cx="2570400" cy="794880"/>
          </a:xfrm>
        </p:grpSpPr>
        <p:sp>
          <p:nvSpPr>
            <p:cNvPr id="138" name="Text Box 13"/>
            <p:cNvSpPr/>
            <p:nvPr/>
          </p:nvSpPr>
          <p:spPr>
            <a:xfrm>
              <a:off x="2499480" y="4160880"/>
              <a:ext cx="25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ing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V="1">
              <a:off x="3916440" y="382572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5932440" y="4670280"/>
            <a:ext cx="1422720" cy="459720"/>
            <a:chOff x="5932440" y="4670280"/>
            <a:chExt cx="1422720" cy="459720"/>
          </a:xfrm>
        </p:grpSpPr>
        <p:sp>
          <p:nvSpPr>
            <p:cNvPr id="141" name="Text Box 16"/>
            <p:cNvSpPr/>
            <p:nvPr/>
          </p:nvSpPr>
          <p:spPr>
            <a:xfrm>
              <a:off x="6360480" y="4670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5932440" y="4923000"/>
              <a:ext cx="432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582480" y="54136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Concrete counterweights are fitted to the crane’s short ar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y are these needed for lifting heavy load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6047280" y="2960640"/>
            <a:ext cx="2264040" cy="929520"/>
            <a:chOff x="6047280" y="2960640"/>
            <a:chExt cx="2264040" cy="929520"/>
          </a:xfrm>
        </p:grpSpPr>
        <p:sp>
          <p:nvSpPr>
            <p:cNvPr id="145" name="Text Box 20"/>
            <p:cNvSpPr/>
            <p:nvPr/>
          </p:nvSpPr>
          <p:spPr>
            <a:xfrm>
              <a:off x="6047280" y="3430440"/>
              <a:ext cx="2264040" cy="4597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 flipV="1">
              <a:off x="7054560" y="296064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12720" y="1413000"/>
            <a:ext cx="741528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rane image"/>
          <p:cNvPicPr/>
          <p:nvPr/>
        </p:nvPicPr>
        <p:blipFill>
          <a:blip r:embed="rId1"/>
          <a:stretch/>
        </p:blipFill>
        <p:spPr>
          <a:xfrm>
            <a:off x="654120" y="1449360"/>
            <a:ext cx="5987880" cy="3484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9600" y="697320"/>
            <a:ext cx="84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the principle of moments, when is the crane balan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36760" y="3990960"/>
            <a:ext cx="468180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ment of    =     mo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counter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5022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f a 10,000</a:t>
            </a: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 counterweight is three metres from the tower, what weight can be lifted when the loading platform is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ix metr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from the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608280" y="2098800"/>
            <a:ext cx="1755720" cy="459720"/>
            <a:chOff x="3608280" y="2098800"/>
            <a:chExt cx="1755720" cy="459720"/>
          </a:xfrm>
        </p:grpSpPr>
        <p:sp>
          <p:nvSpPr>
            <p:cNvPr id="154" name="Line 8"/>
            <p:cNvSpPr/>
            <p:nvPr/>
          </p:nvSpPr>
          <p:spPr>
            <a:xfrm>
              <a:off x="3608280" y="2133720"/>
              <a:ext cx="1755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164480" y="209880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292720" y="1528920"/>
            <a:ext cx="934920" cy="460080"/>
            <a:chOff x="5292720" y="1528920"/>
            <a:chExt cx="934920" cy="460080"/>
          </a:xfrm>
        </p:grpSpPr>
        <p:sp>
          <p:nvSpPr>
            <p:cNvPr id="157" name="Line 11"/>
            <p:cNvSpPr/>
            <p:nvPr/>
          </p:nvSpPr>
          <p:spPr>
            <a:xfrm>
              <a:off x="5292720" y="1989000"/>
              <a:ext cx="93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55080" y="152892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5654880" y="2781000"/>
            <a:ext cx="1374480" cy="821880"/>
            <a:chOff x="5654880" y="2781000"/>
            <a:chExt cx="1374480" cy="821880"/>
          </a:xfrm>
        </p:grpSpPr>
        <p:sp>
          <p:nvSpPr>
            <p:cNvPr id="160" name="Rectangle 14"/>
            <p:cNvSpPr/>
            <p:nvPr/>
          </p:nvSpPr>
          <p:spPr>
            <a:xfrm>
              <a:off x="5654880" y="3143160"/>
              <a:ext cx="13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6300720" y="2781000"/>
              <a:ext cx="0" cy="43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6"/>
          <p:cNvSpPr/>
          <p:nvPr/>
        </p:nvSpPr>
        <p:spPr>
          <a:xfrm>
            <a:off x="3476520" y="3083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ivot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574560" y="2514600"/>
            <a:ext cx="8569440" cy="1800360"/>
            <a:chOff x="574560" y="2514600"/>
            <a:chExt cx="8569440" cy="1800360"/>
          </a:xfrm>
        </p:grpSpPr>
        <p:sp>
          <p:nvSpPr>
            <p:cNvPr id="165" name="Rectangle 3"/>
            <p:cNvSpPr/>
            <p:nvPr/>
          </p:nvSpPr>
          <p:spPr>
            <a:xfrm>
              <a:off x="574560" y="2514600"/>
              <a:ext cx="8567640" cy="180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95800" y="255600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98920" y="255600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distance of counterweight        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34920" y="2585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733480" y="337824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10,000  x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30,000 N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076560" y="254808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576360" y="1143000"/>
            <a:ext cx="8567640" cy="1152000"/>
            <a:chOff x="576360" y="1143000"/>
            <a:chExt cx="8567640" cy="1152000"/>
          </a:xfrm>
        </p:grpSpPr>
        <p:sp>
          <p:nvSpPr>
            <p:cNvPr id="172" name="Rectangle 10"/>
            <p:cNvSpPr/>
            <p:nvPr/>
          </p:nvSpPr>
          <p:spPr>
            <a:xfrm>
              <a:off x="576360" y="1158480"/>
              <a:ext cx="8567640" cy="113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781200" y="114300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736720" y="127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735280" y="1795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?  x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78360" y="1247400"/>
              <a:ext cx="53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  x  distance of load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1447920" y="4495680"/>
            <a:ext cx="6781680" cy="1983600"/>
            <a:chOff x="1447920" y="4495680"/>
            <a:chExt cx="6781680" cy="1983600"/>
          </a:xfrm>
        </p:grpSpPr>
        <p:sp>
          <p:nvSpPr>
            <p:cNvPr id="178" name="Text Box 16"/>
            <p:cNvSpPr/>
            <p:nvPr/>
          </p:nvSpPr>
          <p:spPr>
            <a:xfrm>
              <a:off x="1447920" y="4495680"/>
              <a:ext cx="6781680" cy="198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oment of load  =  moment of counterweight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x 6 =  30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=  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= 5,0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22520" y="563868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1128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0" y="2057400"/>
          <a:ext cx="869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8699400" cy="44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vot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rm diagram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Smileyyougogirl.gif picture by durack_bucket"/>
          <p:cNvPicPr/>
          <p:nvPr/>
        </p:nvPicPr>
        <p:blipFill>
          <a:blip r:embed="rId1"/>
          <a:stretch/>
        </p:blipFill>
        <p:spPr>
          <a:xfrm>
            <a:off x="3200400" y="379584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o investigate, through practical experimentation, the principle of mo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physics.jpg physics image by scarsaresexy"/>
          <p:cNvPicPr/>
          <p:nvPr/>
        </p:nvPicPr>
        <p:blipFill>
          <a:blip r:embed="rId1"/>
          <a:stretch/>
        </p:blipFill>
        <p:spPr>
          <a:xfrm>
            <a:off x="0" y="762120"/>
            <a:ext cx="8077320" cy="557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2007-12-30_122320_pop_star"/>
          <p:cNvPicPr/>
          <p:nvPr/>
        </p:nvPicPr>
        <p:blipFill>
          <a:blip r:embed="rId2"/>
          <a:stretch/>
        </p:blipFill>
        <p:spPr>
          <a:xfrm>
            <a:off x="4572000" y="380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hat do we need to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How many columns will we need in our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uzzled_ape.gif image by qaseh2007"/>
          <p:cNvPicPr/>
          <p:nvPr/>
        </p:nvPicPr>
        <p:blipFill>
          <a:blip r:embed="rId1"/>
          <a:stretch/>
        </p:blipFill>
        <p:spPr>
          <a:xfrm>
            <a:off x="3200400" y="2895480"/>
            <a:ext cx="25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oureAwsome1.gif picture by durack_bucket"/>
          <p:cNvPicPr/>
          <p:nvPr/>
        </p:nvPicPr>
        <p:blipFill>
          <a:blip r:embed="rId1"/>
          <a:stretch/>
        </p:blipFill>
        <p:spPr>
          <a:xfrm>
            <a:off x="-457200" y="727200"/>
            <a:ext cx="100584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716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Recording your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39Z</dcterms:created>
  <dc:creator>Sean Durack</dc:creator>
  <dc:description/>
  <dc:language>en-US</dc:language>
  <cp:lastModifiedBy>RomaK</cp:lastModifiedBy>
  <dcterms:modified xsi:type="dcterms:W3CDTF">2015-09-03T12:18:02Z</dcterms:modified>
  <cp:revision>52</cp:revision>
  <dc:subject/>
  <dc:title>Slide 1</dc:title>
</cp:coreProperties>
</file>