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6.png" ContentType="image/png"/>
  <Override PartName="/ppt/media/image15.png" ContentType="image/png"/>
  <Override PartName="/ppt/media/image7.gif" ContentType="image/gif"/>
  <Override PartName="/ppt/media/image5.jpeg" ContentType="image/jpeg"/>
  <Override PartName="/ppt/media/image9.png" ContentType="image/png"/>
  <Override PartName="/ppt/media/image6.gif" ContentType="image/gif"/>
  <Override PartName="/ppt/media/image14.png" ContentType="image/png"/>
  <Override PartName="/ppt/media/image1.gif" ContentType="image/gif"/>
  <Override PartName="/ppt/media/image10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gif" ContentType="image/gi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FBEC-AEEE-40C2-9355-C3511E80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na weighs 500 N and stands on one end of a seesaw. She is 0.5 m from the pivo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ment does she exe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= 500 x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5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 of a force is given by the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s are measured in Newton centimetres (Ncm) or Newton metres (N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right exerts a clockwise moment, which equals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 on the left exe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ti-clockwise mom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equal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weight  x  her di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piv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mething is balanced about a pivo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=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anticlockwise moment and clockwise moment are equal then the see-saw is balanced. This is known as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irls are sitting on opposite sides of on a see-saw. One girl weighs 200 N and is 1.5 m from the pivot. Where must her 150 N friend sit if the seesaw is to bal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ee-saw is balanc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lockwise moment  =  total anticlockwise mo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N x 1.5 m  = 150 N x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 x 1.5  = 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of second girl  =  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er cranes are essential at any major construction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counterweights are fitted to the crane’s short arm.  Why are these needed for lifting heavy load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principle of moments, when is the crane balanced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ment of    =     mome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counterwe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10,000 N counterweight is three metres from the tower, what weight can be lifted when the loading platform is six metres from the tow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hould the loading platform be on the loading arm to carry each load saf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nvestigate, through practical experimentation, the principle of mo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need to reco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olumns will we need in our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B86-1A8C-4C73-BA1D-5918B1FE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227-B45A-483C-B0C0-F0A16C49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D20-B6C8-43B1-B6D5-B3AAAA98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828-8DBE-4DF5-85D2-CE33D5AFE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7D6-C63A-4109-ADB3-9034B0D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7DB-353F-4FA9-9CBD-6ECD1164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1BCB-89F9-4B9F-AF5C-71B33A25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35AA-5EC4-4FE6-B774-52823D63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359-BD09-4DBA-A9B0-F7682388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34B-D798-40AA-84B3-5101B5D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EB5B-FCA2-44AD-ACC1-336510C9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00E-A2E5-49A3-A919-2ED0DDB7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F874-FE42-4721-AB88-6D9CF178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hotobucket.com/mediadetail/?media=http%3A%2F%2Fi45.photobucket.com%2Falbums%2Ff94%2Fgkn1%2FMarks%2520Stuff%2Fphysics.gif&amp;searchTerm=physics&amp;pageOffset=10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PHysic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2819520"/>
            <a:ext cx="41911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mage: showing how an astronaut would weigh less on the Moon than on the Earth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645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 and M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Tube - Eureka! Episode 7 - Weight vs.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609480" y="32767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Tube - Eureka! Episode 6 - Gr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90720" y="5943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cing B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rite out each term along with its correct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25603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clockwise moments = clockwise mo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boys of different weights sit opposite each other on a see saw, both the same distance from the piv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urning effect of a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9776600">
            <a:off x="777960" y="18997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mo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 rot="955200">
            <a:off x="6078240" y="2053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971800" y="17524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Arial"/>
              </a:rPr>
              <a:t>unbalanced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0958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248520" y="594216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SE PHYSICS: Mo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seesaw1"/>
          <p:cNvPicPr/>
          <p:nvPr/>
        </p:nvPicPr>
        <p:blipFill>
          <a:blip r:embed="rId1"/>
          <a:stretch/>
        </p:blipFill>
        <p:spPr>
          <a:xfrm>
            <a:off x="838080" y="2571840"/>
            <a:ext cx="7029720" cy="4286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1447920"/>
            <a:ext cx="7850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Gina weighs 500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stands on one end of a seesaw. She is 0.5</a:t>
            </a:r>
            <a:r>
              <a:rPr b="0" lang="en-US" sz="12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at moment does she ex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4791240" y="2957400"/>
            <a:ext cx="3705120" cy="93996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ent = 500 x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2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389320" y="4037040"/>
            <a:ext cx="1730160" cy="459720"/>
            <a:chOff x="2389320" y="4037040"/>
            <a:chExt cx="1730160" cy="459720"/>
          </a:xfrm>
        </p:grpSpPr>
        <p:sp>
          <p:nvSpPr>
            <p:cNvPr id="84" name="Text Box 6"/>
            <p:cNvSpPr/>
            <p:nvPr/>
          </p:nvSpPr>
          <p:spPr>
            <a:xfrm>
              <a:off x="2843280" y="4037040"/>
              <a:ext cx="10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0.5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7"/>
            <p:cNvSpPr/>
            <p:nvPr/>
          </p:nvSpPr>
          <p:spPr>
            <a:xfrm flipV="1">
              <a:off x="2389320" y="4466880"/>
              <a:ext cx="1730160" cy="1116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1285920" y="4794120"/>
            <a:ext cx="1295280" cy="976320"/>
            <a:chOff x="1285920" y="4794120"/>
            <a:chExt cx="1295280" cy="976320"/>
          </a:xfrm>
        </p:grpSpPr>
        <p:sp>
          <p:nvSpPr>
            <p:cNvPr id="87" name="Text Box 9"/>
            <p:cNvSpPr/>
            <p:nvPr/>
          </p:nvSpPr>
          <p:spPr>
            <a:xfrm>
              <a:off x="1285920" y="5165640"/>
              <a:ext cx="113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00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0"/>
            <p:cNvSpPr/>
            <p:nvPr/>
          </p:nvSpPr>
          <p:spPr>
            <a:xfrm>
              <a:off x="2209680" y="4794120"/>
              <a:ext cx="371520" cy="976320"/>
            </a:xfrm>
            <a:prstGeom prst="downArrow">
              <a:avLst>
                <a:gd name="adj1" fmla="val 50000"/>
                <a:gd name="adj2" fmla="val 656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4430160" y="5578920"/>
            <a:ext cx="2554920" cy="891360"/>
            <a:chOff x="4430160" y="5578920"/>
            <a:chExt cx="2554920" cy="891360"/>
          </a:xfrm>
        </p:grpSpPr>
        <p:sp>
          <p:nvSpPr>
            <p:cNvPr id="90" name="Text Box 12"/>
            <p:cNvSpPr/>
            <p:nvPr/>
          </p:nvSpPr>
          <p:spPr>
            <a:xfrm>
              <a:off x="5281560" y="594972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pivo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3"/>
            <p:cNvSpPr/>
            <p:nvPr/>
          </p:nvSpPr>
          <p:spPr>
            <a:xfrm>
              <a:off x="4430160" y="5578920"/>
              <a:ext cx="909360" cy="58752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ment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09480" y="1828800"/>
            <a:ext cx="8064360" cy="1041120"/>
            <a:chOff x="609480" y="1828800"/>
            <a:chExt cx="8064360" cy="1041120"/>
          </a:xfrm>
        </p:grpSpPr>
        <p:sp>
          <p:nvSpPr>
            <p:cNvPr id="94" name="AutoShape 3"/>
            <p:cNvSpPr/>
            <p:nvPr/>
          </p:nvSpPr>
          <p:spPr>
            <a:xfrm>
              <a:off x="609480" y="1828800"/>
              <a:ext cx="8064360" cy="9363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4"/>
            <p:cNvSpPr/>
            <p:nvPr/>
          </p:nvSpPr>
          <p:spPr>
            <a:xfrm>
              <a:off x="801360" y="2044440"/>
              <a:ext cx="782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oment  =  force (N) x distance from pivot (cm or m)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596880" y="701640"/>
            <a:ext cx="82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moment of a force is given by the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39640" y="56386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oments are measured in Newton centimetres (Ncm) or Newton metres (N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7"/>
          <p:cNvGrpSpPr/>
          <p:nvPr/>
        </p:nvGrpSpPr>
        <p:grpSpPr>
          <a:xfrm>
            <a:off x="3200400" y="2895480"/>
            <a:ext cx="2590560" cy="2438640"/>
            <a:chOff x="3200400" y="2895480"/>
            <a:chExt cx="2590560" cy="2438640"/>
          </a:xfrm>
        </p:grpSpPr>
        <p:sp>
          <p:nvSpPr>
            <p:cNvPr id="99" name="AutoShape 8"/>
            <p:cNvSpPr/>
            <p:nvPr/>
          </p:nvSpPr>
          <p:spPr>
            <a:xfrm>
              <a:off x="3200400" y="2895480"/>
              <a:ext cx="2590560" cy="2438640"/>
            </a:xfrm>
            <a:prstGeom prst="triangle">
              <a:avLst>
                <a:gd name="adj" fmla="val 50000"/>
              </a:avLst>
            </a:prstGeom>
            <a:solidFill>
              <a:srgbClr val="66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3733560" y="434340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27520" y="39052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3783960" y="4546440"/>
              <a:ext cx="31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344840" y="45464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4878000" y="4546440"/>
              <a:ext cx="42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ment equ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952880" y="4079880"/>
            <a:ext cx="3867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right exerts a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 which equals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11280" y="407664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he girl on the left exe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anti-clockwise moment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ich equal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esaw2"/>
          <p:cNvPicPr/>
          <p:nvPr/>
        </p:nvPicPr>
        <p:blipFill>
          <a:blip r:embed="rId1"/>
          <a:stretch/>
        </p:blipFill>
        <p:spPr>
          <a:xfrm>
            <a:off x="1143000" y="457200"/>
            <a:ext cx="70293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88960" y="530064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965840" y="5307120"/>
            <a:ext cx="4127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her weight  x  her dis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from p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57200" y="5486400"/>
            <a:ext cx="80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something is balanced about a pivo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total clockwise moment =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57200" y="426708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If the anticlockwise moment and clockwise moment are equal then the see-saw is balanced. This is known as the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rinciple of moments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eesaw2"/>
          <p:cNvPicPr/>
          <p:nvPr/>
        </p:nvPicPr>
        <p:blipFill>
          <a:blip r:embed="rId1"/>
          <a:stretch/>
        </p:blipFill>
        <p:spPr>
          <a:xfrm>
            <a:off x="838080" y="380880"/>
            <a:ext cx="7029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3520" y="1752480"/>
            <a:ext cx="81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wo girls are sitting on opposite sides of on a see-saw. One girl weighs 20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and is 1.5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m from the pivot. Where must her 150</a:t>
            </a:r>
            <a:r>
              <a:rPr b="0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N friend sit if the seesaw is to bal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3124080"/>
            <a:ext cx="4964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n the see-saw is balanced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52472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nciple of moments –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939960" y="3733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otal clockwise moment  =  total anticlockwise mo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2363760" y="449568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20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1.5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m  = 150</a:t>
            </a:r>
            <a:r>
              <a:rPr b="1" lang="en-US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N x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2895480" y="5029200"/>
            <a:ext cx="347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10066"/>
                </a:solidFill>
                <a:uFillTx/>
                <a:latin typeface="Arial"/>
              </a:rPr>
              <a:t>200</a:t>
            </a: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 x 1.5  =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988200" y="5943600"/>
            <a:ext cx="45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distance of second girl</a:t>
            </a: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  = 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2</a:t>
            </a:r>
            <a:r>
              <a:rPr b="1" lang="en-US" sz="10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ShockwaveFlash1"/>
          <p:cNvGraphicFramePr/>
          <p:nvPr/>
        </p:nvGraphicFramePr>
        <p:xfrm>
          <a:off x="444600" y="45720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45720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52320" y="810000"/>
            <a:ext cx="802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Tower cranes are essential at any major construction s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3"/>
          <p:cNvGrpSpPr/>
          <p:nvPr/>
        </p:nvGrpSpPr>
        <p:grpSpPr>
          <a:xfrm>
            <a:off x="531720" y="1378080"/>
            <a:ext cx="7775640" cy="3922560"/>
            <a:chOff x="531720" y="1378080"/>
            <a:chExt cx="7775640" cy="3922560"/>
          </a:xfrm>
        </p:grpSpPr>
        <p:sp>
          <p:nvSpPr>
            <p:cNvPr id="129" name="Rectangle 4"/>
            <p:cNvSpPr/>
            <p:nvPr/>
          </p:nvSpPr>
          <p:spPr>
            <a:xfrm>
              <a:off x="531720" y="1378080"/>
              <a:ext cx="7775640" cy="392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5" descr="crane image"/>
            <p:cNvPicPr/>
            <p:nvPr/>
          </p:nvPicPr>
          <p:blipFill>
            <a:blip r:embed="rId1"/>
            <a:stretch/>
          </p:blipFill>
          <p:spPr>
            <a:xfrm>
              <a:off x="577800" y="1378080"/>
              <a:ext cx="6667560" cy="39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Group 6"/>
          <p:cNvGrpSpPr/>
          <p:nvPr/>
        </p:nvGrpSpPr>
        <p:grpSpPr>
          <a:xfrm>
            <a:off x="677520" y="2097000"/>
            <a:ext cx="1451880" cy="820080"/>
            <a:chOff x="677520" y="2097000"/>
            <a:chExt cx="1451880" cy="820080"/>
          </a:xfrm>
        </p:grpSpPr>
        <p:sp>
          <p:nvSpPr>
            <p:cNvPr id="132" name="Text Box 7"/>
            <p:cNvSpPr/>
            <p:nvPr/>
          </p:nvSpPr>
          <p:spPr>
            <a:xfrm>
              <a:off x="677520" y="245736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 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1395360" y="209700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9"/>
          <p:cNvGrpSpPr/>
          <p:nvPr/>
        </p:nvGrpSpPr>
        <p:grpSpPr>
          <a:xfrm>
            <a:off x="3968280" y="2101320"/>
            <a:ext cx="1405800" cy="503280"/>
            <a:chOff x="3968280" y="2101320"/>
            <a:chExt cx="1405800" cy="503280"/>
          </a:xfrm>
        </p:grpSpPr>
        <p:sp>
          <p:nvSpPr>
            <p:cNvPr id="135" name="Text Box 10"/>
            <p:cNvSpPr/>
            <p:nvPr/>
          </p:nvSpPr>
          <p:spPr>
            <a:xfrm>
              <a:off x="4277520" y="2144880"/>
              <a:ext cx="10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roll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1"/>
            <p:cNvSpPr/>
            <p:nvPr/>
          </p:nvSpPr>
          <p:spPr>
            <a:xfrm flipH="1" flipV="1">
              <a:off x="3968280" y="2101320"/>
              <a:ext cx="327240" cy="28188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2499480" y="3825720"/>
            <a:ext cx="2570400" cy="794880"/>
            <a:chOff x="2499480" y="3825720"/>
            <a:chExt cx="2570400" cy="794880"/>
          </a:xfrm>
        </p:grpSpPr>
        <p:sp>
          <p:nvSpPr>
            <p:cNvPr id="138" name="Text Box 13"/>
            <p:cNvSpPr/>
            <p:nvPr/>
          </p:nvSpPr>
          <p:spPr>
            <a:xfrm>
              <a:off x="2499480" y="4160880"/>
              <a:ext cx="257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loading 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"/>
            <p:cNvSpPr/>
            <p:nvPr/>
          </p:nvSpPr>
          <p:spPr>
            <a:xfrm flipV="1">
              <a:off x="3916440" y="382572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5932440" y="4670280"/>
            <a:ext cx="1422720" cy="459720"/>
            <a:chOff x="5932440" y="4670280"/>
            <a:chExt cx="1422720" cy="459720"/>
          </a:xfrm>
        </p:grpSpPr>
        <p:sp>
          <p:nvSpPr>
            <p:cNvPr id="141" name="Text Box 16"/>
            <p:cNvSpPr/>
            <p:nvPr/>
          </p:nvSpPr>
          <p:spPr>
            <a:xfrm>
              <a:off x="6360480" y="467028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8000"/>
                  </a:solidFill>
                  <a:latin typeface="Arial"/>
                </a:rPr>
                <a:t>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7"/>
            <p:cNvSpPr/>
            <p:nvPr/>
          </p:nvSpPr>
          <p:spPr>
            <a:xfrm flipH="1">
              <a:off x="5932440" y="4923000"/>
              <a:ext cx="432000" cy="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8"/>
          <p:cNvSpPr/>
          <p:nvPr/>
        </p:nvSpPr>
        <p:spPr>
          <a:xfrm>
            <a:off x="582480" y="541368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Concrete counterweights are fitted to the crane’s short arm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Why are these needed for lifting heavy load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9"/>
          <p:cNvGrpSpPr/>
          <p:nvPr/>
        </p:nvGrpSpPr>
        <p:grpSpPr>
          <a:xfrm>
            <a:off x="6047280" y="2960640"/>
            <a:ext cx="2264040" cy="929520"/>
            <a:chOff x="6047280" y="2960640"/>
            <a:chExt cx="2264040" cy="929520"/>
          </a:xfrm>
        </p:grpSpPr>
        <p:sp>
          <p:nvSpPr>
            <p:cNvPr id="145" name="Text Box 20"/>
            <p:cNvSpPr/>
            <p:nvPr/>
          </p:nvSpPr>
          <p:spPr>
            <a:xfrm>
              <a:off x="6047280" y="3430440"/>
              <a:ext cx="2264040" cy="4597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1"/>
            <p:cNvSpPr/>
            <p:nvPr/>
          </p:nvSpPr>
          <p:spPr>
            <a:xfrm flipV="1">
              <a:off x="7054560" y="2960640"/>
              <a:ext cx="0" cy="432000"/>
            </a:xfrm>
            <a:prstGeom prst="line">
              <a:avLst/>
            </a:prstGeom>
            <a:ln w="63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12720" y="1413000"/>
            <a:ext cx="741528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rane image"/>
          <p:cNvPicPr/>
          <p:nvPr/>
        </p:nvPicPr>
        <p:blipFill>
          <a:blip r:embed="rId1"/>
          <a:stretch/>
        </p:blipFill>
        <p:spPr>
          <a:xfrm>
            <a:off x="654120" y="1449360"/>
            <a:ext cx="5987880" cy="3484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579600" y="697320"/>
            <a:ext cx="84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Using the principle of moments, when is the crane balanc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36760" y="3990960"/>
            <a:ext cx="4681800" cy="8254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ment of    =     mome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o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counterweigh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39640" y="5022720"/>
            <a:ext cx="765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If a 10,000</a:t>
            </a:r>
            <a:r>
              <a:rPr b="0" lang="en-US" sz="1200" spc="-1" strike="noStrike">
                <a:solidFill>
                  <a:srgbClr val="cc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N counterweight is three metres from the tower, what weight can be lifted when the loading platform is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six metres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</a:rPr>
              <a:t> from the to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7"/>
          <p:cNvGrpSpPr/>
          <p:nvPr/>
        </p:nvGrpSpPr>
        <p:grpSpPr>
          <a:xfrm>
            <a:off x="3608280" y="2098800"/>
            <a:ext cx="1755720" cy="459720"/>
            <a:chOff x="3608280" y="2098800"/>
            <a:chExt cx="1755720" cy="459720"/>
          </a:xfrm>
        </p:grpSpPr>
        <p:sp>
          <p:nvSpPr>
            <p:cNvPr id="154" name="Line 8"/>
            <p:cNvSpPr/>
            <p:nvPr/>
          </p:nvSpPr>
          <p:spPr>
            <a:xfrm>
              <a:off x="3608280" y="2133720"/>
              <a:ext cx="17557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4164480" y="209880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0"/>
          <p:cNvGrpSpPr/>
          <p:nvPr/>
        </p:nvGrpSpPr>
        <p:grpSpPr>
          <a:xfrm>
            <a:off x="5292720" y="1528920"/>
            <a:ext cx="934920" cy="460080"/>
            <a:chOff x="5292720" y="1528920"/>
            <a:chExt cx="934920" cy="460080"/>
          </a:xfrm>
        </p:grpSpPr>
        <p:sp>
          <p:nvSpPr>
            <p:cNvPr id="157" name="Line 11"/>
            <p:cNvSpPr/>
            <p:nvPr/>
          </p:nvSpPr>
          <p:spPr>
            <a:xfrm>
              <a:off x="5292720" y="1989000"/>
              <a:ext cx="934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5455080" y="1528920"/>
              <a:ext cx="66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3"/>
          <p:cNvGrpSpPr/>
          <p:nvPr/>
        </p:nvGrpSpPr>
        <p:grpSpPr>
          <a:xfrm>
            <a:off x="5654880" y="2781000"/>
            <a:ext cx="1374480" cy="821880"/>
            <a:chOff x="5654880" y="2781000"/>
            <a:chExt cx="1374480" cy="821880"/>
          </a:xfrm>
        </p:grpSpPr>
        <p:sp>
          <p:nvSpPr>
            <p:cNvPr id="160" name="Rectangle 14"/>
            <p:cNvSpPr/>
            <p:nvPr/>
          </p:nvSpPr>
          <p:spPr>
            <a:xfrm>
              <a:off x="5654880" y="3143160"/>
              <a:ext cx="137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10,000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5"/>
            <p:cNvSpPr/>
            <p:nvPr/>
          </p:nvSpPr>
          <p:spPr>
            <a:xfrm flipV="1">
              <a:off x="6300720" y="2781000"/>
              <a:ext cx="0" cy="4316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6"/>
          <p:cNvSpPr/>
          <p:nvPr/>
        </p:nvSpPr>
        <p:spPr>
          <a:xfrm>
            <a:off x="3476520" y="30830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pivot"/>
          <p:cNvPicPr/>
          <p:nvPr/>
        </p:nvPicPr>
        <p:blipFill>
          <a:blip r:embed="rId1"/>
          <a:stretch/>
        </p:blipFill>
        <p:spPr>
          <a:xfrm>
            <a:off x="838080" y="1600200"/>
            <a:ext cx="76964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574560" y="2514600"/>
            <a:ext cx="8569440" cy="1800360"/>
            <a:chOff x="574560" y="2514600"/>
            <a:chExt cx="8569440" cy="1800360"/>
          </a:xfrm>
        </p:grpSpPr>
        <p:sp>
          <p:nvSpPr>
            <p:cNvPr id="165" name="Rectangle 3"/>
            <p:cNvSpPr/>
            <p:nvPr/>
          </p:nvSpPr>
          <p:spPr>
            <a:xfrm>
              <a:off x="574560" y="2514600"/>
              <a:ext cx="8567640" cy="18003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4"/>
            <p:cNvSpPr/>
            <p:nvPr/>
          </p:nvSpPr>
          <p:spPr>
            <a:xfrm>
              <a:off x="595800" y="2556000"/>
              <a:ext cx="207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"/>
            <p:cNvSpPr/>
            <p:nvPr/>
          </p:nvSpPr>
          <p:spPr>
            <a:xfrm>
              <a:off x="5398920" y="2556000"/>
              <a:ext cx="374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distance of counterweight        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"/>
            <p:cNvSpPr/>
            <p:nvPr/>
          </p:nvSpPr>
          <p:spPr>
            <a:xfrm>
              <a:off x="2734920" y="2585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7"/>
            <p:cNvSpPr/>
            <p:nvPr/>
          </p:nvSpPr>
          <p:spPr>
            <a:xfrm>
              <a:off x="2733480" y="3378240"/>
              <a:ext cx="457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10,000  x 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30,000 N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"/>
            <p:cNvSpPr/>
            <p:nvPr/>
          </p:nvSpPr>
          <p:spPr>
            <a:xfrm>
              <a:off x="3076560" y="2548080"/>
              <a:ext cx="25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ounterweight 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576360" y="1143000"/>
            <a:ext cx="8567640" cy="1152000"/>
            <a:chOff x="576360" y="1143000"/>
            <a:chExt cx="8567640" cy="1152000"/>
          </a:xfrm>
        </p:grpSpPr>
        <p:sp>
          <p:nvSpPr>
            <p:cNvPr id="172" name="Rectangle 10"/>
            <p:cNvSpPr/>
            <p:nvPr/>
          </p:nvSpPr>
          <p:spPr>
            <a:xfrm>
              <a:off x="576360" y="1158480"/>
              <a:ext cx="8567640" cy="1136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781200" y="1143000"/>
              <a:ext cx="170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moment of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736720" y="12744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"/>
            <p:cNvSpPr/>
            <p:nvPr/>
          </p:nvSpPr>
          <p:spPr>
            <a:xfrm>
              <a:off x="2735280" y="17953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=  ?  x 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"/>
            <p:cNvSpPr/>
            <p:nvPr/>
          </p:nvSpPr>
          <p:spPr>
            <a:xfrm>
              <a:off x="3078360" y="1247400"/>
              <a:ext cx="53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load  x  distance of load from t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5"/>
          <p:cNvGrpSpPr/>
          <p:nvPr/>
        </p:nvGrpSpPr>
        <p:grpSpPr>
          <a:xfrm>
            <a:off x="1447920" y="4495680"/>
            <a:ext cx="6781680" cy="1983600"/>
            <a:chOff x="1447920" y="4495680"/>
            <a:chExt cx="6781680" cy="1983600"/>
          </a:xfrm>
        </p:grpSpPr>
        <p:sp>
          <p:nvSpPr>
            <p:cNvPr id="178" name="Text Box 16"/>
            <p:cNvSpPr/>
            <p:nvPr/>
          </p:nvSpPr>
          <p:spPr>
            <a:xfrm>
              <a:off x="1447920" y="4495680"/>
              <a:ext cx="6781680" cy="19836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moment of load  =  moment of counterweight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x 6 =  30</a:t>
              </a:r>
              <a:r>
                <a:rPr b="1" lang="en-GB" sz="12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? =  3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ffffff"/>
                  </a:solidFill>
                  <a:latin typeface="Arial"/>
                </a:rPr>
                <a:t>= 5,000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7"/>
            <p:cNvSpPr/>
            <p:nvPr/>
          </p:nvSpPr>
          <p:spPr>
            <a:xfrm>
              <a:off x="4322520" y="5638680"/>
              <a:ext cx="934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n’t cranes fall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11280" y="797040"/>
            <a:ext cx="81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66"/>
                </a:solidFill>
                <a:latin typeface="Arial"/>
              </a:rPr>
              <a:t>Where should the loading platform be on the loading arm to carry each load safe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rane operator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ShockwaveFlash1"/>
          <p:cNvGraphicFramePr/>
          <p:nvPr/>
        </p:nvGraphicFramePr>
        <p:xfrm>
          <a:off x="0" y="2057400"/>
          <a:ext cx="869940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057400"/>
                    <a:ext cx="8699400" cy="44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Write out the statements that are tru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longer the lever, the bigger the force that is needed to move an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easier to close a door if you push the door close to the hi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horter the lever, the bigger the force that is needed to move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ts are examples of piv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nes are examples of le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ivot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, D and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rm diagram"/>
          <p:cNvPicPr/>
          <p:nvPr/>
        </p:nvPicPr>
        <p:blipFill>
          <a:blip r:embed="rId1"/>
          <a:stretch/>
        </p:blipFill>
        <p:spPr>
          <a:xfrm>
            <a:off x="1752480" y="1523880"/>
            <a:ext cx="5410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Smileyyougogirl.gif picture by durack_bucket"/>
          <p:cNvPicPr/>
          <p:nvPr/>
        </p:nvPicPr>
        <p:blipFill>
          <a:blip r:embed="rId1"/>
          <a:stretch/>
        </p:blipFill>
        <p:spPr>
          <a:xfrm>
            <a:off x="3200400" y="3795840"/>
            <a:ext cx="3062160" cy="306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99cc00"/>
                </a:solidFill>
                <a:latin typeface="Arial"/>
              </a:rPr>
              <a:t>To investigate, through practical experimentation, the principle of momen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physics.jpg physics image by scarsaresexy"/>
          <p:cNvPicPr/>
          <p:nvPr/>
        </p:nvPicPr>
        <p:blipFill>
          <a:blip r:embed="rId1"/>
          <a:stretch/>
        </p:blipFill>
        <p:spPr>
          <a:xfrm>
            <a:off x="0" y="762120"/>
            <a:ext cx="8077320" cy="5578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2007-12-30_122320_pop_star"/>
          <p:cNvPicPr/>
          <p:nvPr/>
        </p:nvPicPr>
        <p:blipFill>
          <a:blip r:embed="rId2"/>
          <a:stretch/>
        </p:blipFill>
        <p:spPr>
          <a:xfrm>
            <a:off x="4572000" y="3808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What do we need to reco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How many columns will we need in our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Recording your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puzzled_ape.gif image by qaseh2007"/>
          <p:cNvPicPr/>
          <p:nvPr/>
        </p:nvPicPr>
        <p:blipFill>
          <a:blip r:embed="rId1"/>
          <a:stretch/>
        </p:blipFill>
        <p:spPr>
          <a:xfrm>
            <a:off x="3200400" y="2895480"/>
            <a:ext cx="2529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YoureAwsome1.gif picture by durack_bucket"/>
          <p:cNvPicPr/>
          <p:nvPr/>
        </p:nvPicPr>
        <p:blipFill>
          <a:blip r:embed="rId1"/>
          <a:stretch/>
        </p:blipFill>
        <p:spPr>
          <a:xfrm>
            <a:off x="-457200" y="727200"/>
            <a:ext cx="100584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77166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 Black"/>
              </a:rPr>
              <a:t>Recording your resul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39Z</dcterms:created>
  <dc:creator>Sean Durack</dc:creator>
  <dc:description/>
  <dc:language>en-US</dc:language>
  <cp:lastModifiedBy>RomaK</cp:lastModifiedBy>
  <dcterms:modified xsi:type="dcterms:W3CDTF">2015-09-03T12:18:02Z</dcterms:modified>
  <cp:revision>52</cp:revision>
  <dc:subject/>
  <dc:title>Slide 1</dc:title>
</cp:coreProperties>
</file>