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DFE5-D9E7-4104-8B07-68A6E65D63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9D1-C559-4F2D-B1A5-EF7DB068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86B-C776-402D-AADC-A1453B61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190-E2EC-4E2E-AAA4-4F9DFB47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6A4-496E-41A7-9D6C-9A7F697C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AF09-B1BE-4137-A4E8-46678241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EDD-3BBB-4569-B652-5297BE36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094-8DD0-4493-B469-592AB207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229-A96B-4ECE-9177-F73500BE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90F-5ED9-423D-A9F8-AEBAB670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104-03EB-4B1D-8877-BD4BF029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4B7-1BA9-4D56-B043-DE73BD5B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B29-CFCC-4AE6-810B-AAC12CE0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7A81-D775-457D-9C1F-8C7F3CCAB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5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6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304920" y="3276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9528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7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8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9"/>
          <p:cNvSpPr/>
          <p:nvPr/>
        </p:nvSpPr>
        <p:spPr>
          <a:xfrm>
            <a:off x="762120" y="3124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41008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449568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33520" y="2362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-228600" y="6019920"/>
            <a:ext cx="1371600" cy="3733200"/>
            <a:chOff x="-228600" y="6019920"/>
            <a:chExt cx="1371600" cy="3733200"/>
          </a:xfrm>
        </p:grpSpPr>
        <p:sp>
          <p:nvSpPr>
            <p:cNvPr id="195" name="Rectangle 24"/>
            <p:cNvSpPr/>
            <p:nvPr/>
          </p:nvSpPr>
          <p:spPr>
            <a:xfrm>
              <a:off x="1587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5"/>
            <p:cNvGrpSpPr/>
            <p:nvPr/>
          </p:nvGrpSpPr>
          <p:grpSpPr>
            <a:xfrm>
              <a:off x="-228600" y="6019920"/>
              <a:ext cx="1371600" cy="2257200"/>
              <a:chOff x="-228600" y="6019920"/>
              <a:chExt cx="1371600" cy="2257200"/>
            </a:xfrm>
          </p:grpSpPr>
          <p:sp>
            <p:nvSpPr>
              <p:cNvPr id="197" name="Freeform 26"/>
              <p:cNvSpPr/>
              <p:nvPr/>
            </p:nvSpPr>
            <p:spPr>
              <a:xfrm>
                <a:off x="-22860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>
                <a:off x="9421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8"/>
              <p:cNvSpPr/>
              <p:nvPr/>
            </p:nvSpPr>
            <p:spPr>
              <a:xfrm>
                <a:off x="4827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9"/>
              <p:cNvSpPr/>
              <p:nvPr/>
            </p:nvSpPr>
            <p:spPr>
              <a:xfrm>
                <a:off x="2307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0"/>
              <p:cNvSpPr/>
              <p:nvPr/>
            </p:nvSpPr>
            <p:spPr>
              <a:xfrm>
                <a:off x="-213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1"/>
              <p:cNvSpPr/>
              <p:nvPr/>
            </p:nvSpPr>
            <p:spPr>
              <a:xfrm>
                <a:off x="226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32"/>
            <p:cNvSpPr/>
            <p:nvPr/>
          </p:nvSpPr>
          <p:spPr>
            <a:xfrm>
              <a:off x="1587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05548 E">
                                      <p:cBhvr>
                                        <p:cTn id="66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7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1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17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2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3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237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247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249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257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91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0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0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7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7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9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9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9"/>
          <p:cNvSpPr/>
          <p:nvPr/>
        </p:nvSpPr>
        <p:spPr>
          <a:xfrm>
            <a:off x="304920" y="32767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10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12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2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3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2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3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9"/>
          <p:cNvSpPr/>
          <p:nvPr/>
        </p:nvSpPr>
        <p:spPr>
          <a:xfrm>
            <a:off x="304920" y="327672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4724280" y="3429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51" name="Rectangle 9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5028840" y="5257800"/>
            <a:ext cx="1067040" cy="1600200"/>
            <a:chOff x="5028840" y="5257800"/>
            <a:chExt cx="1067040" cy="1600200"/>
          </a:xfrm>
        </p:grpSpPr>
        <p:sp>
          <p:nvSpPr>
            <p:cNvPr id="58" name="Rectangle 16"/>
            <p:cNvSpPr/>
            <p:nvPr/>
          </p:nvSpPr>
          <p:spPr>
            <a:xfrm>
              <a:off x="5410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334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H="1">
              <a:off x="5028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5029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5715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 flipV="1">
              <a:off x="5715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9418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4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5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410080" y="3429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63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65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4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6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7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8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9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9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0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02920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416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418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878 E">
                                      <p:cBhvr>
                                        <p:cTn id="17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8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3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38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5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458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468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470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478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480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200" dur="1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202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11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21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452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456840" y="5257800"/>
            <a:ext cx="1067040" cy="1600200"/>
            <a:chOff x="456840" y="5257800"/>
            <a:chExt cx="1067040" cy="1600200"/>
          </a:xfrm>
        </p:grpSpPr>
        <p:sp>
          <p:nvSpPr>
            <p:cNvPr id="491" name="Rectangle 5"/>
            <p:cNvSpPr/>
            <p:nvPr/>
          </p:nvSpPr>
          <p:spPr>
            <a:xfrm>
              <a:off x="838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6"/>
            <p:cNvSpPr/>
            <p:nvPr/>
          </p:nvSpPr>
          <p:spPr>
            <a:xfrm>
              <a:off x="762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"/>
            <p:cNvSpPr/>
            <p:nvPr/>
          </p:nvSpPr>
          <p:spPr>
            <a:xfrm flipH="1">
              <a:off x="456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V="1">
              <a:off x="457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1143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 flipV="1">
              <a:off x="1143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3962160" y="5257800"/>
            <a:ext cx="1067040" cy="1600200"/>
            <a:chOff x="3962160" y="5257800"/>
            <a:chExt cx="1067040" cy="1600200"/>
          </a:xfrm>
        </p:grpSpPr>
        <p:sp>
          <p:nvSpPr>
            <p:cNvPr id="498" name="Rectangle 12"/>
            <p:cNvSpPr/>
            <p:nvPr/>
          </p:nvSpPr>
          <p:spPr>
            <a:xfrm>
              <a:off x="43434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3"/>
            <p:cNvSpPr/>
            <p:nvPr/>
          </p:nvSpPr>
          <p:spPr>
            <a:xfrm>
              <a:off x="42674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H="1">
              <a:off x="39621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 flipV="1">
              <a:off x="39625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>
              <a:off x="46483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 flipH="1" flipV="1">
              <a:off x="4648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8"/>
          <p:cNvGrpSpPr/>
          <p:nvPr/>
        </p:nvGrpSpPr>
        <p:grpSpPr>
          <a:xfrm>
            <a:off x="6933960" y="5257800"/>
            <a:ext cx="1067040" cy="1600200"/>
            <a:chOff x="6933960" y="5257800"/>
            <a:chExt cx="1067040" cy="1600200"/>
          </a:xfrm>
        </p:grpSpPr>
        <p:sp>
          <p:nvSpPr>
            <p:cNvPr id="505" name="Rectangle 19"/>
            <p:cNvSpPr/>
            <p:nvPr/>
          </p:nvSpPr>
          <p:spPr>
            <a:xfrm>
              <a:off x="7315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0"/>
            <p:cNvSpPr/>
            <p:nvPr/>
          </p:nvSpPr>
          <p:spPr>
            <a:xfrm>
              <a:off x="7239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1"/>
            <p:cNvSpPr/>
            <p:nvPr/>
          </p:nvSpPr>
          <p:spPr>
            <a:xfrm flipH="1">
              <a:off x="6933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2"/>
            <p:cNvSpPr/>
            <p:nvPr/>
          </p:nvSpPr>
          <p:spPr>
            <a:xfrm flipV="1">
              <a:off x="6934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3"/>
            <p:cNvSpPr/>
            <p:nvPr/>
          </p:nvSpPr>
          <p:spPr>
            <a:xfrm>
              <a:off x="7620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4"/>
            <p:cNvSpPr/>
            <p:nvPr/>
          </p:nvSpPr>
          <p:spPr>
            <a:xfrm flipH="1" flipV="1">
              <a:off x="7620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38088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350532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81680" y="129528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30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2743200" y="3809880"/>
            <a:ext cx="4191120" cy="116928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4979 E">
                                      <p:cBhvr>
                                        <p:cTn id="229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77115 E">
                                      <p:cBhvr>
                                        <p:cTn id="231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4979 E">
                                      <p:cBhvr>
                                        <p:cTn id="233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14400" y="685800"/>
            <a:ext cx="7696080" cy="5718600"/>
          </a:xfrm>
          <a:prstGeom prst="rect">
            <a:avLst/>
          </a:prstGeom>
          <a:solidFill>
            <a:srgbClr val="fcf9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38080" y="4572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2971440" y="4572000"/>
            <a:ext cx="1067040" cy="1600200"/>
            <a:chOff x="2971440" y="4572000"/>
            <a:chExt cx="1067040" cy="1600200"/>
          </a:xfrm>
        </p:grpSpPr>
        <p:sp>
          <p:nvSpPr>
            <p:cNvPr id="68" name="Rectangle 6"/>
            <p:cNvSpPr/>
            <p:nvPr/>
          </p:nvSpPr>
          <p:spPr>
            <a:xfrm>
              <a:off x="3352680" y="51818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3276720" y="45720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971440" y="5791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 flipV="1">
              <a:off x="29718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657600" y="57150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 flipV="1">
              <a:off x="36576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762120" y="35812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f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lef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gh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righ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78" name="Rectangle 8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80" name="Freeform 10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1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4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6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88" name="Rectangle 18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9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90" name="Freeform 20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1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2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3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4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26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90920" y="762120"/>
            <a:ext cx="4495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ad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04" name="Rectangle 8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11" name="Rectangle 16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7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22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876920" y="342900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6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24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31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410080" y="3429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142" name="Rectangle 37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144" name="Freeform 39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45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6089 E">
                                      <p:cBhvr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9889 E">
                                      <p:cBhvr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6:33:27Z</dcterms:created>
  <dc:creator>Home</dc:creator>
  <dc:description/>
  <dc:language>en-US</dc:language>
  <cp:lastModifiedBy>RomaK</cp:lastModifiedBy>
  <dcterms:modified xsi:type="dcterms:W3CDTF">2015-09-03T12:17:47Z</dcterms:modified>
  <cp:revision>13</cp:revision>
  <dc:subject/>
  <dc:title>Altitude of a rocket as compared to its mass and initial velocity</dc:title>
</cp:coreProperties>
</file>